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6.png" ContentType="image/png"/>
  <Override PartName="/ppt/media/image29.png" ContentType="image/png"/>
  <Override PartName="/ppt/media/image10.wmf" ContentType="image/x-wmf"/>
  <Override PartName="/ppt/media/image31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8.png" ContentType="image/png"/>
  <Override PartName="/ppt/media/image11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3.jpeg" ContentType="image/jpeg"/>
  <Override PartName="/ppt/media/image4.png" ContentType="image/png"/>
  <Override PartName="/ppt/media/image27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" name=""/>
          <p:cNvSpPr txBox="1"/>
          <p:nvPr/>
        </p:nvSpPr>
        <p:spPr>
          <a:xfrm>
            <a:off x="533520" y="228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 - </a:t>
            </a:r>
            <a:fld id="{81406726-8998-46D3-AE51-EE212636371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16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9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2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2438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Analysis of Vari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1880" y="387180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43000" y="471024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09720" y="3809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pulations have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equ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457200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ples ar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andomly sel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and ar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147680" y="276552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062000" y="27115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pled population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ollow the norma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6019920"/>
            <a:ext cx="7467480" cy="304200"/>
            <a:chOff x="838080" y="6019920"/>
            <a:chExt cx="7467480" cy="304200"/>
          </a:xfrm>
        </p:grpSpPr>
        <p:sp>
          <p:nvSpPr>
            <p:cNvPr id="232" name=""/>
            <p:cNvSpPr/>
            <p:nvPr/>
          </p:nvSpPr>
          <p:spPr>
            <a:xfrm>
              <a:off x="838080" y="6097680"/>
              <a:ext cx="7467480" cy="78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5"/>
            <a:stretch/>
          </p:blipFill>
          <p:spPr>
            <a:xfrm>
              <a:off x="4477320" y="60199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1371600" y="198360"/>
            <a:ext cx="6324480" cy="19220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ANOVA                               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equires the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following condi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9880" y="1790640"/>
            <a:ext cx="1543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that</a:t>
            </a:r>
            <a:endParaRPr b="1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r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12193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ull Hypothesis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hat the population means ar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133720"/>
            <a:ext cx="739116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ternative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is that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t least 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 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06600" y="192240"/>
            <a:ext cx="6189480" cy="798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NOVA 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3429000"/>
            <a:ext cx="640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est Statist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038480"/>
            <a:ext cx="6705360" cy="22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ecision rule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o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ject H</a:t>
            </a:r>
            <a:r>
              <a:rPr b="1" i="1" lang="en-US" sz="32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(computed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reater th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(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numerator and denominator 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2952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2860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34290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41911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38080" y="6248520"/>
            <a:ext cx="7467480" cy="304200"/>
            <a:chOff x="838080" y="6248520"/>
            <a:chExt cx="7467480" cy="304200"/>
          </a:xfrm>
        </p:grpSpPr>
        <p:sp>
          <p:nvSpPr>
            <p:cNvPr id="246" name=""/>
            <p:cNvSpPr/>
            <p:nvPr/>
          </p:nvSpPr>
          <p:spPr>
            <a:xfrm>
              <a:off x="838080" y="632628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447732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19400" y="1252440"/>
            <a:ext cx="4705200" cy="4353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1371600" y="2438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Analysis of Vari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randomBar dir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251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85640" y="203832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Total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073240"/>
            <a:ext cx="633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sum of the squared differences between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ach observ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            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5640" y="4924440"/>
            <a:ext cx="33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andom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91000" y="4971960"/>
            <a:ext cx="52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sum of the squared differences between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ach observ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its treatment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5640" y="2971800"/>
            <a:ext cx="26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Treatment 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505320"/>
            <a:ext cx="59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sum of the squared differences between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each treatment 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 th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90400" y="6200640"/>
            <a:ext cx="7772400" cy="266760"/>
            <a:chOff x="590400" y="6200640"/>
            <a:chExt cx="7772400" cy="266760"/>
          </a:xfrm>
        </p:grpSpPr>
        <p:sp>
          <p:nvSpPr>
            <p:cNvPr id="260" name=""/>
            <p:cNvSpPr/>
            <p:nvPr/>
          </p:nvSpPr>
          <p:spPr>
            <a:xfrm flipV="1">
              <a:off x="590400" y="626364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4400640" y="6200640"/>
              <a:ext cx="342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676520" y="152280"/>
            <a:ext cx="3352680" cy="1905120"/>
            <a:chOff x="1676520" y="152280"/>
            <a:chExt cx="3352680" cy="190512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2120400" y="152280"/>
              <a:ext cx="24645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 txBox="1"/>
            <p:nvPr/>
          </p:nvSpPr>
          <p:spPr>
            <a:xfrm>
              <a:off x="1676520" y="671040"/>
              <a:ext cx="3352680" cy="90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</a:rPr>
                <a:t>Analysis of Varianc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  <a:ea typeface="AmerType Md BT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85840" y="4952880"/>
            <a:ext cx="3201480" cy="1296000"/>
            <a:chOff x="2985840" y="4952880"/>
            <a:chExt cx="3201480" cy="1296000"/>
          </a:xfrm>
        </p:grpSpPr>
        <p:sp>
          <p:nvSpPr>
            <p:cNvPr id="266" name=""/>
            <p:cNvSpPr/>
            <p:nvPr/>
          </p:nvSpPr>
          <p:spPr>
            <a:xfrm>
              <a:off x="4216320" y="5641560"/>
              <a:ext cx="17384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70160" y="5698800"/>
              <a:ext cx="966240" cy="487800"/>
              <a:chOff x="4070160" y="5698800"/>
              <a:chExt cx="966240" cy="487800"/>
            </a:xfrm>
          </p:grpSpPr>
          <p:sp>
            <p:nvSpPr>
              <p:cNvPr id="268" name=""/>
              <p:cNvSpPr/>
              <p:nvPr/>
            </p:nvSpPr>
            <p:spPr>
              <a:xfrm flipH="1">
                <a:off x="4918680" y="5748120"/>
                <a:ext cx="117720" cy="38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70160" y="5698800"/>
                <a:ext cx="723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134960" y="5105160"/>
              <a:ext cx="983880" cy="549000"/>
              <a:chOff x="4134960" y="5105160"/>
              <a:chExt cx="983880" cy="549000"/>
            </a:xfrm>
          </p:grpSpPr>
          <p:sp>
            <p:nvSpPr>
              <p:cNvPr id="271" name=""/>
              <p:cNvSpPr/>
              <p:nvPr/>
            </p:nvSpPr>
            <p:spPr>
              <a:xfrm flipH="1">
                <a:off x="5001120" y="5152680"/>
                <a:ext cx="117720" cy="38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34960" y="5105160"/>
                <a:ext cx="7887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985840" y="53337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985640" y="5541840"/>
              <a:ext cx="1201680" cy="707040"/>
              <a:chOff x="4985640" y="5541840"/>
              <a:chExt cx="1201680" cy="707040"/>
            </a:xfrm>
          </p:grpSpPr>
          <p:sp>
            <p:nvSpPr>
              <p:cNvPr id="275" name=""/>
              <p:cNvSpPr/>
              <p:nvPr/>
            </p:nvSpPr>
            <p:spPr>
              <a:xfrm>
                <a:off x="4985640" y="560844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79240" y="5541840"/>
                <a:ext cx="20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27960" y="571464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210640" y="5714640"/>
                <a:ext cx="2185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02960" y="5729040"/>
                <a:ext cx="1317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504600" y="533376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4440" y="4952880"/>
              <a:ext cx="208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925240" y="4952880"/>
              <a:ext cx="208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10720" y="5138640"/>
              <a:ext cx="1972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18880" y="50925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21200" y="5138640"/>
              <a:ext cx="212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4572000" y="144792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Proced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505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re are a total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servation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nomin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grees of freedom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 -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09520" y="4603680"/>
            <a:ext cx="56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st statistic is compu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23623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33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opulations being sampled,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umer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grees of freedom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8080" y="6248520"/>
            <a:ext cx="7467480" cy="304200"/>
            <a:chOff x="838080" y="6248520"/>
            <a:chExt cx="7467480" cy="304200"/>
          </a:xfrm>
        </p:grpSpPr>
        <p:sp>
          <p:nvSpPr>
            <p:cNvPr id="291" name=""/>
            <p:cNvSpPr/>
            <p:nvPr/>
          </p:nvSpPr>
          <p:spPr>
            <a:xfrm>
              <a:off x="838080" y="632628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447732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2719440"/>
            <a:ext cx="8077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SS Tot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otal su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f squ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28800" y="152280"/>
            <a:ext cx="5409720" cy="1905120"/>
            <a:chOff x="1828800" y="152280"/>
            <a:chExt cx="5409720" cy="1905120"/>
          </a:xfrm>
        </p:grpSpPr>
        <p:grpSp>
          <p:nvGrpSpPr>
            <p:cNvPr id="295" name=""/>
            <p:cNvGrpSpPr/>
            <p:nvPr/>
          </p:nvGrpSpPr>
          <p:grpSpPr>
            <a:xfrm>
              <a:off x="1828800" y="152280"/>
              <a:ext cx="3352680" cy="1905120"/>
              <a:chOff x="1828800" y="152280"/>
              <a:chExt cx="3352680" cy="1905120"/>
            </a:xfrm>
          </p:grpSpPr>
          <p:pic>
            <p:nvPicPr>
              <p:cNvPr id="2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2680" y="152280"/>
                <a:ext cx="246456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 txBox="1"/>
              <p:nvPr/>
            </p:nvSpPr>
            <p:spPr>
              <a:xfrm>
                <a:off x="1828800" y="671040"/>
                <a:ext cx="3352680" cy="90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</a:rPr>
                  <a:t>Analysis of Varianc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  <a:ea typeface="AmerType Md BT"/>
                </a:endParaRPr>
              </a:p>
            </p:txBody>
          </p:sp>
        </p:grpSp>
        <p:sp>
          <p:nvSpPr>
            <p:cNvPr id="298" name=""/>
            <p:cNvSpPr txBox="1"/>
            <p:nvPr/>
          </p:nvSpPr>
          <p:spPr>
            <a:xfrm>
              <a:off x="4724280" y="1447920"/>
              <a:ext cx="251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25880" y="3657600"/>
            <a:ext cx="6369840" cy="1505160"/>
            <a:chOff x="1325880" y="3657600"/>
            <a:chExt cx="6369840" cy="1505160"/>
          </a:xfrm>
        </p:grpSpPr>
        <p:sp>
          <p:nvSpPr>
            <p:cNvPr id="300" name=""/>
            <p:cNvSpPr/>
            <p:nvPr/>
          </p:nvSpPr>
          <p:spPr>
            <a:xfrm>
              <a:off x="5840280" y="4508280"/>
              <a:ext cx="1855440" cy="10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06000" y="4476600"/>
              <a:ext cx="319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08080" y="3763800"/>
              <a:ext cx="3816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5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09720" y="4140000"/>
              <a:ext cx="3816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5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18800" y="365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1480" y="4032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27200" y="3763800"/>
              <a:ext cx="1911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86000" y="3763800"/>
              <a:ext cx="1911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325880" y="4095360"/>
              <a:ext cx="1999080" cy="686160"/>
              <a:chOff x="1325880" y="4095360"/>
              <a:chExt cx="1999080" cy="686160"/>
            </a:xfrm>
          </p:grpSpPr>
          <p:sp>
            <p:nvSpPr>
              <p:cNvPr id="309" name=""/>
              <p:cNvSpPr/>
              <p:nvPr/>
            </p:nvSpPr>
            <p:spPr>
              <a:xfrm>
                <a:off x="2021040" y="4095360"/>
                <a:ext cx="13039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3300"/>
                    </a:solidFill>
                    <a:latin typeface="Times New Roman"/>
                  </a:rPr>
                  <a:t>Total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25880" y="4095360"/>
                <a:ext cx="63792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500" spc="-1" strike="noStrike">
                    <a:solidFill>
                      <a:srgbClr val="ff3300"/>
                    </a:solidFill>
                    <a:latin typeface="Times New Roman"/>
                  </a:rPr>
                  <a:t>SS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114240" y="3698640"/>
              <a:ext cx="3391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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09360" y="4074840"/>
              <a:ext cx="1911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5520" y="4074840"/>
              <a:ext cx="3391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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5480" y="4074840"/>
              <a:ext cx="4550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38080" y="5867280"/>
            <a:ext cx="7467480" cy="304560"/>
            <a:chOff x="838080" y="5867280"/>
            <a:chExt cx="7467480" cy="304560"/>
          </a:xfrm>
        </p:grpSpPr>
        <p:sp>
          <p:nvSpPr>
            <p:cNvPr id="316" name=""/>
            <p:cNvSpPr/>
            <p:nvPr/>
          </p:nvSpPr>
          <p:spPr>
            <a:xfrm>
              <a:off x="838080" y="594504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4477320" y="58672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2146320"/>
            <a:ext cx="8305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S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reatment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squares</a:t>
            </a:r>
            <a:r>
              <a:rPr b="0" i="1" lang="en-US" sz="36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6248520"/>
            <a:ext cx="7467480" cy="304200"/>
            <a:chOff x="838080" y="6248520"/>
            <a:chExt cx="7467480" cy="304200"/>
          </a:xfrm>
        </p:grpSpPr>
        <p:sp>
          <p:nvSpPr>
            <p:cNvPr id="320" name=""/>
            <p:cNvSpPr/>
            <p:nvPr/>
          </p:nvSpPr>
          <p:spPr>
            <a:xfrm>
              <a:off x="838080" y="632628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447732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"/>
          <p:cNvGrpSpPr/>
          <p:nvPr/>
        </p:nvGrpSpPr>
        <p:grpSpPr>
          <a:xfrm>
            <a:off x="1828800" y="152280"/>
            <a:ext cx="5409720" cy="1905120"/>
            <a:chOff x="1828800" y="152280"/>
            <a:chExt cx="5409720" cy="1905120"/>
          </a:xfrm>
        </p:grpSpPr>
        <p:grpSp>
          <p:nvGrpSpPr>
            <p:cNvPr id="323" name=""/>
            <p:cNvGrpSpPr/>
            <p:nvPr/>
          </p:nvGrpSpPr>
          <p:grpSpPr>
            <a:xfrm>
              <a:off x="1828800" y="152280"/>
              <a:ext cx="3352680" cy="1905120"/>
              <a:chOff x="1828800" y="152280"/>
              <a:chExt cx="3352680" cy="1905120"/>
            </a:xfrm>
          </p:grpSpPr>
          <p:pic>
            <p:nvPicPr>
              <p:cNvPr id="32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72680" y="152280"/>
                <a:ext cx="246456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"/>
              <p:cNvSpPr txBox="1"/>
              <p:nvPr/>
            </p:nvSpPr>
            <p:spPr>
              <a:xfrm>
                <a:off x="1828800" y="671040"/>
                <a:ext cx="3352680" cy="90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</a:rPr>
                  <a:t>Analysis of Varianc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  <a:ea typeface="AmerType Md BT"/>
                </a:endParaRPr>
              </a:p>
            </p:txBody>
          </p:sp>
        </p:grpSp>
        <p:sp>
          <p:nvSpPr>
            <p:cNvPr id="326" name=""/>
            <p:cNvSpPr txBox="1"/>
            <p:nvPr/>
          </p:nvSpPr>
          <p:spPr>
            <a:xfrm>
              <a:off x="4724280" y="1447920"/>
              <a:ext cx="251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985040" y="2743200"/>
            <a:ext cx="5134320" cy="1371240"/>
            <a:chOff x="1985040" y="2743200"/>
            <a:chExt cx="5134320" cy="1371240"/>
          </a:xfrm>
        </p:grpSpPr>
        <p:sp>
          <p:nvSpPr>
            <p:cNvPr id="328" name=""/>
            <p:cNvSpPr/>
            <p:nvPr/>
          </p:nvSpPr>
          <p:spPr>
            <a:xfrm>
              <a:off x="4179600" y="3448080"/>
              <a:ext cx="679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85840" y="2743200"/>
              <a:ext cx="23400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73320" y="2743200"/>
              <a:ext cx="23400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75040" y="3448080"/>
              <a:ext cx="1444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63280" y="341316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c3399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19360" y="29242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74280" y="35053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81040" y="292248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85040" y="3183120"/>
              <a:ext cx="788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S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57240" y="376092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74800" y="31780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63400" y="28605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02600" y="2889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74120" y="287676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6680" y="31352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40280" y="330192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40280" y="311148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0280" y="356544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40280" y="284796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9440" y="330192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9440" y="311148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9440" y="356544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89440" y="284796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4120" y="313524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34080" y="313524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33520" y="4114800"/>
            <a:ext cx="80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column total,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number of observations in each column,                         </a:t>
            </a:r>
            <a:r>
              <a:rPr b="1" lang="en-US" sz="3200" spc="-1" strike="noStrike">
                <a:solidFill>
                  <a:srgbClr val="ff99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sum of all the observations, and                                      </a:t>
            </a:r>
            <a:r>
              <a:rPr b="1" i="1" lang="en-US" sz="3200" spc="-1" strike="noStrike">
                <a:solidFill>
                  <a:srgbClr val="cc3399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total number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2579760"/>
            <a:ext cx="76550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S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um of squares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828800" y="152280"/>
            <a:ext cx="5409720" cy="1905120"/>
            <a:chOff x="1828800" y="152280"/>
            <a:chExt cx="5409720" cy="1905120"/>
          </a:xfrm>
        </p:grpSpPr>
        <p:grpSp>
          <p:nvGrpSpPr>
            <p:cNvPr id="356" name=""/>
            <p:cNvGrpSpPr/>
            <p:nvPr/>
          </p:nvGrpSpPr>
          <p:grpSpPr>
            <a:xfrm>
              <a:off x="1828800" y="152280"/>
              <a:ext cx="3352680" cy="1905120"/>
              <a:chOff x="1828800" y="152280"/>
              <a:chExt cx="3352680" cy="1905120"/>
            </a:xfrm>
          </p:grpSpPr>
          <p:pic>
            <p:nvPicPr>
              <p:cNvPr id="3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2680" y="152280"/>
                <a:ext cx="246456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 txBox="1"/>
              <p:nvPr/>
            </p:nvSpPr>
            <p:spPr>
              <a:xfrm>
                <a:off x="1828800" y="671040"/>
                <a:ext cx="3352680" cy="90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</a:rPr>
                  <a:t>Analysis of Varianc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  <a:ea typeface="AmerType Md BT"/>
                </a:endParaRPr>
              </a:p>
            </p:txBody>
          </p:sp>
        </p:grpSp>
        <p:sp>
          <p:nvSpPr>
            <p:cNvPr id="359" name=""/>
            <p:cNvSpPr txBox="1"/>
            <p:nvPr/>
          </p:nvSpPr>
          <p:spPr>
            <a:xfrm>
              <a:off x="4724280" y="1447920"/>
              <a:ext cx="2514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769400" y="4110120"/>
            <a:ext cx="5502960" cy="888480"/>
            <a:chOff x="1769400" y="4110120"/>
            <a:chExt cx="5502960" cy="888480"/>
          </a:xfrm>
        </p:grpSpPr>
        <p:sp>
          <p:nvSpPr>
            <p:cNvPr id="361" name=""/>
            <p:cNvSpPr/>
            <p:nvPr/>
          </p:nvSpPr>
          <p:spPr>
            <a:xfrm>
              <a:off x="6090480" y="417528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SST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61600" y="4175280"/>
              <a:ext cx="172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72240" y="4175280"/>
              <a:ext cx="2293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23560" y="4175280"/>
              <a:ext cx="172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79680" y="4175280"/>
              <a:ext cx="13921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70120" y="4175280"/>
              <a:ext cx="762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S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41600" y="4175280"/>
              <a:ext cx="172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34360" y="4175280"/>
              <a:ext cx="1728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69400" y="4175280"/>
              <a:ext cx="1181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3300"/>
                  </a:solidFill>
                  <a:latin typeface="Times New Roman"/>
                </a:rPr>
                <a:t>S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08160" y="411012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38080" y="5867280"/>
            <a:ext cx="7467480" cy="304560"/>
            <a:chOff x="838080" y="5867280"/>
            <a:chExt cx="7467480" cy="304560"/>
          </a:xfrm>
        </p:grpSpPr>
        <p:sp>
          <p:nvSpPr>
            <p:cNvPr id="372" name=""/>
            <p:cNvSpPr/>
            <p:nvPr/>
          </p:nvSpPr>
          <p:spPr>
            <a:xfrm>
              <a:off x="838080" y="594504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3"/>
            <a:stretch/>
          </p:blipFill>
          <p:spPr>
            <a:xfrm>
              <a:off x="4477320" y="58672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828800" y="76320"/>
            <a:ext cx="5409720" cy="1904760"/>
            <a:chOff x="1828800" y="76320"/>
            <a:chExt cx="5409720" cy="1904760"/>
          </a:xfrm>
        </p:grpSpPr>
        <p:grpSp>
          <p:nvGrpSpPr>
            <p:cNvPr id="375" name=""/>
            <p:cNvGrpSpPr/>
            <p:nvPr/>
          </p:nvGrpSpPr>
          <p:grpSpPr>
            <a:xfrm>
              <a:off x="1828800" y="76320"/>
              <a:ext cx="3352680" cy="1904760"/>
              <a:chOff x="1828800" y="76320"/>
              <a:chExt cx="3352680" cy="1904760"/>
            </a:xfrm>
          </p:grpSpPr>
          <p:pic>
            <p:nvPicPr>
              <p:cNvPr id="3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72680" y="76320"/>
                <a:ext cx="2464560" cy="19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 txBox="1"/>
              <p:nvPr/>
            </p:nvSpPr>
            <p:spPr>
              <a:xfrm>
                <a:off x="1828800" y="595080"/>
                <a:ext cx="3352680" cy="900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</a:rPr>
                  <a:t>Analysis of Varianc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  <a:ea typeface="AmerType Md BT"/>
                </a:endParaRPr>
              </a:p>
            </p:txBody>
          </p:sp>
        </p:grpSp>
        <p:sp>
          <p:nvSpPr>
            <p:cNvPr id="378" name=""/>
            <p:cNvSpPr txBox="1"/>
            <p:nvPr/>
          </p:nvSpPr>
          <p:spPr>
            <a:xfrm>
              <a:off x="4724280" y="1371600"/>
              <a:ext cx="25142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2280" y="28195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asy Meals Restaura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pecialize in meals for senior citize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ty Smith, President, recently developed a new                                        meat loaf dinner.  Before making it a part of the regular menu she decides to test it in several of her restaurant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would like to know if there is a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fference in the 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 dinn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sold per day at the Aynor, Loris, and Lander restaurants.                                                   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se the .05 significance level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38080" y="6248520"/>
            <a:ext cx="7467480" cy="304200"/>
            <a:chOff x="838080" y="6248520"/>
            <a:chExt cx="7467480" cy="304200"/>
          </a:xfrm>
        </p:grpSpPr>
        <p:sp>
          <p:nvSpPr>
            <p:cNvPr id="381" name=""/>
            <p:cNvSpPr/>
            <p:nvPr/>
          </p:nvSpPr>
          <p:spPr>
            <a:xfrm>
              <a:off x="838080" y="632628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447732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"/>
          <p:cNvSpPr txBox="1"/>
          <p:nvPr/>
        </p:nvSpPr>
        <p:spPr>
          <a:xfrm>
            <a:off x="3705120" y="2133720"/>
            <a:ext cx="17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419200" y="2286000"/>
            <a:ext cx="6324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yn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Loris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00480" y="5257800"/>
            <a:ext cx="6362640" cy="12034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6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cc3399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4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981080" y="152280"/>
            <a:ext cx="5410440" cy="1905120"/>
            <a:chOff x="1981080" y="152280"/>
            <a:chExt cx="5410440" cy="1905120"/>
          </a:xfrm>
        </p:grpSpPr>
        <p:grpSp>
          <p:nvGrpSpPr>
            <p:cNvPr id="387" name=""/>
            <p:cNvGrpSpPr/>
            <p:nvPr/>
          </p:nvGrpSpPr>
          <p:grpSpPr>
            <a:xfrm>
              <a:off x="1981080" y="152280"/>
              <a:ext cx="3353040" cy="1905120"/>
              <a:chOff x="1981080" y="152280"/>
              <a:chExt cx="3353040" cy="1905120"/>
            </a:xfrm>
          </p:grpSpPr>
          <p:pic>
            <p:nvPicPr>
              <p:cNvPr id="3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24960" y="152280"/>
                <a:ext cx="246492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 txBox="1"/>
              <p:nvPr/>
            </p:nvSpPr>
            <p:spPr>
              <a:xfrm>
                <a:off x="1981080" y="671040"/>
                <a:ext cx="3353040" cy="90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</a:rPr>
                  <a:t>Analysis of Varianc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cc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  <a:ea typeface="AmerType Md BT"/>
                </a:endParaRPr>
              </a:p>
            </p:txBody>
          </p:sp>
        </p:grpSp>
        <p:sp>
          <p:nvSpPr>
            <p:cNvPr id="390" name=""/>
            <p:cNvSpPr txBox="1"/>
            <p:nvPr/>
          </p:nvSpPr>
          <p:spPr>
            <a:xfrm>
              <a:off x="4876920" y="1447920"/>
              <a:ext cx="2514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Procedur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59360" y="3429000"/>
            <a:ext cx="2038320" cy="934920"/>
            <a:chOff x="459360" y="3429000"/>
            <a:chExt cx="2038320" cy="934920"/>
          </a:xfrm>
        </p:grpSpPr>
        <p:sp>
          <p:nvSpPr>
            <p:cNvPr id="392" name=""/>
            <p:cNvSpPr txBox="1"/>
            <p:nvPr/>
          </p:nvSpPr>
          <p:spPr>
            <a:xfrm>
              <a:off x="537840" y="3429000"/>
              <a:ext cx="1733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9360" y="3843360"/>
              <a:ext cx="203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7200" y="1981080"/>
            <a:ext cx="609480" cy="581400"/>
            <a:chOff x="457200" y="1981080"/>
            <a:chExt cx="609480" cy="581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57200" y="205596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4240" y="19810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87440" y="2133720"/>
            <a:ext cx="66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 the general idea of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nalysis of 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2743200"/>
            <a:ext cx="609480" cy="581400"/>
            <a:chOff x="457200" y="2743200"/>
            <a:chExt cx="609480" cy="581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57200" y="281772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4240" y="274320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295280" y="2819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the characteristics of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495680"/>
            <a:ext cx="6400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data into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ne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wo-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57200" y="3565440"/>
            <a:ext cx="609480" cy="581400"/>
            <a:chOff x="457200" y="3565440"/>
            <a:chExt cx="609480" cy="58140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457200" y="363996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34240" y="356544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71600" y="35053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est of hypothesis to determine whethe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variances of two populations are equ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7200" y="4449600"/>
            <a:ext cx="609480" cy="581400"/>
            <a:chOff x="457200" y="4449600"/>
            <a:chExt cx="609480" cy="58140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457200" y="452412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34240" y="444960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981080" y="152280"/>
            <a:ext cx="5410440" cy="2992320"/>
            <a:chOff x="1981080" y="152280"/>
            <a:chExt cx="5410440" cy="2992320"/>
          </a:xfrm>
        </p:grpSpPr>
        <p:grpSp>
          <p:nvGrpSpPr>
            <p:cNvPr id="395" name=""/>
            <p:cNvGrpSpPr/>
            <p:nvPr/>
          </p:nvGrpSpPr>
          <p:grpSpPr>
            <a:xfrm>
              <a:off x="1981080" y="152280"/>
              <a:ext cx="5410440" cy="1905120"/>
              <a:chOff x="1981080" y="152280"/>
              <a:chExt cx="5410440" cy="19051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981080" y="152280"/>
                <a:ext cx="3353040" cy="1905120"/>
                <a:chOff x="1981080" y="152280"/>
                <a:chExt cx="3353040" cy="1905120"/>
              </a:xfrm>
            </p:grpSpPr>
            <p:pic>
              <p:nvPicPr>
                <p:cNvPr id="39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24960" y="152280"/>
                  <a:ext cx="246492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 txBox="1"/>
                <p:nvPr/>
              </p:nvSpPr>
              <p:spPr>
                <a:xfrm>
                  <a:off x="1981080" y="671040"/>
                  <a:ext cx="3353040" cy="90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Wave1">
                    <a:avLst>
                      <a:gd name="adj1" fmla="val 6481"/>
                      <a:gd name="adj2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3300"/>
                          </a:gs>
                          <a:gs pos="50000">
                            <a:srgbClr val="ffffcc"/>
                          </a:gs>
                          <a:gs pos="100000">
                            <a:srgbClr val="ff3300"/>
                          </a:gs>
                        </a:gsLst>
                        <a:lin ang="8100000"/>
                      </a:gradFill>
                      <a:effectLst>
                        <a:outerShdw dist="153753" dir="2700000" blurRad="0" rotWithShape="0">
                          <a:srgbClr val="868686">
                            <a:alpha val="50000"/>
                          </a:srgbClr>
                        </a:outerShdw>
                      </a:effectLst>
                      <a:latin typeface="AmerType Md BT"/>
                    </a:rPr>
                    <a:t>Analysis of Variance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  <a:ea typeface="AmerType Md BT"/>
                  </a:endParaRPr>
                </a:p>
              </p:txBody>
            </p:sp>
          </p:grpSp>
          <p:sp>
            <p:nvSpPr>
              <p:cNvPr id="399" name=""/>
              <p:cNvSpPr txBox="1"/>
              <p:nvPr/>
            </p:nvSpPr>
            <p:spPr>
              <a:xfrm>
                <a:off x="4876920" y="1447920"/>
                <a:ext cx="2514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Procedur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551760" y="2209680"/>
              <a:ext cx="2038320" cy="934920"/>
              <a:chOff x="3551760" y="2209680"/>
              <a:chExt cx="2038320" cy="934920"/>
            </a:xfrm>
          </p:grpSpPr>
          <p:sp>
            <p:nvSpPr>
              <p:cNvPr id="401" name=""/>
              <p:cNvSpPr txBox="1"/>
              <p:nvPr/>
            </p:nvSpPr>
            <p:spPr>
              <a:xfrm>
                <a:off x="3630240" y="220968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51760" y="262404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876240" y="3378240"/>
            <a:ext cx="73915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SS Tot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is 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otal s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squa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5486400"/>
            <a:ext cx="1154160" cy="564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=  8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5913360"/>
            <a:ext cx="470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456160"/>
            <a:ext cx="16858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= 2634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065600" y="3962520"/>
            <a:ext cx="5639760" cy="1144080"/>
            <a:chOff x="1065600" y="3962520"/>
            <a:chExt cx="5639760" cy="1144080"/>
          </a:xfrm>
        </p:grpSpPr>
        <p:sp>
          <p:nvSpPr>
            <p:cNvPr id="408" name=""/>
            <p:cNvSpPr/>
            <p:nvPr/>
          </p:nvSpPr>
          <p:spPr>
            <a:xfrm>
              <a:off x="5182920" y="4646880"/>
              <a:ext cx="1522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57080" y="4021200"/>
              <a:ext cx="1746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7120" y="4021200"/>
              <a:ext cx="1746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35120" y="4230720"/>
              <a:ext cx="131904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41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65600" y="4230720"/>
              <a:ext cx="57996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3300"/>
                  </a:solidFill>
                  <a:latin typeface="Times New Roman"/>
                </a:rPr>
                <a:t>SS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95040" y="3962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08200" y="4170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04320" y="3984840"/>
              <a:ext cx="3085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33000" y="4194360"/>
              <a:ext cx="1746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08280" y="4194360"/>
              <a:ext cx="3391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5400" y="4194360"/>
              <a:ext cx="4150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10040" y="4481640"/>
              <a:ext cx="29016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30480" y="402120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0480" y="4230720"/>
              <a:ext cx="3481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888440" y="5105520"/>
            <a:ext cx="1303920" cy="733320"/>
            <a:chOff x="4888440" y="5105520"/>
            <a:chExt cx="1303920" cy="733320"/>
          </a:xfrm>
        </p:grpSpPr>
        <p:sp>
          <p:nvSpPr>
            <p:cNvPr id="423" name=""/>
            <p:cNvSpPr/>
            <p:nvPr/>
          </p:nvSpPr>
          <p:spPr>
            <a:xfrm>
              <a:off x="5028840" y="5837400"/>
              <a:ext cx="1110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8440" y="5105520"/>
              <a:ext cx="130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182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981080" y="152280"/>
            <a:ext cx="5410440" cy="2992320"/>
            <a:chOff x="1981080" y="152280"/>
            <a:chExt cx="5410440" cy="2992320"/>
          </a:xfrm>
        </p:grpSpPr>
        <p:grpSp>
          <p:nvGrpSpPr>
            <p:cNvPr id="426" name=""/>
            <p:cNvGrpSpPr/>
            <p:nvPr/>
          </p:nvGrpSpPr>
          <p:grpSpPr>
            <a:xfrm>
              <a:off x="1981080" y="152280"/>
              <a:ext cx="5410440" cy="1905120"/>
              <a:chOff x="1981080" y="152280"/>
              <a:chExt cx="5410440" cy="190512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981080" y="152280"/>
                <a:ext cx="3353040" cy="1905120"/>
                <a:chOff x="1981080" y="152280"/>
                <a:chExt cx="3353040" cy="1905120"/>
              </a:xfrm>
            </p:grpSpPr>
            <p:pic>
              <p:nvPicPr>
                <p:cNvPr id="42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24960" y="152280"/>
                  <a:ext cx="246492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 txBox="1"/>
                <p:nvPr/>
              </p:nvSpPr>
              <p:spPr>
                <a:xfrm>
                  <a:off x="1981080" y="671040"/>
                  <a:ext cx="3353040" cy="90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Wave1">
                    <a:avLst>
                      <a:gd name="adj1" fmla="val 6481"/>
                      <a:gd name="adj2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3300"/>
                          </a:gs>
                          <a:gs pos="50000">
                            <a:srgbClr val="ffffcc"/>
                          </a:gs>
                          <a:gs pos="100000">
                            <a:srgbClr val="ff3300"/>
                          </a:gs>
                        </a:gsLst>
                        <a:lin ang="8100000"/>
                      </a:gradFill>
                      <a:effectLst>
                        <a:outerShdw dist="153753" dir="2700000" blurRad="0" rotWithShape="0">
                          <a:srgbClr val="868686">
                            <a:alpha val="50000"/>
                          </a:srgbClr>
                        </a:outerShdw>
                      </a:effectLst>
                      <a:latin typeface="AmerType Md BT"/>
                    </a:rPr>
                    <a:t>Analysis of Variance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  <a:ea typeface="AmerType Md BT"/>
                  </a:endParaRPr>
                </a:p>
              </p:txBody>
            </p:sp>
          </p:grpSp>
          <p:sp>
            <p:nvSpPr>
              <p:cNvPr id="430" name=""/>
              <p:cNvSpPr txBox="1"/>
              <p:nvPr/>
            </p:nvSpPr>
            <p:spPr>
              <a:xfrm>
                <a:off x="4876920" y="1447920"/>
                <a:ext cx="2514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Procedur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551760" y="2209680"/>
              <a:ext cx="2038320" cy="934920"/>
              <a:chOff x="3551760" y="2209680"/>
              <a:chExt cx="2038320" cy="934920"/>
            </a:xfrm>
          </p:grpSpPr>
          <p:sp>
            <p:nvSpPr>
              <p:cNvPr id="432" name=""/>
              <p:cNvSpPr txBox="1"/>
              <p:nvPr/>
            </p:nvSpPr>
            <p:spPr>
              <a:xfrm>
                <a:off x="3630240" y="220968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51760" y="262404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1985040" y="3429000"/>
            <a:ext cx="5134320" cy="1371240"/>
            <a:chOff x="1985040" y="3429000"/>
            <a:chExt cx="5134320" cy="1371240"/>
          </a:xfrm>
        </p:grpSpPr>
        <p:sp>
          <p:nvSpPr>
            <p:cNvPr id="435" name=""/>
            <p:cNvSpPr/>
            <p:nvPr/>
          </p:nvSpPr>
          <p:spPr>
            <a:xfrm>
              <a:off x="4179600" y="4133880"/>
              <a:ext cx="679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5840" y="3429000"/>
              <a:ext cx="23400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73320" y="3429000"/>
              <a:ext cx="23400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75040" y="4133880"/>
              <a:ext cx="144432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63280" y="409896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c3399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19360" y="36100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74280" y="41911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81040" y="360828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5040" y="3868920"/>
              <a:ext cx="7887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S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7240" y="444672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9900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74800" y="3863880"/>
              <a:ext cx="11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63400" y="35463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02600" y="35751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4120" y="356256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6680" y="38210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40280" y="398772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0280" y="379728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40280" y="425124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40280" y="353376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89440" y="398772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9440" y="379728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9440" y="425124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89440" y="3533760"/>
              <a:ext cx="156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34120" y="382104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34080" y="382104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214280" y="2971800"/>
            <a:ext cx="66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eatm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squ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515960" y="4800600"/>
            <a:ext cx="6256080" cy="1508760"/>
            <a:chOff x="1515960" y="4800600"/>
            <a:chExt cx="6256080" cy="1508760"/>
          </a:xfrm>
        </p:grpSpPr>
        <p:sp>
          <p:nvSpPr>
            <p:cNvPr id="462" name=""/>
            <p:cNvSpPr/>
            <p:nvPr/>
          </p:nvSpPr>
          <p:spPr>
            <a:xfrm>
              <a:off x="213768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7264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23640" y="5365800"/>
              <a:ext cx="9626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2116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0472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8560" y="5365800"/>
              <a:ext cx="10083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360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09080" y="480060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37400" y="5365800"/>
              <a:ext cx="9853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40840" y="5365800"/>
              <a:ext cx="1231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40880" y="5867280"/>
              <a:ext cx="1278720" cy="442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=  76.2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27120" y="54133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34280" y="49500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79440" y="495000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8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69640" y="49500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23320" y="54133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79960" y="4954680"/>
              <a:ext cx="462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07440" y="54133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69480" y="49546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4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2720" y="54133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71240" y="49546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23640" y="4888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00960" y="4879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56000" y="4879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38240" y="4879800"/>
              <a:ext cx="19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56800" y="512136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84280" y="529740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84280" y="505620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4280" y="550404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84280" y="485136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04400" y="529740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04400" y="505620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04400" y="550404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04400" y="4851360"/>
              <a:ext cx="12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02600" y="512136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69800" y="512136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15960" y="51213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3036960"/>
            <a:ext cx="765504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S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um of squares err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981080" y="152280"/>
            <a:ext cx="5410440" cy="2992320"/>
            <a:chOff x="1981080" y="152280"/>
            <a:chExt cx="5410440" cy="2992320"/>
          </a:xfrm>
        </p:grpSpPr>
        <p:grpSp>
          <p:nvGrpSpPr>
            <p:cNvPr id="501" name=""/>
            <p:cNvGrpSpPr/>
            <p:nvPr/>
          </p:nvGrpSpPr>
          <p:grpSpPr>
            <a:xfrm>
              <a:off x="1981080" y="152280"/>
              <a:ext cx="5410440" cy="1905120"/>
              <a:chOff x="1981080" y="152280"/>
              <a:chExt cx="5410440" cy="190512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1981080" y="152280"/>
                <a:ext cx="3353040" cy="1905120"/>
                <a:chOff x="1981080" y="152280"/>
                <a:chExt cx="3353040" cy="1905120"/>
              </a:xfrm>
            </p:grpSpPr>
            <p:pic>
              <p:nvPicPr>
                <p:cNvPr id="50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24960" y="152280"/>
                  <a:ext cx="246492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4" name=""/>
                <p:cNvSpPr txBox="1"/>
                <p:nvPr/>
              </p:nvSpPr>
              <p:spPr>
                <a:xfrm>
                  <a:off x="1981080" y="671040"/>
                  <a:ext cx="3353040" cy="90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Wave1">
                    <a:avLst>
                      <a:gd name="adj1" fmla="val 6481"/>
                      <a:gd name="adj2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3300"/>
                          </a:gs>
                          <a:gs pos="50000">
                            <a:srgbClr val="ffffcc"/>
                          </a:gs>
                          <a:gs pos="100000">
                            <a:srgbClr val="ff3300"/>
                          </a:gs>
                        </a:gsLst>
                        <a:lin ang="8100000"/>
                      </a:gradFill>
                      <a:effectLst>
                        <a:outerShdw dist="153753" dir="2700000" blurRad="0" rotWithShape="0">
                          <a:srgbClr val="868686">
                            <a:alpha val="50000"/>
                          </a:srgbClr>
                        </a:outerShdw>
                      </a:effectLst>
                      <a:latin typeface="AmerType Md BT"/>
                    </a:rPr>
                    <a:t>Analysis of Variance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  <a:ea typeface="AmerType Md BT"/>
                  </a:endParaRPr>
                </a:p>
              </p:txBody>
            </p:sp>
          </p:grpSp>
          <p:sp>
            <p:nvSpPr>
              <p:cNvPr id="505" name=""/>
              <p:cNvSpPr txBox="1"/>
              <p:nvPr/>
            </p:nvSpPr>
            <p:spPr>
              <a:xfrm>
                <a:off x="4876920" y="1447920"/>
                <a:ext cx="2514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Procedur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3551760" y="2209680"/>
              <a:ext cx="2038320" cy="934920"/>
              <a:chOff x="3551760" y="2209680"/>
              <a:chExt cx="2038320" cy="934920"/>
            </a:xfrm>
          </p:grpSpPr>
          <p:sp>
            <p:nvSpPr>
              <p:cNvPr id="507" name=""/>
              <p:cNvSpPr txBox="1"/>
              <p:nvPr/>
            </p:nvSpPr>
            <p:spPr>
              <a:xfrm>
                <a:off x="3630240" y="220968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551760" y="262404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/>
          <p:cNvSpPr/>
          <p:nvPr/>
        </p:nvSpPr>
        <p:spPr>
          <a:xfrm>
            <a:off x="2722680" y="3962520"/>
            <a:ext cx="4391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SE = SS Total  -  S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73440" y="457200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6     –  76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63920" y="5257800"/>
            <a:ext cx="13557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.7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96960" y="1143000"/>
            <a:ext cx="35845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2880" y="11048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2019240"/>
            <a:ext cx="3505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2680" y="19908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518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521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533412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0" y="2546280"/>
            <a:ext cx="358128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test statistic is the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526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571760" y="4556160"/>
            <a:ext cx="22381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ute the test statistic and make a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2680" y="45403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3276720"/>
            <a:ext cx="4324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f ar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numer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enomin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703200" y="5883120"/>
            <a:ext cx="1227600" cy="442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6832" dir="70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= 39.10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485680" y="1523880"/>
            <a:ext cx="398520" cy="465480"/>
            <a:chOff x="5485680" y="1523880"/>
            <a:chExt cx="398520" cy="465480"/>
          </a:xfrm>
        </p:grpSpPr>
        <p:sp>
          <p:nvSpPr>
            <p:cNvPr id="533" name=""/>
            <p:cNvSpPr/>
            <p:nvPr/>
          </p:nvSpPr>
          <p:spPr>
            <a:xfrm>
              <a:off x="5634720" y="16840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8160" y="1523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85680" y="152388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485680" y="914400"/>
            <a:ext cx="2134800" cy="612000"/>
            <a:chOff x="5485680" y="914400"/>
            <a:chExt cx="2134800" cy="612000"/>
          </a:xfrm>
        </p:grpSpPr>
        <p:sp>
          <p:nvSpPr>
            <p:cNvPr id="537" name=""/>
            <p:cNvSpPr/>
            <p:nvPr/>
          </p:nvSpPr>
          <p:spPr>
            <a:xfrm>
              <a:off x="5714280" y="1279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15800" y="11192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85680" y="111924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958000" y="914400"/>
              <a:ext cx="443160" cy="593640"/>
              <a:chOff x="5958000" y="914400"/>
              <a:chExt cx="443160" cy="593640"/>
            </a:xfrm>
          </p:grpSpPr>
          <p:sp>
            <p:nvSpPr>
              <p:cNvPr id="541" name=""/>
              <p:cNvSpPr/>
              <p:nvPr/>
            </p:nvSpPr>
            <p:spPr>
              <a:xfrm>
                <a:off x="6285960" y="1233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58000" y="91440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6567840" y="914400"/>
              <a:ext cx="443160" cy="593640"/>
              <a:chOff x="6567840" y="914400"/>
              <a:chExt cx="443160" cy="593640"/>
            </a:xfrm>
          </p:grpSpPr>
          <p:sp>
            <p:nvSpPr>
              <p:cNvPr id="544" name=""/>
              <p:cNvSpPr/>
              <p:nvPr/>
            </p:nvSpPr>
            <p:spPr>
              <a:xfrm>
                <a:off x="6895800" y="12333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67840" y="91440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959160" y="1066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49680" y="1066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177320" y="930240"/>
              <a:ext cx="443160" cy="593640"/>
              <a:chOff x="7177320" y="930240"/>
              <a:chExt cx="443160" cy="593640"/>
            </a:xfrm>
          </p:grpSpPr>
          <p:sp>
            <p:nvSpPr>
              <p:cNvPr id="549" name=""/>
              <p:cNvSpPr/>
              <p:nvPr/>
            </p:nvSpPr>
            <p:spPr>
              <a:xfrm>
                <a:off x="7505280" y="12492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177320" y="93024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"/>
          <p:cNvSpPr/>
          <p:nvPr/>
        </p:nvSpPr>
        <p:spPr>
          <a:xfrm>
            <a:off x="5943600" y="1492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ment means are not all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128840" y="4419720"/>
            <a:ext cx="3183120" cy="1235160"/>
            <a:chOff x="4128840" y="4419720"/>
            <a:chExt cx="3183120" cy="1235160"/>
          </a:xfrm>
        </p:grpSpPr>
        <p:sp>
          <p:nvSpPr>
            <p:cNvPr id="553" name=""/>
            <p:cNvSpPr/>
            <p:nvPr/>
          </p:nvSpPr>
          <p:spPr>
            <a:xfrm>
              <a:off x="5359320" y="5108400"/>
              <a:ext cx="17384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213520" y="5165640"/>
              <a:ext cx="965880" cy="438120"/>
              <a:chOff x="5213520" y="5165640"/>
              <a:chExt cx="965880" cy="438120"/>
            </a:xfrm>
          </p:grpSpPr>
          <p:sp>
            <p:nvSpPr>
              <p:cNvPr id="555" name=""/>
              <p:cNvSpPr/>
              <p:nvPr/>
            </p:nvSpPr>
            <p:spPr>
              <a:xfrm flipH="1">
                <a:off x="6061680" y="5214960"/>
                <a:ext cx="117720" cy="388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13520" y="5165640"/>
                <a:ext cx="63324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277600" y="4572000"/>
              <a:ext cx="984240" cy="487800"/>
              <a:chOff x="5277600" y="4572000"/>
              <a:chExt cx="984240" cy="48780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6144120" y="4619520"/>
                <a:ext cx="117720" cy="3891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277600" y="4572000"/>
                <a:ext cx="7002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128840" y="48006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6129000" y="5008680"/>
              <a:ext cx="1182960" cy="646200"/>
              <a:chOff x="6129000" y="5008680"/>
              <a:chExt cx="1182960" cy="646200"/>
            </a:xfrm>
          </p:grpSpPr>
          <p:sp>
            <p:nvSpPr>
              <p:cNvPr id="562" name=""/>
              <p:cNvSpPr/>
              <p:nvPr/>
            </p:nvSpPr>
            <p:spPr>
              <a:xfrm>
                <a:off x="6129000" y="5075280"/>
                <a:ext cx="189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122240" y="5008680"/>
                <a:ext cx="1897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70240" y="518148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53640" y="5181480"/>
                <a:ext cx="1911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640560" y="519588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4654080" y="48006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248160" y="441972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68960" y="4419720"/>
              <a:ext cx="18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54080" y="460548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756480" y="455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64200" y="4605480"/>
              <a:ext cx="212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547880" y="5638680"/>
            <a:ext cx="2005200" cy="915120"/>
            <a:chOff x="4547880" y="5638680"/>
            <a:chExt cx="2005200" cy="915120"/>
          </a:xfrm>
        </p:grpSpPr>
        <p:sp>
          <p:nvSpPr>
            <p:cNvPr id="574" name=""/>
            <p:cNvSpPr/>
            <p:nvPr/>
          </p:nvSpPr>
          <p:spPr>
            <a:xfrm flipH="1">
              <a:off x="5938920" y="5649840"/>
              <a:ext cx="15696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5708160" y="6095880"/>
              <a:ext cx="15876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29200" y="609588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67920" y="6019920"/>
              <a:ext cx="468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9966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7400" y="6126120"/>
              <a:ext cx="6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.7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35040" y="5638680"/>
              <a:ext cx="290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47880" y="5715000"/>
              <a:ext cx="5342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29920" y="5653080"/>
              <a:ext cx="98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6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 rot="19839000">
            <a:off x="1382400" y="3472920"/>
            <a:ext cx="621180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>
                      <a:alpha val="30000"/>
                    </a:srgbClr>
                  </a:solidFill>
                  <a:miter/>
                </a:ln>
                <a:solidFill>
                  <a:srgbClr val="ffffff">
                    <a:alpha val="40000"/>
                  </a:srgbClr>
                </a:solidFill>
                <a:latin typeface="Times New Roman"/>
              </a:rPr>
              <a:t>Decision</a:t>
            </a:r>
            <a:endParaRPr b="1" lang="en-US" sz="2400" spc="1" strike="noStrike">
              <a:ln w="9360">
                <a:solidFill>
                  <a:srgbClr val="000000">
                    <a:alpha val="30000"/>
                  </a:srgbClr>
                </a:solidFill>
                <a:miter/>
              </a:ln>
              <a:solidFill>
                <a:srgbClr val="ffffff">
                  <a:alpha val="4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0920" y="3809880"/>
            <a:ext cx="85881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cision is to reject the null hypo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reatment means are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33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ean number of meals sold at the three locations is not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6248520"/>
            <a:ext cx="7467480" cy="304200"/>
            <a:chOff x="838080" y="6248520"/>
            <a:chExt cx="7467480" cy="304200"/>
          </a:xfrm>
        </p:grpSpPr>
        <p:sp>
          <p:nvSpPr>
            <p:cNvPr id="585" name=""/>
            <p:cNvSpPr/>
            <p:nvPr/>
          </p:nvSpPr>
          <p:spPr>
            <a:xfrm>
              <a:off x="838080" y="632628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2"/>
            <a:stretch/>
          </p:blipFill>
          <p:spPr>
            <a:xfrm>
              <a:off x="447732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"/>
          <p:cNvGrpSpPr/>
          <p:nvPr/>
        </p:nvGrpSpPr>
        <p:grpSpPr>
          <a:xfrm>
            <a:off x="1981080" y="152280"/>
            <a:ext cx="5410440" cy="2992320"/>
            <a:chOff x="1981080" y="152280"/>
            <a:chExt cx="5410440" cy="2992320"/>
          </a:xfrm>
        </p:grpSpPr>
        <p:grpSp>
          <p:nvGrpSpPr>
            <p:cNvPr id="588" name=""/>
            <p:cNvGrpSpPr/>
            <p:nvPr/>
          </p:nvGrpSpPr>
          <p:grpSpPr>
            <a:xfrm>
              <a:off x="1981080" y="152280"/>
              <a:ext cx="5410440" cy="1905120"/>
              <a:chOff x="1981080" y="152280"/>
              <a:chExt cx="5410440" cy="190512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1981080" y="152280"/>
                <a:ext cx="3353040" cy="1905120"/>
                <a:chOff x="1981080" y="152280"/>
                <a:chExt cx="3353040" cy="1905120"/>
              </a:xfrm>
            </p:grpSpPr>
            <p:pic>
              <p:nvPicPr>
                <p:cNvPr id="5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424960" y="152280"/>
                  <a:ext cx="2464920" cy="19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1" name=""/>
                <p:cNvSpPr txBox="1"/>
                <p:nvPr/>
              </p:nvSpPr>
              <p:spPr>
                <a:xfrm>
                  <a:off x="1981080" y="671040"/>
                  <a:ext cx="3353040" cy="900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Wave1">
                    <a:avLst>
                      <a:gd name="adj1" fmla="val 6481"/>
                      <a:gd name="adj2" fmla="val 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ff3300"/>
                          </a:gs>
                          <a:gs pos="50000">
                            <a:srgbClr val="ffffcc"/>
                          </a:gs>
                          <a:gs pos="100000">
                            <a:srgbClr val="ff3300"/>
                          </a:gs>
                        </a:gsLst>
                        <a:lin ang="8100000"/>
                      </a:gradFill>
                      <a:effectLst>
                        <a:outerShdw dist="153753" dir="2700000" blurRad="0" rotWithShape="0">
                          <a:srgbClr val="868686">
                            <a:alpha val="50000"/>
                          </a:srgbClr>
                        </a:outerShdw>
                      </a:effectLst>
                      <a:latin typeface="AmerType Md BT"/>
                    </a:rPr>
                    <a:t>Analysis of Variance</a:t>
                  </a:r>
                  <a:endPara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cc"/>
                        </a:gs>
                        <a:gs pos="100000">
                          <a:srgbClr val="ff3300"/>
                        </a:gs>
                      </a:gsLst>
                      <a:lin ang="81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AmerType Md BT"/>
                    <a:ea typeface="AmerType Md BT"/>
                  </a:endParaRPr>
                </a:p>
              </p:txBody>
            </p:sp>
          </p:grpSp>
          <p:sp>
            <p:nvSpPr>
              <p:cNvPr id="592" name=""/>
              <p:cNvSpPr txBox="1"/>
              <p:nvPr/>
            </p:nvSpPr>
            <p:spPr>
              <a:xfrm>
                <a:off x="4876920" y="1447920"/>
                <a:ext cx="2514600" cy="609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3300"/>
                        </a:gs>
                        <a:gs pos="5000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Procedur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50000">
                        <a:srgbClr val="ffff00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3551760" y="2209680"/>
              <a:ext cx="2038320" cy="934920"/>
              <a:chOff x="3551760" y="2209680"/>
              <a:chExt cx="2038320" cy="934920"/>
            </a:xfrm>
          </p:grpSpPr>
          <p:sp>
            <p:nvSpPr>
              <p:cNvPr id="594" name=""/>
              <p:cNvSpPr txBox="1"/>
              <p:nvPr/>
            </p:nvSpPr>
            <p:spPr>
              <a:xfrm>
                <a:off x="3630240" y="220968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551760" y="262404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6" name=""/>
          <p:cNvSpPr txBox="1"/>
          <p:nvPr/>
        </p:nvSpPr>
        <p:spPr>
          <a:xfrm>
            <a:off x="990720" y="312408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pull dir="ru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28600" y="1676520"/>
            <a:ext cx="8686800" cy="4647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Analysis of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urce  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 DF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M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or      2      76.250    38.125    39.10    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Error     10       9.750     0.9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Total    12      86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dividual 95% CIs For Mean Based on Pooled St.D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vel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M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St.De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---------+---------+---------+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ynor       4    12.750     0.957   (---*---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ris       4    11.500     1.291   (---*---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nder      5    17.000     0.707   (---*---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+---------+---------+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oled St.Dev =      0.987     12.5       15.0     1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33640" y="228600"/>
            <a:ext cx="5075280" cy="798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OVA 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65800" y="111744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Minitab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2438280"/>
            <a:ext cx="1143000" cy="38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2819520"/>
            <a:ext cx="1143000" cy="304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3124080"/>
            <a:ext cx="1143000" cy="3812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19920" y="2438280"/>
            <a:ext cx="1143000" cy="3049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rcRect l="14390" t="30350" r="28351" b="55679"/>
          <a:stretch/>
        </p:blipFill>
        <p:spPr>
          <a:xfrm>
            <a:off x="3201840" y="2716200"/>
            <a:ext cx="2741760" cy="23893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649440" y="59544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Analysis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of  </a:t>
            </a: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Vari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in Exc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3439800" y="2440080"/>
            <a:ext cx="3826080" cy="3655800"/>
            <a:chOff x="3439800" y="2440080"/>
            <a:chExt cx="3826080" cy="3655800"/>
          </a:xfrm>
        </p:grpSpPr>
        <p:sp>
          <p:nvSpPr>
            <p:cNvPr id="607" name=""/>
            <p:cNvSpPr/>
            <p:nvPr/>
          </p:nvSpPr>
          <p:spPr>
            <a:xfrm>
              <a:off x="3439800" y="2558880"/>
              <a:ext cx="7689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rcRect l="24513" t="14666" r="58004" b="55339"/>
            <a:stretch/>
          </p:blipFill>
          <p:spPr>
            <a:xfrm>
              <a:off x="4197240" y="2440080"/>
              <a:ext cx="3068640" cy="365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9" name="" descr=""/>
          <p:cNvPicPr/>
          <p:nvPr/>
        </p:nvPicPr>
        <p:blipFill>
          <a:blip r:embed="rId2"/>
          <a:srcRect l="0" t="50035" r="0" b="24931"/>
          <a:stretch/>
        </p:blipFill>
        <p:spPr>
          <a:xfrm>
            <a:off x="606600" y="1814400"/>
            <a:ext cx="79246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611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219320" y="4767120"/>
            <a:ext cx="6002280" cy="1328760"/>
            <a:chOff x="1219320" y="4767120"/>
            <a:chExt cx="6002280" cy="1328760"/>
          </a:xfrm>
        </p:grpSpPr>
        <p:sp>
          <p:nvSpPr>
            <p:cNvPr id="614" name=""/>
            <p:cNvSpPr/>
            <p:nvPr/>
          </p:nvSpPr>
          <p:spPr>
            <a:xfrm>
              <a:off x="1219320" y="4767120"/>
              <a:ext cx="29066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ATA ANALY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4"/>
            <a:srcRect l="24753" t="37504" r="58269" b="55434"/>
            <a:stretch/>
          </p:blipFill>
          <p:spPr>
            <a:xfrm>
              <a:off x="4191120" y="5168520"/>
              <a:ext cx="3030480" cy="92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"/>
          <p:cNvSpPr/>
          <p:nvPr/>
        </p:nvSpPr>
        <p:spPr>
          <a:xfrm>
            <a:off x="7833960" y="624852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4724280" y="651600"/>
            <a:ext cx="3587760" cy="1786320"/>
            <a:chOff x="4724280" y="651600"/>
            <a:chExt cx="3587760" cy="1786320"/>
          </a:xfrm>
        </p:grpSpPr>
        <p:sp>
          <p:nvSpPr>
            <p:cNvPr id="618" name=""/>
            <p:cNvSpPr/>
            <p:nvPr/>
          </p:nvSpPr>
          <p:spPr>
            <a:xfrm>
              <a:off x="4724280" y="1866600"/>
              <a:ext cx="1046160" cy="57132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485800">
              <a:off x="5596920" y="1065240"/>
              <a:ext cx="269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5"/>
            <a:srcRect l="18768" t="2318" r="77500" b="94576"/>
            <a:stretch/>
          </p:blipFill>
          <p:spPr>
            <a:xfrm>
              <a:off x="4800240" y="1908000"/>
              <a:ext cx="909720" cy="453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4360" y="5400720"/>
            <a:ext cx="7769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ight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OVA: SINGLE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623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rcRect l="27343" t="33337" r="34376" b="41670"/>
          <a:stretch/>
        </p:blipFill>
        <p:spPr>
          <a:xfrm>
            <a:off x="457200" y="1442880"/>
            <a:ext cx="8229600" cy="3972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63200" y="1066680"/>
            <a:ext cx="768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rcRect l="0" t="11458" r="35350" b="55239"/>
          <a:stretch/>
        </p:blipFill>
        <p:spPr>
          <a:xfrm>
            <a:off x="380880" y="2362320"/>
            <a:ext cx="8191800" cy="327636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630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577040" y="1981080"/>
            <a:ext cx="229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1: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4495680"/>
            <a:ext cx="1600200" cy="352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9480" y="2514600"/>
            <a:ext cx="2514600" cy="190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5334120"/>
            <a:ext cx="169524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4343400"/>
            <a:ext cx="1600200" cy="2286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9880" y="4038480"/>
            <a:ext cx="158904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6000" y="1676520"/>
            <a:ext cx="768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20328600">
            <a:off x="7040160" y="2057400"/>
            <a:ext cx="2094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1066680"/>
            <a:ext cx="7315200" cy="520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the sample data in Columns A, B,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000"/>
                            </p:stCondLst>
                            <p:childTnLst>
                              <p:par>
                                <p:cTn id="727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457200" y="1752480"/>
            <a:ext cx="609480" cy="581400"/>
            <a:chOff x="457200" y="1752480"/>
            <a:chExt cx="609480" cy="5814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736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240" y="17524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387440" y="1844640"/>
            <a:ext cx="66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the term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reat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bloc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2536920"/>
            <a:ext cx="609480" cy="581400"/>
            <a:chOff x="457200" y="2536920"/>
            <a:chExt cx="609480" cy="5814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57200" y="261108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34240" y="25369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295280" y="2612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est of hypothesis to determine whethe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ree or more treatment me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eq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754280" y="57913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3606840"/>
            <a:ext cx="609480" cy="581400"/>
            <a:chOff x="457200" y="3606840"/>
            <a:chExt cx="609480" cy="58140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457200" y="368100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34240" y="360684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371600" y="354636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multiple tests for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fference between each pair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reatment mea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/>
          <a:srcRect l="0" t="11458" r="24220" b="32293"/>
          <a:stretch/>
        </p:blipFill>
        <p:spPr>
          <a:xfrm>
            <a:off x="0" y="990720"/>
            <a:ext cx="8763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44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645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2590920" y="6210360"/>
            <a:ext cx="685800" cy="34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5973840"/>
            <a:ext cx="1662120" cy="58140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S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4600" y="5143680"/>
            <a:ext cx="762120" cy="34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99200" y="5029200"/>
            <a:ext cx="813240" cy="52056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14600" y="5524560"/>
            <a:ext cx="762120" cy="342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78680" y="5410080"/>
            <a:ext cx="813240" cy="52056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52880" y="5143680"/>
            <a:ext cx="1219320" cy="4190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55640" y="4191120"/>
            <a:ext cx="1018800" cy="52056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924680" y="5143680"/>
            <a:ext cx="838440" cy="4190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676520" y="2214720"/>
            <a:ext cx="5715000" cy="2581200"/>
          </a:xfrm>
          <a:prstGeom prst="rect">
            <a:avLst/>
          </a:prstGeom>
          <a:gradFill rotWithShape="0">
            <a:gsLst>
              <a:gs pos="0">
                <a:srgbClr val="1ecaba"/>
              </a:gs>
              <a:gs pos="50000">
                <a:srgbClr val="fefefe">
                  <a:alpha val="48235"/>
                </a:srgbClr>
              </a:gs>
              <a:gs pos="100000">
                <a:srgbClr val="1ecaba"/>
              </a:gs>
            </a:gsLst>
            <a:lin ang="8100000"/>
          </a:gra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nferences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bout                              Treatment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058840" y="1676520"/>
            <a:ext cx="5024520" cy="419076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399960" y="2133720"/>
            <a:ext cx="8342280" cy="1752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we reject the null hypothesis that the means are equal,                                                           we may want to know                                                    </a:t>
            </a:r>
            <a:r>
              <a:rPr b="1" i="1" lang="en-US" sz="3200" spc="-1" strike="noStrike">
                <a:solidFill>
                  <a:srgbClr val="ff99ff"/>
                </a:solidFill>
                <a:latin typeface="Times New Roman"/>
              </a:rPr>
              <a:t>which treatment means diff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14480" y="4191120"/>
            <a:ext cx="71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of the simplest procedures is through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 of confidence interv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971800" y="380880"/>
            <a:ext cx="3276720" cy="1067040"/>
          </a:xfrm>
          <a:prstGeom prst="rect">
            <a:avLst/>
          </a:prstGeom>
          <a:gradFill rotWithShape="0">
            <a:gsLst>
              <a:gs pos="0">
                <a:srgbClr val="1ecaba"/>
              </a:gs>
              <a:gs pos="50000">
                <a:srgbClr val="fefefe">
                  <a:alpha val="48235"/>
                </a:srgbClr>
              </a:gs>
              <a:gs pos="100000">
                <a:srgbClr val="1ecaba"/>
              </a:gs>
            </a:gsLst>
            <a:lin ang="8100000"/>
          </a:gra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ff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erences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                             Treatment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838080" y="5638680"/>
            <a:ext cx="7467480" cy="304560"/>
            <a:chOff x="838080" y="5638680"/>
            <a:chExt cx="7467480" cy="304560"/>
          </a:xfrm>
        </p:grpSpPr>
        <p:sp>
          <p:nvSpPr>
            <p:cNvPr id="662" name=""/>
            <p:cNvSpPr/>
            <p:nvPr/>
          </p:nvSpPr>
          <p:spPr>
            <a:xfrm>
              <a:off x="838080" y="571644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3" name="" descr=""/>
            <p:cNvPicPr/>
            <p:nvPr/>
          </p:nvPicPr>
          <p:blipFill>
            <a:blip r:embed="rId3"/>
            <a:stretch/>
          </p:blipFill>
          <p:spPr>
            <a:xfrm>
              <a:off x="4477320" y="56386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"/>
          <p:cNvGrpSpPr/>
          <p:nvPr/>
        </p:nvGrpSpPr>
        <p:grpSpPr>
          <a:xfrm>
            <a:off x="4038480" y="6110280"/>
            <a:ext cx="4724280" cy="520560"/>
            <a:chOff x="4038480" y="6110280"/>
            <a:chExt cx="4724280" cy="520560"/>
          </a:xfrm>
        </p:grpSpPr>
        <p:sp>
          <p:nvSpPr>
            <p:cNvPr id="665" name=""/>
            <p:cNvSpPr/>
            <p:nvPr/>
          </p:nvSpPr>
          <p:spPr>
            <a:xfrm>
              <a:off x="4038480" y="640584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28320" y="6110280"/>
              <a:ext cx="3277800" cy="5205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20d4d0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onfidence Interv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427040" y="171360"/>
            <a:ext cx="6497640" cy="10479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704370">
                  <a:alpha val="69019"/>
                </a:srgbClr>
              </a:gs>
              <a:gs pos="100000">
                <a:srgbClr val="ff99ff"/>
              </a:gs>
            </a:gsLst>
            <a:lin ang="135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idence Interval for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ce Between Two Me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09800" y="3505320"/>
            <a:ext cx="7124400" cy="220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s obtained from the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able with degrees of freedom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 - 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726920" y="1747440"/>
            <a:ext cx="5740560" cy="1376640"/>
            <a:chOff x="1726920" y="1747440"/>
            <a:chExt cx="5740560" cy="1376640"/>
          </a:xfrm>
        </p:grpSpPr>
        <p:grpSp>
          <p:nvGrpSpPr>
            <p:cNvPr id="670" name=""/>
            <p:cNvGrpSpPr/>
            <p:nvPr/>
          </p:nvGrpSpPr>
          <p:grpSpPr>
            <a:xfrm>
              <a:off x="1726920" y="1884240"/>
              <a:ext cx="1730880" cy="823320"/>
              <a:chOff x="1726920" y="1884240"/>
              <a:chExt cx="1730880" cy="823320"/>
            </a:xfrm>
          </p:grpSpPr>
          <p:sp>
            <p:nvSpPr>
              <p:cNvPr id="671" name=""/>
              <p:cNvSpPr/>
              <p:nvPr/>
            </p:nvSpPr>
            <p:spPr>
              <a:xfrm>
                <a:off x="1976040" y="2160720"/>
                <a:ext cx="2505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96840" y="2160720"/>
                <a:ext cx="2505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26920" y="1884240"/>
                <a:ext cx="2674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90320" y="1884240"/>
                <a:ext cx="2674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935720" y="2133720"/>
                <a:ext cx="28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57960" y="2133720"/>
                <a:ext cx="2887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203560" y="23716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040200" y="23716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462040" y="209088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445200" y="2090880"/>
              <a:ext cx="468360" cy="560880"/>
              <a:chOff x="3445200" y="2090880"/>
              <a:chExt cx="468360" cy="560880"/>
            </a:xfrm>
          </p:grpSpPr>
          <p:sp>
            <p:nvSpPr>
              <p:cNvPr id="681" name=""/>
              <p:cNvSpPr/>
              <p:nvPr/>
            </p:nvSpPr>
            <p:spPr>
              <a:xfrm>
                <a:off x="3792600" y="2133720"/>
                <a:ext cx="12096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45200" y="2090880"/>
                <a:ext cx="3438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032360" y="1747440"/>
              <a:ext cx="3435120" cy="1376640"/>
              <a:chOff x="4032360" y="1747440"/>
              <a:chExt cx="3435120" cy="1376640"/>
            </a:xfrm>
          </p:grpSpPr>
          <p:sp>
            <p:nvSpPr>
              <p:cNvPr id="684" name=""/>
              <p:cNvSpPr/>
              <p:nvPr/>
            </p:nvSpPr>
            <p:spPr>
              <a:xfrm>
                <a:off x="4267080" y="1747800"/>
                <a:ext cx="3200400" cy="46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335120" y="2133720"/>
                <a:ext cx="10202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800" spc="-1" strike="noStrike">
                    <a:solidFill>
                      <a:srgbClr val="000000"/>
                    </a:solidFill>
                    <a:latin typeface="Times New Roman"/>
                  </a:rPr>
                  <a:t>MSE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4032360" y="1747440"/>
                <a:ext cx="234360" cy="1136880"/>
                <a:chOff x="4032360" y="1747440"/>
                <a:chExt cx="234360" cy="1136880"/>
              </a:xfrm>
            </p:grpSpPr>
            <p:sp>
              <p:nvSpPr>
                <p:cNvPr id="687" name=""/>
                <p:cNvSpPr/>
                <p:nvPr/>
              </p:nvSpPr>
              <p:spPr>
                <a:xfrm flipV="1">
                  <a:off x="4032360" y="2450880"/>
                  <a:ext cx="52200" cy="28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084560" y="2459160"/>
                  <a:ext cx="74160" cy="425160"/>
                </a:xfrm>
                <a:prstGeom prst="line">
                  <a:avLst/>
                </a:prstGeom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4167000" y="1747440"/>
                  <a:ext cx="99720" cy="11365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5892840" y="2436840"/>
                <a:ext cx="36180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45240" y="2436840"/>
                <a:ext cx="3985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914440" y="2398680"/>
                <a:ext cx="29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665400" y="2398680"/>
                <a:ext cx="2980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22600" y="2697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984720" y="26971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978160" y="1855800"/>
                <a:ext cx="2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49640" y="1855800"/>
                <a:ext cx="2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331320" y="2090880"/>
                <a:ext cx="31176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5649840" y="1790640"/>
                <a:ext cx="182160" cy="1221480"/>
                <a:chOff x="5649840" y="1790640"/>
                <a:chExt cx="182160" cy="12214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649840" y="179064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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649840" y="237168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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649840" y="208908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7216920" y="1790640"/>
                <a:ext cx="182160" cy="1221480"/>
                <a:chOff x="7216920" y="1790640"/>
                <a:chExt cx="182160" cy="12214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7216920" y="179064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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216920" y="237168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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16920" y="2089080"/>
                  <a:ext cx="18216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7" name=""/>
          <p:cNvGrpSpPr/>
          <p:nvPr/>
        </p:nvGrpSpPr>
        <p:grpSpPr>
          <a:xfrm>
            <a:off x="838080" y="5943600"/>
            <a:ext cx="7467480" cy="304560"/>
            <a:chOff x="838080" y="5943600"/>
            <a:chExt cx="7467480" cy="304560"/>
          </a:xfrm>
        </p:grpSpPr>
        <p:sp>
          <p:nvSpPr>
            <p:cNvPr id="708" name=""/>
            <p:cNvSpPr/>
            <p:nvPr/>
          </p:nvSpPr>
          <p:spPr>
            <a:xfrm>
              <a:off x="838080" y="602136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3"/>
            <a:stretch/>
          </p:blipFill>
          <p:spPr>
            <a:xfrm>
              <a:off x="4477320" y="59436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horz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52280" y="2209680"/>
            <a:ext cx="886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a                                                                                  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</a:rPr>
              <a:t>95% confidence interv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for the                                                                     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difference in the mean numb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of meat loaf dinners sold in Lander and Ayn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Katy conclude that there is a                difference between the two restaur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27040" y="171360"/>
            <a:ext cx="6497640" cy="10479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704370">
                  <a:alpha val="69019"/>
                </a:srgbClr>
              </a:gs>
              <a:gs pos="100000">
                <a:srgbClr val="ff99ff"/>
              </a:gs>
            </a:gsLst>
            <a:lin ang="135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idence Interval for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ce Between Two Me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3705120" y="1447920"/>
            <a:ext cx="17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714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838080" y="5943600"/>
            <a:ext cx="7467480" cy="304560"/>
            <a:chOff x="838080" y="5943600"/>
            <a:chExt cx="7467480" cy="304560"/>
          </a:xfrm>
        </p:grpSpPr>
        <p:sp>
          <p:nvSpPr>
            <p:cNvPr id="719" name=""/>
            <p:cNvSpPr/>
            <p:nvPr/>
          </p:nvSpPr>
          <p:spPr>
            <a:xfrm>
              <a:off x="838080" y="602136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2"/>
            <a:stretch/>
          </p:blipFill>
          <p:spPr>
            <a:xfrm>
              <a:off x="4477320" y="59436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out" orient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rcRect l="2525" t="13708" r="46956" b="33794"/>
          <a:stretch/>
        </p:blipFill>
        <p:spPr>
          <a:xfrm>
            <a:off x="0" y="1695600"/>
            <a:ext cx="4572000" cy="49338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6781680" y="495288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5667480"/>
            <a:ext cx="762120" cy="352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8120" y="3645000"/>
            <a:ext cx="666720" cy="317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8120" y="2971800"/>
            <a:ext cx="609480" cy="380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97280" y="4448160"/>
            <a:ext cx="84060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81080" y="3035160"/>
            <a:ext cx="514440" cy="317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81080" y="3645000"/>
            <a:ext cx="514440" cy="317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286000" y="1295280"/>
            <a:ext cx="5105520" cy="1276560"/>
            <a:chOff x="2286000" y="1295280"/>
            <a:chExt cx="5105520" cy="1276560"/>
          </a:xfrm>
        </p:grpSpPr>
        <p:sp>
          <p:nvSpPr>
            <p:cNvPr id="730" name=""/>
            <p:cNvSpPr/>
            <p:nvPr/>
          </p:nvSpPr>
          <p:spPr>
            <a:xfrm>
              <a:off x="2286000" y="1295280"/>
              <a:ext cx="5105520" cy="127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2388" dir="7183193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2346120" y="1333440"/>
              <a:ext cx="4892760" cy="1105920"/>
              <a:chOff x="2346120" y="1333440"/>
              <a:chExt cx="4892760" cy="1105920"/>
            </a:xfrm>
          </p:grpSpPr>
          <p:sp>
            <p:nvSpPr>
              <p:cNvPr id="732" name=""/>
              <p:cNvSpPr/>
              <p:nvPr/>
            </p:nvSpPr>
            <p:spPr>
              <a:xfrm>
                <a:off x="2583000" y="1722600"/>
                <a:ext cx="24120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370320" y="1722600"/>
                <a:ext cx="239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346120" y="1461960"/>
                <a:ext cx="2185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749400" y="1461960"/>
                <a:ext cx="21852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544480" y="169704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333240" y="169704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801160" y="19209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602880" y="192096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040200" y="165564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325040" y="1693800"/>
                <a:ext cx="92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002480" y="1655640"/>
                <a:ext cx="262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80080" y="1333440"/>
                <a:ext cx="2458800" cy="19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44160" y="1695600"/>
                <a:ext cx="7002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MSE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"/>
              <p:cNvGrpSpPr/>
              <p:nvPr/>
            </p:nvGrpSpPr>
            <p:grpSpPr>
              <a:xfrm>
                <a:off x="4554360" y="1333440"/>
                <a:ext cx="225360" cy="1068480"/>
                <a:chOff x="4554360" y="1333440"/>
                <a:chExt cx="225360" cy="1068480"/>
              </a:xfrm>
            </p:grpSpPr>
            <p:sp>
              <p:nvSpPr>
                <p:cNvPr id="746" name=""/>
                <p:cNvSpPr/>
                <p:nvPr/>
              </p:nvSpPr>
              <p:spPr>
                <a:xfrm flipV="1">
                  <a:off x="4554360" y="1994760"/>
                  <a:ext cx="50400" cy="266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604760" y="2001960"/>
                  <a:ext cx="71280" cy="399600"/>
                </a:xfrm>
                <a:prstGeom prst="line">
                  <a:avLst/>
                </a:prstGeom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V="1">
                  <a:off x="4683960" y="1333440"/>
                  <a:ext cx="95760" cy="1068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" name=""/>
              <p:cNvSpPr/>
              <p:nvPr/>
            </p:nvSpPr>
            <p:spPr>
              <a:xfrm>
                <a:off x="5807160" y="1981080"/>
                <a:ext cx="34596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527880" y="1981080"/>
                <a:ext cx="38268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27680" y="1944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548400" y="194472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019560" y="20732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751440" y="20732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91040" y="1434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629040" y="14349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9440" y="165564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5569200" y="1373040"/>
                <a:ext cx="104400" cy="914400"/>
                <a:chOff x="5569200" y="1373040"/>
                <a:chExt cx="104400" cy="914400"/>
              </a:xfrm>
            </p:grpSpPr>
            <p:sp>
              <p:nvSpPr>
                <p:cNvPr id="759" name=""/>
                <p:cNvSpPr/>
                <p:nvPr/>
              </p:nvSpPr>
              <p:spPr>
                <a:xfrm>
                  <a:off x="5569200" y="137304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569200" y="192132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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569200" y="165384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7072560" y="1373040"/>
                <a:ext cx="104400" cy="914400"/>
                <a:chOff x="7072560" y="1373040"/>
                <a:chExt cx="104400" cy="9144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7072560" y="137304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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072560" y="192132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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7072560" y="1653840"/>
                  <a:ext cx="104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6" name=""/>
          <p:cNvGrpSpPr/>
          <p:nvPr/>
        </p:nvGrpSpPr>
        <p:grpSpPr>
          <a:xfrm>
            <a:off x="4647600" y="3733920"/>
            <a:ext cx="4344120" cy="859680"/>
            <a:chOff x="4647600" y="3733920"/>
            <a:chExt cx="4344120" cy="859680"/>
          </a:xfrm>
        </p:grpSpPr>
        <p:grpSp>
          <p:nvGrpSpPr>
            <p:cNvPr id="767" name=""/>
            <p:cNvGrpSpPr/>
            <p:nvPr/>
          </p:nvGrpSpPr>
          <p:grpSpPr>
            <a:xfrm>
              <a:off x="4647600" y="3962520"/>
              <a:ext cx="2297160" cy="405720"/>
              <a:chOff x="4647600" y="3962520"/>
              <a:chExt cx="2297160" cy="405720"/>
            </a:xfrm>
          </p:grpSpPr>
          <p:sp>
            <p:nvSpPr>
              <p:cNvPr id="768" name=""/>
              <p:cNvSpPr/>
              <p:nvPr/>
            </p:nvSpPr>
            <p:spPr>
              <a:xfrm>
                <a:off x="4647600" y="40021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758480" y="4002120"/>
                <a:ext cx="2186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-12.75)  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967360" y="39625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238520" y="3733920"/>
              <a:ext cx="1722600" cy="859680"/>
              <a:chOff x="7238520" y="3733920"/>
              <a:chExt cx="1722600" cy="859680"/>
            </a:xfrm>
          </p:grpSpPr>
          <p:sp>
            <p:nvSpPr>
              <p:cNvPr id="772" name=""/>
              <p:cNvSpPr/>
              <p:nvPr/>
            </p:nvSpPr>
            <p:spPr>
              <a:xfrm>
                <a:off x="8056440" y="4179960"/>
                <a:ext cx="22716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648640" y="4179960"/>
                <a:ext cx="192240" cy="1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238520" y="39909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14840" y="399096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081640" y="3743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075160" y="42274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656200" y="3743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656200" y="42274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356680" y="3951360"/>
                <a:ext cx="178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869240" y="373392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869240" y="415116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869240" y="395424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856720" y="373392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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856720" y="415116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856720" y="3954240"/>
                <a:ext cx="104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020000" y="3733920"/>
              <a:ext cx="1971720" cy="838080"/>
              <a:chOff x="7020000" y="3733920"/>
              <a:chExt cx="1971720" cy="838080"/>
            </a:xfrm>
          </p:grpSpPr>
          <p:sp>
            <p:nvSpPr>
              <p:cNvPr id="788" name=""/>
              <p:cNvSpPr/>
              <p:nvPr/>
            </p:nvSpPr>
            <p:spPr>
              <a:xfrm flipV="1">
                <a:off x="7102440" y="3733920"/>
                <a:ext cx="92160" cy="8380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175520" y="3733920"/>
                <a:ext cx="181620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 flipV="1">
                <a:off x="7020000" y="4215600"/>
                <a:ext cx="68400" cy="3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4647960" y="4952880"/>
            <a:ext cx="2182320" cy="411840"/>
            <a:chOff x="4647960" y="4952880"/>
            <a:chExt cx="2182320" cy="411840"/>
          </a:xfrm>
        </p:grpSpPr>
        <p:sp>
          <p:nvSpPr>
            <p:cNvPr id="792" name=""/>
            <p:cNvSpPr/>
            <p:nvPr/>
          </p:nvSpPr>
          <p:spPr>
            <a:xfrm>
              <a:off x="4852440" y="49986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58640" y="49986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47960" y="4998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38120" y="49986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92320" y="4998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44680" y="49986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75160" y="49528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33200" y="4952880"/>
              <a:ext cx="39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6857280" y="4968720"/>
            <a:ext cx="1685880" cy="396360"/>
            <a:chOff x="6857280" y="4968720"/>
            <a:chExt cx="1685880" cy="396360"/>
          </a:xfrm>
        </p:grpSpPr>
        <p:sp>
          <p:nvSpPr>
            <p:cNvPr id="801" name=""/>
            <p:cNvSpPr/>
            <p:nvPr/>
          </p:nvSpPr>
          <p:spPr>
            <a:xfrm>
              <a:off x="6857280" y="4968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68960" y="499896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77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07040" y="4998960"/>
              <a:ext cx="63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7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322280" y="95400"/>
            <a:ext cx="6497640" cy="10476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704370">
                  <a:alpha val="69019"/>
                </a:srgbClr>
              </a:gs>
              <a:gs pos="100000">
                <a:srgbClr val="ff99ff"/>
              </a:gs>
            </a:gsLst>
            <a:lin ang="135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idence Interval for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ce Between Two Me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371600" y="2568600"/>
            <a:ext cx="6324480" cy="367992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442800" y="3048120"/>
            <a:ext cx="8256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ero is not in the interv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we conclude that this pair of means di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an number of meals sold in Aynor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different from La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427040" y="171360"/>
            <a:ext cx="6497640" cy="10479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704370">
                  <a:alpha val="69019"/>
                </a:srgbClr>
              </a:gs>
              <a:gs pos="100000">
                <a:srgbClr val="ff99ff"/>
              </a:gs>
            </a:gsLst>
            <a:lin ang="135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fidence Interval for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ce Between Two Me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51760" y="1600200"/>
            <a:ext cx="2038320" cy="934920"/>
            <a:chOff x="3551760" y="1600200"/>
            <a:chExt cx="2038320" cy="934920"/>
          </a:xfrm>
        </p:grpSpPr>
        <p:sp>
          <p:nvSpPr>
            <p:cNvPr id="809" name=""/>
            <p:cNvSpPr txBox="1"/>
            <p:nvPr/>
          </p:nvSpPr>
          <p:spPr>
            <a:xfrm>
              <a:off x="3630240" y="1600200"/>
              <a:ext cx="1733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51760" y="2014560"/>
              <a:ext cx="203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838080" y="5943600"/>
            <a:ext cx="7467480" cy="304560"/>
            <a:chOff x="838080" y="5943600"/>
            <a:chExt cx="7467480" cy="304560"/>
          </a:xfrm>
        </p:grpSpPr>
        <p:sp>
          <p:nvSpPr>
            <p:cNvPr id="812" name=""/>
            <p:cNvSpPr/>
            <p:nvPr/>
          </p:nvSpPr>
          <p:spPr>
            <a:xfrm>
              <a:off x="838080" y="602136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3" name="" descr=""/>
            <p:cNvPicPr/>
            <p:nvPr/>
          </p:nvPicPr>
          <p:blipFill>
            <a:blip r:embed="rId3"/>
            <a:stretch/>
          </p:blipFill>
          <p:spPr>
            <a:xfrm>
              <a:off x="4477320" y="59436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277920" y="1436760"/>
            <a:ext cx="858816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two-factor ANOVA we test whether there is a significant differenc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tween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eatment eff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whether                                         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re is a difference in the blocking eff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5120" y="4805280"/>
            <a:ext cx="76723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the block totals 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present the sum of squares for the bloc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310120" y="-59760"/>
            <a:ext cx="4101840" cy="1681200"/>
            <a:chOff x="2310120" y="-59760"/>
            <a:chExt cx="4101840" cy="1681200"/>
          </a:xfrm>
        </p:grpSpPr>
        <p:sp>
          <p:nvSpPr>
            <p:cNvPr id="817" name=""/>
            <p:cNvSpPr/>
            <p:nvPr/>
          </p:nvSpPr>
          <p:spPr>
            <a:xfrm>
              <a:off x="2732040" y="457200"/>
              <a:ext cx="3679920" cy="7984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5000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NOV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 rot="19952400">
              <a:off x="2324160" y="456840"/>
              <a:ext cx="24001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wo-Facto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523160" y="3352680"/>
            <a:ext cx="5537880" cy="1371960"/>
            <a:chOff x="1523160" y="3352680"/>
            <a:chExt cx="5537880" cy="1371960"/>
          </a:xfrm>
        </p:grpSpPr>
        <p:sp>
          <p:nvSpPr>
            <p:cNvPr id="820" name=""/>
            <p:cNvSpPr/>
            <p:nvPr/>
          </p:nvSpPr>
          <p:spPr>
            <a:xfrm>
              <a:off x="3860640" y="4132080"/>
              <a:ext cx="852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522760" y="4132080"/>
              <a:ext cx="1538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160" y="3800520"/>
              <a:ext cx="814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SS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954240" y="34318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27040" y="40496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48160" y="35668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66880" y="40399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351320" y="365760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Times New Roman"/>
                </a:rPr>
                <a:t>r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80560" y="374328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3740040" y="3352680"/>
              <a:ext cx="196560" cy="1371960"/>
              <a:chOff x="3740040" y="3352680"/>
              <a:chExt cx="196560" cy="1371960"/>
            </a:xfrm>
          </p:grpSpPr>
          <p:sp>
            <p:nvSpPr>
              <p:cNvPr id="830" name=""/>
              <p:cNvSpPr/>
              <p:nvPr/>
            </p:nvSpPr>
            <p:spPr>
              <a:xfrm>
                <a:off x="3765600" y="3352680"/>
                <a:ext cx="144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600" y="4114800"/>
                <a:ext cx="144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40040" y="3751200"/>
                <a:ext cx="1965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699080" y="3352680"/>
              <a:ext cx="169560" cy="1371960"/>
              <a:chOff x="4699080" y="3352680"/>
              <a:chExt cx="169560" cy="1371960"/>
            </a:xfrm>
          </p:grpSpPr>
          <p:sp>
            <p:nvSpPr>
              <p:cNvPr id="834" name=""/>
              <p:cNvSpPr/>
              <p:nvPr/>
            </p:nvSpPr>
            <p:spPr>
              <a:xfrm>
                <a:off x="4724640" y="3352680"/>
                <a:ext cx="144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724640" y="4114800"/>
                <a:ext cx="144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699080" y="3751200"/>
                <a:ext cx="1569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063760" y="369072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5480" y="3743280"/>
              <a:ext cx="3009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27320" y="3510000"/>
              <a:ext cx="272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17920" y="33922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47840" y="34527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05560" y="3489120"/>
              <a:ext cx="108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95920" y="34923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57200" y="1549440"/>
            <a:ext cx="82296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eber Manufacturing Co. operates 24 hours a day, five days a week.                                                                 The workers rotate shifts each week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d Bieber, the owner, is interested in whether there is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ce in the number of uni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 when the employe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ork on various shif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800" spc="-1" strike="noStrike">
                <a:solidFill>
                  <a:srgbClr val="339966"/>
                </a:solidFill>
                <a:latin typeface="Times New Roman"/>
              </a:rPr>
              <a:t>f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orkers is selected and their output recorded on each shift.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t the .05 signific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can we conclude the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s a difference in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productio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y shi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in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productio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y employe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310120" y="-59760"/>
            <a:ext cx="4101840" cy="1681200"/>
            <a:chOff x="2310120" y="-59760"/>
            <a:chExt cx="4101840" cy="1681200"/>
          </a:xfrm>
        </p:grpSpPr>
        <p:sp>
          <p:nvSpPr>
            <p:cNvPr id="846" name=""/>
            <p:cNvSpPr/>
            <p:nvPr/>
          </p:nvSpPr>
          <p:spPr>
            <a:xfrm>
              <a:off x="2732040" y="457200"/>
              <a:ext cx="3679920" cy="7984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5000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NOV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 rot="19952400">
              <a:off x="2324160" y="456840"/>
              <a:ext cx="24001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wo-Facto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838080" y="6400800"/>
            <a:ext cx="7467480" cy="304560"/>
            <a:chOff x="838080" y="6400800"/>
            <a:chExt cx="7467480" cy="304560"/>
          </a:xfrm>
        </p:grpSpPr>
        <p:sp>
          <p:nvSpPr>
            <p:cNvPr id="849" name=""/>
            <p:cNvSpPr/>
            <p:nvPr/>
          </p:nvSpPr>
          <p:spPr>
            <a:xfrm>
              <a:off x="838080" y="647856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2"/>
            <a:stretch/>
          </p:blipFill>
          <p:spPr>
            <a:xfrm>
              <a:off x="4477320" y="64008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1" name=""/>
          <p:cNvSpPr txBox="1"/>
          <p:nvPr/>
        </p:nvSpPr>
        <p:spPr>
          <a:xfrm rot="19839000">
            <a:off x="1309680" y="3198960"/>
            <a:ext cx="73310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>
                      <a:alpha val="30000"/>
                    </a:srgbClr>
                  </a:solidFill>
                  <a:miter/>
                </a:ln>
                <a:solidFill>
                  <a:srgbClr val="ffffff">
                    <a:alpha val="56000"/>
                  </a:srgbClr>
                </a:solidFill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>
                    <a:alpha val="30000"/>
                  </a:srgbClr>
                </a:solidFill>
                <a:miter/>
              </a:ln>
              <a:solidFill>
                <a:srgbClr val="ffffff">
                  <a:alpha val="56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split dir="out" orient="vert"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310120" y="-59760"/>
            <a:ext cx="4101840" cy="1681200"/>
            <a:chOff x="2310120" y="-59760"/>
            <a:chExt cx="4101840" cy="1681200"/>
          </a:xfrm>
        </p:grpSpPr>
        <p:sp>
          <p:nvSpPr>
            <p:cNvPr id="853" name=""/>
            <p:cNvSpPr/>
            <p:nvPr/>
          </p:nvSpPr>
          <p:spPr>
            <a:xfrm>
              <a:off x="2732040" y="457200"/>
              <a:ext cx="3679920" cy="7984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5000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NOV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 rot="19952400">
              <a:off x="2324160" y="456840"/>
              <a:ext cx="24001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wo-Facto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4559400" y="315612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59400" y="37670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47920" y="2244600"/>
            <a:ext cx="6324480" cy="4308480"/>
            <a:chOff x="1447920" y="2244600"/>
            <a:chExt cx="6324480" cy="4308480"/>
          </a:xfrm>
        </p:grpSpPr>
        <p:sp>
          <p:nvSpPr>
            <p:cNvPr id="858" name=""/>
            <p:cNvSpPr/>
            <p:nvPr/>
          </p:nvSpPr>
          <p:spPr>
            <a:xfrm>
              <a:off x="6080040" y="31561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09560" y="2643120"/>
              <a:ext cx="1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28640" y="2643120"/>
              <a:ext cx="14814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19400" y="2643120"/>
              <a:ext cx="1511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0400" y="2643120"/>
              <a:ext cx="1511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161040" y="2643120"/>
              <a:ext cx="15080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69080" y="2643120"/>
              <a:ext cx="176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38400" y="37670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59400" y="3776760"/>
              <a:ext cx="9360" cy="60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59400" y="43797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80040" y="437976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9400" y="4387680"/>
              <a:ext cx="936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038400" y="49910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59400" y="49910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59400" y="5000760"/>
              <a:ext cx="9360" cy="60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38280" y="5603760"/>
              <a:ext cx="190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57360" y="5603760"/>
              <a:ext cx="14810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38400" y="560376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048120" y="5603760"/>
              <a:ext cx="1511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9400" y="56037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568760" y="5603760"/>
              <a:ext cx="1511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80040" y="560376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89760" y="5603760"/>
              <a:ext cx="15080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97800" y="5603760"/>
              <a:ext cx="172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75120" y="3164040"/>
              <a:ext cx="9360" cy="60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75120" y="3776760"/>
              <a:ext cx="9360" cy="60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75120" y="437976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75120" y="4387680"/>
              <a:ext cx="936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75120" y="5000760"/>
              <a:ext cx="9360" cy="603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075120" y="5611680"/>
              <a:ext cx="936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59400" y="5611680"/>
              <a:ext cx="9360" cy="60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47920" y="3352680"/>
              <a:ext cx="6324480" cy="3200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65581" dir="73488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47920" y="2286000"/>
              <a:ext cx="6324480" cy="10666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55720" y="2244600"/>
              <a:ext cx="1500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30240" y="2244600"/>
              <a:ext cx="613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54920" y="2641680"/>
              <a:ext cx="110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723920" y="2244600"/>
              <a:ext cx="1245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e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0960" y="2641680"/>
              <a:ext cx="110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97640" y="2244600"/>
              <a:ext cx="851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igh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4640" y="2641680"/>
              <a:ext cx="1108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19280" y="3557520"/>
              <a:ext cx="173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cCartne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960000" y="3557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257080" y="3557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858000" y="3557520"/>
              <a:ext cx="36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941480" y="4168800"/>
              <a:ext cx="927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a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60000" y="4168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57080" y="4168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56200" y="4168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55800" y="4781520"/>
              <a:ext cx="1087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cho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0000" y="4781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257080" y="4781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56200" y="4781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647720" y="5392800"/>
              <a:ext cx="1622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omps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60000" y="5392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57080" y="5392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56200" y="53928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822320" y="6005520"/>
              <a:ext cx="122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agn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60000" y="6005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57080" y="6005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6200" y="60055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47920" y="4038480"/>
              <a:ext cx="63244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7920" y="4648320"/>
              <a:ext cx="6324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7920" y="5257800"/>
              <a:ext cx="6324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52680" y="2286000"/>
              <a:ext cx="1295640" cy="426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648320" y="2286000"/>
              <a:ext cx="1600200" cy="426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628080" y="1428840"/>
            <a:ext cx="2038320" cy="934920"/>
            <a:chOff x="3628080" y="1428840"/>
            <a:chExt cx="2038320" cy="934920"/>
          </a:xfrm>
        </p:grpSpPr>
        <p:sp>
          <p:nvSpPr>
            <p:cNvPr id="924" name=""/>
            <p:cNvSpPr txBox="1"/>
            <p:nvPr/>
          </p:nvSpPr>
          <p:spPr>
            <a:xfrm>
              <a:off x="3706560" y="1428840"/>
              <a:ext cx="173340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28080" y="1843200"/>
              <a:ext cx="203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28800" y="228600"/>
            <a:ext cx="55627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acteristics of the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-Distrib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51680" y="1386000"/>
            <a:ext cx="584064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“famil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-Distribu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62120" y="6095880"/>
            <a:ext cx="7467120" cy="304560"/>
            <a:chOff x="762120" y="6095880"/>
            <a:chExt cx="7467120" cy="304560"/>
          </a:xfrm>
        </p:grpSpPr>
        <p:sp>
          <p:nvSpPr>
            <p:cNvPr id="79" name=""/>
            <p:cNvSpPr/>
            <p:nvPr/>
          </p:nvSpPr>
          <p:spPr>
            <a:xfrm>
              <a:off x="762120" y="6173640"/>
              <a:ext cx="746712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01360" y="60958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646200" y="2057400"/>
            <a:ext cx="81169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member of the family is determined by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wo paramet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umerat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s of freedom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enomin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grees of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28600" y="207648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28600" y="37530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28600" y="438480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69120" y="3733920"/>
            <a:ext cx="7415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it is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tinuous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4920" y="4419720"/>
            <a:ext cx="589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tribution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sitively 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28600" y="512460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0720" y="5102280"/>
            <a:ext cx="7010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s values range fro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curve approache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596960" y="1838160"/>
            <a:ext cx="35845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" y="180036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2714760"/>
            <a:ext cx="3505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2680" y="268596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02680" y="3251160"/>
            <a:ext cx="4255200" cy="459720"/>
            <a:chOff x="202680" y="3251160"/>
            <a:chExt cx="4255200" cy="459720"/>
          </a:xfrm>
        </p:grpSpPr>
        <p:sp>
          <p:nvSpPr>
            <p:cNvPr id="932" name=""/>
            <p:cNvSpPr/>
            <p:nvPr/>
          </p:nvSpPr>
          <p:spPr>
            <a:xfrm>
              <a:off x="1585800" y="330012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2680" y="325116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31120" y="3971880"/>
            <a:ext cx="4126680" cy="459720"/>
            <a:chOff x="231120" y="3971880"/>
            <a:chExt cx="4126680" cy="459720"/>
          </a:xfrm>
        </p:grpSpPr>
        <p:sp>
          <p:nvSpPr>
            <p:cNvPr id="935" name=""/>
            <p:cNvSpPr/>
            <p:nvPr/>
          </p:nvSpPr>
          <p:spPr>
            <a:xfrm>
              <a:off x="1595520" y="400032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1120" y="39718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5334120" y="2676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72000" y="3241800"/>
            <a:ext cx="358128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test statistic is the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231120" y="3971880"/>
            <a:ext cx="4126680" cy="459720"/>
            <a:chOff x="231120" y="3971880"/>
            <a:chExt cx="4126680" cy="459720"/>
          </a:xfrm>
        </p:grpSpPr>
        <p:sp>
          <p:nvSpPr>
            <p:cNvPr id="940" name=""/>
            <p:cNvSpPr/>
            <p:nvPr/>
          </p:nvSpPr>
          <p:spPr>
            <a:xfrm>
              <a:off x="1595520" y="400032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1120" y="39718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571760" y="4946760"/>
            <a:ext cx="22381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ute the test statistic and make a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2680" y="49309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72000" y="3971880"/>
            <a:ext cx="358128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6.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f ar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5485680" y="2295360"/>
            <a:ext cx="398520" cy="465480"/>
            <a:chOff x="5485680" y="2295360"/>
            <a:chExt cx="398520" cy="465480"/>
          </a:xfrm>
        </p:grpSpPr>
        <p:sp>
          <p:nvSpPr>
            <p:cNvPr id="946" name=""/>
            <p:cNvSpPr/>
            <p:nvPr/>
          </p:nvSpPr>
          <p:spPr>
            <a:xfrm>
              <a:off x="5634720" y="2455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798160" y="2295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85680" y="22953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485680" y="1685880"/>
            <a:ext cx="2134800" cy="612000"/>
            <a:chOff x="5485680" y="1685880"/>
            <a:chExt cx="2134800" cy="612000"/>
          </a:xfrm>
        </p:grpSpPr>
        <p:sp>
          <p:nvSpPr>
            <p:cNvPr id="950" name=""/>
            <p:cNvSpPr/>
            <p:nvPr/>
          </p:nvSpPr>
          <p:spPr>
            <a:xfrm>
              <a:off x="5714280" y="205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15800" y="189072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85680" y="189072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5958000" y="1685880"/>
              <a:ext cx="443160" cy="593640"/>
              <a:chOff x="5958000" y="1685880"/>
              <a:chExt cx="443160" cy="593640"/>
            </a:xfrm>
          </p:grpSpPr>
          <p:sp>
            <p:nvSpPr>
              <p:cNvPr id="954" name=""/>
              <p:cNvSpPr/>
              <p:nvPr/>
            </p:nvSpPr>
            <p:spPr>
              <a:xfrm>
                <a:off x="6285960" y="2004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958000" y="168588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6567840" y="1685880"/>
              <a:ext cx="443160" cy="593640"/>
              <a:chOff x="6567840" y="1685880"/>
              <a:chExt cx="443160" cy="593640"/>
            </a:xfrm>
          </p:grpSpPr>
          <p:sp>
            <p:nvSpPr>
              <p:cNvPr id="957" name=""/>
              <p:cNvSpPr/>
              <p:nvPr/>
            </p:nvSpPr>
            <p:spPr>
              <a:xfrm>
                <a:off x="6895800" y="2004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567840" y="168588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695916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34968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7177320" y="1701720"/>
              <a:ext cx="443160" cy="593640"/>
              <a:chOff x="7177320" y="1701720"/>
              <a:chExt cx="443160" cy="593640"/>
            </a:xfrm>
          </p:grpSpPr>
          <p:sp>
            <p:nvSpPr>
              <p:cNvPr id="962" name=""/>
              <p:cNvSpPr/>
              <p:nvPr/>
            </p:nvSpPr>
            <p:spPr>
              <a:xfrm>
                <a:off x="7505280" y="20206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77320" y="170172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"/>
          <p:cNvSpPr/>
          <p:nvPr/>
        </p:nvSpPr>
        <p:spPr>
          <a:xfrm>
            <a:off x="5867280" y="2309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all mean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114440" y="4886280"/>
            <a:ext cx="4565880" cy="1219680"/>
            <a:chOff x="4114440" y="4886280"/>
            <a:chExt cx="4565880" cy="1219680"/>
          </a:xfrm>
        </p:grpSpPr>
        <p:sp>
          <p:nvSpPr>
            <p:cNvPr id="966" name=""/>
            <p:cNvSpPr/>
            <p:nvPr/>
          </p:nvSpPr>
          <p:spPr>
            <a:xfrm>
              <a:off x="4420080" y="52675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4884840" y="4886280"/>
              <a:ext cx="3795480" cy="1219680"/>
              <a:chOff x="4884840" y="4886280"/>
              <a:chExt cx="3795480" cy="1219680"/>
            </a:xfrm>
          </p:grpSpPr>
          <p:sp>
            <p:nvSpPr>
              <p:cNvPr id="968" name=""/>
              <p:cNvSpPr/>
              <p:nvPr/>
            </p:nvSpPr>
            <p:spPr>
              <a:xfrm>
                <a:off x="6445080" y="48862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83160" y="48862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6316560" y="5038920"/>
                <a:ext cx="16056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935680" y="549612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291520" y="549612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5783040" y="5666040"/>
                <a:ext cx="160200" cy="41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840" y="5553000"/>
                <a:ext cx="3795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263080" y="55720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04996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070760" y="5572080"/>
                <a:ext cx="253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5944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045120" y="55720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211880" y="50086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81760" y="5564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91240" y="5564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45120" y="4961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40052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20064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34320" y="5613480"/>
                <a:ext cx="67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554520" y="50086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98080" y="5008680"/>
                <a:ext cx="657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9" name=""/>
            <p:cNvSpPr/>
            <p:nvPr/>
          </p:nvSpPr>
          <p:spPr>
            <a:xfrm>
              <a:off x="4114440" y="526752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1752480" y="1143000"/>
            <a:ext cx="54864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 between various shif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992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600" y="251460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 the various sum of squares: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(total) = 139.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T        =    62.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B        =    33.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E        =    43.47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block) = 4, df(treatment) = 2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error)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2310120" y="-59760"/>
            <a:ext cx="4101840" cy="2423520"/>
            <a:chOff x="2310120" y="-59760"/>
            <a:chExt cx="4101840" cy="2423520"/>
          </a:xfrm>
        </p:grpSpPr>
        <p:grpSp>
          <p:nvGrpSpPr>
            <p:cNvPr id="998" name=""/>
            <p:cNvGrpSpPr/>
            <p:nvPr/>
          </p:nvGrpSpPr>
          <p:grpSpPr>
            <a:xfrm>
              <a:off x="2310120" y="-59760"/>
              <a:ext cx="4101840" cy="1681200"/>
              <a:chOff x="2310120" y="-59760"/>
              <a:chExt cx="4101840" cy="1681200"/>
            </a:xfrm>
          </p:grpSpPr>
          <p:sp>
            <p:nvSpPr>
              <p:cNvPr id="999" name=""/>
              <p:cNvSpPr/>
              <p:nvPr/>
            </p:nvSpPr>
            <p:spPr>
              <a:xfrm>
                <a:off x="2732040" y="457200"/>
                <a:ext cx="3679920" cy="79848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ln w="0">
                <a:noFill/>
              </a:ln>
              <a:effectLst>
                <a:outerShdw dist="153009" dir="789398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NOV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 rot="19952400">
                <a:off x="2324160" y="456840"/>
                <a:ext cx="24001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wo-Factor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001" name=""/>
            <p:cNvGrpSpPr/>
            <p:nvPr/>
          </p:nvGrpSpPr>
          <p:grpSpPr>
            <a:xfrm>
              <a:off x="3628080" y="1428840"/>
              <a:ext cx="2038320" cy="934920"/>
              <a:chOff x="3628080" y="1428840"/>
              <a:chExt cx="2038320" cy="934920"/>
            </a:xfrm>
          </p:grpSpPr>
          <p:sp>
            <p:nvSpPr>
              <p:cNvPr id="1002" name=""/>
              <p:cNvSpPr txBox="1"/>
              <p:nvPr/>
            </p:nvSpPr>
            <p:spPr>
              <a:xfrm>
                <a:off x="3706560" y="142884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628080" y="184320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"/>
          <p:cNvGrpSpPr/>
          <p:nvPr/>
        </p:nvGrpSpPr>
        <p:grpSpPr>
          <a:xfrm>
            <a:off x="6324480" y="3200400"/>
            <a:ext cx="2438280" cy="2288520"/>
            <a:chOff x="6324480" y="3200400"/>
            <a:chExt cx="2438280" cy="2288520"/>
          </a:xfrm>
        </p:grpSpPr>
        <p:sp>
          <p:nvSpPr>
            <p:cNvPr id="1005" name=""/>
            <p:cNvSpPr/>
            <p:nvPr/>
          </p:nvSpPr>
          <p:spPr>
            <a:xfrm>
              <a:off x="6324480" y="3200400"/>
              <a:ext cx="2438280" cy="2288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3300"/>
              </a:solidFill>
              <a:miter/>
            </a:ln>
            <a:effectLst>
              <a:outerShdw dist="162651" dir="771721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Using               to get these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6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7696080" y="3273480"/>
              <a:ext cx="609480" cy="59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"/>
          <p:cNvGrpSpPr/>
          <p:nvPr/>
        </p:nvGrpSpPr>
        <p:grpSpPr>
          <a:xfrm>
            <a:off x="838080" y="6172200"/>
            <a:ext cx="7467480" cy="304560"/>
            <a:chOff x="838080" y="6172200"/>
            <a:chExt cx="7467480" cy="304560"/>
          </a:xfrm>
        </p:grpSpPr>
        <p:sp>
          <p:nvSpPr>
            <p:cNvPr id="1008" name=""/>
            <p:cNvSpPr/>
            <p:nvPr/>
          </p:nvSpPr>
          <p:spPr>
            <a:xfrm>
              <a:off x="838080" y="6249960"/>
              <a:ext cx="7467480" cy="78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3"/>
            <a:stretch/>
          </p:blipFill>
          <p:spPr>
            <a:xfrm>
              <a:off x="4477320" y="61722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380880" y="4826160"/>
            <a:ext cx="845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5.754 &gt; 4.46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reje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2162520" y="3505320"/>
            <a:ext cx="4535280" cy="1295640"/>
            <a:chOff x="2162520" y="3505320"/>
            <a:chExt cx="4535280" cy="1295640"/>
          </a:xfrm>
        </p:grpSpPr>
        <p:sp>
          <p:nvSpPr>
            <p:cNvPr id="1012" name=""/>
            <p:cNvSpPr/>
            <p:nvPr/>
          </p:nvSpPr>
          <p:spPr>
            <a:xfrm>
              <a:off x="4784760" y="35053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987880" y="35053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4609800" y="3687840"/>
              <a:ext cx="16020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3684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22900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2448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35616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9248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99080" y="41911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919320" y="4384800"/>
              <a:ext cx="16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51120" y="4191120"/>
              <a:ext cx="39146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10000" y="426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92600" y="426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6240" y="426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89120" y="426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04640" y="4267080"/>
              <a:ext cx="85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3.47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714640" y="363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089320" y="363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135320" y="36370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5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09320" y="363708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508200" y="36370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41800" y="4192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748040" y="41925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46440" y="35877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62520" y="39625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310120" y="-59760"/>
            <a:ext cx="4101840" cy="2423520"/>
            <a:chOff x="2310120" y="-59760"/>
            <a:chExt cx="4101840" cy="2423520"/>
          </a:xfrm>
        </p:grpSpPr>
        <p:grpSp>
          <p:nvGrpSpPr>
            <p:cNvPr id="1038" name=""/>
            <p:cNvGrpSpPr/>
            <p:nvPr/>
          </p:nvGrpSpPr>
          <p:grpSpPr>
            <a:xfrm>
              <a:off x="2310120" y="-59760"/>
              <a:ext cx="4101840" cy="1681200"/>
              <a:chOff x="2310120" y="-59760"/>
              <a:chExt cx="4101840" cy="1681200"/>
            </a:xfrm>
          </p:grpSpPr>
          <p:sp>
            <p:nvSpPr>
              <p:cNvPr id="1039" name=""/>
              <p:cNvSpPr/>
              <p:nvPr/>
            </p:nvSpPr>
            <p:spPr>
              <a:xfrm>
                <a:off x="2732040" y="457200"/>
                <a:ext cx="3679920" cy="79848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ln w="0">
                <a:noFill/>
              </a:ln>
              <a:effectLst>
                <a:outerShdw dist="153009" dir="789398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NOV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 txBox="1"/>
              <p:nvPr/>
            </p:nvSpPr>
            <p:spPr>
              <a:xfrm rot="19952400">
                <a:off x="2324160" y="456840"/>
                <a:ext cx="24001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wo-Factor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041" name=""/>
            <p:cNvGrpSpPr/>
            <p:nvPr/>
          </p:nvGrpSpPr>
          <p:grpSpPr>
            <a:xfrm>
              <a:off x="3628080" y="1428840"/>
              <a:ext cx="2038320" cy="934920"/>
              <a:chOff x="3628080" y="1428840"/>
              <a:chExt cx="2038320" cy="934920"/>
            </a:xfrm>
          </p:grpSpPr>
          <p:sp>
            <p:nvSpPr>
              <p:cNvPr id="1042" name=""/>
              <p:cNvSpPr txBox="1"/>
              <p:nvPr/>
            </p:nvSpPr>
            <p:spPr>
              <a:xfrm>
                <a:off x="3706560" y="142884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28080" y="184320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4" name=""/>
          <p:cNvGrpSpPr/>
          <p:nvPr/>
        </p:nvGrpSpPr>
        <p:grpSpPr>
          <a:xfrm>
            <a:off x="838080" y="6324480"/>
            <a:ext cx="7467480" cy="304560"/>
            <a:chOff x="838080" y="6324480"/>
            <a:chExt cx="7467480" cy="304560"/>
          </a:xfrm>
        </p:grpSpPr>
        <p:sp>
          <p:nvSpPr>
            <p:cNvPr id="1045" name=""/>
            <p:cNvSpPr/>
            <p:nvPr/>
          </p:nvSpPr>
          <p:spPr>
            <a:xfrm>
              <a:off x="838080" y="640224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4477320" y="63244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"/>
          <p:cNvSpPr/>
          <p:nvPr/>
        </p:nvSpPr>
        <p:spPr>
          <a:xfrm>
            <a:off x="604080" y="23623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228600" y="537228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" y="550224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re is a difference in the mean number of unit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produced on the different shif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209320" y="2286000"/>
            <a:ext cx="4565880" cy="1219680"/>
            <a:chOff x="2209320" y="2286000"/>
            <a:chExt cx="4565880" cy="1219680"/>
          </a:xfrm>
        </p:grpSpPr>
        <p:sp>
          <p:nvSpPr>
            <p:cNvPr id="1051" name=""/>
            <p:cNvSpPr/>
            <p:nvPr/>
          </p:nvSpPr>
          <p:spPr>
            <a:xfrm>
              <a:off x="2514960" y="26672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2979720" y="2286000"/>
              <a:ext cx="3795480" cy="1219680"/>
              <a:chOff x="2979720" y="2286000"/>
              <a:chExt cx="3795480" cy="1219680"/>
            </a:xfrm>
          </p:grpSpPr>
          <p:sp>
            <p:nvSpPr>
              <p:cNvPr id="1053" name=""/>
              <p:cNvSpPr/>
              <p:nvPr/>
            </p:nvSpPr>
            <p:spPr>
              <a:xfrm>
                <a:off x="4539960" y="228600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78040" y="228600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4411440" y="2438640"/>
                <a:ext cx="16056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030560" y="28958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386400" y="28958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3877920" y="3065760"/>
                <a:ext cx="160200" cy="41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979720" y="2952720"/>
                <a:ext cx="3795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357960" y="297180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14484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165640" y="2971800"/>
                <a:ext cx="253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95432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140000" y="297180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306760" y="24084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76640" y="2963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686120" y="2963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040000" y="2360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9540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29552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229200" y="3013200"/>
                <a:ext cx="67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649400" y="24084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792960" y="2408400"/>
                <a:ext cx="657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2209320" y="266724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6864480" y="3962520"/>
            <a:ext cx="13618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5.7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596960" y="1838160"/>
            <a:ext cx="35845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82880" y="180036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600200" y="2714760"/>
            <a:ext cx="3505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2680" y="268596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02680" y="3251160"/>
            <a:ext cx="4255200" cy="459720"/>
            <a:chOff x="202680" y="3251160"/>
            <a:chExt cx="4255200" cy="459720"/>
          </a:xfrm>
        </p:grpSpPr>
        <p:sp>
          <p:nvSpPr>
            <p:cNvPr id="1082" name=""/>
            <p:cNvSpPr/>
            <p:nvPr/>
          </p:nvSpPr>
          <p:spPr>
            <a:xfrm>
              <a:off x="1585800" y="330012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2680" y="325116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31120" y="3971880"/>
            <a:ext cx="4126680" cy="459720"/>
            <a:chOff x="231120" y="3971880"/>
            <a:chExt cx="4126680" cy="459720"/>
          </a:xfrm>
        </p:grpSpPr>
        <p:sp>
          <p:nvSpPr>
            <p:cNvPr id="1085" name=""/>
            <p:cNvSpPr/>
            <p:nvPr/>
          </p:nvSpPr>
          <p:spPr>
            <a:xfrm>
              <a:off x="1595520" y="400032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31120" y="39718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5334120" y="2676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572000" y="3241800"/>
            <a:ext cx="358128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test statistic is the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231120" y="3971880"/>
            <a:ext cx="4126680" cy="459720"/>
            <a:chOff x="231120" y="3971880"/>
            <a:chExt cx="4126680" cy="459720"/>
          </a:xfrm>
        </p:grpSpPr>
        <p:sp>
          <p:nvSpPr>
            <p:cNvPr id="1090" name=""/>
            <p:cNvSpPr/>
            <p:nvPr/>
          </p:nvSpPr>
          <p:spPr>
            <a:xfrm>
              <a:off x="1595520" y="400032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1120" y="39718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1760" y="4946760"/>
            <a:ext cx="22381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ute the test statistic and make a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02680" y="49309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485680" y="2295360"/>
            <a:ext cx="398520" cy="465480"/>
            <a:chOff x="5485680" y="2295360"/>
            <a:chExt cx="398520" cy="465480"/>
          </a:xfrm>
        </p:grpSpPr>
        <p:sp>
          <p:nvSpPr>
            <p:cNvPr id="1095" name=""/>
            <p:cNvSpPr/>
            <p:nvPr/>
          </p:nvSpPr>
          <p:spPr>
            <a:xfrm>
              <a:off x="5634720" y="24555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98160" y="22953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85680" y="229536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5485680" y="1685880"/>
            <a:ext cx="2134800" cy="612000"/>
            <a:chOff x="5485680" y="1685880"/>
            <a:chExt cx="2134800" cy="612000"/>
          </a:xfrm>
        </p:grpSpPr>
        <p:sp>
          <p:nvSpPr>
            <p:cNvPr id="1099" name=""/>
            <p:cNvSpPr/>
            <p:nvPr/>
          </p:nvSpPr>
          <p:spPr>
            <a:xfrm>
              <a:off x="5714280" y="2050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15800" y="189072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85680" y="1890720"/>
              <a:ext cx="1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5958000" y="1685880"/>
              <a:ext cx="443160" cy="593640"/>
              <a:chOff x="5958000" y="1685880"/>
              <a:chExt cx="443160" cy="593640"/>
            </a:xfrm>
          </p:grpSpPr>
          <p:sp>
            <p:nvSpPr>
              <p:cNvPr id="1103" name=""/>
              <p:cNvSpPr/>
              <p:nvPr/>
            </p:nvSpPr>
            <p:spPr>
              <a:xfrm>
                <a:off x="6285960" y="2004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958000" y="168588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6567840" y="1685880"/>
              <a:ext cx="443160" cy="593640"/>
              <a:chOff x="6567840" y="1685880"/>
              <a:chExt cx="443160" cy="593640"/>
            </a:xfrm>
          </p:grpSpPr>
          <p:sp>
            <p:nvSpPr>
              <p:cNvPr id="1106" name=""/>
              <p:cNvSpPr/>
              <p:nvPr/>
            </p:nvSpPr>
            <p:spPr>
              <a:xfrm>
                <a:off x="6895800" y="2004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567840" y="168588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695916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49680" y="1838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7177320" y="1701720"/>
              <a:ext cx="443160" cy="593640"/>
              <a:chOff x="7177320" y="1701720"/>
              <a:chExt cx="443160" cy="593640"/>
            </a:xfrm>
          </p:grpSpPr>
          <p:sp>
            <p:nvSpPr>
              <p:cNvPr id="1111" name=""/>
              <p:cNvSpPr/>
              <p:nvPr/>
            </p:nvSpPr>
            <p:spPr>
              <a:xfrm>
                <a:off x="7505280" y="20206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177320" y="1701720"/>
                <a:ext cx="41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3" name=""/>
          <p:cNvSpPr/>
          <p:nvPr/>
        </p:nvSpPr>
        <p:spPr>
          <a:xfrm>
            <a:off x="5867280" y="2309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all means are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114440" y="4886280"/>
            <a:ext cx="4565880" cy="1219680"/>
            <a:chOff x="4114440" y="4886280"/>
            <a:chExt cx="4565880" cy="1219680"/>
          </a:xfrm>
        </p:grpSpPr>
        <p:sp>
          <p:nvSpPr>
            <p:cNvPr id="1115" name=""/>
            <p:cNvSpPr/>
            <p:nvPr/>
          </p:nvSpPr>
          <p:spPr>
            <a:xfrm>
              <a:off x="4420080" y="52675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6" name=""/>
            <p:cNvGrpSpPr/>
            <p:nvPr/>
          </p:nvGrpSpPr>
          <p:grpSpPr>
            <a:xfrm>
              <a:off x="4884840" y="4886280"/>
              <a:ext cx="3795480" cy="1219680"/>
              <a:chOff x="4884840" y="4886280"/>
              <a:chExt cx="3795480" cy="1219680"/>
            </a:xfrm>
          </p:grpSpPr>
          <p:sp>
            <p:nvSpPr>
              <p:cNvPr id="1117" name=""/>
              <p:cNvSpPr/>
              <p:nvPr/>
            </p:nvSpPr>
            <p:spPr>
              <a:xfrm>
                <a:off x="6445080" y="48862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283160" y="48862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6316560" y="5038920"/>
                <a:ext cx="16056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935680" y="549612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291520" y="549612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5783040" y="5666040"/>
                <a:ext cx="160200" cy="41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84840" y="5553000"/>
                <a:ext cx="3795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263080" y="55720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4996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070760" y="5572080"/>
                <a:ext cx="253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5944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045120" y="55720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211880" y="50086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81760" y="5564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591240" y="5564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945120" y="496116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0052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00640" y="56134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134320" y="5613480"/>
                <a:ext cx="67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54520" y="50086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698080" y="5008680"/>
                <a:ext cx="657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>
              <a:off x="4114440" y="526752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1752480" y="1143000"/>
            <a:ext cx="54864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ference between various shif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1141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4572000" y="3962520"/>
            <a:ext cx="36576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8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f ar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"/>
          <p:cNvGrpSpPr/>
          <p:nvPr/>
        </p:nvGrpSpPr>
        <p:grpSpPr>
          <a:xfrm>
            <a:off x="2310120" y="-59760"/>
            <a:ext cx="4101840" cy="2423520"/>
            <a:chOff x="2310120" y="-59760"/>
            <a:chExt cx="4101840" cy="2423520"/>
          </a:xfrm>
        </p:grpSpPr>
        <p:grpSp>
          <p:nvGrpSpPr>
            <p:cNvPr id="1147" name=""/>
            <p:cNvGrpSpPr/>
            <p:nvPr/>
          </p:nvGrpSpPr>
          <p:grpSpPr>
            <a:xfrm>
              <a:off x="2310120" y="-59760"/>
              <a:ext cx="4101840" cy="1681200"/>
              <a:chOff x="2310120" y="-59760"/>
              <a:chExt cx="4101840" cy="1681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732040" y="457200"/>
                <a:ext cx="3679920" cy="79848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50000">
                    <a:srgbClr val="96ab94"/>
                  </a:gs>
                  <a:gs pos="100000">
                    <a:srgbClr val="8488c4"/>
                  </a:gs>
                </a:gsLst>
                <a:lin ang="5400000"/>
              </a:gradFill>
              <a:ln w="0">
                <a:noFill/>
              </a:ln>
              <a:effectLst>
                <a:outerShdw dist="153009" dir="789398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ANOVA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 rot="19952400">
                <a:off x="2324160" y="456840"/>
                <a:ext cx="24001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Two-Factor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3628080" y="1428840"/>
              <a:ext cx="2038320" cy="934920"/>
              <a:chOff x="3628080" y="1428840"/>
              <a:chExt cx="2038320" cy="934920"/>
            </a:xfrm>
          </p:grpSpPr>
          <p:sp>
            <p:nvSpPr>
              <p:cNvPr id="1151" name=""/>
              <p:cNvSpPr txBox="1"/>
              <p:nvPr/>
            </p:nvSpPr>
            <p:spPr>
              <a:xfrm>
                <a:off x="3706560" y="1428840"/>
                <a:ext cx="173340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52300" dir="9963564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Ex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628080" y="1843200"/>
                <a:ext cx="2038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tinue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3" name=""/>
          <p:cNvGrpSpPr/>
          <p:nvPr/>
        </p:nvGrpSpPr>
        <p:grpSpPr>
          <a:xfrm>
            <a:off x="838080" y="6324480"/>
            <a:ext cx="7467480" cy="304560"/>
            <a:chOff x="838080" y="6324480"/>
            <a:chExt cx="7467480" cy="304560"/>
          </a:xfrm>
        </p:grpSpPr>
        <p:sp>
          <p:nvSpPr>
            <p:cNvPr id="1154" name=""/>
            <p:cNvSpPr/>
            <p:nvPr/>
          </p:nvSpPr>
          <p:spPr>
            <a:xfrm>
              <a:off x="838080" y="640224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5" name="" descr=""/>
            <p:cNvPicPr/>
            <p:nvPr/>
          </p:nvPicPr>
          <p:blipFill>
            <a:blip r:embed="rId2"/>
            <a:stretch/>
          </p:blipFill>
          <p:spPr>
            <a:xfrm>
              <a:off x="4477320" y="63244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6" name=""/>
          <p:cNvSpPr/>
          <p:nvPr/>
        </p:nvSpPr>
        <p:spPr>
          <a:xfrm>
            <a:off x="604080" y="23623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2209320" y="2286000"/>
            <a:ext cx="4565880" cy="1219680"/>
            <a:chOff x="2209320" y="2286000"/>
            <a:chExt cx="4565880" cy="1219680"/>
          </a:xfrm>
        </p:grpSpPr>
        <p:sp>
          <p:nvSpPr>
            <p:cNvPr id="1158" name=""/>
            <p:cNvSpPr/>
            <p:nvPr/>
          </p:nvSpPr>
          <p:spPr>
            <a:xfrm>
              <a:off x="2514960" y="26672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9" name=""/>
            <p:cNvGrpSpPr/>
            <p:nvPr/>
          </p:nvGrpSpPr>
          <p:grpSpPr>
            <a:xfrm>
              <a:off x="2979720" y="2286000"/>
              <a:ext cx="3795480" cy="1219680"/>
              <a:chOff x="2979720" y="2286000"/>
              <a:chExt cx="3795480" cy="1219680"/>
            </a:xfrm>
          </p:grpSpPr>
          <p:sp>
            <p:nvSpPr>
              <p:cNvPr id="1160" name=""/>
              <p:cNvSpPr/>
              <p:nvPr/>
            </p:nvSpPr>
            <p:spPr>
              <a:xfrm>
                <a:off x="4539960" y="228600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378040" y="228600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4411440" y="2438640"/>
                <a:ext cx="16056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030560" y="28958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86400" y="289584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3877920" y="3065760"/>
                <a:ext cx="160200" cy="41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79720" y="2952720"/>
                <a:ext cx="379548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357960" y="297180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484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65640" y="2971800"/>
                <a:ext cx="253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95432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140000" y="297180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306760" y="24084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76640" y="2963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86120" y="2963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040000" y="2360880"/>
                <a:ext cx="127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9540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295520" y="30132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229200" y="3013200"/>
                <a:ext cx="67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49400" y="240840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792960" y="2408400"/>
                <a:ext cx="657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SST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2209320" y="266724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380880" y="4826160"/>
            <a:ext cx="8458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1.55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&lt;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84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je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410080" y="39625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  1.5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162520" y="3505320"/>
            <a:ext cx="3171600" cy="1219320"/>
            <a:chOff x="2162520" y="3505320"/>
            <a:chExt cx="3171600" cy="1219320"/>
          </a:xfrm>
        </p:grpSpPr>
        <p:sp>
          <p:nvSpPr>
            <p:cNvPr id="1185" name=""/>
            <p:cNvSpPr/>
            <p:nvPr/>
          </p:nvSpPr>
          <p:spPr>
            <a:xfrm>
              <a:off x="4799160" y="3505320"/>
              <a:ext cx="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4343040" y="3687840"/>
              <a:ext cx="160200" cy="41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36840" y="41148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57600" y="41148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709880" y="41148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62320" y="41148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030560" y="4267080"/>
              <a:ext cx="16056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51120" y="4191120"/>
              <a:ext cx="258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78000" y="41911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89120" y="41911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104640" y="4191120"/>
              <a:ext cx="85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3.47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571640" y="3637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07120" y="3687840"/>
              <a:ext cx="80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.7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62520" y="378936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 txBox="1"/>
          <p:nvPr/>
        </p:nvSpPr>
        <p:spPr>
          <a:xfrm>
            <a:off x="228600" y="537228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200" name=""/>
          <p:cNvSpPr/>
          <p:nvPr/>
        </p:nvSpPr>
        <p:spPr>
          <a:xfrm>
            <a:off x="457200" y="5410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re is no significant difference in the mean number of units produced by the various employ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430200" y="2438280"/>
            <a:ext cx="8256600" cy="3505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  <a:effectLst>
            <a:outerShdw dist="253800" dir="761219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ts versus Worker,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urier New"/>
              </a:rPr>
              <a:t>Analysis of Variance for Unit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urce    DF    SS       MS       F    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orker     4   33.73    8.43    1.55  0.2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hift      2   62.53   31.27    5.75  0.0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8   43.47    5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Total     14  139.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721600" y="137160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Minitab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2310120" y="-59760"/>
            <a:ext cx="4101840" cy="1681200"/>
            <a:chOff x="2310120" y="-59760"/>
            <a:chExt cx="4101840" cy="1681200"/>
          </a:xfrm>
        </p:grpSpPr>
        <p:sp>
          <p:nvSpPr>
            <p:cNvPr id="1204" name=""/>
            <p:cNvSpPr/>
            <p:nvPr/>
          </p:nvSpPr>
          <p:spPr>
            <a:xfrm>
              <a:off x="2732040" y="457200"/>
              <a:ext cx="3679920" cy="7984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50000">
                  <a:srgbClr val="96ab94"/>
                </a:gs>
                <a:gs pos="100000">
                  <a:srgbClr val="8488c4"/>
                </a:gs>
              </a:gsLst>
              <a:lin ang="54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ANOV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 rot="19952400">
              <a:off x="2324160" y="456840"/>
              <a:ext cx="24001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wo-Facto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3048120" y="5334120"/>
            <a:ext cx="12189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172200" y="4038480"/>
            <a:ext cx="121932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72200" y="4419720"/>
            <a:ext cx="121932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" descr=""/>
          <p:cNvPicPr/>
          <p:nvPr/>
        </p:nvPicPr>
        <p:blipFill>
          <a:blip r:embed="rId1"/>
          <a:srcRect l="0" t="11129" r="44767" b="41670"/>
          <a:stretch/>
        </p:blipFill>
        <p:spPr>
          <a:xfrm>
            <a:off x="380880" y="990720"/>
            <a:ext cx="7581960" cy="505620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2"/>
          <a:srcRect l="0" t="11129" r="45860" b="67535"/>
          <a:stretch/>
        </p:blipFill>
        <p:spPr>
          <a:xfrm>
            <a:off x="380880" y="1015920"/>
            <a:ext cx="75438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211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1212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4" name=""/>
          <p:cNvSpPr/>
          <p:nvPr/>
        </p:nvSpPr>
        <p:spPr>
          <a:xfrm>
            <a:off x="4191120" y="4368960"/>
            <a:ext cx="373356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97520" y="624852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80880" y="5130720"/>
            <a:ext cx="8458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ight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OVA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WO FACTOR WITHOUT 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153000" y="3035160"/>
            <a:ext cx="3226680" cy="1257840"/>
            <a:chOff x="153000" y="3035160"/>
            <a:chExt cx="3226680" cy="1257840"/>
          </a:xfrm>
        </p:grpSpPr>
        <p:pic>
          <p:nvPicPr>
            <p:cNvPr id="1218" name="" descr=""/>
            <p:cNvPicPr/>
            <p:nvPr/>
          </p:nvPicPr>
          <p:blipFill>
            <a:blip r:embed="rId4"/>
            <a:srcRect l="18768" t="2407" r="77500" b="94788"/>
            <a:stretch/>
          </p:blipFill>
          <p:spPr>
            <a:xfrm>
              <a:off x="2273400" y="3035160"/>
              <a:ext cx="11062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9" name=""/>
            <p:cNvSpPr/>
            <p:nvPr/>
          </p:nvSpPr>
          <p:spPr>
            <a:xfrm>
              <a:off x="153000" y="3711600"/>
              <a:ext cx="1198800" cy="581400"/>
            </a:xfrm>
            <a:prstGeom prst="rect">
              <a:avLst/>
            </a:prstGeom>
            <a:gradFill rotWithShape="0">
              <a:gsLst>
                <a:gs pos="0">
                  <a:srgbClr val="ffe8c5"/>
                </a:gs>
                <a:gs pos="50000">
                  <a:srgbClr val="fefefe"/>
                </a:gs>
                <a:gs pos="100000">
                  <a:srgbClr val="ffe8c5"/>
                </a:gs>
              </a:gsLst>
              <a:lin ang="8100000"/>
            </a:gra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le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0" name="" descr=""/>
          <p:cNvPicPr/>
          <p:nvPr/>
        </p:nvPicPr>
        <p:blipFill>
          <a:blip r:embed="rId5"/>
          <a:srcRect l="24375" t="32420" r="61420" b="63718"/>
          <a:stretch/>
        </p:blipFill>
        <p:spPr>
          <a:xfrm>
            <a:off x="1474920" y="3681360"/>
            <a:ext cx="2563560" cy="76356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6998040" y="1625760"/>
            <a:ext cx="2140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1"/>
          <a:srcRect l="0" t="11458" r="48440" b="51888"/>
          <a:stretch/>
        </p:blipFill>
        <p:spPr>
          <a:xfrm>
            <a:off x="0" y="852480"/>
            <a:ext cx="6400800" cy="350532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rcRect l="0" t="52212" r="48440" b="28124"/>
          <a:stretch/>
        </p:blipFill>
        <p:spPr>
          <a:xfrm>
            <a:off x="0" y="4267080"/>
            <a:ext cx="6400800" cy="236232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1676520" y="6248520"/>
            <a:ext cx="838080" cy="304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0880" y="6172200"/>
            <a:ext cx="129564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S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676520" y="5257800"/>
            <a:ext cx="83808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32600" y="5181480"/>
            <a:ext cx="72180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76520" y="556272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5800" y="5562720"/>
            <a:ext cx="76212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676520" y="4952880"/>
            <a:ext cx="83808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800" y="4800600"/>
            <a:ext cx="72720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038480" y="4952880"/>
            <a:ext cx="762120" cy="304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008600" y="4343400"/>
            <a:ext cx="79164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256720" y="4343400"/>
            <a:ext cx="1250280" cy="459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4876920"/>
            <a:ext cx="8380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1237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5029200" y="1530360"/>
            <a:ext cx="3962520" cy="124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ince F(test) &lt; F(critical), there is not sufficient evidence to reject H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19920" y="1066680"/>
            <a:ext cx="22860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105520" y="2819520"/>
            <a:ext cx="3886200" cy="1410120"/>
            <a:chOff x="5105520" y="2819520"/>
            <a:chExt cx="3886200" cy="1410120"/>
          </a:xfrm>
        </p:grpSpPr>
        <p:sp>
          <p:nvSpPr>
            <p:cNvPr id="1242" name=""/>
            <p:cNvSpPr/>
            <p:nvPr/>
          </p:nvSpPr>
          <p:spPr>
            <a:xfrm>
              <a:off x="5105520" y="2819520"/>
              <a:ext cx="3886200" cy="1410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re is no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ignificant differenc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n the average number of units produced by the different employe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5181480" y="2971800"/>
              <a:ext cx="304920" cy="227880"/>
              <a:chOff x="5181480" y="2971800"/>
              <a:chExt cx="304920" cy="227880"/>
            </a:xfrm>
          </p:grpSpPr>
          <p:sp>
            <p:nvSpPr>
              <p:cNvPr id="1244" name=""/>
              <p:cNvSpPr/>
              <p:nvPr/>
            </p:nvSpPr>
            <p:spPr>
              <a:xfrm>
                <a:off x="5257800" y="2971800"/>
                <a:ext cx="76320" cy="75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10080" y="3124080"/>
                <a:ext cx="76320" cy="75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181480" y="3124080"/>
                <a:ext cx="76320" cy="75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ed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685800" y="1828800"/>
            <a:ext cx="7619760" cy="1066680"/>
            <a:chOff x="685800" y="1828800"/>
            <a:chExt cx="7619760" cy="1066680"/>
          </a:xfrm>
        </p:grpSpPr>
        <p:sp>
          <p:nvSpPr>
            <p:cNvPr id="1249" name=""/>
            <p:cNvSpPr/>
            <p:nvPr/>
          </p:nvSpPr>
          <p:spPr>
            <a:xfrm>
              <a:off x="685800" y="18288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79840" y="2072880"/>
              <a:ext cx="729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 rot="20514600">
            <a:off x="612720" y="16765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533520" y="5791320"/>
            <a:ext cx="8076600" cy="228600"/>
            <a:chOff x="533520" y="5791320"/>
            <a:chExt cx="8076600" cy="228600"/>
          </a:xfrm>
        </p:grpSpPr>
        <p:sp>
          <p:nvSpPr>
            <p:cNvPr id="1253" name=""/>
            <p:cNvSpPr/>
            <p:nvPr/>
          </p:nvSpPr>
          <p:spPr>
            <a:xfrm flipV="1">
              <a:off x="533520" y="5844600"/>
              <a:ext cx="8076600" cy="10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4" name="" descr=""/>
            <p:cNvPicPr/>
            <p:nvPr/>
          </p:nvPicPr>
          <p:blipFill>
            <a:blip r:embed="rId6"/>
            <a:stretch/>
          </p:blipFill>
          <p:spPr>
            <a:xfrm>
              <a:off x="4437000" y="5791320"/>
              <a:ext cx="586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5" name=""/>
          <p:cNvSpPr/>
          <p:nvPr/>
        </p:nvSpPr>
        <p:spPr>
          <a:xfrm>
            <a:off x="1443960" y="28954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642680" y="3352680"/>
            <a:ext cx="5595840" cy="2281680"/>
            <a:chOff x="1642680" y="3352680"/>
            <a:chExt cx="5595840" cy="2281680"/>
          </a:xfrm>
        </p:grpSpPr>
        <p:sp>
          <p:nvSpPr>
            <p:cNvPr id="1257" name=""/>
            <p:cNvSpPr/>
            <p:nvPr/>
          </p:nvSpPr>
          <p:spPr>
            <a:xfrm>
              <a:off x="1642680" y="33526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078640" y="37116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9" name="" descr=""/>
          <p:cNvPicPr/>
          <p:nvPr/>
        </p:nvPicPr>
        <p:blipFill>
          <a:blip r:embed="rId7"/>
          <a:stretch/>
        </p:blipFill>
        <p:spPr>
          <a:xfrm>
            <a:off x="685800" y="29718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8"/>
          <a:stretch/>
        </p:blipFill>
        <p:spPr>
          <a:xfrm>
            <a:off x="7238880" y="40384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0" y="0"/>
              <a:ext cx="9144000" cy="6858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85760" y="258840"/>
              <a:ext cx="6972480" cy="6338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28800" y="934920"/>
              <a:ext cx="5486400" cy="4988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76440" y="1523880"/>
              <a:ext cx="4191120" cy="3810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905200" y="1913040"/>
              <a:ext cx="3333600" cy="30319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1581840" y="3078000"/>
            <a:ext cx="5978160" cy="703440"/>
          </a:xfrm>
          <a:prstGeom prst="rect">
            <a:avLst/>
          </a:prstGeom>
          <a:noFill/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00200" y="192240"/>
            <a:ext cx="5943600" cy="798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st for Equal Vari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5320" y="1371600"/>
            <a:ext cx="7351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wo tailed tes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statistic                                     is given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38080" y="6095880"/>
            <a:ext cx="7467480" cy="304560"/>
            <a:chOff x="838080" y="6095880"/>
            <a:chExt cx="7467480" cy="304560"/>
          </a:xfrm>
        </p:grpSpPr>
        <p:sp>
          <p:nvSpPr>
            <p:cNvPr id="92" name=""/>
            <p:cNvSpPr/>
            <p:nvPr/>
          </p:nvSpPr>
          <p:spPr>
            <a:xfrm>
              <a:off x="838080" y="617364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4477320" y="60958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466740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8160" y="4648320"/>
            <a:ext cx="8170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ll hypothesis is rejected         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mputed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test statistic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s greater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ritic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644400" cy="91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2470320"/>
                <a:ext cx="1739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 txBox="1"/>
          <p:nvPr/>
        </p:nvSpPr>
        <p:spPr>
          <a:xfrm>
            <a:off x="5245200" y="2781360"/>
            <a:ext cx="154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28600" y="3968640"/>
            <a:ext cx="452520" cy="435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831240" y="3929040"/>
            <a:ext cx="8318520" cy="558000"/>
            <a:chOff x="831240" y="3929040"/>
            <a:chExt cx="8318520" cy="558000"/>
          </a:xfrm>
        </p:grpSpPr>
        <p:sp>
          <p:nvSpPr>
            <p:cNvPr id="101" name=""/>
            <p:cNvSpPr/>
            <p:nvPr/>
          </p:nvSpPr>
          <p:spPr>
            <a:xfrm>
              <a:off x="1138680" y="3968640"/>
              <a:ext cx="8011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nd       are the sample varian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h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two samp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831240" y="3929040"/>
              <a:ext cx="1436040" cy="558000"/>
              <a:chOff x="831240" y="3929040"/>
              <a:chExt cx="1436040" cy="5580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831240" y="3929040"/>
                <a:ext cx="300960" cy="532800"/>
                <a:chOff x="831240" y="3929040"/>
                <a:chExt cx="300960" cy="5328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011240" y="3929040"/>
                  <a:ext cx="12096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92160" y="4172040"/>
                  <a:ext cx="12096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31240" y="3994200"/>
                  <a:ext cx="13500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7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966320" y="3954600"/>
                <a:ext cx="300960" cy="532440"/>
                <a:chOff x="1966320" y="3954600"/>
                <a:chExt cx="300960" cy="532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146320" y="3954600"/>
                  <a:ext cx="12096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127240" y="4197240"/>
                  <a:ext cx="12096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66320" y="4019400"/>
                  <a:ext cx="13500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7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1004760"/>
            <a:ext cx="7391520" cy="5624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5120" y="1247760"/>
            <a:ext cx="780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in, a stockbroker at Critical Securities, reported that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rate of retu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              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ternet stock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2.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ent with a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.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76720" y="195120"/>
            <a:ext cx="2485440" cy="871560"/>
            <a:chOff x="3276720" y="195120"/>
            <a:chExt cx="2485440" cy="871560"/>
          </a:xfrm>
        </p:grpSpPr>
        <p:sp>
          <p:nvSpPr>
            <p:cNvPr id="114" name=""/>
            <p:cNvSpPr txBox="1"/>
            <p:nvPr/>
          </p:nvSpPr>
          <p:spPr>
            <a:xfrm>
              <a:off x="3276720" y="19512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3914640" y="40464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880" y="30481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rate of retur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mple of 8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utilit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ock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.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ent with a                            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erc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495680"/>
            <a:ext cx="780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.05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can Colin conclude that there is                            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ore variation in the </a:t>
            </a: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internet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stoc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119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33720" y="6172200"/>
            <a:ext cx="259056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not 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6172200"/>
            <a:ext cx="350532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accep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44197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666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905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386000"/>
            <a:ext cx="632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8760" y="152388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2209680"/>
            <a:ext cx="6248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8760" y="22860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048120"/>
            <a:ext cx="3962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the test stat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8760" y="312408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3886200"/>
            <a:ext cx="38098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the decisio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9000" y="39625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9000" y="48006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28600"/>
            <a:ext cx="38102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86200" y="5715000"/>
            <a:ext cx="144792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715000"/>
            <a:ext cx="160020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63248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 the value of the test statistic and make a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762120"/>
            <a:ext cx="1447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254472" dir="10629712" blurRad="0" rotWithShape="0">
                    <a:srgbClr val="b2b2b2">
                      <a:alpha val="50000"/>
                    </a:srgbClr>
                  </a:outerShdw>
                </a:effectLst>
                <a:latin typeface="Tahoma"/>
              </a:rPr>
              <a:t>Rec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3300"/>
                  </a:gs>
                </a:gsLst>
                <a:lin ang="10800000"/>
              </a:gradFill>
              <a:effectLst>
                <a:outerShdw dist="254472" dir="10629712" blurRad="0" rotWithShape="0">
                  <a:srgbClr val="b2b2b2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143000"/>
            <a:ext cx="0" cy="461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96960" y="1143000"/>
            <a:ext cx="3584520" cy="7038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" y="11048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2019240"/>
            <a:ext cx="35053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2680" y="19908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150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153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2546280"/>
            <a:ext cx="358128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test statistic is the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158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71760" y="4556160"/>
            <a:ext cx="22381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mpute the test statistic and make a 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2680" y="45403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276720"/>
            <a:ext cx="432432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6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f ar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numer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7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denomina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7913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o not reject the null hypothesis; there is insufficient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evidence to show more variation in the internet stock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600" y="571500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65" name=""/>
          <p:cNvSpPr/>
          <p:nvPr/>
        </p:nvSpPr>
        <p:spPr>
          <a:xfrm>
            <a:off x="7111080" y="4815000"/>
            <a:ext cx="1411920" cy="442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6832" dir="70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= 1.2416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070520" y="4495680"/>
            <a:ext cx="1452240" cy="1185480"/>
            <a:chOff x="4070520" y="4495680"/>
            <a:chExt cx="1452240" cy="1185480"/>
          </a:xfrm>
        </p:grpSpPr>
        <p:sp>
          <p:nvSpPr>
            <p:cNvPr id="167" name=""/>
            <p:cNvSpPr/>
            <p:nvPr/>
          </p:nvSpPr>
          <p:spPr>
            <a:xfrm>
              <a:off x="4070520" y="472428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507200" y="4495680"/>
              <a:ext cx="1015560" cy="1185480"/>
              <a:chOff x="4507200" y="4495680"/>
              <a:chExt cx="1015560" cy="1185480"/>
            </a:xfrm>
          </p:grpSpPr>
          <p:sp>
            <p:nvSpPr>
              <p:cNvPr id="169" name=""/>
              <p:cNvSpPr/>
              <p:nvPr/>
            </p:nvSpPr>
            <p:spPr>
              <a:xfrm>
                <a:off x="4964040" y="5103720"/>
                <a:ext cx="5587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5640" y="5057640"/>
                <a:ext cx="217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27560" y="5315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56000" y="4495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87600" y="4753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14440" y="5127480"/>
                <a:ext cx="1440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9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14440" y="4565520"/>
                <a:ext cx="139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07200" y="476100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5257800" y="4635720"/>
            <a:ext cx="1671480" cy="958320"/>
            <a:chOff x="5257800" y="4635720"/>
            <a:chExt cx="1671480" cy="958320"/>
          </a:xfrm>
        </p:grpSpPr>
        <p:grpSp>
          <p:nvGrpSpPr>
            <p:cNvPr id="178" name=""/>
            <p:cNvGrpSpPr/>
            <p:nvPr/>
          </p:nvGrpSpPr>
          <p:grpSpPr>
            <a:xfrm>
              <a:off x="5257800" y="4646880"/>
              <a:ext cx="727200" cy="548640"/>
              <a:chOff x="5257800" y="4646880"/>
              <a:chExt cx="727200" cy="548640"/>
            </a:xfrm>
          </p:grpSpPr>
          <p:sp>
            <p:nvSpPr>
              <p:cNvPr id="179" name=""/>
              <p:cNvSpPr/>
              <p:nvPr/>
            </p:nvSpPr>
            <p:spPr>
              <a:xfrm>
                <a:off x="5691600" y="468324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57800" y="4646880"/>
                <a:ext cx="463680" cy="54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040440" y="4635720"/>
              <a:ext cx="888840" cy="958320"/>
              <a:chOff x="6040440" y="4635720"/>
              <a:chExt cx="888840" cy="958320"/>
            </a:xfrm>
          </p:grpSpPr>
          <p:sp>
            <p:nvSpPr>
              <p:cNvPr id="182" name=""/>
              <p:cNvSpPr/>
              <p:nvPr/>
            </p:nvSpPr>
            <p:spPr>
              <a:xfrm>
                <a:off x="6040440" y="5143680"/>
                <a:ext cx="8888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744960" y="51627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6760" y="46357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06720" y="522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8600" y="522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52920" y="522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79760" y="522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66720" y="522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608160" y="47008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435360" y="4700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49680" y="47008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76880" y="4700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2040" y="47008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5485680" y="990720"/>
            <a:ext cx="2126520" cy="579240"/>
            <a:chOff x="5485680" y="990720"/>
            <a:chExt cx="2126520" cy="579240"/>
          </a:xfrm>
        </p:grpSpPr>
        <p:sp>
          <p:nvSpPr>
            <p:cNvPr id="196" name=""/>
            <p:cNvSpPr/>
            <p:nvPr/>
          </p:nvSpPr>
          <p:spPr>
            <a:xfrm>
              <a:off x="7459200" y="990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33560" y="990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90240" y="1295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25240" y="1135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1720" y="12492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14040" y="1249200"/>
              <a:ext cx="163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5680" y="11350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57080" y="109224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11720" y="109224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04280" y="1092240"/>
              <a:ext cx="17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577480" y="1447920"/>
            <a:ext cx="2043000" cy="671040"/>
            <a:chOff x="5577480" y="1447920"/>
            <a:chExt cx="2043000" cy="671040"/>
          </a:xfrm>
        </p:grpSpPr>
        <p:sp>
          <p:nvSpPr>
            <p:cNvPr id="207" name=""/>
            <p:cNvSpPr/>
            <p:nvPr/>
          </p:nvSpPr>
          <p:spPr>
            <a:xfrm>
              <a:off x="7364160" y="1752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7480" y="1447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53000" y="1447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76200" y="1752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93280" y="1592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34640" y="170676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77480" y="15922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7240" y="154944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8160" y="154944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1480" y="1549440"/>
              <a:ext cx="35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4371840"/>
            <a:ext cx="62481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this technique is called  analysis of variance or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1676520"/>
            <a:ext cx="6553440" cy="2836080"/>
          </a:xfrm>
          <a:prstGeom prst="rect">
            <a:avLst/>
          </a:prstGeom>
          <a:gradFill rotWithShape="0">
            <a:gsLst>
              <a:gs pos="0">
                <a:srgbClr val="11cfbd"/>
              </a:gs>
              <a:gs pos="50000">
                <a:srgbClr val="fefefe"/>
              </a:gs>
              <a:gs pos="100000">
                <a:srgbClr val="11cfbd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also used for testing whether                            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wo or mor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ample 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came from                          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 sam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r equa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op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62120" y="6095880"/>
            <a:ext cx="7467120" cy="304560"/>
            <a:chOff x="762120" y="6095880"/>
            <a:chExt cx="7467120" cy="304560"/>
          </a:xfrm>
        </p:grpSpPr>
        <p:sp>
          <p:nvSpPr>
            <p:cNvPr id="220" name=""/>
            <p:cNvSpPr/>
            <p:nvPr/>
          </p:nvSpPr>
          <p:spPr>
            <a:xfrm>
              <a:off x="762120" y="6173640"/>
              <a:ext cx="746712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401360" y="609588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371600" y="4267080"/>
            <a:ext cx="66816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523880" y="304920"/>
            <a:ext cx="480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Underlying Assumptions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172920" y="304920"/>
            <a:ext cx="21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1:56:08Z</dcterms:created>
  <dc:creator>Colleen Quinn &amp; Ron Thornbury</dc:creator>
  <dc:description/>
  <dc:language>en-US</dc:language>
  <cp:lastModifiedBy>jeff_skinner</cp:lastModifiedBy>
  <dcterms:modified xsi:type="dcterms:W3CDTF">2003-04-28T14:10:13Z</dcterms:modified>
  <cp:revision>114</cp:revision>
  <dc:subject/>
  <dc:title>PowerPoint Presentation</dc:title>
</cp:coreProperties>
</file>