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19.wmf" ContentType="image/x-wmf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40.png" ContentType="image/png"/>
  <Override PartName="/ppt/media/image38.png" ContentType="image/png"/>
  <Override PartName="/ppt/media/image8.jpeg" ContentType="image/jpeg"/>
  <Override PartName="/ppt/media/image36.png" ContentType="image/png"/>
  <Override PartName="/ppt/media/image41.png" ContentType="image/png"/>
  <Override PartName="/ppt/media/image42.jpeg" ContentType="image/jpeg"/>
  <Override PartName="/ppt/media/image43.png" ContentType="image/png"/>
  <Override PartName="/ppt/media/image37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45.jpeg" ContentType="image/jpeg"/>
  <Override PartName="/ppt/media/image33.png" ContentType="image/png"/>
  <Override PartName="/ppt/media/image46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4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146160"/>
            <a:ext cx="914400" cy="712800"/>
            <a:chOff x="228600" y="146160"/>
            <a:chExt cx="914400" cy="7128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228600" y="146160"/>
              <a:ext cx="914400" cy="712800"/>
            </a:xfrm>
            <a:prstGeom prst="rect">
              <a:avLst/>
            </a:prstGeom>
            <a:ln w="0">
              <a:noFill/>
            </a:ln>
            <a:effectLst>
              <a:outerShdw dist="81185" dir="8478030" blurRad="0" rotWithShape="0">
                <a:srgbClr val="808080"/>
              </a:outerShdw>
            </a:effectLst>
          </p:spPr>
        </p:pic>
        <p:sp>
          <p:nvSpPr>
            <p:cNvPr id="2" name=""/>
            <p:cNvSpPr txBox="1"/>
            <p:nvPr/>
          </p:nvSpPr>
          <p:spPr>
            <a:xfrm>
              <a:off x="457200" y="24912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000000"/>
                    </a:outerShdw>
                  </a:effectLst>
                  <a:latin typeface="Arial Black"/>
                </a:rPr>
                <a:t>1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162920" y="152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D7AE3C93-DCD3-427B-ACF7-AE2EF78A30A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457200" y="6642000"/>
            <a:ext cx="457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Copyright © 2004 by The McGraw-Hill Companies, Inc. 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0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10.jpe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mcgrawhill.ca/college/lind" TargetMode="External"/><Relationship Id="rId2" Type="http://schemas.openxmlformats.org/officeDocument/2006/relationships/hyperlink" Target="http://www.mcgrawhill.ca/college/lind" TargetMode="External"/><Relationship Id="rId3" Type="http://schemas.openxmlformats.org/officeDocument/2006/relationships/hyperlink" Target="http://www.mcgrawhill.ca/college/lind" TargetMode="External"/><Relationship Id="rId4" Type="http://schemas.openxmlformats.org/officeDocument/2006/relationships/hyperlink" Target="http://www.mcgrawhill.ca/college/lind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614840" cy="5781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362320" y="5410080"/>
            <a:ext cx="43909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5929" dir="7428877" blurRad="0" rotWithShape="0">
                    <a:srgbClr val="ffffcc"/>
                  </a:outerShdw>
                </a:effectLst>
                <a:latin typeface="Copper Black"/>
              </a:rPr>
              <a:t>Chapter 13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5929" dir="7428877" blurRad="0" rotWithShape="0">
                  <a:srgbClr val="ffffcc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09480" y="2438280"/>
            <a:ext cx="8001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cc"/>
                    </a:gs>
                    <a:gs pos="100000">
                      <a:srgbClr val="ff33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Linear Regression and Correl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cc"/>
                  </a:gs>
                  <a:gs pos="100000">
                    <a:srgbClr val="ff3300"/>
                  </a:gs>
                </a:gsLst>
                <a:lin ang="81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The image “file:///C:/Documents%20and%20Settings/Colleen/Desktop/Mason%20text/ch%2013/Chart%2013-6.jpg” cannot be displayed, because it contains errors."/>
          <p:cNvPicPr/>
          <p:nvPr/>
        </p:nvPicPr>
        <p:blipFill>
          <a:blip r:embed="rId1"/>
          <a:srcRect l="0" t="0" r="0" b="1110"/>
          <a:stretch/>
        </p:blipFill>
        <p:spPr>
          <a:xfrm>
            <a:off x="0" y="7632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467160" y="3276720"/>
            <a:ext cx="2247840" cy="581400"/>
          </a:xfrm>
          <a:prstGeom prst="rect">
            <a:avLst/>
          </a:prstGeom>
          <a:gradFill rotWithShape="0">
            <a:gsLst>
              <a:gs pos="0">
                <a:srgbClr val="f9dbc9"/>
              </a:gs>
              <a:gs pos="50000">
                <a:srgbClr val="fefefe"/>
              </a:gs>
              <a:gs pos="100000">
                <a:srgbClr val="f9dbc9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t 13-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28600" y="146160"/>
            <a:ext cx="914400" cy="712800"/>
            <a:chOff x="228600" y="146160"/>
            <a:chExt cx="914400" cy="712800"/>
          </a:xfrm>
        </p:grpSpPr>
        <p:pic>
          <p:nvPicPr>
            <p:cNvPr id="303" name="" descr=""/>
            <p:cNvPicPr/>
            <p:nvPr/>
          </p:nvPicPr>
          <p:blipFill>
            <a:blip r:embed="rId2"/>
            <a:stretch/>
          </p:blipFill>
          <p:spPr>
            <a:xfrm>
              <a:off x="228600" y="146160"/>
              <a:ext cx="914400" cy="712800"/>
            </a:xfrm>
            <a:prstGeom prst="rect">
              <a:avLst/>
            </a:prstGeom>
            <a:ln w="0">
              <a:noFill/>
            </a:ln>
            <a:effectLst>
              <a:outerShdw dist="81185" dir="8478030" blurRad="0" rotWithShape="0">
                <a:srgbClr val="808080"/>
              </a:outerShdw>
            </a:effectLst>
          </p:spPr>
        </p:pic>
        <p:sp>
          <p:nvSpPr>
            <p:cNvPr id="304" name=""/>
            <p:cNvSpPr txBox="1"/>
            <p:nvPr/>
          </p:nvSpPr>
          <p:spPr>
            <a:xfrm>
              <a:off x="457200" y="24912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000000"/>
                    </a:outerShdw>
                  </a:effectLst>
                  <a:latin typeface="Arial Black"/>
                </a:rPr>
                <a:t>1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7162920" y="1522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35D343A0-C54B-47CD-8B75-F82401E0190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The image “file:///C:/Documents%20and%20Settings/Colleen/Desktop/Mason%20text/ch%2013/Chart%2013-4.jpg” cannot be displayed, because it contains errors."/>
          <p:cNvPicPr/>
          <p:nvPr/>
        </p:nvPicPr>
        <p:blipFill>
          <a:blip r:embed="rId1"/>
          <a:srcRect l="0" t="0" r="0" b="5882"/>
          <a:stretch/>
        </p:blipFill>
        <p:spPr>
          <a:xfrm>
            <a:off x="0" y="8380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219480" y="563400"/>
            <a:ext cx="2705040" cy="581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9dbc9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t 1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28600" y="146160"/>
            <a:ext cx="914400" cy="712800"/>
            <a:chOff x="228600" y="146160"/>
            <a:chExt cx="914400" cy="71280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228600" y="146160"/>
              <a:ext cx="914400" cy="712800"/>
            </a:xfrm>
            <a:prstGeom prst="rect">
              <a:avLst/>
            </a:prstGeom>
            <a:ln w="0">
              <a:noFill/>
            </a:ln>
            <a:effectLst>
              <a:outerShdw dist="81185" dir="8478030" blurRad="0" rotWithShape="0">
                <a:srgbClr val="808080"/>
              </a:outerShdw>
            </a:effectLst>
          </p:spPr>
        </p:pic>
        <p:sp>
          <p:nvSpPr>
            <p:cNvPr id="310" name=""/>
            <p:cNvSpPr txBox="1"/>
            <p:nvPr/>
          </p:nvSpPr>
          <p:spPr>
            <a:xfrm>
              <a:off x="457200" y="24912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000000"/>
                    </a:outerShdw>
                  </a:effectLst>
                  <a:latin typeface="Arial Black"/>
                </a:rPr>
                <a:t>1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152280" y="1066680"/>
            <a:ext cx="1371600" cy="15242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1447920"/>
            <a:ext cx="13716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0120" y="1066680"/>
            <a:ext cx="1371600" cy="15242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5410080"/>
            <a:ext cx="4114800" cy="11430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5410080"/>
            <a:ext cx="4191120" cy="11430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4572000"/>
            <a:ext cx="0" cy="1143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43200" y="4572000"/>
            <a:ext cx="0" cy="1143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86200" y="4572000"/>
            <a:ext cx="0" cy="1143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4120" y="4572000"/>
            <a:ext cx="0" cy="1143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77120" y="4572000"/>
            <a:ext cx="0" cy="1143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20120" y="4572000"/>
            <a:ext cx="0" cy="1143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rcRect l="0" t="20124" r="0" b="2452"/>
          <a:stretch/>
        </p:blipFill>
        <p:spPr>
          <a:xfrm>
            <a:off x="0" y="182880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447920" y="76320"/>
            <a:ext cx="6781680" cy="1068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w Income and Well-Being of Canadians are Related (1971-9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29200" y="1371600"/>
            <a:ext cx="2057400" cy="5814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5000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= 0.74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05120" y="1447920"/>
            <a:ext cx="213336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timat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512800" y="201600"/>
            <a:ext cx="4083840" cy="1190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mul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f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orrelation Co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57200" y="5791320"/>
            <a:ext cx="8305920" cy="474480"/>
            <a:chOff x="457200" y="5791320"/>
            <a:chExt cx="8305920" cy="474480"/>
          </a:xfrm>
        </p:grpSpPr>
        <p:sp>
          <p:nvSpPr>
            <p:cNvPr id="328" name=""/>
            <p:cNvSpPr/>
            <p:nvPr/>
          </p:nvSpPr>
          <p:spPr>
            <a:xfrm>
              <a:off x="457200" y="5960880"/>
              <a:ext cx="830592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99"/>
                </a:gs>
                <a:gs pos="100000">
                  <a:srgbClr val="fefefe"/>
                </a:gs>
              </a:gsLst>
              <a:lin ang="81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67080" y="5791320"/>
              <a:ext cx="533520" cy="47448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9db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87440" y="1447920"/>
            <a:ext cx="8123040" cy="3474000"/>
            <a:chOff x="487440" y="1447920"/>
            <a:chExt cx="8123040" cy="3474000"/>
          </a:xfrm>
        </p:grpSpPr>
        <p:grpSp>
          <p:nvGrpSpPr>
            <p:cNvPr id="331" name=""/>
            <p:cNvGrpSpPr/>
            <p:nvPr/>
          </p:nvGrpSpPr>
          <p:grpSpPr>
            <a:xfrm>
              <a:off x="487440" y="1719360"/>
              <a:ext cx="8123040" cy="3202560"/>
              <a:chOff x="487440" y="1719360"/>
              <a:chExt cx="8123040" cy="3202560"/>
            </a:xfrm>
          </p:grpSpPr>
          <p:sp>
            <p:nvSpPr>
              <p:cNvPr id="332" name=""/>
              <p:cNvSpPr/>
              <p:nvPr/>
            </p:nvSpPr>
            <p:spPr>
              <a:xfrm>
                <a:off x="1066680" y="3927600"/>
                <a:ext cx="75438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487440" y="1719360"/>
                <a:ext cx="7742160" cy="3202560"/>
                <a:chOff x="487440" y="1719360"/>
                <a:chExt cx="7742160" cy="32025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3200400" y="2481480"/>
                  <a:ext cx="350532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137200" y="2481480"/>
                  <a:ext cx="968400" cy="86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50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i="1" lang="en-US" sz="4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i="1" lang="en-US" sz="5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i="1" lang="en-US" sz="38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1" i="1" lang="en-US" sz="3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4267080" y="2041560"/>
                  <a:ext cx="5335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x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657960" y="1795680"/>
                  <a:ext cx="8373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1" i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i="1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 - 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286360" y="2024280"/>
                  <a:ext cx="834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5000" spc="-1" strike="noStrike">
                      <a:solidFill>
                        <a:srgbClr val="000000"/>
                      </a:solidFill>
                      <a:latin typeface="Times New Roman"/>
                    </a:rPr>
                    <a:t>r =</a:t>
                  </a:r>
                  <a:endParaRPr b="0" lang="en-US" sz="5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200040" y="1795680"/>
                  <a:ext cx="3772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endParaRPr b="0" lang="en-US" sz="5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802400" y="1719360"/>
                  <a:ext cx="10220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)(</a:t>
                  </a:r>
                  <a:r>
                    <a:rPr b="1" i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y -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173640" y="1719360"/>
                  <a:ext cx="366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507120" y="2481480"/>
                  <a:ext cx="1596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1" i="1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r>
                    <a:rPr b="1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 – 1</a:t>
                  </a: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87440" y="3395880"/>
                  <a:ext cx="5050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5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270160" y="3191040"/>
                  <a:ext cx="3879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1" i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xy</a:t>
                  </a: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 – (   </a:t>
                  </a:r>
                  <a:r>
                    <a:rPr b="1" i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)(</a:t>
                  </a:r>
                  <a:r>
                    <a:rPr b="1" lang="en-US" sz="40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1" i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666520" y="3243240"/>
                  <a:ext cx="3315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342680" y="3243240"/>
                  <a:ext cx="3315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307840" y="3243240"/>
                  <a:ext cx="3315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725400" y="4005360"/>
                  <a:ext cx="326880" cy="900000"/>
                  <a:chOff x="725400" y="4005360"/>
                  <a:chExt cx="326880" cy="9000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V="1">
                    <a:off x="725400" y="4574880"/>
                    <a:ext cx="72000" cy="47520"/>
                  </a:xfrm>
                  <a:prstGeom prst="line">
                    <a:avLst/>
                  </a:prstGeom>
                  <a:ln w="20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797400" y="4589280"/>
                    <a:ext cx="105480" cy="315720"/>
                  </a:xfrm>
                  <a:prstGeom prst="line">
                    <a:avLst/>
                  </a:prstGeom>
                  <a:ln w="42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V="1">
                    <a:off x="913680" y="4005360"/>
                    <a:ext cx="138600" cy="900000"/>
                  </a:xfrm>
                  <a:prstGeom prst="line">
                    <a:avLst/>
                  </a:prstGeom>
                  <a:ln w="20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2" name=""/>
                <p:cNvSpPr/>
                <p:nvPr/>
              </p:nvSpPr>
              <p:spPr>
                <a:xfrm>
                  <a:off x="1063800" y="3990960"/>
                  <a:ext cx="3355920" cy="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162440" y="4157640"/>
                  <a:ext cx="3132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1" i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x </a:t>
                  </a:r>
                  <a:r>
                    <a:rPr b="1" lang="en-US" sz="3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 – (   </a:t>
                  </a:r>
                  <a:r>
                    <a:rPr b="1" i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r>
                    <a:rPr b="1" lang="en-US" sz="4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523520" y="4233960"/>
                  <a:ext cx="3315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199680" y="4233960"/>
                  <a:ext cx="3315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858560" y="4157640"/>
                  <a:ext cx="30808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1" i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y </a:t>
                  </a:r>
                  <a:r>
                    <a:rPr b="1" lang="en-US" sz="36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 – (   </a:t>
                  </a:r>
                  <a:r>
                    <a:rPr b="1" i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r>
                    <a:rPr b="1" lang="en-US" sz="4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r>
                    <a:rPr b="1" lang="en-US" sz="4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231880" y="4233960"/>
                  <a:ext cx="3315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857280" y="4233960"/>
                  <a:ext cx="3315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9" name=""/>
                <p:cNvGrpSpPr/>
                <p:nvPr/>
              </p:nvGrpSpPr>
              <p:grpSpPr>
                <a:xfrm>
                  <a:off x="4549680" y="4005360"/>
                  <a:ext cx="326880" cy="900000"/>
                  <a:chOff x="4549680" y="4005360"/>
                  <a:chExt cx="326880" cy="90000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flipV="1">
                    <a:off x="4549680" y="4574880"/>
                    <a:ext cx="72000" cy="47520"/>
                  </a:xfrm>
                  <a:prstGeom prst="line">
                    <a:avLst/>
                  </a:prstGeom>
                  <a:ln w="20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621680" y="4589280"/>
                    <a:ext cx="105480" cy="315720"/>
                  </a:xfrm>
                  <a:prstGeom prst="line">
                    <a:avLst/>
                  </a:prstGeom>
                  <a:ln w="42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V="1">
                    <a:off x="4737960" y="4005360"/>
                    <a:ext cx="138600" cy="900000"/>
                  </a:xfrm>
                  <a:prstGeom prst="line">
                    <a:avLst/>
                  </a:prstGeom>
                  <a:ln w="205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3" name=""/>
                <p:cNvSpPr/>
                <p:nvPr/>
              </p:nvSpPr>
              <p:spPr>
                <a:xfrm>
                  <a:off x="4873680" y="3990960"/>
                  <a:ext cx="3355920" cy="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5767560" y="1447920"/>
              <a:ext cx="498240" cy="1023120"/>
              <a:chOff x="5767560" y="1447920"/>
              <a:chExt cx="498240" cy="1023120"/>
            </a:xfrm>
          </p:grpSpPr>
          <p:sp>
            <p:nvSpPr>
              <p:cNvPr id="365" name=""/>
              <p:cNvSpPr/>
              <p:nvPr/>
            </p:nvSpPr>
            <p:spPr>
              <a:xfrm>
                <a:off x="5773680" y="1828440"/>
                <a:ext cx="387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67560" y="1447920"/>
                <a:ext cx="498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85800" y="1027080"/>
            <a:ext cx="8077320" cy="27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resent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ropor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tal vari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pendent vari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 is explain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ounted for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by the vari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dependent vari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06400" y="3570120"/>
            <a:ext cx="833760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the square of the coefficient of cor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ranges from 0 t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does not give any information       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on the direction of the relationship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etween th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22240" y="152280"/>
            <a:ext cx="5766120" cy="642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efficient of De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371600" y="6095880"/>
            <a:ext cx="6400800" cy="685440"/>
            <a:chOff x="1371600" y="6095880"/>
            <a:chExt cx="6400800" cy="685440"/>
          </a:xfrm>
        </p:grpSpPr>
        <p:sp>
          <p:nvSpPr>
            <p:cNvPr id="371" name=""/>
            <p:cNvSpPr/>
            <p:nvPr/>
          </p:nvSpPr>
          <p:spPr>
            <a:xfrm>
              <a:off x="1371600" y="6341040"/>
              <a:ext cx="6400800" cy="1101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99"/>
                </a:gs>
                <a:gs pos="100000">
                  <a:srgbClr val="fefefe"/>
                </a:gs>
              </a:gsLst>
              <a:lin ang="81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07400" y="6095880"/>
              <a:ext cx="411120" cy="685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9db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7772400" y="5867280"/>
            <a:ext cx="981000" cy="8398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 rot="121200">
            <a:off x="228600" y="2109960"/>
            <a:ext cx="8375760" cy="428292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gradFill rotWithShape="0">
            <a:gsLst>
              <a:gs pos="0">
                <a:srgbClr val="ffebe9"/>
              </a:gs>
              <a:gs pos="50000">
                <a:srgbClr val="fef9f9"/>
              </a:gs>
              <a:gs pos="100000">
                <a:srgbClr val="ffebe9"/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1720800"/>
            <a:ext cx="80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n Ireland,  the student body president, is concerned about the cost to students of textbook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7772400" y="6248520"/>
            <a:ext cx="1218960" cy="457200"/>
            <a:chOff x="7772400" y="6248520"/>
            <a:chExt cx="1218960" cy="457200"/>
          </a:xfrm>
        </p:grpSpPr>
        <p:sp>
          <p:nvSpPr>
            <p:cNvPr id="377" name=""/>
            <p:cNvSpPr/>
            <p:nvPr/>
          </p:nvSpPr>
          <p:spPr>
            <a:xfrm>
              <a:off x="7772400" y="6307200"/>
              <a:ext cx="1203120" cy="39852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  <a:close/>
                </a:path>
              </a:pathLst>
            </a:custGeom>
            <a:solidFill>
              <a:srgbClr val="4c9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72400" y="6248520"/>
              <a:ext cx="1203120" cy="45720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50160" y="6404040"/>
              <a:ext cx="1141200" cy="192240"/>
            </a:xfrm>
            <a:custGeom>
              <a:avLst/>
              <a:gdLst/>
              <a:ahLst/>
              <a:rect l="l" t="t" r="r" b="b"/>
              <a:pathLst>
                <a:path w="1248" h="161">
                  <a:moveTo>
                    <a:pt x="1002" y="46"/>
                  </a:moveTo>
                  <a:lnTo>
                    <a:pt x="6" y="46"/>
                  </a:lnTo>
                  <a:lnTo>
                    <a:pt x="0" y="114"/>
                  </a:lnTo>
                  <a:lnTo>
                    <a:pt x="996" y="114"/>
                  </a:lnTo>
                  <a:lnTo>
                    <a:pt x="888" y="161"/>
                  </a:lnTo>
                  <a:lnTo>
                    <a:pt x="1056" y="158"/>
                  </a:lnTo>
                  <a:lnTo>
                    <a:pt x="1248" y="83"/>
                  </a:lnTo>
                  <a:lnTo>
                    <a:pt x="1068" y="2"/>
                  </a:lnTo>
                  <a:lnTo>
                    <a:pt x="900" y="0"/>
                  </a:lnTo>
                  <a:lnTo>
                    <a:pt x="100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7969320" y="6307200"/>
              <a:ext cx="691560" cy="3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cc"/>
                  </a:solidFill>
                  <a:effectLst>
                    <a:outerShdw dist="28496" dir="12374481" blurRad="0" rotWithShape="0">
                      <a:srgbClr val="000000"/>
                    </a:outerShdw>
                  </a:effectLst>
                  <a:latin typeface="Arial Black"/>
                </a:rPr>
                <a:t>Dat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28496" dir="12374481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228600" y="274320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believes there is a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relationship between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                                the numb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ages in the tex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                                                    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selling price of the boo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!                                                                   To provide insight into the problem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he selects a sampl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eight (8) textbook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urrently on sale in the bookst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90440" y="5073480"/>
            <a:ext cx="697392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66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53009" dir="78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aw a scatter diagram.                           Compute the correlation coeffic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081320" y="914400"/>
            <a:ext cx="981360" cy="8398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249280" y="152280"/>
            <a:ext cx="4711680" cy="642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rrelation Coeffic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7620120" y="6172200"/>
            <a:ext cx="1447200" cy="533160"/>
            <a:chOff x="7620120" y="6172200"/>
            <a:chExt cx="1447200" cy="533160"/>
          </a:xfrm>
        </p:grpSpPr>
        <p:sp>
          <p:nvSpPr>
            <p:cNvPr id="386" name=""/>
            <p:cNvSpPr/>
            <p:nvPr/>
          </p:nvSpPr>
          <p:spPr>
            <a:xfrm>
              <a:off x="7620120" y="6240600"/>
              <a:ext cx="1428120" cy="46476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  <a:close/>
                </a:path>
              </a:pathLst>
            </a:custGeom>
            <a:solidFill>
              <a:srgbClr val="4c9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20120" y="6172200"/>
              <a:ext cx="1428120" cy="53316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712640" y="6353640"/>
              <a:ext cx="1354680" cy="224280"/>
            </a:xfrm>
            <a:custGeom>
              <a:avLst/>
              <a:gdLst/>
              <a:ahLst/>
              <a:rect l="l" t="t" r="r" b="b"/>
              <a:pathLst>
                <a:path w="1248" h="161">
                  <a:moveTo>
                    <a:pt x="1002" y="46"/>
                  </a:moveTo>
                  <a:lnTo>
                    <a:pt x="6" y="46"/>
                  </a:lnTo>
                  <a:lnTo>
                    <a:pt x="0" y="114"/>
                  </a:lnTo>
                  <a:lnTo>
                    <a:pt x="996" y="114"/>
                  </a:lnTo>
                  <a:lnTo>
                    <a:pt x="888" y="161"/>
                  </a:lnTo>
                  <a:lnTo>
                    <a:pt x="1056" y="158"/>
                  </a:lnTo>
                  <a:lnTo>
                    <a:pt x="1248" y="83"/>
                  </a:lnTo>
                  <a:lnTo>
                    <a:pt x="1068" y="2"/>
                  </a:lnTo>
                  <a:lnTo>
                    <a:pt x="900" y="0"/>
                  </a:lnTo>
                  <a:lnTo>
                    <a:pt x="100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7854120" y="6240600"/>
              <a:ext cx="820800" cy="37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cc"/>
                  </a:solidFill>
                  <a:effectLst>
                    <a:outerShdw dist="28496" dir="12374481" blurRad="0" rotWithShape="0">
                      <a:srgbClr val="000000"/>
                    </a:outerShdw>
                  </a:effectLst>
                  <a:latin typeface="Arial Black"/>
                </a:rPr>
                <a:t>Solv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28496" dir="12374481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80880" y="1143000"/>
            <a:ext cx="7696080" cy="5105160"/>
            <a:chOff x="380880" y="1143000"/>
            <a:chExt cx="7696080" cy="5105160"/>
          </a:xfrm>
        </p:grpSpPr>
        <p:sp>
          <p:nvSpPr>
            <p:cNvPr id="391" name=""/>
            <p:cNvSpPr/>
            <p:nvPr/>
          </p:nvSpPr>
          <p:spPr>
            <a:xfrm>
              <a:off x="2438280" y="1143000"/>
              <a:ext cx="5638680" cy="510516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438280" y="1206360"/>
              <a:ext cx="5410080" cy="49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ook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# </a:t>
              </a:r>
              <a:r>
                <a:rPr b="1" lang="en-US" sz="28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Page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Price ($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o to Histor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50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8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sic Algebr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70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ro. to Psych.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80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ro. to Sociolog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60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s. Mgmt.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0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6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ro to Biolog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50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d. of Jazz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600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6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ro. to Nursin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800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9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0880" y="3352680"/>
              <a:ext cx="1981080" cy="60948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50000">
                  <a:srgbClr val="010607"/>
                </a:gs>
                <a:gs pos="100000">
                  <a:srgbClr val="33ccff"/>
                </a:gs>
              </a:gsLst>
              <a:lin ang="8100000"/>
            </a:gradFill>
            <a:ln w="0">
              <a:noFill/>
            </a:ln>
            <a:effectLst>
              <a:outerShdw dist="180599" dir="7760257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at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2249280" y="152280"/>
            <a:ext cx="4711680" cy="642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rrelation Coeffic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152280" y="2614680"/>
            <a:ext cx="719280" cy="712800"/>
            <a:chOff x="152280" y="2614680"/>
            <a:chExt cx="719280" cy="712800"/>
          </a:xfrm>
        </p:grpSpPr>
        <p:grpSp>
          <p:nvGrpSpPr>
            <p:cNvPr id="396" name=""/>
            <p:cNvGrpSpPr/>
            <p:nvPr/>
          </p:nvGrpSpPr>
          <p:grpSpPr>
            <a:xfrm>
              <a:off x="152280" y="2614680"/>
              <a:ext cx="719280" cy="712800"/>
              <a:chOff x="152280" y="2614680"/>
              <a:chExt cx="719280" cy="712800"/>
            </a:xfrm>
          </p:grpSpPr>
          <p:sp>
            <p:nvSpPr>
              <p:cNvPr id="397" name=""/>
              <p:cNvSpPr/>
              <p:nvPr/>
            </p:nvSpPr>
            <p:spPr>
              <a:xfrm>
                <a:off x="152280" y="2641680"/>
                <a:ext cx="63360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399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8320" y="2614680"/>
                <a:ext cx="63324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401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 txBox="1"/>
            <p:nvPr/>
          </p:nvSpPr>
          <p:spPr>
            <a:xfrm>
              <a:off x="304920" y="2756160"/>
              <a:ext cx="457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7080120" y="2527200"/>
            <a:ext cx="1800" cy="34920"/>
          </a:xfrm>
          <a:custGeom>
            <a:avLst/>
            <a:gdLst/>
            <a:ahLst/>
            <a:rect l="l" t="t" r="r" b="b"/>
            <a:pathLst>
              <a:path w="0" h="22">
                <a:moveTo>
                  <a:pt x="0" y="11"/>
                </a:moveTo>
                <a:lnTo>
                  <a:pt x="0" y="0"/>
                </a:lnTo>
                <a:lnTo>
                  <a:pt x="0" y="22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93800" y="5022720"/>
            <a:ext cx="1800" cy="34920"/>
          </a:xfrm>
          <a:custGeom>
            <a:avLst/>
            <a:gdLst/>
            <a:ahLst/>
            <a:rect l="l" t="t" r="r" b="b"/>
            <a:pathLst>
              <a:path w="0" h="22">
                <a:moveTo>
                  <a:pt x="0" y="11"/>
                </a:moveTo>
                <a:lnTo>
                  <a:pt x="0" y="0"/>
                </a:lnTo>
                <a:lnTo>
                  <a:pt x="0" y="22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80120" y="3027240"/>
            <a:ext cx="1800" cy="34920"/>
          </a:xfrm>
          <a:custGeom>
            <a:avLst/>
            <a:gdLst/>
            <a:ahLst/>
            <a:rect l="l" t="t" r="r" b="b"/>
            <a:pathLst>
              <a:path w="0" h="22">
                <a:moveTo>
                  <a:pt x="0" y="11"/>
                </a:moveTo>
                <a:lnTo>
                  <a:pt x="0" y="0"/>
                </a:lnTo>
                <a:lnTo>
                  <a:pt x="0" y="22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57200" y="1203480"/>
            <a:ext cx="8305920" cy="4740120"/>
            <a:chOff x="457200" y="1203480"/>
            <a:chExt cx="8305920" cy="4740120"/>
          </a:xfrm>
        </p:grpSpPr>
        <p:grpSp>
          <p:nvGrpSpPr>
            <p:cNvPr id="404" name=""/>
            <p:cNvGrpSpPr/>
            <p:nvPr/>
          </p:nvGrpSpPr>
          <p:grpSpPr>
            <a:xfrm>
              <a:off x="3122640" y="1816200"/>
              <a:ext cx="4566960" cy="3196800"/>
              <a:chOff x="3122640" y="1816200"/>
              <a:chExt cx="4566960" cy="3196800"/>
            </a:xfrm>
          </p:grpSpPr>
          <p:sp>
            <p:nvSpPr>
              <p:cNvPr id="405" name=""/>
              <p:cNvSpPr/>
              <p:nvPr/>
            </p:nvSpPr>
            <p:spPr>
              <a:xfrm>
                <a:off x="4319640" y="3131640"/>
                <a:ext cx="7920" cy="46440"/>
              </a:xfrm>
              <a:custGeom>
                <a:avLst/>
                <a:gdLst/>
                <a:ahLst/>
                <a:rect l="l" t="t" r="r" b="b"/>
                <a:pathLst>
                  <a:path w="5" h="28">
                    <a:moveTo>
                      <a:pt x="5" y="28"/>
                    </a:moveTo>
                    <a:lnTo>
                      <a:pt x="0" y="0"/>
                    </a:lnTo>
                    <a:lnTo>
                      <a:pt x="5" y="6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319640" y="3131640"/>
                <a:ext cx="7920" cy="5328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5" y="28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309920" y="3123360"/>
                <a:ext cx="9720" cy="61560"/>
              </a:xfrm>
              <a:custGeom>
                <a:avLst/>
                <a:gdLst/>
                <a:ahLst/>
                <a:rect l="l" t="t" r="r" b="b"/>
                <a:pathLst>
                  <a:path w="6" h="38">
                    <a:moveTo>
                      <a:pt x="6" y="5"/>
                    </a:moveTo>
                    <a:lnTo>
                      <a:pt x="0" y="0"/>
                    </a:lnTo>
                    <a:lnTo>
                      <a:pt x="6" y="38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309920" y="3123360"/>
                <a:ext cx="9720" cy="7128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6" y="38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6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302000" y="3112920"/>
                <a:ext cx="7920" cy="81720"/>
              </a:xfrm>
              <a:custGeom>
                <a:avLst/>
                <a:gdLst/>
                <a:ahLst/>
                <a:rect l="l" t="t" r="r" b="b"/>
                <a:pathLst>
                  <a:path w="5" h="50">
                    <a:moveTo>
                      <a:pt x="5" y="6"/>
                    </a:moveTo>
                    <a:lnTo>
                      <a:pt x="0" y="0"/>
                    </a:lnTo>
                    <a:lnTo>
                      <a:pt x="5" y="50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302000" y="3112920"/>
                <a:ext cx="7920" cy="90000"/>
              </a:xfrm>
              <a:custGeom>
                <a:avLst/>
                <a:gdLst/>
                <a:ahLst/>
                <a:rect l="l" t="t" r="r" b="b"/>
                <a:pathLst>
                  <a:path w="5" h="55">
                    <a:moveTo>
                      <a:pt x="5" y="50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86160" y="3112920"/>
                <a:ext cx="15840" cy="900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0"/>
                    </a:moveTo>
                    <a:lnTo>
                      <a:pt x="0" y="0"/>
                    </a:lnTo>
                    <a:lnTo>
                      <a:pt x="10" y="5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286160" y="3112920"/>
                <a:ext cx="15840" cy="900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270320" y="3112920"/>
                <a:ext cx="15840" cy="900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0"/>
                    </a:moveTo>
                    <a:lnTo>
                      <a:pt x="0" y="0"/>
                    </a:lnTo>
                    <a:lnTo>
                      <a:pt x="10" y="5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270320" y="3112920"/>
                <a:ext cx="15840" cy="900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262400" y="3112920"/>
                <a:ext cx="7920" cy="90000"/>
              </a:xfrm>
              <a:custGeom>
                <a:avLst/>
                <a:gdLst/>
                <a:ahLst/>
                <a:rect l="l" t="t" r="r" b="b"/>
                <a:pathLst>
                  <a:path w="5" h="55">
                    <a:moveTo>
                      <a:pt x="5" y="0"/>
                    </a:moveTo>
                    <a:lnTo>
                      <a:pt x="0" y="6"/>
                    </a:lnTo>
                    <a:lnTo>
                      <a:pt x="5" y="5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262400" y="3123360"/>
                <a:ext cx="7920" cy="79560"/>
              </a:xfrm>
              <a:custGeom>
                <a:avLst/>
                <a:gdLst/>
                <a:ahLst/>
                <a:rect l="l" t="t" r="r" b="b"/>
                <a:pathLst>
                  <a:path w="5" h="49">
                    <a:moveTo>
                      <a:pt x="5" y="49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254480" y="3123360"/>
                <a:ext cx="7920" cy="7128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0"/>
                    </a:moveTo>
                    <a:lnTo>
                      <a:pt x="0" y="5"/>
                    </a:lnTo>
                    <a:lnTo>
                      <a:pt x="5" y="4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254480" y="3131640"/>
                <a:ext cx="7920" cy="6300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9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246560" y="3131640"/>
                <a:ext cx="7920" cy="5328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5" y="0"/>
                    </a:moveTo>
                    <a:lnTo>
                      <a:pt x="0" y="6"/>
                    </a:lnTo>
                    <a:lnTo>
                      <a:pt x="5" y="3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246560" y="3141360"/>
                <a:ext cx="7920" cy="4320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27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5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557760" y="3904200"/>
                <a:ext cx="7920" cy="45360"/>
              </a:xfrm>
              <a:custGeom>
                <a:avLst/>
                <a:gdLst/>
                <a:ahLst/>
                <a:rect l="l" t="t" r="r" b="b"/>
                <a:pathLst>
                  <a:path w="5" h="28">
                    <a:moveTo>
                      <a:pt x="5" y="28"/>
                    </a:moveTo>
                    <a:lnTo>
                      <a:pt x="0" y="0"/>
                    </a:lnTo>
                    <a:lnTo>
                      <a:pt x="5" y="6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557760" y="390420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5" y="28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549840" y="3895920"/>
                <a:ext cx="7920" cy="61920"/>
              </a:xfrm>
              <a:custGeom>
                <a:avLst/>
                <a:gdLst/>
                <a:ahLst/>
                <a:rect l="l" t="t" r="r" b="b"/>
                <a:pathLst>
                  <a:path w="5" h="38">
                    <a:moveTo>
                      <a:pt x="5" y="38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549840" y="3895920"/>
                <a:ext cx="7920" cy="716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38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541920" y="3886200"/>
                <a:ext cx="7920" cy="81720"/>
              </a:xfrm>
              <a:custGeom>
                <a:avLst/>
                <a:gdLst/>
                <a:ahLst/>
                <a:rect l="l" t="t" r="r" b="b"/>
                <a:pathLst>
                  <a:path w="5" h="50">
                    <a:moveTo>
                      <a:pt x="5" y="50"/>
                    </a:moveTo>
                    <a:lnTo>
                      <a:pt x="0" y="0"/>
                    </a:lnTo>
                    <a:lnTo>
                      <a:pt x="5" y="6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541920" y="3886200"/>
                <a:ext cx="7920" cy="90000"/>
              </a:xfrm>
              <a:custGeom>
                <a:avLst/>
                <a:gdLst/>
                <a:ahLst/>
                <a:rect l="l" t="t" r="r" b="b"/>
                <a:pathLst>
                  <a:path w="5" h="55">
                    <a:moveTo>
                      <a:pt x="5" y="50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526080" y="3886200"/>
                <a:ext cx="15840" cy="900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526080" y="3886200"/>
                <a:ext cx="15840" cy="900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510240" y="3886200"/>
                <a:ext cx="15840" cy="900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10240" y="3886200"/>
                <a:ext cx="15840" cy="900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500520" y="3886200"/>
                <a:ext cx="9720" cy="900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6" y="55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500520" y="3895920"/>
                <a:ext cx="9720" cy="7992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6" y="49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6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492600" y="3895920"/>
                <a:ext cx="7920" cy="716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44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492600" y="3904200"/>
                <a:ext cx="7920" cy="6336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9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484680" y="390420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5" y="33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484680" y="3914640"/>
                <a:ext cx="7920" cy="4320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27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5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81680" y="1834200"/>
                <a:ext cx="7920" cy="4320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27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5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81680" y="183420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5" y="27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5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73760" y="1824480"/>
                <a:ext cx="7920" cy="6336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9"/>
                    </a:moveTo>
                    <a:lnTo>
                      <a:pt x="0" y="0"/>
                    </a:lnTo>
                    <a:lnTo>
                      <a:pt x="5" y="6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73760" y="1824480"/>
                <a:ext cx="7920" cy="716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39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665840" y="1816200"/>
                <a:ext cx="7920" cy="79920"/>
              </a:xfrm>
              <a:custGeom>
                <a:avLst/>
                <a:gdLst/>
                <a:ahLst/>
                <a:rect l="l" t="t" r="r" b="b"/>
                <a:pathLst>
                  <a:path w="5" h="49">
                    <a:moveTo>
                      <a:pt x="5" y="49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665840" y="1816200"/>
                <a:ext cx="7920" cy="90000"/>
              </a:xfrm>
              <a:custGeom>
                <a:avLst/>
                <a:gdLst/>
                <a:ahLst/>
                <a:rect l="l" t="t" r="r" b="b"/>
                <a:pathLst>
                  <a:path w="5" h="55">
                    <a:moveTo>
                      <a:pt x="5" y="49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650000" y="1816200"/>
                <a:ext cx="15840" cy="900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650000" y="1816200"/>
                <a:ext cx="15840" cy="900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720" y="1816200"/>
                <a:ext cx="17280" cy="90000"/>
              </a:xfrm>
              <a:custGeom>
                <a:avLst/>
                <a:gdLst/>
                <a:ahLst/>
                <a:rect l="l" t="t" r="r" b="b"/>
                <a:pathLst>
                  <a:path w="11" h="55">
                    <a:moveTo>
                      <a:pt x="11" y="55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632720" y="1816200"/>
                <a:ext cx="17280" cy="90000"/>
              </a:xfrm>
              <a:custGeom>
                <a:avLst/>
                <a:gdLst/>
                <a:ahLst/>
                <a:rect l="l" t="t" r="r" b="b"/>
                <a:pathLst>
                  <a:path w="11" h="55">
                    <a:moveTo>
                      <a:pt x="11" y="55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1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624800" y="1816200"/>
                <a:ext cx="7920" cy="90000"/>
              </a:xfrm>
              <a:custGeom>
                <a:avLst/>
                <a:gdLst/>
                <a:ahLst/>
                <a:rect l="l" t="t" r="r" b="b"/>
                <a:pathLst>
                  <a:path w="5" h="55">
                    <a:moveTo>
                      <a:pt x="5" y="55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5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624800" y="1824480"/>
                <a:ext cx="7920" cy="81720"/>
              </a:xfrm>
              <a:custGeom>
                <a:avLst/>
                <a:gdLst/>
                <a:ahLst/>
                <a:rect l="l" t="t" r="r" b="b"/>
                <a:pathLst>
                  <a:path w="5" h="50">
                    <a:moveTo>
                      <a:pt x="5" y="5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616880" y="1824480"/>
                <a:ext cx="7920" cy="716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44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16880" y="1834200"/>
                <a:ext cx="7920" cy="61920"/>
              </a:xfrm>
              <a:custGeom>
                <a:avLst/>
                <a:gdLst/>
                <a:ahLst/>
                <a:rect l="l" t="t" r="r" b="b"/>
                <a:pathLst>
                  <a:path w="5" h="38">
                    <a:moveTo>
                      <a:pt x="5" y="38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608600" y="1834200"/>
                <a:ext cx="8280" cy="536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5" y="33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608600" y="1841040"/>
                <a:ext cx="8280" cy="46800"/>
              </a:xfrm>
              <a:custGeom>
                <a:avLst/>
                <a:gdLst/>
                <a:ahLst/>
                <a:rect l="l" t="t" r="r" b="b"/>
                <a:pathLst>
                  <a:path w="5" h="28">
                    <a:moveTo>
                      <a:pt x="5" y="28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441760" y="4166640"/>
                <a:ext cx="7920" cy="46440"/>
              </a:xfrm>
              <a:custGeom>
                <a:avLst/>
                <a:gdLst/>
                <a:ahLst/>
                <a:rect l="l" t="t" r="r" b="b"/>
                <a:pathLst>
                  <a:path w="5" h="28">
                    <a:moveTo>
                      <a:pt x="5" y="28"/>
                    </a:moveTo>
                    <a:lnTo>
                      <a:pt x="0" y="0"/>
                    </a:lnTo>
                    <a:lnTo>
                      <a:pt x="5" y="6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441760" y="4166640"/>
                <a:ext cx="7920" cy="5472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5" y="28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433840" y="4159800"/>
                <a:ext cx="7920" cy="61560"/>
              </a:xfrm>
              <a:custGeom>
                <a:avLst/>
                <a:gdLst/>
                <a:ahLst/>
                <a:rect l="l" t="t" r="r" b="b"/>
                <a:pathLst>
                  <a:path w="5" h="38">
                    <a:moveTo>
                      <a:pt x="5" y="38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433840" y="4159800"/>
                <a:ext cx="7920" cy="716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38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425920" y="4150080"/>
                <a:ext cx="7920" cy="81720"/>
              </a:xfrm>
              <a:custGeom>
                <a:avLst/>
                <a:gdLst/>
                <a:ahLst/>
                <a:rect l="l" t="t" r="r" b="b"/>
                <a:pathLst>
                  <a:path w="5" h="50">
                    <a:moveTo>
                      <a:pt x="5" y="50"/>
                    </a:moveTo>
                    <a:lnTo>
                      <a:pt x="0" y="0"/>
                    </a:lnTo>
                    <a:lnTo>
                      <a:pt x="5" y="6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25920" y="4150080"/>
                <a:ext cx="7920" cy="90000"/>
              </a:xfrm>
              <a:custGeom>
                <a:avLst/>
                <a:gdLst/>
                <a:ahLst/>
                <a:rect l="l" t="t" r="r" b="b"/>
                <a:pathLst>
                  <a:path w="5" h="55">
                    <a:moveTo>
                      <a:pt x="5" y="50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150080"/>
                <a:ext cx="15840" cy="900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410080" y="4150080"/>
                <a:ext cx="15840" cy="900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394240" y="4150080"/>
                <a:ext cx="15840" cy="900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394240" y="4150080"/>
                <a:ext cx="15840" cy="900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386320" y="4150080"/>
                <a:ext cx="7920" cy="90000"/>
              </a:xfrm>
              <a:custGeom>
                <a:avLst/>
                <a:gdLst/>
                <a:ahLst/>
                <a:rect l="l" t="t" r="r" b="b"/>
                <a:pathLst>
                  <a:path w="5" h="55">
                    <a:moveTo>
                      <a:pt x="5" y="55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5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386320" y="4159800"/>
                <a:ext cx="7920" cy="79920"/>
              </a:xfrm>
              <a:custGeom>
                <a:avLst/>
                <a:gdLst/>
                <a:ahLst/>
                <a:rect l="l" t="t" r="r" b="b"/>
                <a:pathLst>
                  <a:path w="5" h="49">
                    <a:moveTo>
                      <a:pt x="5" y="49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378400" y="4159800"/>
                <a:ext cx="7920" cy="716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44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78400" y="4166640"/>
                <a:ext cx="7920" cy="6480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9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370480" y="4166640"/>
                <a:ext cx="7920" cy="5472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5" y="33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370480" y="4176360"/>
                <a:ext cx="7920" cy="4500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27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5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195360" y="4421880"/>
                <a:ext cx="7920" cy="4536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27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5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195360" y="442188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5" y="27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5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187440" y="4411800"/>
                <a:ext cx="7920" cy="6480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6"/>
                    </a:moveTo>
                    <a:lnTo>
                      <a:pt x="0" y="0"/>
                    </a:lnTo>
                    <a:lnTo>
                      <a:pt x="5" y="39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187440" y="4411800"/>
                <a:ext cx="7920" cy="734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39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179520" y="4405320"/>
                <a:ext cx="7920" cy="79920"/>
              </a:xfrm>
              <a:custGeom>
                <a:avLst/>
                <a:gdLst/>
                <a:ahLst/>
                <a:rect l="l" t="t" r="r" b="b"/>
                <a:pathLst>
                  <a:path w="5" h="49">
                    <a:moveTo>
                      <a:pt x="5" y="5"/>
                    </a:moveTo>
                    <a:lnTo>
                      <a:pt x="0" y="0"/>
                    </a:lnTo>
                    <a:lnTo>
                      <a:pt x="5" y="49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79520" y="4405320"/>
                <a:ext cx="7920" cy="90360"/>
              </a:xfrm>
              <a:custGeom>
                <a:avLst/>
                <a:gdLst/>
                <a:ahLst/>
                <a:rect l="l" t="t" r="r" b="b"/>
                <a:pathLst>
                  <a:path w="5" h="55">
                    <a:moveTo>
                      <a:pt x="5" y="49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162240" y="4405320"/>
                <a:ext cx="17280" cy="90360"/>
              </a:xfrm>
              <a:custGeom>
                <a:avLst/>
                <a:gdLst/>
                <a:ahLst/>
                <a:rect l="l" t="t" r="r" b="b"/>
                <a:pathLst>
                  <a:path w="11" h="55">
                    <a:moveTo>
                      <a:pt x="11" y="0"/>
                    </a:moveTo>
                    <a:lnTo>
                      <a:pt x="0" y="0"/>
                    </a:lnTo>
                    <a:lnTo>
                      <a:pt x="11" y="5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162240" y="4405320"/>
                <a:ext cx="17280" cy="90360"/>
              </a:xfrm>
              <a:custGeom>
                <a:avLst/>
                <a:gdLst/>
                <a:ahLst/>
                <a:rect l="l" t="t" r="r" b="b"/>
                <a:pathLst>
                  <a:path w="11" h="55">
                    <a:moveTo>
                      <a:pt x="11" y="55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1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46400" y="4405320"/>
                <a:ext cx="15840" cy="9036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0"/>
                    </a:moveTo>
                    <a:lnTo>
                      <a:pt x="0" y="0"/>
                    </a:lnTo>
                    <a:lnTo>
                      <a:pt x="10" y="5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46400" y="4405320"/>
                <a:ext cx="15840" cy="9036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8480" y="4405320"/>
                <a:ext cx="7920" cy="90360"/>
              </a:xfrm>
              <a:custGeom>
                <a:avLst/>
                <a:gdLst/>
                <a:ahLst/>
                <a:rect l="l" t="t" r="r" b="b"/>
                <a:pathLst>
                  <a:path w="5" h="55">
                    <a:moveTo>
                      <a:pt x="5" y="0"/>
                    </a:moveTo>
                    <a:lnTo>
                      <a:pt x="0" y="5"/>
                    </a:lnTo>
                    <a:lnTo>
                      <a:pt x="5" y="5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138480" y="4411800"/>
                <a:ext cx="7920" cy="83520"/>
              </a:xfrm>
              <a:custGeom>
                <a:avLst/>
                <a:gdLst/>
                <a:ahLst/>
                <a:rect l="l" t="t" r="r" b="b"/>
                <a:pathLst>
                  <a:path w="5" h="50">
                    <a:moveTo>
                      <a:pt x="5" y="5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130560" y="4411800"/>
                <a:ext cx="7920" cy="734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0"/>
                    </a:moveTo>
                    <a:lnTo>
                      <a:pt x="0" y="6"/>
                    </a:lnTo>
                    <a:lnTo>
                      <a:pt x="5" y="4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130560" y="4421880"/>
                <a:ext cx="7920" cy="63360"/>
              </a:xfrm>
              <a:custGeom>
                <a:avLst/>
                <a:gdLst/>
                <a:ahLst/>
                <a:rect l="l" t="t" r="r" b="b"/>
                <a:pathLst>
                  <a:path w="5" h="38">
                    <a:moveTo>
                      <a:pt x="5" y="38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122640" y="442188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5" y="0"/>
                    </a:moveTo>
                    <a:lnTo>
                      <a:pt x="0" y="5"/>
                    </a:lnTo>
                    <a:lnTo>
                      <a:pt x="5" y="3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122640" y="4430520"/>
                <a:ext cx="7920" cy="46440"/>
              </a:xfrm>
              <a:custGeom>
                <a:avLst/>
                <a:gdLst/>
                <a:ahLst/>
                <a:rect l="l" t="t" r="r" b="b"/>
                <a:pathLst>
                  <a:path w="5" h="28">
                    <a:moveTo>
                      <a:pt x="5" y="28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319640" y="3386880"/>
                <a:ext cx="7920" cy="4320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27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5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319640" y="338688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5" y="27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5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09920" y="3376800"/>
                <a:ext cx="9720" cy="63360"/>
              </a:xfrm>
              <a:custGeom>
                <a:avLst/>
                <a:gdLst/>
                <a:ahLst/>
                <a:rect l="l" t="t" r="r" b="b"/>
                <a:pathLst>
                  <a:path w="6" h="39">
                    <a:moveTo>
                      <a:pt x="6" y="39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309920" y="3376800"/>
                <a:ext cx="9720" cy="716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6" y="39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302000" y="3368520"/>
                <a:ext cx="7920" cy="79920"/>
              </a:xfrm>
              <a:custGeom>
                <a:avLst/>
                <a:gdLst/>
                <a:ahLst/>
                <a:rect l="l" t="t" r="r" b="b"/>
                <a:pathLst>
                  <a:path w="5" h="49">
                    <a:moveTo>
                      <a:pt x="5" y="49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302000" y="3368520"/>
                <a:ext cx="7920" cy="90000"/>
              </a:xfrm>
              <a:custGeom>
                <a:avLst/>
                <a:gdLst/>
                <a:ahLst/>
                <a:rect l="l" t="t" r="r" b="b"/>
                <a:pathLst>
                  <a:path w="5" h="55">
                    <a:moveTo>
                      <a:pt x="5" y="49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286160" y="3368520"/>
                <a:ext cx="15840" cy="900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286160" y="3368520"/>
                <a:ext cx="15840" cy="900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270320" y="3368520"/>
                <a:ext cx="15840" cy="900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270320" y="3368520"/>
                <a:ext cx="15840" cy="900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262400" y="3368520"/>
                <a:ext cx="7920" cy="90000"/>
              </a:xfrm>
              <a:custGeom>
                <a:avLst/>
                <a:gdLst/>
                <a:ahLst/>
                <a:rect l="l" t="t" r="r" b="b"/>
                <a:pathLst>
                  <a:path w="5" h="55">
                    <a:moveTo>
                      <a:pt x="5" y="55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5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262400" y="3376800"/>
                <a:ext cx="7920" cy="81720"/>
              </a:xfrm>
              <a:custGeom>
                <a:avLst/>
                <a:gdLst/>
                <a:ahLst/>
                <a:rect l="l" t="t" r="r" b="b"/>
                <a:pathLst>
                  <a:path w="5" h="50">
                    <a:moveTo>
                      <a:pt x="5" y="5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254480" y="3376800"/>
                <a:ext cx="7920" cy="716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44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254480" y="3386880"/>
                <a:ext cx="7920" cy="61920"/>
              </a:xfrm>
              <a:custGeom>
                <a:avLst/>
                <a:gdLst/>
                <a:ahLst/>
                <a:rect l="l" t="t" r="r" b="b"/>
                <a:pathLst>
                  <a:path w="5" h="38">
                    <a:moveTo>
                      <a:pt x="5" y="38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246560" y="3386880"/>
                <a:ext cx="7920" cy="5364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5" y="33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246560" y="3395160"/>
                <a:ext cx="7920" cy="45360"/>
              </a:xfrm>
              <a:custGeom>
                <a:avLst/>
                <a:gdLst/>
                <a:ahLst/>
                <a:rect l="l" t="t" r="r" b="b"/>
                <a:pathLst>
                  <a:path w="5" h="28">
                    <a:moveTo>
                      <a:pt x="5" y="28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441760" y="4939200"/>
                <a:ext cx="7920" cy="4536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27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5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441760" y="493920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5" y="27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5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433840" y="4929480"/>
                <a:ext cx="7920" cy="6480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9"/>
                    </a:moveTo>
                    <a:lnTo>
                      <a:pt x="0" y="0"/>
                    </a:lnTo>
                    <a:lnTo>
                      <a:pt x="5" y="6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433840" y="4929480"/>
                <a:ext cx="7920" cy="7488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5" y="39"/>
                    </a:moveTo>
                    <a:lnTo>
                      <a:pt x="0" y="0"/>
                    </a:lnTo>
                    <a:lnTo>
                      <a:pt x="0" y="45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425920" y="4921200"/>
                <a:ext cx="7920" cy="83160"/>
              </a:xfrm>
              <a:custGeom>
                <a:avLst/>
                <a:gdLst/>
                <a:ahLst/>
                <a:rect l="l" t="t" r="r" b="b"/>
                <a:pathLst>
                  <a:path w="5" h="50">
                    <a:moveTo>
                      <a:pt x="5" y="50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425920" y="4921200"/>
                <a:ext cx="7920" cy="91800"/>
              </a:xfrm>
              <a:custGeom>
                <a:avLst/>
                <a:gdLst/>
                <a:ahLst/>
                <a:rect l="l" t="t" r="r" b="b"/>
                <a:pathLst>
                  <a:path w="5" h="55">
                    <a:moveTo>
                      <a:pt x="5" y="50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410080" y="492120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410080" y="492120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394240" y="492120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94240" y="492120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86320" y="4921200"/>
                <a:ext cx="7920" cy="91800"/>
              </a:xfrm>
              <a:custGeom>
                <a:avLst/>
                <a:gdLst/>
                <a:ahLst/>
                <a:rect l="l" t="t" r="r" b="b"/>
                <a:pathLst>
                  <a:path w="5" h="55">
                    <a:moveTo>
                      <a:pt x="5" y="55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5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86320" y="4929480"/>
                <a:ext cx="7920" cy="83520"/>
              </a:xfrm>
              <a:custGeom>
                <a:avLst/>
                <a:gdLst/>
                <a:ahLst/>
                <a:rect l="l" t="t" r="r" b="b"/>
                <a:pathLst>
                  <a:path w="5" h="50">
                    <a:moveTo>
                      <a:pt x="5" y="50"/>
                    </a:moveTo>
                    <a:lnTo>
                      <a:pt x="0" y="0"/>
                    </a:lnTo>
                    <a:lnTo>
                      <a:pt x="0" y="45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378400" y="4929480"/>
                <a:ext cx="7920" cy="7488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5" y="45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5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378400" y="4939200"/>
                <a:ext cx="7920" cy="6480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9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370480" y="493920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5" y="33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370480" y="4948200"/>
                <a:ext cx="7920" cy="46440"/>
              </a:xfrm>
              <a:custGeom>
                <a:avLst/>
                <a:gdLst/>
                <a:ahLst/>
                <a:rect l="l" t="t" r="r" b="b"/>
                <a:pathLst>
                  <a:path w="5" h="28">
                    <a:moveTo>
                      <a:pt x="5" y="28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81680" y="2350080"/>
                <a:ext cx="7920" cy="46440"/>
              </a:xfrm>
              <a:custGeom>
                <a:avLst/>
                <a:gdLst/>
                <a:ahLst/>
                <a:rect l="l" t="t" r="r" b="b"/>
                <a:pathLst>
                  <a:path w="5" h="28">
                    <a:moveTo>
                      <a:pt x="5" y="28"/>
                    </a:moveTo>
                    <a:lnTo>
                      <a:pt x="0" y="0"/>
                    </a:lnTo>
                    <a:lnTo>
                      <a:pt x="5" y="6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81680" y="235008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5" y="28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73760" y="2341800"/>
                <a:ext cx="7920" cy="63360"/>
              </a:xfrm>
              <a:custGeom>
                <a:avLst/>
                <a:gdLst/>
                <a:ahLst/>
                <a:rect l="l" t="t" r="r" b="b"/>
                <a:pathLst>
                  <a:path w="5" h="38">
                    <a:moveTo>
                      <a:pt x="5" y="38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73760" y="2341800"/>
                <a:ext cx="7920" cy="734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38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665840" y="2332080"/>
                <a:ext cx="7920" cy="83160"/>
              </a:xfrm>
              <a:custGeom>
                <a:avLst/>
                <a:gdLst/>
                <a:ahLst/>
                <a:rect l="l" t="t" r="r" b="b"/>
                <a:pathLst>
                  <a:path w="5" h="50">
                    <a:moveTo>
                      <a:pt x="5" y="50"/>
                    </a:moveTo>
                    <a:lnTo>
                      <a:pt x="0" y="0"/>
                    </a:lnTo>
                    <a:lnTo>
                      <a:pt x="5" y="6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665840" y="2332080"/>
                <a:ext cx="7920" cy="91440"/>
              </a:xfrm>
              <a:custGeom>
                <a:avLst/>
                <a:gdLst/>
                <a:ahLst/>
                <a:rect l="l" t="t" r="r" b="b"/>
                <a:pathLst>
                  <a:path w="5" h="55">
                    <a:moveTo>
                      <a:pt x="5" y="50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650000" y="2332080"/>
                <a:ext cx="15840" cy="9144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650000" y="2332080"/>
                <a:ext cx="15840" cy="9144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10" y="55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1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32720" y="2332080"/>
                <a:ext cx="17280" cy="91440"/>
              </a:xfrm>
              <a:custGeom>
                <a:avLst/>
                <a:gdLst/>
                <a:ahLst/>
                <a:rect l="l" t="t" r="r" b="b"/>
                <a:pathLst>
                  <a:path w="11" h="55">
                    <a:moveTo>
                      <a:pt x="11" y="55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632720" y="2332080"/>
                <a:ext cx="17280" cy="91440"/>
              </a:xfrm>
              <a:custGeom>
                <a:avLst/>
                <a:gdLst/>
                <a:ahLst/>
                <a:rect l="l" t="t" r="r" b="b"/>
                <a:pathLst>
                  <a:path w="11" h="55">
                    <a:moveTo>
                      <a:pt x="11" y="55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1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624800" y="2332080"/>
                <a:ext cx="7920" cy="91440"/>
              </a:xfrm>
              <a:custGeom>
                <a:avLst/>
                <a:gdLst/>
                <a:ahLst/>
                <a:rect l="l" t="t" r="r" b="b"/>
                <a:pathLst>
                  <a:path w="5" h="55">
                    <a:moveTo>
                      <a:pt x="5" y="55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5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624800" y="2341800"/>
                <a:ext cx="7920" cy="81720"/>
              </a:xfrm>
              <a:custGeom>
                <a:avLst/>
                <a:gdLst/>
                <a:ahLst/>
                <a:rect l="l" t="t" r="r" b="b"/>
                <a:pathLst>
                  <a:path w="5" h="49">
                    <a:moveTo>
                      <a:pt x="5" y="49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5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616880" y="2341800"/>
                <a:ext cx="7920" cy="734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44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5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616880" y="2350080"/>
                <a:ext cx="7920" cy="6480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9"/>
                    </a:moveTo>
                    <a:lnTo>
                      <a:pt x="0" y="0"/>
                    </a:lnTo>
                    <a:lnTo>
                      <a:pt x="0" y="33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08600" y="2350080"/>
                <a:ext cx="8280" cy="5508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5" y="33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608600" y="2360160"/>
                <a:ext cx="8280" cy="4536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27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5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2936880" y="1737000"/>
              <a:ext cx="4938840" cy="3463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2819160" y="5373720"/>
              <a:ext cx="465120" cy="366120"/>
              <a:chOff x="2819160" y="5373720"/>
              <a:chExt cx="465120" cy="366120"/>
            </a:xfrm>
          </p:grpSpPr>
          <p:sp>
            <p:nvSpPr>
              <p:cNvPr id="535" name=""/>
              <p:cNvSpPr/>
              <p:nvPr/>
            </p:nvSpPr>
            <p:spPr>
              <a:xfrm>
                <a:off x="2819160" y="537372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66760" y="537372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114360" y="537372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4040280" y="5373720"/>
              <a:ext cx="455760" cy="366120"/>
              <a:chOff x="4040280" y="5373720"/>
              <a:chExt cx="455760" cy="366120"/>
            </a:xfrm>
          </p:grpSpPr>
          <p:sp>
            <p:nvSpPr>
              <p:cNvPr id="539" name=""/>
              <p:cNvSpPr/>
              <p:nvPr/>
            </p:nvSpPr>
            <p:spPr>
              <a:xfrm>
                <a:off x="4040280" y="537372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184280" y="537372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26120" y="537372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5178960" y="5373720"/>
              <a:ext cx="533880" cy="366120"/>
              <a:chOff x="5178960" y="5373720"/>
              <a:chExt cx="533880" cy="366120"/>
            </a:xfrm>
          </p:grpSpPr>
          <p:sp>
            <p:nvSpPr>
              <p:cNvPr id="543" name=""/>
              <p:cNvSpPr/>
              <p:nvPr/>
            </p:nvSpPr>
            <p:spPr>
              <a:xfrm>
                <a:off x="5178960" y="537372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361480" y="537372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542920" y="537372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6248880" y="5373720"/>
              <a:ext cx="505080" cy="366120"/>
              <a:chOff x="6248880" y="5373720"/>
              <a:chExt cx="505080" cy="366120"/>
            </a:xfrm>
          </p:grpSpPr>
          <p:sp>
            <p:nvSpPr>
              <p:cNvPr id="547" name=""/>
              <p:cNvSpPr/>
              <p:nvPr/>
            </p:nvSpPr>
            <p:spPr>
              <a:xfrm>
                <a:off x="6248880" y="537372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416280" y="537372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584040" y="537372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7366680" y="5373720"/>
              <a:ext cx="556560" cy="366120"/>
              <a:chOff x="7366680" y="5373720"/>
              <a:chExt cx="556560" cy="366120"/>
            </a:xfrm>
          </p:grpSpPr>
          <p:sp>
            <p:nvSpPr>
              <p:cNvPr id="551" name=""/>
              <p:cNvSpPr/>
              <p:nvPr/>
            </p:nvSpPr>
            <p:spPr>
              <a:xfrm>
                <a:off x="7366680" y="537372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560000" y="537372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753320" y="537372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3154320" y="5200920"/>
              <a:ext cx="1800" cy="112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78600" y="5200920"/>
              <a:ext cx="1440" cy="112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10440" y="5200920"/>
              <a:ext cx="1440" cy="112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34360" y="5200920"/>
              <a:ext cx="1440" cy="112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658280" y="5200920"/>
              <a:ext cx="1440" cy="112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2312640" y="5029200"/>
              <a:ext cx="354240" cy="366120"/>
              <a:chOff x="2312640" y="5029200"/>
              <a:chExt cx="354240" cy="366120"/>
            </a:xfrm>
          </p:grpSpPr>
          <p:sp>
            <p:nvSpPr>
              <p:cNvPr id="560" name=""/>
              <p:cNvSpPr/>
              <p:nvPr/>
            </p:nvSpPr>
            <p:spPr>
              <a:xfrm>
                <a:off x="2312640" y="502920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496960" y="502920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2286000" y="4199040"/>
              <a:ext cx="326880" cy="366120"/>
              <a:chOff x="2286000" y="4199040"/>
              <a:chExt cx="326880" cy="366120"/>
            </a:xfrm>
          </p:grpSpPr>
          <p:sp>
            <p:nvSpPr>
              <p:cNvPr id="563" name=""/>
              <p:cNvSpPr/>
              <p:nvPr/>
            </p:nvSpPr>
            <p:spPr>
              <a:xfrm>
                <a:off x="2286000" y="419904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442960" y="419904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2286000" y="2557440"/>
              <a:ext cx="431280" cy="366120"/>
              <a:chOff x="2286000" y="2557440"/>
              <a:chExt cx="431280" cy="366120"/>
            </a:xfrm>
          </p:grpSpPr>
          <p:sp>
            <p:nvSpPr>
              <p:cNvPr id="566" name=""/>
              <p:cNvSpPr/>
              <p:nvPr/>
            </p:nvSpPr>
            <p:spPr>
              <a:xfrm>
                <a:off x="2286000" y="255744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442600" y="2557440"/>
                <a:ext cx="274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2210040" y="1737000"/>
              <a:ext cx="443520" cy="366120"/>
              <a:chOff x="2210040" y="1737000"/>
              <a:chExt cx="443520" cy="366120"/>
            </a:xfrm>
          </p:grpSpPr>
          <p:sp>
            <p:nvSpPr>
              <p:cNvPr id="569" name=""/>
              <p:cNvSpPr/>
              <p:nvPr/>
            </p:nvSpPr>
            <p:spPr>
              <a:xfrm>
                <a:off x="2210040" y="1737000"/>
                <a:ext cx="2397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346120" y="173700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483640" y="173700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 flipH="1">
              <a:off x="2774880" y="5140440"/>
              <a:ext cx="161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2774880" y="4319640"/>
              <a:ext cx="161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2286000" y="3378240"/>
              <a:ext cx="650520" cy="366120"/>
              <a:chOff x="2286000" y="3378240"/>
              <a:chExt cx="650520" cy="366120"/>
            </a:xfrm>
          </p:grpSpPr>
          <p:sp>
            <p:nvSpPr>
              <p:cNvPr id="575" name=""/>
              <p:cNvSpPr/>
              <p:nvPr/>
            </p:nvSpPr>
            <p:spPr>
              <a:xfrm>
                <a:off x="2286000" y="337824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415600" y="337824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2719800" y="3481560"/>
                <a:ext cx="2167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 flipH="1">
              <a:off x="2774880" y="2679840"/>
              <a:ext cx="161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2774880" y="1859040"/>
              <a:ext cx="161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025800" y="5200920"/>
              <a:ext cx="47610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2936880" y="1849320"/>
              <a:ext cx="1800" cy="3290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1142280" y="2921040"/>
              <a:ext cx="1144440" cy="366120"/>
              <a:chOff x="1142280" y="2921040"/>
              <a:chExt cx="1144440" cy="366120"/>
            </a:xfrm>
          </p:grpSpPr>
          <p:sp>
            <p:nvSpPr>
              <p:cNvPr id="583" name=""/>
              <p:cNvSpPr/>
              <p:nvPr/>
            </p:nvSpPr>
            <p:spPr>
              <a:xfrm>
                <a:off x="1142280" y="2921040"/>
                <a:ext cx="20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50000" y="2921040"/>
                <a:ext cx="1195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447200" y="292104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518480" y="292104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671480" y="292104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837440" y="2921040"/>
                <a:ext cx="8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919520" y="292104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</a:rPr>
                  <a:t>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018880" y="292104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</a:rPr>
                  <a:t>$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183760" y="292104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724280" y="5623200"/>
              <a:ext cx="1600560" cy="320400"/>
              <a:chOff x="4724280" y="5623200"/>
              <a:chExt cx="1600560" cy="320400"/>
            </a:xfrm>
          </p:grpSpPr>
          <p:sp>
            <p:nvSpPr>
              <p:cNvPr id="593" name=""/>
              <p:cNvSpPr/>
              <p:nvPr/>
            </p:nvSpPr>
            <p:spPr>
              <a:xfrm>
                <a:off x="4724280" y="5623200"/>
                <a:ext cx="17892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ff"/>
                    </a:solidFill>
                    <a:latin typeface="Arial"/>
                  </a:rPr>
                  <a:t>P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110200" y="562320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446800" y="5623200"/>
                <a:ext cx="1461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ff"/>
                    </a:solidFill>
                    <a:latin typeface="Arial"/>
                  </a:rPr>
                  <a:t>g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783400" y="5623200"/>
                <a:ext cx="1904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ff"/>
                    </a:solidFill>
                    <a:latin typeface="Arial"/>
                  </a:rPr>
                  <a:t>e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134400" y="5623200"/>
                <a:ext cx="1904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ff"/>
                    </a:solidFill>
                    <a:latin typeface="Arial"/>
                  </a:rPr>
                  <a:t>s 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457200" y="1203480"/>
              <a:ext cx="830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atter Diagram of Number of Pages and Selling Price of T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2666880" y="304920"/>
            <a:ext cx="3792600" cy="6858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010607"/>
              </a:gs>
              <a:gs pos="100000">
                <a:srgbClr val="33ccff"/>
              </a:gs>
            </a:gsLst>
            <a:lin ang="8100000"/>
          </a:gradFill>
          <a:ln w="0">
            <a:noFill/>
          </a:ln>
          <a:effectLst>
            <a:outerShdw dist="180599" dir="776025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catter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5943600" y="6248520"/>
            <a:ext cx="3048120" cy="457200"/>
            <a:chOff x="5943600" y="6248520"/>
            <a:chExt cx="3048120" cy="457200"/>
          </a:xfrm>
        </p:grpSpPr>
        <p:sp>
          <p:nvSpPr>
            <p:cNvPr id="601" name=""/>
            <p:cNvSpPr/>
            <p:nvPr/>
          </p:nvSpPr>
          <p:spPr>
            <a:xfrm>
              <a:off x="8110440" y="6307200"/>
              <a:ext cx="870120" cy="39852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  <a:close/>
                </a:path>
              </a:pathLst>
            </a:custGeom>
            <a:solidFill>
              <a:srgbClr val="4c9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943600" y="6248520"/>
              <a:ext cx="3036960" cy="45720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167680" y="6404040"/>
              <a:ext cx="824040" cy="191880"/>
            </a:xfrm>
            <a:custGeom>
              <a:avLst/>
              <a:gdLst/>
              <a:ahLst/>
              <a:rect l="l" t="t" r="r" b="b"/>
              <a:pathLst>
                <a:path w="1248" h="161">
                  <a:moveTo>
                    <a:pt x="1002" y="46"/>
                  </a:moveTo>
                  <a:lnTo>
                    <a:pt x="6" y="46"/>
                  </a:lnTo>
                  <a:lnTo>
                    <a:pt x="0" y="114"/>
                  </a:lnTo>
                  <a:lnTo>
                    <a:pt x="996" y="114"/>
                  </a:lnTo>
                  <a:lnTo>
                    <a:pt x="888" y="161"/>
                  </a:lnTo>
                  <a:lnTo>
                    <a:pt x="1056" y="158"/>
                  </a:lnTo>
                  <a:lnTo>
                    <a:pt x="1248" y="83"/>
                  </a:lnTo>
                  <a:lnTo>
                    <a:pt x="1068" y="2"/>
                  </a:lnTo>
                  <a:lnTo>
                    <a:pt x="900" y="0"/>
                  </a:lnTo>
                  <a:lnTo>
                    <a:pt x="100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 txBox="1"/>
            <p:nvPr/>
          </p:nvSpPr>
          <p:spPr>
            <a:xfrm>
              <a:off x="6012000" y="6307200"/>
              <a:ext cx="255564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cc"/>
                  </a:solidFill>
                  <a:effectLst>
                    <a:outerShdw dist="28496" dir="12374481" blurRad="0" rotWithShape="0">
                      <a:srgbClr val="000000"/>
                    </a:outerShdw>
                  </a:effectLst>
                  <a:latin typeface="Times New Roman"/>
                </a:rPr>
                <a:t>or...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28496" dir="12374481" blurRad="0" rotWithShape="0">
                    <a:srgbClr val="00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>
    <p:dissolv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152280" y="2614680"/>
            <a:ext cx="719280" cy="712800"/>
            <a:chOff x="152280" y="2614680"/>
            <a:chExt cx="719280" cy="712800"/>
          </a:xfrm>
        </p:grpSpPr>
        <p:grpSp>
          <p:nvGrpSpPr>
            <p:cNvPr id="606" name=""/>
            <p:cNvGrpSpPr/>
            <p:nvPr/>
          </p:nvGrpSpPr>
          <p:grpSpPr>
            <a:xfrm>
              <a:off x="152280" y="2614680"/>
              <a:ext cx="719280" cy="712800"/>
              <a:chOff x="152280" y="2614680"/>
              <a:chExt cx="719280" cy="712800"/>
            </a:xfrm>
          </p:grpSpPr>
          <p:sp>
            <p:nvSpPr>
              <p:cNvPr id="607" name=""/>
              <p:cNvSpPr/>
              <p:nvPr/>
            </p:nvSpPr>
            <p:spPr>
              <a:xfrm>
                <a:off x="152280" y="2641680"/>
                <a:ext cx="63360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399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38320" y="2614680"/>
                <a:ext cx="63324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401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 txBox="1"/>
            <p:nvPr/>
          </p:nvSpPr>
          <p:spPr>
            <a:xfrm>
              <a:off x="304920" y="2756160"/>
              <a:ext cx="457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7080120" y="2527200"/>
            <a:ext cx="1800" cy="34920"/>
          </a:xfrm>
          <a:custGeom>
            <a:avLst/>
            <a:gdLst/>
            <a:ahLst/>
            <a:rect l="l" t="t" r="r" b="b"/>
            <a:pathLst>
              <a:path w="0" h="22">
                <a:moveTo>
                  <a:pt x="0" y="11"/>
                </a:moveTo>
                <a:lnTo>
                  <a:pt x="0" y="0"/>
                </a:lnTo>
                <a:lnTo>
                  <a:pt x="0" y="22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93800" y="5022720"/>
            <a:ext cx="1800" cy="34920"/>
          </a:xfrm>
          <a:custGeom>
            <a:avLst/>
            <a:gdLst/>
            <a:ahLst/>
            <a:rect l="l" t="t" r="r" b="b"/>
            <a:pathLst>
              <a:path w="0" h="22">
                <a:moveTo>
                  <a:pt x="0" y="11"/>
                </a:moveTo>
                <a:lnTo>
                  <a:pt x="0" y="0"/>
                </a:lnTo>
                <a:lnTo>
                  <a:pt x="0" y="22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080120" y="3027240"/>
            <a:ext cx="1800" cy="34920"/>
          </a:xfrm>
          <a:custGeom>
            <a:avLst/>
            <a:gdLst/>
            <a:ahLst/>
            <a:rect l="l" t="t" r="r" b="b"/>
            <a:pathLst>
              <a:path w="0" h="22">
                <a:moveTo>
                  <a:pt x="0" y="11"/>
                </a:moveTo>
                <a:lnTo>
                  <a:pt x="0" y="0"/>
                </a:lnTo>
                <a:lnTo>
                  <a:pt x="0" y="22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666880" y="304920"/>
            <a:ext cx="3886200" cy="11430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010607"/>
              </a:gs>
              <a:gs pos="100000">
                <a:srgbClr val="33ccff"/>
              </a:gs>
            </a:gsLst>
            <a:lin ang="8100000"/>
          </a:gradFill>
          <a:ln w="0">
            <a:noFill/>
          </a:ln>
          <a:effectLst>
            <a:outerShdw dist="180599" dir="776025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catter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cel Print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5943600" y="6248520"/>
            <a:ext cx="3047760" cy="457200"/>
            <a:chOff x="5943600" y="6248520"/>
            <a:chExt cx="3047760" cy="457200"/>
          </a:xfrm>
        </p:grpSpPr>
        <p:sp>
          <p:nvSpPr>
            <p:cNvPr id="615" name=""/>
            <p:cNvSpPr/>
            <p:nvPr/>
          </p:nvSpPr>
          <p:spPr>
            <a:xfrm>
              <a:off x="8110800" y="6307200"/>
              <a:ext cx="869040" cy="39852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  <a:close/>
                </a:path>
              </a:pathLst>
            </a:custGeom>
            <a:solidFill>
              <a:srgbClr val="4c9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43600" y="6248520"/>
              <a:ext cx="3036600" cy="45720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167320" y="6404040"/>
              <a:ext cx="824040" cy="192240"/>
            </a:xfrm>
            <a:custGeom>
              <a:avLst/>
              <a:gdLst/>
              <a:ahLst/>
              <a:rect l="l" t="t" r="r" b="b"/>
              <a:pathLst>
                <a:path w="1248" h="161">
                  <a:moveTo>
                    <a:pt x="1002" y="46"/>
                  </a:moveTo>
                  <a:lnTo>
                    <a:pt x="6" y="46"/>
                  </a:lnTo>
                  <a:lnTo>
                    <a:pt x="0" y="114"/>
                  </a:lnTo>
                  <a:lnTo>
                    <a:pt x="996" y="114"/>
                  </a:lnTo>
                  <a:lnTo>
                    <a:pt x="888" y="161"/>
                  </a:lnTo>
                  <a:lnTo>
                    <a:pt x="1056" y="158"/>
                  </a:lnTo>
                  <a:lnTo>
                    <a:pt x="1248" y="83"/>
                  </a:lnTo>
                  <a:lnTo>
                    <a:pt x="1068" y="2"/>
                  </a:lnTo>
                  <a:lnTo>
                    <a:pt x="900" y="0"/>
                  </a:lnTo>
                  <a:lnTo>
                    <a:pt x="100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 txBox="1"/>
            <p:nvPr/>
          </p:nvSpPr>
          <p:spPr>
            <a:xfrm>
              <a:off x="6010920" y="6307200"/>
              <a:ext cx="255708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cc"/>
                  </a:solidFill>
                  <a:effectLst>
                    <a:outerShdw dist="28496" dir="12374481" blurRad="0" rotWithShape="0">
                      <a:srgbClr val="000000"/>
                    </a:outerShdw>
                  </a:effectLst>
                  <a:latin typeface="Times New Roman"/>
                </a:rPr>
                <a:t>Solve...Using Formula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28496" dir="12374481" blurRad="0" rotWithShape="0">
                    <a:srgbClr val="00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619" name="" descr=""/>
          <p:cNvPicPr/>
          <p:nvPr/>
        </p:nvPicPr>
        <p:blipFill>
          <a:blip r:embed="rId1"/>
          <a:srcRect l="26564" t="35419" r="25782" b="27086"/>
          <a:stretch/>
        </p:blipFill>
        <p:spPr>
          <a:xfrm>
            <a:off x="1486080" y="1981080"/>
            <a:ext cx="6134040" cy="361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76320" y="2590920"/>
            <a:ext cx="4723920" cy="3460680"/>
            <a:chOff x="76320" y="2590920"/>
            <a:chExt cx="4723920" cy="3460680"/>
          </a:xfrm>
        </p:grpSpPr>
        <p:sp>
          <p:nvSpPr>
            <p:cNvPr id="621" name=""/>
            <p:cNvSpPr/>
            <p:nvPr/>
          </p:nvSpPr>
          <p:spPr>
            <a:xfrm>
              <a:off x="76320" y="2590920"/>
              <a:ext cx="4646520" cy="3443400"/>
            </a:xfrm>
            <a:prstGeom prst="foldedCorner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320" y="2665800"/>
              <a:ext cx="47239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2171880"/>
                  <a:tab algn="l" pos="2457360"/>
                  <a:tab algn="l" pos="3600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ook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# Page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Price ($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71880"/>
                  <a:tab algn="l" pos="2457360"/>
                  <a:tab algn="l" pos="3600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o to Histor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50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8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71880"/>
                  <a:tab algn="l" pos="2457360"/>
                  <a:tab algn="l" pos="3600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asic Algebr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70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71880"/>
                  <a:tab algn="l" pos="2457360"/>
                  <a:tab algn="l" pos="3600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ro. to Psych.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80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71880"/>
                  <a:tab algn="l" pos="2457360"/>
                  <a:tab algn="l" pos="3600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ro. to Sociology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60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71880"/>
                  <a:tab algn="l" pos="2457360"/>
                  <a:tab algn="l" pos="3600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us. Mgmt.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0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6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71880"/>
                  <a:tab algn="l" pos="2457360"/>
                  <a:tab algn="l" pos="3600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ro to Biolog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50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71880"/>
                  <a:tab algn="l" pos="2457360"/>
                  <a:tab algn="l" pos="3600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und. of Jazz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600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6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71880"/>
                  <a:tab algn="l" pos="2457360"/>
                  <a:tab algn="l" pos="3600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ro. to Nursin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800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9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685800" y="6110280"/>
            <a:ext cx="374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tal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490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636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49280" y="152280"/>
            <a:ext cx="4711680" cy="642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rrelation Coeffic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590920" y="213372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x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x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y</a:t>
            </a:r>
            <a:r>
              <a:rPr b="1" lang="en-US" sz="2400" spc="-1" strike="noStrike" u="sng" baseline="30000">
                <a:solidFill>
                  <a:srgbClr val="ff33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724280" y="2986200"/>
            <a:ext cx="4038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288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 000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50 0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 05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288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 5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90 000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 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288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9 20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40 00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 8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288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3,20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60 00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 1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288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7 60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60 00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 7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288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05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50 00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 5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288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 80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60 00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 9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288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4 40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40 00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 6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692600" y="6172200"/>
            <a:ext cx="40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97 2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3150 00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51 6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572000" y="60958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1442160" y="824040"/>
            <a:ext cx="6138000" cy="1155960"/>
            <a:chOff x="1442160" y="824040"/>
            <a:chExt cx="6138000" cy="1155960"/>
          </a:xfrm>
        </p:grpSpPr>
        <p:sp>
          <p:nvSpPr>
            <p:cNvPr id="630" name=""/>
            <p:cNvSpPr/>
            <p:nvPr/>
          </p:nvSpPr>
          <p:spPr>
            <a:xfrm>
              <a:off x="2027160" y="1401480"/>
              <a:ext cx="5553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019560" y="83952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14680" y="83952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00240" y="82404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62240" y="971280"/>
              <a:ext cx="153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163840" y="971280"/>
              <a:ext cx="153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733560" y="976320"/>
              <a:ext cx="305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76000" y="9712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442160" y="1187280"/>
              <a:ext cx="135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2076480" y="1411200"/>
              <a:ext cx="2419200" cy="560880"/>
              <a:chOff x="2076480" y="1411200"/>
              <a:chExt cx="2419200" cy="560880"/>
            </a:xfrm>
          </p:grpSpPr>
          <p:grpSp>
            <p:nvGrpSpPr>
              <p:cNvPr id="640" name=""/>
              <p:cNvGrpSpPr/>
              <p:nvPr/>
            </p:nvGrpSpPr>
            <p:grpSpPr>
              <a:xfrm>
                <a:off x="2076480" y="1461240"/>
                <a:ext cx="2419200" cy="510840"/>
                <a:chOff x="2076480" y="1461240"/>
                <a:chExt cx="2419200" cy="510840"/>
              </a:xfrm>
            </p:grpSpPr>
            <p:grpSp>
              <p:nvGrpSpPr>
                <p:cNvPr id="641" name=""/>
                <p:cNvGrpSpPr/>
                <p:nvPr/>
              </p:nvGrpSpPr>
              <p:grpSpPr>
                <a:xfrm>
                  <a:off x="2076480" y="1461240"/>
                  <a:ext cx="222120" cy="510840"/>
                  <a:chOff x="2076480" y="1461240"/>
                  <a:chExt cx="222120" cy="510840"/>
                </a:xfrm>
              </p:grpSpPr>
              <p:sp>
                <p:nvSpPr>
                  <p:cNvPr id="642" name=""/>
                  <p:cNvSpPr/>
                  <p:nvPr/>
                </p:nvSpPr>
                <p:spPr>
                  <a:xfrm flipV="1">
                    <a:off x="2076480" y="1784880"/>
                    <a:ext cx="47520" cy="24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2124000" y="1794600"/>
                    <a:ext cx="68400" cy="177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V="1">
                    <a:off x="2201760" y="1461240"/>
                    <a:ext cx="96840" cy="510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5" name=""/>
                <p:cNvSpPr/>
                <p:nvPr/>
              </p:nvSpPr>
              <p:spPr>
                <a:xfrm>
                  <a:off x="2298600" y="1461600"/>
                  <a:ext cx="2197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2361600" y="1411200"/>
                <a:ext cx="2015640" cy="549000"/>
                <a:chOff x="2361600" y="1411200"/>
                <a:chExt cx="2015640" cy="549000"/>
              </a:xfrm>
            </p:grpSpPr>
            <p:grpSp>
              <p:nvGrpSpPr>
                <p:cNvPr id="647" name=""/>
                <p:cNvGrpSpPr/>
                <p:nvPr/>
              </p:nvGrpSpPr>
              <p:grpSpPr>
                <a:xfrm>
                  <a:off x="3237120" y="1411200"/>
                  <a:ext cx="1140120" cy="549000"/>
                  <a:chOff x="3237120" y="1411200"/>
                  <a:chExt cx="1140120" cy="54900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4256280" y="1496520"/>
                    <a:ext cx="12096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4027320" y="1411200"/>
                    <a:ext cx="15300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3475080" y="1411200"/>
                    <a:ext cx="15300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838320" y="1517400"/>
                    <a:ext cx="1530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608640" y="1522080"/>
                    <a:ext cx="2034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7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3237120" y="1522080"/>
                    <a:ext cx="1152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7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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4" name=""/>
                <p:cNvGrpSpPr/>
                <p:nvPr/>
              </p:nvGrpSpPr>
              <p:grpSpPr>
                <a:xfrm>
                  <a:off x="2361600" y="1447560"/>
                  <a:ext cx="821880" cy="481320"/>
                  <a:chOff x="2361600" y="1447560"/>
                  <a:chExt cx="821880" cy="48132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>
                    <a:off x="3062520" y="1447560"/>
                    <a:ext cx="12096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2833560" y="1510560"/>
                    <a:ext cx="1530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2361600" y="1510560"/>
                    <a:ext cx="1728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2590920" y="1517040"/>
                    <a:ext cx="2034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7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59" name=""/>
            <p:cNvSpPr/>
            <p:nvPr/>
          </p:nvSpPr>
          <p:spPr>
            <a:xfrm>
              <a:off x="5632560" y="933480"/>
              <a:ext cx="203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933800" y="933480"/>
              <a:ext cx="203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227840" y="93348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486240" y="976320"/>
              <a:ext cx="203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668960" y="114912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4514760" y="1419120"/>
              <a:ext cx="2419200" cy="560880"/>
              <a:chOff x="4514760" y="1419120"/>
              <a:chExt cx="2419200" cy="56088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4514760" y="1469160"/>
                <a:ext cx="2419200" cy="510840"/>
                <a:chOff x="4514760" y="1469160"/>
                <a:chExt cx="2419200" cy="510840"/>
              </a:xfrm>
            </p:grpSpPr>
            <p:grpSp>
              <p:nvGrpSpPr>
                <p:cNvPr id="666" name=""/>
                <p:cNvGrpSpPr/>
                <p:nvPr/>
              </p:nvGrpSpPr>
              <p:grpSpPr>
                <a:xfrm>
                  <a:off x="4514760" y="1469160"/>
                  <a:ext cx="222120" cy="510840"/>
                  <a:chOff x="4514760" y="1469160"/>
                  <a:chExt cx="222120" cy="510840"/>
                </a:xfrm>
              </p:grpSpPr>
              <p:sp>
                <p:nvSpPr>
                  <p:cNvPr id="667" name=""/>
                  <p:cNvSpPr/>
                  <p:nvPr/>
                </p:nvSpPr>
                <p:spPr>
                  <a:xfrm flipV="1">
                    <a:off x="4514760" y="1792800"/>
                    <a:ext cx="47520" cy="24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4562280" y="1802520"/>
                    <a:ext cx="68400" cy="177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 flipV="1">
                    <a:off x="4640040" y="1469160"/>
                    <a:ext cx="96840" cy="510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0" name=""/>
                <p:cNvSpPr/>
                <p:nvPr/>
              </p:nvSpPr>
              <p:spPr>
                <a:xfrm>
                  <a:off x="4736880" y="1469520"/>
                  <a:ext cx="2197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4799880" y="1419120"/>
                <a:ext cx="2015640" cy="549000"/>
                <a:chOff x="4799880" y="1419120"/>
                <a:chExt cx="2015640" cy="549000"/>
              </a:xfrm>
            </p:grpSpPr>
            <p:grpSp>
              <p:nvGrpSpPr>
                <p:cNvPr id="672" name=""/>
                <p:cNvGrpSpPr/>
                <p:nvPr/>
              </p:nvGrpSpPr>
              <p:grpSpPr>
                <a:xfrm>
                  <a:off x="5675400" y="1419120"/>
                  <a:ext cx="1140120" cy="549000"/>
                  <a:chOff x="5675400" y="1419120"/>
                  <a:chExt cx="1140120" cy="54900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>
                    <a:off x="6694560" y="1504440"/>
                    <a:ext cx="12096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6465600" y="1419120"/>
                    <a:ext cx="15300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5913360" y="1419120"/>
                    <a:ext cx="15300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6276600" y="1525320"/>
                    <a:ext cx="1530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6046920" y="1530000"/>
                    <a:ext cx="2034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7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5675400" y="1530000"/>
                    <a:ext cx="1152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7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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4799880" y="1455480"/>
                  <a:ext cx="821880" cy="481320"/>
                  <a:chOff x="4799880" y="1455480"/>
                  <a:chExt cx="821880" cy="48132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5500800" y="1455480"/>
                    <a:ext cx="12096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5271840" y="1518480"/>
                    <a:ext cx="1530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4799880" y="1518480"/>
                    <a:ext cx="1728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5029200" y="1524960"/>
                    <a:ext cx="2034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7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0040" y="14479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When you have completed this chapter, you will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76440" y="3808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2057400"/>
            <a:ext cx="7162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relationship between variables on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catter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971800"/>
            <a:ext cx="7391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30040" indent="-568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Measu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interpr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gree of relationshi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a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efficient of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962520"/>
            <a:ext cx="6629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onduc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st of hypothes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bout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efficient of corre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a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505640" y="6248520"/>
            <a:ext cx="1257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83017" dir="12821405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</a:rPr>
              <a:t>and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83017" dir="12821405" blurRad="0" rotWithShape="0">
                  <a:srgbClr val="b2b2b2">
                    <a:alpha val="50000"/>
                  </a:srgbClr>
                </a:outerShdw>
              </a:effectLst>
              <a:latin typeface="Copper Black"/>
              <a:ea typeface="Copper Black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981080"/>
            <a:ext cx="685800" cy="685800"/>
            <a:chOff x="380880" y="1981080"/>
            <a:chExt cx="685800" cy="685800"/>
          </a:xfrm>
        </p:grpSpPr>
        <p:pic>
          <p:nvPicPr>
            <p:cNvPr id="52" name="" descr=""/>
            <p:cNvPicPr/>
            <p:nvPr/>
          </p:nvPicPr>
          <p:blipFill>
            <a:blip r:embed="rId3"/>
            <a:srcRect l="0" t="7684" r="4868" b="13458"/>
            <a:stretch/>
          </p:blipFill>
          <p:spPr>
            <a:xfrm>
              <a:off x="380880" y="202716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6840" y="19810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80880" y="2895480"/>
            <a:ext cx="685800" cy="685800"/>
            <a:chOff x="380880" y="2895480"/>
            <a:chExt cx="685800" cy="685800"/>
          </a:xfrm>
        </p:grpSpPr>
        <p:pic>
          <p:nvPicPr>
            <p:cNvPr id="55" name="" descr=""/>
            <p:cNvPicPr/>
            <p:nvPr/>
          </p:nvPicPr>
          <p:blipFill>
            <a:blip r:embed="rId4"/>
            <a:srcRect l="0" t="7684" r="4868" b="13458"/>
            <a:stretch/>
          </p:blipFill>
          <p:spPr>
            <a:xfrm>
              <a:off x="380880" y="294156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56840" y="2895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80880" y="3886200"/>
            <a:ext cx="761760" cy="685800"/>
            <a:chOff x="380880" y="3886200"/>
            <a:chExt cx="761760" cy="685800"/>
          </a:xfrm>
        </p:grpSpPr>
        <p:pic>
          <p:nvPicPr>
            <p:cNvPr id="58" name="" descr=""/>
            <p:cNvPicPr/>
            <p:nvPr/>
          </p:nvPicPr>
          <p:blipFill>
            <a:blip r:embed="rId5"/>
            <a:srcRect l="0" t="7684" r="4868" b="13458"/>
            <a:stretch/>
          </p:blipFill>
          <p:spPr>
            <a:xfrm>
              <a:off x="380880" y="3932280"/>
              <a:ext cx="761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65120" y="388620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80880" y="4952880"/>
            <a:ext cx="685800" cy="685800"/>
            <a:chOff x="380880" y="4952880"/>
            <a:chExt cx="685800" cy="685800"/>
          </a:xfrm>
        </p:grpSpPr>
        <p:pic>
          <p:nvPicPr>
            <p:cNvPr id="61" name="" descr=""/>
            <p:cNvPicPr/>
            <p:nvPr/>
          </p:nvPicPr>
          <p:blipFill>
            <a:blip r:embed="rId6"/>
            <a:srcRect l="0" t="7684" r="4868" b="13458"/>
            <a:stretch/>
          </p:blipFill>
          <p:spPr>
            <a:xfrm>
              <a:off x="380880" y="499896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56840" y="49528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28600" y="152280"/>
            <a:ext cx="914400" cy="712800"/>
            <a:chOff x="228600" y="152280"/>
            <a:chExt cx="914400" cy="712800"/>
          </a:xfrm>
        </p:grpSpPr>
        <p:pic>
          <p:nvPicPr>
            <p:cNvPr id="64" name="" descr=""/>
            <p:cNvPicPr/>
            <p:nvPr/>
          </p:nvPicPr>
          <p:blipFill>
            <a:blip r:embed="rId7"/>
            <a:stretch/>
          </p:blipFill>
          <p:spPr>
            <a:xfrm>
              <a:off x="228600" y="152280"/>
              <a:ext cx="914400" cy="712800"/>
            </a:xfrm>
            <a:prstGeom prst="rect">
              <a:avLst/>
            </a:prstGeom>
            <a:ln w="0">
              <a:noFill/>
            </a:ln>
            <a:effectLst>
              <a:outerShdw dist="81185" dir="8478030" blurRad="0" rotWithShape="0">
                <a:srgbClr val="808080"/>
              </a:outerShdw>
            </a:effectLst>
          </p:spPr>
        </p:pic>
        <p:sp>
          <p:nvSpPr>
            <p:cNvPr id="65" name=""/>
            <p:cNvSpPr txBox="1"/>
            <p:nvPr/>
          </p:nvSpPr>
          <p:spPr>
            <a:xfrm>
              <a:off x="457200" y="25560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000000"/>
                    </a:outerShdw>
                  </a:effectLst>
                  <a:latin typeface="Arial Black"/>
                </a:rPr>
                <a:t>1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701028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C42DCC1B-DC36-400F-8A6A-F98DE103B2F7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5029200"/>
            <a:ext cx="7467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dentif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roles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depende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 concept of </a:t>
            </a:r>
            <a:r>
              <a:rPr b="1" lang="en-US" sz="2400" spc="-1" strike="noStrike">
                <a:solidFill>
                  <a:srgbClr val="00cc66"/>
                </a:solidFill>
                <a:latin typeface="Times New Roman"/>
              </a:rPr>
              <a:t>regress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tin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rom the concept 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rre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2249280" y="152280"/>
            <a:ext cx="4711680" cy="642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rrelation Coeffic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143000" y="2255760"/>
            <a:ext cx="6553080" cy="916920"/>
            <a:chOff x="1143000" y="2255760"/>
            <a:chExt cx="6553080" cy="916920"/>
          </a:xfrm>
        </p:grpSpPr>
        <p:sp>
          <p:nvSpPr>
            <p:cNvPr id="686" name=""/>
            <p:cNvSpPr/>
            <p:nvPr/>
          </p:nvSpPr>
          <p:spPr>
            <a:xfrm>
              <a:off x="1442880" y="2255760"/>
              <a:ext cx="625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Times New Roman"/>
                </a:rPr>
                <a:t>2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r>
                <a:rPr b="1" lang="en-US" sz="2400" spc="-1" strike="noStrike" baseline="30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143000" y="271296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4 900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      </a:t>
              </a:r>
              <a:r>
                <a:rPr b="1" lang="en-US" sz="24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 63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97 20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3 150 000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1" lang="en-US" sz="24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51 60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295280" y="2636640"/>
              <a:ext cx="633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295280" y="2239920"/>
            <a:ext cx="5791320" cy="426960"/>
            <a:chOff x="1295280" y="2239920"/>
            <a:chExt cx="5791320" cy="426960"/>
          </a:xfrm>
        </p:grpSpPr>
        <p:sp>
          <p:nvSpPr>
            <p:cNvPr id="690" name=""/>
            <p:cNvSpPr/>
            <p:nvPr/>
          </p:nvSpPr>
          <p:spPr>
            <a:xfrm>
              <a:off x="1295280" y="2239920"/>
              <a:ext cx="228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38280" y="2239920"/>
              <a:ext cx="228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733920" y="2239920"/>
              <a:ext cx="228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257800" y="2239920"/>
              <a:ext cx="228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858000" y="2239920"/>
              <a:ext cx="228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0" y="5486400"/>
            <a:ext cx="9144000" cy="1299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 correlation coefficient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61.4%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This indicates 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derate associati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between the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4872960" y="4114800"/>
            <a:ext cx="3009240" cy="500400"/>
            <a:chOff x="4872960" y="4114800"/>
            <a:chExt cx="3009240" cy="500400"/>
          </a:xfrm>
        </p:grpSpPr>
        <p:sp>
          <p:nvSpPr>
            <p:cNvPr id="697" name=""/>
            <p:cNvSpPr/>
            <p:nvPr/>
          </p:nvSpPr>
          <p:spPr>
            <a:xfrm>
              <a:off x="7703280" y="41148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540200" y="41882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26400" y="4188240"/>
              <a:ext cx="53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63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87440" y="41882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290640" y="41882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677200" y="4188240"/>
              <a:ext cx="53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60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74600" y="41882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204160" y="418824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5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71680" y="41882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72960" y="41882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35800" y="414216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1218960" y="4122720"/>
            <a:ext cx="3209760" cy="495360"/>
            <a:chOff x="1218960" y="4122720"/>
            <a:chExt cx="3209760" cy="495360"/>
          </a:xfrm>
        </p:grpSpPr>
        <p:sp>
          <p:nvSpPr>
            <p:cNvPr id="709" name=""/>
            <p:cNvSpPr/>
            <p:nvPr/>
          </p:nvSpPr>
          <p:spPr>
            <a:xfrm>
              <a:off x="4299840" y="41227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1218960" y="4148280"/>
              <a:ext cx="2972520" cy="469800"/>
              <a:chOff x="1218960" y="4148280"/>
              <a:chExt cx="2972520" cy="469800"/>
            </a:xfrm>
          </p:grpSpPr>
          <p:sp>
            <p:nvSpPr>
              <p:cNvPr id="711" name=""/>
              <p:cNvSpPr/>
              <p:nvPr/>
            </p:nvSpPr>
            <p:spPr>
              <a:xfrm>
                <a:off x="1551240" y="4191120"/>
                <a:ext cx="11588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315 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071960" y="4191120"/>
                <a:ext cx="1195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560040" y="4191120"/>
                <a:ext cx="535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9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267000" y="41911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119760" y="4191120"/>
                <a:ext cx="1195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417680" y="4191120"/>
                <a:ext cx="1195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218960" y="41911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869200" y="4148280"/>
                <a:ext cx="11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9" name=""/>
          <p:cNvGrpSpPr/>
          <p:nvPr/>
        </p:nvGrpSpPr>
        <p:grpSpPr>
          <a:xfrm>
            <a:off x="4405680" y="3276720"/>
            <a:ext cx="2311560" cy="469800"/>
            <a:chOff x="4405680" y="3276720"/>
            <a:chExt cx="2311560" cy="469800"/>
          </a:xfrm>
        </p:grpSpPr>
        <p:sp>
          <p:nvSpPr>
            <p:cNvPr id="720" name=""/>
            <p:cNvSpPr/>
            <p:nvPr/>
          </p:nvSpPr>
          <p:spPr>
            <a:xfrm>
              <a:off x="6597720" y="331956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983920" y="3319560"/>
              <a:ext cx="53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63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10320" y="3319560"/>
              <a:ext cx="238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875840" y="3319560"/>
              <a:ext cx="80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4 9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55880" y="331956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405680" y="327672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3573360" y="4724280"/>
            <a:ext cx="1989360" cy="581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8100000"/>
          </a:gradFill>
          <a:ln w="0">
            <a:noFill/>
          </a:ln>
          <a:effectLst>
            <a:outerShdw dist="153009" dir="78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 = 0.6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442160" y="866880"/>
            <a:ext cx="6138000" cy="1155960"/>
            <a:chOff x="1442160" y="866880"/>
            <a:chExt cx="6138000" cy="1155960"/>
          </a:xfrm>
        </p:grpSpPr>
        <p:sp>
          <p:nvSpPr>
            <p:cNvPr id="728" name=""/>
            <p:cNvSpPr/>
            <p:nvPr/>
          </p:nvSpPr>
          <p:spPr>
            <a:xfrm>
              <a:off x="2027160" y="1444320"/>
              <a:ext cx="5553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019560" y="88236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314680" y="88236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00240" y="86688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62240" y="1014120"/>
              <a:ext cx="153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163840" y="1014120"/>
              <a:ext cx="153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733560" y="1019160"/>
              <a:ext cx="305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276000" y="101412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442160" y="1230120"/>
              <a:ext cx="1350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2076480" y="1454040"/>
              <a:ext cx="2419200" cy="560880"/>
              <a:chOff x="2076480" y="1454040"/>
              <a:chExt cx="2419200" cy="560880"/>
            </a:xfrm>
          </p:grpSpPr>
          <p:grpSp>
            <p:nvGrpSpPr>
              <p:cNvPr id="738" name=""/>
              <p:cNvGrpSpPr/>
              <p:nvPr/>
            </p:nvGrpSpPr>
            <p:grpSpPr>
              <a:xfrm>
                <a:off x="2076480" y="1504080"/>
                <a:ext cx="2419200" cy="510840"/>
                <a:chOff x="2076480" y="1504080"/>
                <a:chExt cx="2419200" cy="510840"/>
              </a:xfrm>
            </p:grpSpPr>
            <p:grpSp>
              <p:nvGrpSpPr>
                <p:cNvPr id="739" name=""/>
                <p:cNvGrpSpPr/>
                <p:nvPr/>
              </p:nvGrpSpPr>
              <p:grpSpPr>
                <a:xfrm>
                  <a:off x="2076480" y="1504080"/>
                  <a:ext cx="222120" cy="510840"/>
                  <a:chOff x="2076480" y="1504080"/>
                  <a:chExt cx="222120" cy="510840"/>
                </a:xfrm>
              </p:grpSpPr>
              <p:sp>
                <p:nvSpPr>
                  <p:cNvPr id="740" name=""/>
                  <p:cNvSpPr/>
                  <p:nvPr/>
                </p:nvSpPr>
                <p:spPr>
                  <a:xfrm flipV="1">
                    <a:off x="2076480" y="1827720"/>
                    <a:ext cx="47520" cy="24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2124000" y="1837440"/>
                    <a:ext cx="68400" cy="177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flipV="1">
                    <a:off x="2201760" y="1504080"/>
                    <a:ext cx="96840" cy="510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3" name=""/>
                <p:cNvSpPr/>
                <p:nvPr/>
              </p:nvSpPr>
              <p:spPr>
                <a:xfrm>
                  <a:off x="2298600" y="1504440"/>
                  <a:ext cx="2197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361600" y="1454040"/>
                <a:ext cx="2015640" cy="549000"/>
                <a:chOff x="2361600" y="1454040"/>
                <a:chExt cx="2015640" cy="549000"/>
              </a:xfrm>
            </p:grpSpPr>
            <p:grpSp>
              <p:nvGrpSpPr>
                <p:cNvPr id="745" name=""/>
                <p:cNvGrpSpPr/>
                <p:nvPr/>
              </p:nvGrpSpPr>
              <p:grpSpPr>
                <a:xfrm>
                  <a:off x="3237120" y="1454040"/>
                  <a:ext cx="1140120" cy="549000"/>
                  <a:chOff x="3237120" y="1454040"/>
                  <a:chExt cx="1140120" cy="549000"/>
                </a:xfrm>
              </p:grpSpPr>
              <p:sp>
                <p:nvSpPr>
                  <p:cNvPr id="746" name=""/>
                  <p:cNvSpPr/>
                  <p:nvPr/>
                </p:nvSpPr>
                <p:spPr>
                  <a:xfrm>
                    <a:off x="4256280" y="1539360"/>
                    <a:ext cx="12096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4027320" y="1454040"/>
                    <a:ext cx="15300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3475080" y="1454040"/>
                    <a:ext cx="15300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3838320" y="1560240"/>
                    <a:ext cx="1530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3608640" y="1564920"/>
                    <a:ext cx="2034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7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3237120" y="1564920"/>
                    <a:ext cx="1152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7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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2" name=""/>
                <p:cNvGrpSpPr/>
                <p:nvPr/>
              </p:nvGrpSpPr>
              <p:grpSpPr>
                <a:xfrm>
                  <a:off x="2361600" y="1490400"/>
                  <a:ext cx="821880" cy="481320"/>
                  <a:chOff x="2361600" y="1490400"/>
                  <a:chExt cx="821880" cy="481320"/>
                </a:xfrm>
              </p:grpSpPr>
              <p:sp>
                <p:nvSpPr>
                  <p:cNvPr id="753" name=""/>
                  <p:cNvSpPr/>
                  <p:nvPr/>
                </p:nvSpPr>
                <p:spPr>
                  <a:xfrm>
                    <a:off x="3062520" y="1490400"/>
                    <a:ext cx="12096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2833560" y="1553400"/>
                    <a:ext cx="1530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2361600" y="1553400"/>
                    <a:ext cx="1728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2590920" y="1559880"/>
                    <a:ext cx="2034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7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57" name=""/>
            <p:cNvSpPr/>
            <p:nvPr/>
          </p:nvSpPr>
          <p:spPr>
            <a:xfrm>
              <a:off x="5632560" y="976320"/>
              <a:ext cx="203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933800" y="976320"/>
              <a:ext cx="203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227840" y="97632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486240" y="1019160"/>
              <a:ext cx="203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68960" y="119196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4514760" y="1461960"/>
              <a:ext cx="2419200" cy="560880"/>
              <a:chOff x="4514760" y="1461960"/>
              <a:chExt cx="2419200" cy="560880"/>
            </a:xfrm>
          </p:grpSpPr>
          <p:grpSp>
            <p:nvGrpSpPr>
              <p:cNvPr id="763" name=""/>
              <p:cNvGrpSpPr/>
              <p:nvPr/>
            </p:nvGrpSpPr>
            <p:grpSpPr>
              <a:xfrm>
                <a:off x="4514760" y="1512000"/>
                <a:ext cx="2419200" cy="510840"/>
                <a:chOff x="4514760" y="1512000"/>
                <a:chExt cx="2419200" cy="510840"/>
              </a:xfrm>
            </p:grpSpPr>
            <p:grpSp>
              <p:nvGrpSpPr>
                <p:cNvPr id="764" name=""/>
                <p:cNvGrpSpPr/>
                <p:nvPr/>
              </p:nvGrpSpPr>
              <p:grpSpPr>
                <a:xfrm>
                  <a:off x="4514760" y="1512000"/>
                  <a:ext cx="222120" cy="510840"/>
                  <a:chOff x="4514760" y="1512000"/>
                  <a:chExt cx="222120" cy="51084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 flipV="1">
                    <a:off x="4514760" y="1835640"/>
                    <a:ext cx="47520" cy="24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4562280" y="1845360"/>
                    <a:ext cx="68400" cy="177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V="1">
                    <a:off x="4640040" y="1512000"/>
                    <a:ext cx="96840" cy="510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8" name=""/>
                <p:cNvSpPr/>
                <p:nvPr/>
              </p:nvSpPr>
              <p:spPr>
                <a:xfrm>
                  <a:off x="4736880" y="1512360"/>
                  <a:ext cx="2197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4799880" y="1461960"/>
                <a:ext cx="2015640" cy="549000"/>
                <a:chOff x="4799880" y="1461960"/>
                <a:chExt cx="2015640" cy="549000"/>
              </a:xfrm>
            </p:grpSpPr>
            <p:grpSp>
              <p:nvGrpSpPr>
                <p:cNvPr id="770" name=""/>
                <p:cNvGrpSpPr/>
                <p:nvPr/>
              </p:nvGrpSpPr>
              <p:grpSpPr>
                <a:xfrm>
                  <a:off x="5675400" y="1461960"/>
                  <a:ext cx="1140120" cy="549000"/>
                  <a:chOff x="5675400" y="1461960"/>
                  <a:chExt cx="1140120" cy="549000"/>
                </a:xfrm>
              </p:grpSpPr>
              <p:sp>
                <p:nvSpPr>
                  <p:cNvPr id="771" name=""/>
                  <p:cNvSpPr/>
                  <p:nvPr/>
                </p:nvSpPr>
                <p:spPr>
                  <a:xfrm>
                    <a:off x="6694560" y="1547280"/>
                    <a:ext cx="12096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6465600" y="1461960"/>
                    <a:ext cx="15300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5913360" y="1461960"/>
                    <a:ext cx="15300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6276600" y="1568160"/>
                    <a:ext cx="1530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6046920" y="1572840"/>
                    <a:ext cx="2034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7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5675400" y="1572840"/>
                    <a:ext cx="1152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7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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7" name=""/>
                <p:cNvGrpSpPr/>
                <p:nvPr/>
              </p:nvGrpSpPr>
              <p:grpSpPr>
                <a:xfrm>
                  <a:off x="4799880" y="1498320"/>
                  <a:ext cx="821880" cy="481320"/>
                  <a:chOff x="4799880" y="1498320"/>
                  <a:chExt cx="821880" cy="48132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>
                    <a:off x="5500800" y="1498320"/>
                    <a:ext cx="120960" cy="28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5271840" y="1561320"/>
                    <a:ext cx="1530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799880" y="1561320"/>
                    <a:ext cx="1728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5029200" y="1567800"/>
                    <a:ext cx="203400" cy="411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7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0" lang="en-US" sz="2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782" name=""/>
          <p:cNvGrpSpPr/>
          <p:nvPr/>
        </p:nvGrpSpPr>
        <p:grpSpPr>
          <a:xfrm>
            <a:off x="565920" y="3319560"/>
            <a:ext cx="7778160" cy="1404360"/>
            <a:chOff x="565920" y="3319560"/>
            <a:chExt cx="7778160" cy="1404360"/>
          </a:xfrm>
        </p:grpSpPr>
        <p:grpSp>
          <p:nvGrpSpPr>
            <p:cNvPr id="783" name=""/>
            <p:cNvGrpSpPr/>
            <p:nvPr/>
          </p:nvGrpSpPr>
          <p:grpSpPr>
            <a:xfrm>
              <a:off x="723960" y="3962520"/>
              <a:ext cx="3848040" cy="761400"/>
              <a:chOff x="723960" y="3962520"/>
              <a:chExt cx="3848040" cy="761400"/>
            </a:xfrm>
          </p:grpSpPr>
          <p:grpSp>
            <p:nvGrpSpPr>
              <p:cNvPr id="784" name=""/>
              <p:cNvGrpSpPr/>
              <p:nvPr/>
            </p:nvGrpSpPr>
            <p:grpSpPr>
              <a:xfrm>
                <a:off x="723960" y="3968640"/>
                <a:ext cx="248760" cy="755280"/>
                <a:chOff x="723960" y="3968640"/>
                <a:chExt cx="248760" cy="755280"/>
              </a:xfrm>
            </p:grpSpPr>
            <p:sp>
              <p:nvSpPr>
                <p:cNvPr id="785" name=""/>
                <p:cNvSpPr/>
                <p:nvPr/>
              </p:nvSpPr>
              <p:spPr>
                <a:xfrm flipV="1">
                  <a:off x="723960" y="4448160"/>
                  <a:ext cx="54000" cy="3816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777960" y="4461480"/>
                  <a:ext cx="75240" cy="262440"/>
                </a:xfrm>
                <a:prstGeom prst="line">
                  <a:avLst/>
                </a:prstGeom>
                <a:ln w="41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V="1">
                  <a:off x="863280" y="3968640"/>
                  <a:ext cx="109440" cy="75528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8" name=""/>
              <p:cNvSpPr/>
              <p:nvPr/>
            </p:nvSpPr>
            <p:spPr>
              <a:xfrm>
                <a:off x="973080" y="3962520"/>
                <a:ext cx="3598920" cy="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1001880" y="3809880"/>
              <a:ext cx="73422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2603160" y="3319560"/>
              <a:ext cx="1664280" cy="426960"/>
              <a:chOff x="2603160" y="3319560"/>
              <a:chExt cx="1664280" cy="426960"/>
            </a:xfrm>
          </p:grpSpPr>
          <p:sp>
            <p:nvSpPr>
              <p:cNvPr id="791" name=""/>
              <p:cNvSpPr/>
              <p:nvPr/>
            </p:nvSpPr>
            <p:spPr>
              <a:xfrm>
                <a:off x="4147920" y="3319560"/>
                <a:ext cx="1195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537360" y="3319560"/>
                <a:ext cx="535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934360" y="3319560"/>
                <a:ext cx="535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9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801880" y="3319560"/>
                <a:ext cx="1195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603160" y="331956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565920" y="358128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4495680" y="3962520"/>
              <a:ext cx="3848040" cy="761400"/>
              <a:chOff x="4495680" y="3962520"/>
              <a:chExt cx="3848040" cy="761400"/>
            </a:xfrm>
          </p:grpSpPr>
          <p:grpSp>
            <p:nvGrpSpPr>
              <p:cNvPr id="798" name=""/>
              <p:cNvGrpSpPr/>
              <p:nvPr/>
            </p:nvGrpSpPr>
            <p:grpSpPr>
              <a:xfrm>
                <a:off x="4495680" y="3968640"/>
                <a:ext cx="248760" cy="755280"/>
                <a:chOff x="4495680" y="3968640"/>
                <a:chExt cx="248760" cy="755280"/>
              </a:xfrm>
            </p:grpSpPr>
            <p:sp>
              <p:nvSpPr>
                <p:cNvPr id="799" name=""/>
                <p:cNvSpPr/>
                <p:nvPr/>
              </p:nvSpPr>
              <p:spPr>
                <a:xfrm flipV="1">
                  <a:off x="4495680" y="4448160"/>
                  <a:ext cx="54000" cy="3816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4549680" y="4461480"/>
                  <a:ext cx="75240" cy="262440"/>
                </a:xfrm>
                <a:prstGeom prst="line">
                  <a:avLst/>
                </a:prstGeom>
                <a:ln w="41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V="1">
                  <a:off x="4635000" y="3968640"/>
                  <a:ext cx="109440" cy="75528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4744800" y="3962520"/>
                <a:ext cx="3598920" cy="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r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1295280" y="4654440"/>
            <a:ext cx="655344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rejected i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3.14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r i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-3.14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                                  There are 6 df, foun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= 8 – 2 = 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484280" y="152280"/>
            <a:ext cx="6211800" cy="180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66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71040" dir="827915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est the hypothesis that there is no correlation in the population.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Use a .02 significance level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267600" y="1752480"/>
            <a:ext cx="236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305400" y="2200320"/>
            <a:ext cx="238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505560" y="2703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0.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82880" y="1882800"/>
            <a:ext cx="5856120" cy="4449960"/>
            <a:chOff x="182880" y="1882800"/>
            <a:chExt cx="5856120" cy="4449960"/>
          </a:xfrm>
        </p:grpSpPr>
        <p:grpSp>
          <p:nvGrpSpPr>
            <p:cNvPr id="809" name=""/>
            <p:cNvGrpSpPr/>
            <p:nvPr/>
          </p:nvGrpSpPr>
          <p:grpSpPr>
            <a:xfrm>
              <a:off x="182880" y="1882800"/>
              <a:ext cx="5856120" cy="487800"/>
              <a:chOff x="182880" y="1882800"/>
              <a:chExt cx="5856120" cy="487800"/>
            </a:xfrm>
          </p:grpSpPr>
          <p:sp>
            <p:nvSpPr>
              <p:cNvPr id="810" name=""/>
              <p:cNvSpPr/>
              <p:nvPr/>
            </p:nvSpPr>
            <p:spPr>
              <a:xfrm>
                <a:off x="1596960" y="1971720"/>
                <a:ext cx="4442040" cy="398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99192" dir="8418055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State the null and alternate hypothes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82880" y="1882800"/>
                <a:ext cx="1107360" cy="45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91658" dir="741765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Step 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202680" y="2749320"/>
              <a:ext cx="5750280" cy="459720"/>
              <a:chOff x="202680" y="2749320"/>
              <a:chExt cx="5750280" cy="459720"/>
            </a:xfrm>
          </p:grpSpPr>
          <p:sp>
            <p:nvSpPr>
              <p:cNvPr id="813" name=""/>
              <p:cNvSpPr/>
              <p:nvPr/>
            </p:nvSpPr>
            <p:spPr>
              <a:xfrm>
                <a:off x="1600200" y="2777760"/>
                <a:ext cx="4352760" cy="398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99192" dir="7781944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Select the level of significa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02680" y="2749320"/>
                <a:ext cx="1107360" cy="45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107932" dir="81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Step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202680" y="3435120"/>
              <a:ext cx="4255200" cy="459720"/>
              <a:chOff x="202680" y="3435120"/>
              <a:chExt cx="4255200" cy="459720"/>
            </a:xfrm>
          </p:grpSpPr>
          <p:sp>
            <p:nvSpPr>
              <p:cNvPr id="816" name=""/>
              <p:cNvSpPr/>
              <p:nvPr/>
            </p:nvSpPr>
            <p:spPr>
              <a:xfrm>
                <a:off x="1585800" y="3484080"/>
                <a:ext cx="2872080" cy="398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99192" dir="7781944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Identify the test statisti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02680" y="3435120"/>
                <a:ext cx="1107360" cy="45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107932" dir="81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Step 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231120" y="4120920"/>
              <a:ext cx="4126680" cy="459720"/>
              <a:chOff x="231120" y="4120920"/>
              <a:chExt cx="4126680" cy="459720"/>
            </a:xfrm>
          </p:grpSpPr>
          <p:sp>
            <p:nvSpPr>
              <p:cNvPr id="819" name=""/>
              <p:cNvSpPr/>
              <p:nvPr/>
            </p:nvSpPr>
            <p:spPr>
              <a:xfrm>
                <a:off x="1595520" y="4149360"/>
                <a:ext cx="2762280" cy="398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99192" dir="7781944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State the decision ru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31120" y="4120920"/>
                <a:ext cx="1107360" cy="45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107932" dir="81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Step 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202680" y="5613120"/>
              <a:ext cx="4340880" cy="719640"/>
              <a:chOff x="202680" y="5613120"/>
              <a:chExt cx="4340880" cy="719640"/>
            </a:xfrm>
          </p:grpSpPr>
          <p:sp>
            <p:nvSpPr>
              <p:cNvPr id="822" name=""/>
              <p:cNvSpPr/>
              <p:nvPr/>
            </p:nvSpPr>
            <p:spPr>
              <a:xfrm>
                <a:off x="1571760" y="5628960"/>
                <a:ext cx="2971800" cy="703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99192" dir="7781944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ompute the test statistic and make a decis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2680" y="5613120"/>
                <a:ext cx="1107360" cy="45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  <a:effectLst>
                <a:outerShdw dist="107932" dir="81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Step 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6504120" y="3206880"/>
                <a:ext cx="17254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25" name=""/>
          <p:cNvGrpSpPr/>
          <p:nvPr/>
        </p:nvGrpSpPr>
        <p:grpSpPr>
          <a:xfrm>
            <a:off x="6248520" y="5973840"/>
            <a:ext cx="2666880" cy="581400"/>
            <a:chOff x="6248520" y="5973840"/>
            <a:chExt cx="2666880" cy="581400"/>
          </a:xfrm>
        </p:grpSpPr>
        <p:sp>
          <p:nvSpPr>
            <p:cNvPr id="826" name=""/>
            <p:cNvSpPr/>
            <p:nvPr/>
          </p:nvSpPr>
          <p:spPr>
            <a:xfrm>
              <a:off x="6248520" y="6379920"/>
              <a:ext cx="26668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81680" y="5973840"/>
              <a:ext cx="1561320" cy="581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71040" dir="7920846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..Step 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d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"/>
          <p:cNvGrpSpPr/>
          <p:nvPr/>
        </p:nvGrpSpPr>
        <p:grpSpPr>
          <a:xfrm>
            <a:off x="1296360" y="2057400"/>
            <a:ext cx="4340880" cy="719640"/>
            <a:chOff x="1296360" y="2057400"/>
            <a:chExt cx="4340880" cy="719640"/>
          </a:xfrm>
        </p:grpSpPr>
        <p:sp>
          <p:nvSpPr>
            <p:cNvPr id="829" name=""/>
            <p:cNvSpPr/>
            <p:nvPr/>
          </p:nvSpPr>
          <p:spPr>
            <a:xfrm>
              <a:off x="2665440" y="2073240"/>
              <a:ext cx="2971800" cy="703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mpute the test statistic and make a dec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296360" y="20574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2465280" y="3005280"/>
                <a:ext cx="172584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457200" y="4524480"/>
            <a:ext cx="82296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is not rejec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                  We cannot reject the hypothesis                                                         ..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at there is no correlation in the population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The amount of association could be due to chanc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533520" y="4495680"/>
            <a:ext cx="184788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Conclus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  <p:sp>
        <p:nvSpPr>
          <p:cNvPr id="834" name=""/>
          <p:cNvSpPr/>
          <p:nvPr/>
        </p:nvSpPr>
        <p:spPr>
          <a:xfrm>
            <a:off x="3657600" y="158436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inued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484280" y="152280"/>
            <a:ext cx="6211800" cy="180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66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71040" dir="827915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test the hypothesis that there is no correlation in the population.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Use a .02 significance level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6908040" y="3406680"/>
            <a:ext cx="866520" cy="487800"/>
            <a:chOff x="6908040" y="3406680"/>
            <a:chExt cx="866520" cy="487800"/>
          </a:xfrm>
        </p:grpSpPr>
        <p:sp>
          <p:nvSpPr>
            <p:cNvPr id="837" name=""/>
            <p:cNvSpPr/>
            <p:nvPr/>
          </p:nvSpPr>
          <p:spPr>
            <a:xfrm>
              <a:off x="7161120" y="3406680"/>
              <a:ext cx="613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90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77960" y="340668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908040" y="34066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4188600" y="3135240"/>
            <a:ext cx="2651040" cy="1048680"/>
            <a:chOff x="4188600" y="3135240"/>
            <a:chExt cx="2651040" cy="1048680"/>
          </a:xfrm>
        </p:grpSpPr>
        <p:sp>
          <p:nvSpPr>
            <p:cNvPr id="841" name=""/>
            <p:cNvSpPr/>
            <p:nvPr/>
          </p:nvSpPr>
          <p:spPr>
            <a:xfrm flipV="1">
              <a:off x="5229360" y="3371400"/>
              <a:ext cx="41040" cy="25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270400" y="3381480"/>
              <a:ext cx="58680" cy="11592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5338800" y="3139560"/>
              <a:ext cx="84240" cy="3574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23040" y="3139920"/>
              <a:ext cx="6570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4549680" y="3982680"/>
              <a:ext cx="41400" cy="25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591080" y="3992400"/>
              <a:ext cx="60120" cy="17316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4659480" y="3665160"/>
              <a:ext cx="83880" cy="500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743360" y="3665520"/>
              <a:ext cx="14400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506840" y="3606840"/>
              <a:ext cx="17096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03360" y="37101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868720" y="377208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59680" y="3772080"/>
              <a:ext cx="5173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614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65640" y="377208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(.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726800" y="37720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892120" y="31734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427000" y="31734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700880" y="3173400"/>
              <a:ext cx="5173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614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616280" y="317340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962600" y="373392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683320" y="313524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188600" y="335124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516000" y="336708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3440" cy="489096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1219320" y="12193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use the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independent variable (X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estimate the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ependent variable 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71880" y="228600"/>
            <a:ext cx="4762440" cy="64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egression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657360" y="1523880"/>
          <a:ext cx="333360" cy="38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7360" y="1523880"/>
                    <a:ext cx="3333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"/>
          <p:cNvGraphicFramePr/>
          <p:nvPr/>
        </p:nvGraphicFramePr>
        <p:xfrm>
          <a:off x="685800" y="4572000"/>
          <a:ext cx="33336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4572000"/>
                    <a:ext cx="3333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"/>
          <p:cNvSpPr/>
          <p:nvPr/>
        </p:nvSpPr>
        <p:spPr>
          <a:xfrm>
            <a:off x="914400" y="3429000"/>
            <a:ext cx="457200" cy="38088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762120" y="6248520"/>
            <a:ext cx="7467120" cy="304200"/>
            <a:chOff x="762120" y="6248520"/>
            <a:chExt cx="7467120" cy="304200"/>
          </a:xfrm>
        </p:grpSpPr>
        <p:sp>
          <p:nvSpPr>
            <p:cNvPr id="872" name=""/>
            <p:cNvSpPr/>
            <p:nvPr/>
          </p:nvSpPr>
          <p:spPr>
            <a:xfrm>
              <a:off x="762120" y="6326280"/>
              <a:ext cx="7467120" cy="781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7"/>
            <a:stretch/>
          </p:blipFill>
          <p:spPr>
            <a:xfrm>
              <a:off x="4401360" y="6248520"/>
              <a:ext cx="399960" cy="30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4" name=""/>
          <p:cNvSpPr/>
          <p:nvPr/>
        </p:nvSpPr>
        <p:spPr>
          <a:xfrm>
            <a:off x="1447920" y="33526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 variables must be at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ea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interval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990720" y="228600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lationship between the variables is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linea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09480" y="2438280"/>
            <a:ext cx="838440" cy="457200"/>
          </a:xfrm>
          <a:custGeom>
            <a:avLst/>
            <a:gdLst>
              <a:gd name="textAreaLeft" fmla="*/ 131040 w 838440"/>
              <a:gd name="textAreaRight" fmla="*/ 733680 w 8384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990720" y="4449600"/>
            <a:ext cx="7891200" cy="2089800"/>
            <a:chOff x="990720" y="4449600"/>
            <a:chExt cx="7891200" cy="2089800"/>
          </a:xfrm>
        </p:grpSpPr>
        <p:sp>
          <p:nvSpPr>
            <p:cNvPr id="878" name=""/>
            <p:cNvSpPr/>
            <p:nvPr/>
          </p:nvSpPr>
          <p:spPr>
            <a:xfrm>
              <a:off x="990720" y="4449600"/>
              <a:ext cx="7891200" cy="20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… </a:t>
              </a: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least square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criterion is                                                      used to determine the equation…                               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.e.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the term </a:t>
              </a:r>
              <a:r>
                <a:rPr b="1" i="1" lang="en-US" sz="35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</a:t>
              </a:r>
              <a:r>
                <a:rPr b="1" i="1" lang="en-US" sz="3500" spc="-1" strike="noStrike">
                  <a:solidFill>
                    <a:srgbClr val="ff6600"/>
                  </a:solidFill>
                  <a:latin typeface="Times New Roman"/>
                </a:rPr>
                <a:t> (y – y)</a:t>
              </a:r>
              <a:r>
                <a:rPr b="1" i="1" lang="en-US" sz="3500" spc="-1" strike="noStrike" baseline="30000">
                  <a:solidFill>
                    <a:srgbClr val="ff6600"/>
                  </a:solidFill>
                  <a:latin typeface="Times New Roman"/>
                </a:rPr>
                <a:t>2</a:t>
              </a:r>
              <a:r>
                <a:rPr b="1" i="1" lang="en-US" sz="3500" spc="-1" strike="noStrike">
                  <a:solidFill>
                    <a:srgbClr val="ff6600"/>
                  </a:solidFill>
                  <a:latin typeface="Times New Roman"/>
                </a:rPr>
                <a:t> is minimized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967280" y="5334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6600"/>
                  </a:solidFill>
                  <a:latin typeface="Times New Roman"/>
                </a:rPr>
                <a:t>^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171880" y="228600"/>
            <a:ext cx="4762440" cy="64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gression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666720" y="1143000"/>
            <a:ext cx="116208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whe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2" name=""/>
          <p:cNvSpPr/>
          <p:nvPr/>
        </p:nvSpPr>
        <p:spPr>
          <a:xfrm>
            <a:off x="762120" y="283356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-intercep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it is the estimat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value whe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62120" y="5334120"/>
            <a:ext cx="7696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east squares principle is used                                              to obtain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914400" y="6114960"/>
            <a:ext cx="7391520" cy="743040"/>
          </a:xfrm>
          <a:prstGeom prst="rect">
            <a:avLst/>
          </a:prstGeom>
          <a:ln w="0">
            <a:noFill/>
          </a:ln>
        </p:spPr>
      </p:pic>
      <p:grpSp>
        <p:nvGrpSpPr>
          <p:cNvPr id="885" name=""/>
          <p:cNvGrpSpPr/>
          <p:nvPr/>
        </p:nvGrpSpPr>
        <p:grpSpPr>
          <a:xfrm>
            <a:off x="3276720" y="1066680"/>
            <a:ext cx="2514600" cy="703440"/>
            <a:chOff x="3276720" y="1066680"/>
            <a:chExt cx="2514600" cy="703440"/>
          </a:xfrm>
        </p:grpSpPr>
        <p:sp>
          <p:nvSpPr>
            <p:cNvPr id="886" name=""/>
            <p:cNvSpPr/>
            <p:nvPr/>
          </p:nvSpPr>
          <p:spPr>
            <a:xfrm>
              <a:off x="3276720" y="1066680"/>
              <a:ext cx="2514600" cy="7034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a7e2ff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3429000" y="1218960"/>
              <a:ext cx="151920" cy="75960"/>
              <a:chOff x="3429000" y="1218960"/>
              <a:chExt cx="151920" cy="75960"/>
            </a:xfrm>
          </p:grpSpPr>
          <p:sp>
            <p:nvSpPr>
              <p:cNvPr id="888" name=""/>
              <p:cNvSpPr/>
              <p:nvPr/>
            </p:nvSpPr>
            <p:spPr>
              <a:xfrm flipV="1">
                <a:off x="3429000" y="1218960"/>
                <a:ext cx="7632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 flipV="1">
                <a:off x="3504960" y="1218960"/>
                <a:ext cx="7596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0" name=""/>
          <p:cNvGrpSpPr/>
          <p:nvPr/>
        </p:nvGrpSpPr>
        <p:grpSpPr>
          <a:xfrm>
            <a:off x="457200" y="2209680"/>
            <a:ext cx="8229600" cy="520560"/>
            <a:chOff x="457200" y="2209680"/>
            <a:chExt cx="8229600" cy="520560"/>
          </a:xfrm>
        </p:grpSpPr>
        <p:sp>
          <p:nvSpPr>
            <p:cNvPr id="891" name=""/>
            <p:cNvSpPr/>
            <p:nvPr/>
          </p:nvSpPr>
          <p:spPr>
            <a:xfrm>
              <a:off x="457200" y="2209680"/>
              <a:ext cx="822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3333cc"/>
                </a:buClr>
                <a:buSzPct val="15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 is the average predicted value of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for any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1333440" y="2286000"/>
              <a:ext cx="151920" cy="76320"/>
              <a:chOff x="1333440" y="2286000"/>
              <a:chExt cx="151920" cy="76320"/>
            </a:xfrm>
          </p:grpSpPr>
          <p:sp>
            <p:nvSpPr>
              <p:cNvPr id="893" name=""/>
              <p:cNvSpPr/>
              <p:nvPr/>
            </p:nvSpPr>
            <p:spPr>
              <a:xfrm flipV="1">
                <a:off x="1333440" y="2286000"/>
                <a:ext cx="7632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 flipV="1">
                <a:off x="1409400" y="2286000"/>
                <a:ext cx="7596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762120" y="3854520"/>
            <a:ext cx="7696080" cy="1800360"/>
            <a:chOff x="762120" y="3854520"/>
            <a:chExt cx="7696080" cy="1800360"/>
          </a:xfrm>
        </p:grpSpPr>
        <p:sp>
          <p:nvSpPr>
            <p:cNvPr id="896" name=""/>
            <p:cNvSpPr/>
            <p:nvPr/>
          </p:nvSpPr>
          <p:spPr>
            <a:xfrm>
              <a:off x="762120" y="3854520"/>
              <a:ext cx="76960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buClr>
                  <a:srgbClr val="3333cc"/>
                </a:buClr>
                <a:buSzPct val="15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is the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slop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of the line,                                                  or the average change in y                                                                    for each change of one unit in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6438960" y="4362480"/>
              <a:ext cx="151920" cy="76320"/>
              <a:chOff x="6438960" y="4362480"/>
              <a:chExt cx="151920" cy="76320"/>
            </a:xfrm>
          </p:grpSpPr>
          <p:sp>
            <p:nvSpPr>
              <p:cNvPr id="898" name=""/>
              <p:cNvSpPr/>
              <p:nvPr/>
            </p:nvSpPr>
            <p:spPr>
              <a:xfrm flipV="1">
                <a:off x="6438960" y="4362480"/>
                <a:ext cx="7632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 flipV="1">
                <a:off x="6514920" y="4362480"/>
                <a:ext cx="7596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hecker dir="vert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0" dur="75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5" dur="75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300"/>
                            </p:stCondLst>
                            <p:childTnLst>
                              <p:par>
                                <p:cTn id="6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2742480" y="4041720"/>
            <a:ext cx="3582000" cy="1353240"/>
            <a:chOff x="2742480" y="4041720"/>
            <a:chExt cx="3582000" cy="1353240"/>
          </a:xfrm>
        </p:grpSpPr>
        <p:sp>
          <p:nvSpPr>
            <p:cNvPr id="901" name=""/>
            <p:cNvSpPr/>
            <p:nvPr/>
          </p:nvSpPr>
          <p:spPr>
            <a:xfrm>
              <a:off x="3687840" y="4821120"/>
              <a:ext cx="8208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432400" y="4821120"/>
              <a:ext cx="8920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42480" y="451332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104720" y="4105440"/>
              <a:ext cx="2491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947760" y="4724280"/>
              <a:ext cx="311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41080" y="451332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847480" y="410544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729040" y="4724280"/>
              <a:ext cx="311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32360" y="4449600"/>
              <a:ext cx="4456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689720" y="4449600"/>
              <a:ext cx="186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34640" y="4041720"/>
              <a:ext cx="3315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477760" y="4041720"/>
              <a:ext cx="3315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1774080" y="2209680"/>
            <a:ext cx="5464800" cy="1558080"/>
            <a:chOff x="1774080" y="2209680"/>
            <a:chExt cx="5464800" cy="1558080"/>
          </a:xfrm>
        </p:grpSpPr>
        <p:sp>
          <p:nvSpPr>
            <p:cNvPr id="914" name=""/>
            <p:cNvSpPr/>
            <p:nvPr/>
          </p:nvSpPr>
          <p:spPr>
            <a:xfrm>
              <a:off x="2643120" y="2989440"/>
              <a:ext cx="45957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774080" y="268128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671560" y="2273400"/>
              <a:ext cx="311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520800" y="2273400"/>
              <a:ext cx="5295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479200" y="227340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658920" y="2273400"/>
              <a:ext cx="2491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117600" y="3068640"/>
              <a:ext cx="311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967920" y="306864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896800" y="306864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15720" y="2617920"/>
              <a:ext cx="4456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576320" y="2209680"/>
              <a:ext cx="186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92840" y="3005280"/>
              <a:ext cx="186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960280" y="2273400"/>
              <a:ext cx="186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25680" y="2273400"/>
              <a:ext cx="186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919400" y="2273400"/>
              <a:ext cx="186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908320" y="2273400"/>
              <a:ext cx="3726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017840" y="2273400"/>
              <a:ext cx="186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05600" y="3068640"/>
              <a:ext cx="186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495320" y="3068640"/>
              <a:ext cx="186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36640" y="3068640"/>
              <a:ext cx="186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171840" y="3068640"/>
              <a:ext cx="186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175920" y="2301840"/>
              <a:ext cx="3315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135040" y="2301840"/>
              <a:ext cx="3315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314400" y="2301840"/>
              <a:ext cx="3315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607920" y="3097080"/>
              <a:ext cx="3315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536440" y="3097080"/>
              <a:ext cx="3315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266360" y="302256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323760" y="302256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1447920" y="5715000"/>
            <a:ext cx="6400800" cy="685440"/>
            <a:chOff x="1447920" y="5715000"/>
            <a:chExt cx="6400800" cy="685440"/>
          </a:xfrm>
        </p:grpSpPr>
        <p:sp>
          <p:nvSpPr>
            <p:cNvPr id="943" name=""/>
            <p:cNvSpPr/>
            <p:nvPr/>
          </p:nvSpPr>
          <p:spPr>
            <a:xfrm>
              <a:off x="1447920" y="5960160"/>
              <a:ext cx="6400800" cy="1101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99"/>
                </a:gs>
                <a:gs pos="100000">
                  <a:srgbClr val="fefefe"/>
                </a:gs>
              </a:gsLst>
              <a:lin ang="81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383720" y="5715000"/>
              <a:ext cx="411120" cy="6854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9db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171880" y="228600"/>
            <a:ext cx="4762440" cy="64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gression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276720" y="1066680"/>
            <a:ext cx="2514600" cy="703440"/>
            <a:chOff x="3276720" y="1066680"/>
            <a:chExt cx="2514600" cy="703440"/>
          </a:xfrm>
        </p:grpSpPr>
        <p:sp>
          <p:nvSpPr>
            <p:cNvPr id="947" name=""/>
            <p:cNvSpPr/>
            <p:nvPr/>
          </p:nvSpPr>
          <p:spPr>
            <a:xfrm>
              <a:off x="3276720" y="1066680"/>
              <a:ext cx="2514600" cy="7034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a7e2ff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3429000" y="1218960"/>
              <a:ext cx="151920" cy="75960"/>
              <a:chOff x="3429000" y="1218960"/>
              <a:chExt cx="151920" cy="75960"/>
            </a:xfrm>
          </p:grpSpPr>
          <p:sp>
            <p:nvSpPr>
              <p:cNvPr id="949" name=""/>
              <p:cNvSpPr/>
              <p:nvPr/>
            </p:nvSpPr>
            <p:spPr>
              <a:xfrm flipV="1">
                <a:off x="3429000" y="1218960"/>
                <a:ext cx="7632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 flipV="1">
                <a:off x="3504960" y="1218960"/>
                <a:ext cx="75960" cy="75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rd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1" name=""/>
          <p:cNvGrpSpPr/>
          <p:nvPr/>
        </p:nvGrpSpPr>
        <p:grpSpPr>
          <a:xfrm>
            <a:off x="228600" y="1339920"/>
            <a:ext cx="8686800" cy="3447360"/>
            <a:chOff x="228600" y="1339920"/>
            <a:chExt cx="8686800" cy="3447360"/>
          </a:xfrm>
        </p:grpSpPr>
        <p:sp>
          <p:nvSpPr>
            <p:cNvPr id="952" name=""/>
            <p:cNvSpPr/>
            <p:nvPr/>
          </p:nvSpPr>
          <p:spPr>
            <a:xfrm>
              <a:off x="533520" y="1339920"/>
              <a:ext cx="8096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an Ireland,  the student body president, is concerned about the cost to students of textbooks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28600" y="2133720"/>
              <a:ext cx="868680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e believes there is a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relationship between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                                     the numbe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pages in the tex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and                                                      </a:t>
              </a:r>
              <a:r>
                <a:rPr b="1" lang="en-US" sz="2800" spc="-1" strike="noStrike">
                  <a:solidFill>
                    <a:srgbClr val="009900"/>
                  </a:solidFill>
                  <a:latin typeface="Times New Roman"/>
                </a:rPr>
                <a:t>the selling price of the book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!                                                                   To provide insight into the problem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he selects a sample of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eight (8) textbook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currently on sale in the bookstore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4" name="" descr=""/>
          <p:cNvPicPr/>
          <p:nvPr/>
        </p:nvPicPr>
        <p:blipFill>
          <a:blip r:embed="rId1"/>
          <a:stretch/>
        </p:blipFill>
        <p:spPr>
          <a:xfrm>
            <a:off x="220680" y="914400"/>
            <a:ext cx="846000" cy="121932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2"/>
          <a:stretch/>
        </p:blipFill>
        <p:spPr>
          <a:xfrm>
            <a:off x="4048200" y="228600"/>
            <a:ext cx="981000" cy="839880"/>
          </a:xfrm>
          <a:prstGeom prst="rect">
            <a:avLst/>
          </a:prstGeom>
          <a:ln w="0">
            <a:noFill/>
          </a:ln>
        </p:spPr>
      </p:pic>
      <p:grpSp>
        <p:nvGrpSpPr>
          <p:cNvPr id="956" name=""/>
          <p:cNvGrpSpPr/>
          <p:nvPr/>
        </p:nvGrpSpPr>
        <p:grpSpPr>
          <a:xfrm>
            <a:off x="7467480" y="6172200"/>
            <a:ext cx="1218960" cy="609120"/>
            <a:chOff x="7467480" y="6172200"/>
            <a:chExt cx="1218960" cy="609120"/>
          </a:xfrm>
        </p:grpSpPr>
        <p:sp>
          <p:nvSpPr>
            <p:cNvPr id="957" name=""/>
            <p:cNvSpPr/>
            <p:nvPr/>
          </p:nvSpPr>
          <p:spPr>
            <a:xfrm>
              <a:off x="7467480" y="6250320"/>
              <a:ext cx="1203120" cy="53100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  <a:close/>
                </a:path>
              </a:pathLst>
            </a:custGeom>
            <a:solidFill>
              <a:srgbClr val="4c9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467480" y="6172200"/>
              <a:ext cx="1203120" cy="60912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45240" y="6379200"/>
              <a:ext cx="1141200" cy="255960"/>
            </a:xfrm>
            <a:custGeom>
              <a:avLst/>
              <a:gdLst/>
              <a:ahLst/>
              <a:rect l="l" t="t" r="r" b="b"/>
              <a:pathLst>
                <a:path w="1248" h="161">
                  <a:moveTo>
                    <a:pt x="1002" y="46"/>
                  </a:moveTo>
                  <a:lnTo>
                    <a:pt x="6" y="46"/>
                  </a:lnTo>
                  <a:lnTo>
                    <a:pt x="0" y="114"/>
                  </a:lnTo>
                  <a:lnTo>
                    <a:pt x="996" y="114"/>
                  </a:lnTo>
                  <a:lnTo>
                    <a:pt x="888" y="161"/>
                  </a:lnTo>
                  <a:lnTo>
                    <a:pt x="1056" y="158"/>
                  </a:lnTo>
                  <a:lnTo>
                    <a:pt x="1248" y="83"/>
                  </a:lnTo>
                  <a:lnTo>
                    <a:pt x="1068" y="2"/>
                  </a:lnTo>
                  <a:lnTo>
                    <a:pt x="900" y="0"/>
                  </a:lnTo>
                  <a:lnTo>
                    <a:pt x="100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 txBox="1"/>
            <p:nvPr/>
          </p:nvSpPr>
          <p:spPr>
            <a:xfrm>
              <a:off x="7664400" y="6250320"/>
              <a:ext cx="691560" cy="42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cc"/>
                  </a:solidFill>
                  <a:effectLst>
                    <a:outerShdw dist="28496" dir="12374481" blurRad="0" rotWithShape="0">
                      <a:srgbClr val="000000"/>
                    </a:outerShdw>
                  </a:effectLst>
                  <a:latin typeface="Arial Black"/>
                </a:rPr>
                <a:t>Dat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28496" dir="12374481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914400" y="4592520"/>
            <a:ext cx="7848720" cy="1495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66"/>
              </a:gs>
              <a:gs pos="100000">
                <a:srgbClr val="fefefe"/>
              </a:gs>
            </a:gsLst>
            <a:lin ang="8100000"/>
          </a:gradFill>
          <a:ln w="9360">
            <a:solidFill>
              <a:srgbClr val="ff33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 a regression equation that can be used to 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estimate the selling pri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ased on the number of page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1257480" y="3200400"/>
            <a:ext cx="66294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257480" y="1143000"/>
            <a:ext cx="6629400" cy="19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1295280" y="136440"/>
            <a:ext cx="6553080" cy="932760"/>
            <a:chOff x="1295280" y="136440"/>
            <a:chExt cx="6553080" cy="932760"/>
          </a:xfrm>
        </p:grpSpPr>
        <p:grpSp>
          <p:nvGrpSpPr>
            <p:cNvPr id="965" name=""/>
            <p:cNvGrpSpPr/>
            <p:nvPr/>
          </p:nvGrpSpPr>
          <p:grpSpPr>
            <a:xfrm>
              <a:off x="1295280" y="152280"/>
              <a:ext cx="6553080" cy="916920"/>
              <a:chOff x="1295280" y="152280"/>
              <a:chExt cx="6553080" cy="916920"/>
            </a:xfrm>
          </p:grpSpPr>
          <p:sp>
            <p:nvSpPr>
              <p:cNvPr id="966" name=""/>
              <p:cNvSpPr/>
              <p:nvPr/>
            </p:nvSpPr>
            <p:spPr>
              <a:xfrm>
                <a:off x="1595160" y="152280"/>
                <a:ext cx="625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x 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y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y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</a:t>
                </a: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 baseline="30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y</a:t>
                </a:r>
                <a:r>
                  <a:rPr b="1" lang="en-US" sz="2400" spc="-1" strike="noStrike" baseline="30000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295280" y="609480"/>
                <a:ext cx="655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0000ff"/>
                    </a:solidFill>
                    <a:uFillTx/>
                    <a:latin typeface="Times New Roman"/>
                  </a:rPr>
                  <a:t>4 900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       </a:t>
                </a:r>
                <a:r>
                  <a:rPr b="1" lang="en-US" sz="2400" spc="-1" strike="noStrike" u="sng">
                    <a:solidFill>
                      <a:srgbClr val="ff3300"/>
                    </a:solidFill>
                    <a:uFillTx/>
                    <a:latin typeface="Times New Roman"/>
                  </a:rPr>
                  <a:t> 63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397 20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 u="sng">
                    <a:solidFill>
                      <a:srgbClr val="0000ff"/>
                    </a:solidFill>
                    <a:uFillTx/>
                    <a:latin typeface="Times New Roman"/>
                  </a:rPr>
                  <a:t>3 150 000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 u="sng">
                    <a:solidFill>
                      <a:srgbClr val="ff3300"/>
                    </a:solidFill>
                    <a:uFillTx/>
                    <a:latin typeface="Times New Roman"/>
                  </a:rPr>
                  <a:t>51 60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447560" y="533160"/>
                <a:ext cx="633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"/>
            <p:cNvSpPr/>
            <p:nvPr/>
          </p:nvSpPr>
          <p:spPr>
            <a:xfrm>
              <a:off x="1447920" y="136440"/>
              <a:ext cx="228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647800" y="136440"/>
              <a:ext cx="228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57760" y="136440"/>
              <a:ext cx="228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410080" y="136440"/>
              <a:ext cx="228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010280" y="136440"/>
              <a:ext cx="228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380880" y="1066680"/>
            <a:ext cx="719280" cy="712800"/>
            <a:chOff x="380880" y="1066680"/>
            <a:chExt cx="719280" cy="712800"/>
          </a:xfrm>
        </p:grpSpPr>
        <p:grpSp>
          <p:nvGrpSpPr>
            <p:cNvPr id="975" name=""/>
            <p:cNvGrpSpPr/>
            <p:nvPr/>
          </p:nvGrpSpPr>
          <p:grpSpPr>
            <a:xfrm>
              <a:off x="380880" y="1066680"/>
              <a:ext cx="719280" cy="712800"/>
              <a:chOff x="380880" y="1066680"/>
              <a:chExt cx="719280" cy="712800"/>
            </a:xfrm>
          </p:grpSpPr>
          <p:sp>
            <p:nvSpPr>
              <p:cNvPr id="976" name=""/>
              <p:cNvSpPr/>
              <p:nvPr/>
            </p:nvSpPr>
            <p:spPr>
              <a:xfrm>
                <a:off x="380880" y="1093680"/>
                <a:ext cx="63360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399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66920" y="1066680"/>
                <a:ext cx="63324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401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8" name=""/>
            <p:cNvSpPr txBox="1"/>
            <p:nvPr/>
          </p:nvSpPr>
          <p:spPr>
            <a:xfrm>
              <a:off x="533520" y="1208160"/>
              <a:ext cx="457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2057400" y="22096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(397 200) –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 9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3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133720" y="2666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292840" y="2666880"/>
            <a:ext cx="30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50 0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–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524240" y="2438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942520" y="2286000"/>
            <a:ext cx="1637640" cy="581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8100000"/>
          </a:gradFill>
          <a:ln w="0">
            <a:noFill/>
          </a:ln>
          <a:effectLst>
            <a:outerShdw dist="109184" dir="867169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.0514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734200" y="4191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3116160" y="4038480"/>
            <a:ext cx="637920" cy="764640"/>
            <a:chOff x="3116160" y="4038480"/>
            <a:chExt cx="637920" cy="764640"/>
          </a:xfrm>
        </p:grpSpPr>
        <p:sp>
          <p:nvSpPr>
            <p:cNvPr id="986" name=""/>
            <p:cNvSpPr/>
            <p:nvPr/>
          </p:nvSpPr>
          <p:spPr>
            <a:xfrm>
              <a:off x="3116160" y="4038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6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26808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3735360" y="41148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0.05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5031000" y="4038480"/>
            <a:ext cx="866520" cy="764640"/>
            <a:chOff x="5031000" y="4038480"/>
            <a:chExt cx="866520" cy="764640"/>
          </a:xfrm>
        </p:grpSpPr>
        <p:sp>
          <p:nvSpPr>
            <p:cNvPr id="990" name=""/>
            <p:cNvSpPr/>
            <p:nvPr/>
          </p:nvSpPr>
          <p:spPr>
            <a:xfrm>
              <a:off x="5031000" y="403848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4 9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183280" y="43434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"/>
          <p:cNvSpPr/>
          <p:nvPr/>
        </p:nvSpPr>
        <p:spPr>
          <a:xfrm>
            <a:off x="6086520" y="3992400"/>
            <a:ext cx="1229040" cy="581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8100000"/>
          </a:gradFill>
          <a:ln w="0">
            <a:noFill/>
          </a:ln>
          <a:effectLst>
            <a:outerShdw dist="109184" dir="867169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419720" y="4815000"/>
            <a:ext cx="274320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7e2ff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8.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0.0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4920" y="5575320"/>
            <a:ext cx="8534160" cy="1410120"/>
          </a:xfrm>
          <a:prstGeom prst="rect">
            <a:avLst/>
          </a:prstGeom>
          <a:gradFill rotWithShape="0">
            <a:gsLst>
              <a:gs pos="0">
                <a:srgbClr val="9ae1fe"/>
              </a:gs>
              <a:gs pos="50000">
                <a:srgbClr val="e5f6fd"/>
              </a:gs>
              <a:gs pos="100000">
                <a:srgbClr val="9ae1fe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ggest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each extra page adds $0.0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the price of a  book;                                                                                                                       the y-intercept suggests tha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 book with 0 pages would cost $4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5029200" y="4114800"/>
            <a:ext cx="838080" cy="533520"/>
            <a:chOff x="5029200" y="4114800"/>
            <a:chExt cx="838080" cy="533520"/>
          </a:xfrm>
        </p:grpSpPr>
        <p:sp>
          <p:nvSpPr>
            <p:cNvPr id="996" name=""/>
            <p:cNvSpPr/>
            <p:nvPr/>
          </p:nvSpPr>
          <p:spPr>
            <a:xfrm>
              <a:off x="5029200" y="4114800"/>
              <a:ext cx="76320" cy="5335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791320" y="4114800"/>
              <a:ext cx="75960" cy="53352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1523520" y="1219320"/>
            <a:ext cx="3789360" cy="1043640"/>
            <a:chOff x="1523520" y="1219320"/>
            <a:chExt cx="3789360" cy="1043640"/>
          </a:xfrm>
        </p:grpSpPr>
        <p:sp>
          <p:nvSpPr>
            <p:cNvPr id="999" name=""/>
            <p:cNvSpPr/>
            <p:nvPr/>
          </p:nvSpPr>
          <p:spPr>
            <a:xfrm>
              <a:off x="2125800" y="1760400"/>
              <a:ext cx="318708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523520" y="15465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145960" y="126324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734920" y="1263240"/>
              <a:ext cx="335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i="1" lang="en-US" sz="28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93920" y="12632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911120" y="1263240"/>
              <a:ext cx="15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55200" y="181620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043800" y="18162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381200" y="18151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764000" y="150120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462120" y="121932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751560" y="177120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5760" y="12632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223800" y="12632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704760" y="12632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390560" y="1263240"/>
              <a:ext cx="238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158800" y="12632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653920" y="181620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411720" y="181620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994920" y="181620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573080" y="181512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496960" y="1283040"/>
              <a:ext cx="21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854520" y="1283040"/>
              <a:ext cx="21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672080" y="1283040"/>
              <a:ext cx="21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795400" y="1836000"/>
              <a:ext cx="21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132080" y="1834920"/>
              <a:ext cx="21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250440" y="1784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677120" y="1782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514240" y="3276720"/>
            <a:ext cx="2591280" cy="779400"/>
            <a:chOff x="2514240" y="3276720"/>
            <a:chExt cx="2591280" cy="779400"/>
          </a:xfrm>
        </p:grpSpPr>
        <p:sp>
          <p:nvSpPr>
            <p:cNvPr id="1028" name=""/>
            <p:cNvSpPr/>
            <p:nvPr/>
          </p:nvSpPr>
          <p:spPr>
            <a:xfrm>
              <a:off x="3197160" y="3732120"/>
              <a:ext cx="59364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459320" y="3732120"/>
              <a:ext cx="64620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514240" y="35434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500280" y="3301920"/>
              <a:ext cx="15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386160" y="362916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176360" y="35434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760640" y="33019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675320" y="362916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808360" y="35164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911400" y="35164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232080" y="3276720"/>
              <a:ext cx="21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492800" y="3276720"/>
              <a:ext cx="21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2362320" y="4815000"/>
            <a:ext cx="1904760" cy="520560"/>
            <a:chOff x="2362320" y="4815000"/>
            <a:chExt cx="1904760" cy="520560"/>
          </a:xfrm>
        </p:grpSpPr>
        <p:sp>
          <p:nvSpPr>
            <p:cNvPr id="1041" name=""/>
            <p:cNvSpPr/>
            <p:nvPr/>
          </p:nvSpPr>
          <p:spPr>
            <a:xfrm>
              <a:off x="2362320" y="4815000"/>
              <a:ext cx="1904760" cy="5205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a7e2ff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i="1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2477520" y="4914000"/>
              <a:ext cx="115200" cy="49320"/>
              <a:chOff x="2477520" y="4914000"/>
              <a:chExt cx="115200" cy="49320"/>
            </a:xfrm>
          </p:grpSpPr>
          <p:sp>
            <p:nvSpPr>
              <p:cNvPr id="1043" name=""/>
              <p:cNvSpPr/>
              <p:nvPr/>
            </p:nvSpPr>
            <p:spPr>
              <a:xfrm flipV="1">
                <a:off x="2477520" y="4914000"/>
                <a:ext cx="57600" cy="4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 flipV="1">
                <a:off x="2535120" y="4914000"/>
                <a:ext cx="57600" cy="49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" descr=""/>
          <p:cNvPicPr/>
          <p:nvPr/>
        </p:nvPicPr>
        <p:blipFill>
          <a:blip r:embed="rId1"/>
          <a:stretch/>
        </p:blipFill>
        <p:spPr>
          <a:xfrm>
            <a:off x="4048200" y="228600"/>
            <a:ext cx="981000" cy="83988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/>
          <p:nvPr/>
        </p:nvSpPr>
        <p:spPr>
          <a:xfrm>
            <a:off x="4952880" y="685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21200">
            <a:off x="360000" y="1598760"/>
            <a:ext cx="8375760" cy="419076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gradFill rotWithShape="0">
            <a:gsLst>
              <a:gs pos="0">
                <a:srgbClr val="ffebe9"/>
              </a:gs>
              <a:gs pos="50000">
                <a:srgbClr val="fef9f9"/>
              </a:gs>
              <a:gs pos="100000">
                <a:srgbClr val="ffebe9"/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523880" y="1339920"/>
            <a:ext cx="609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estimated selling price of an                       800 page b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28800" y="3125880"/>
            <a:ext cx="54100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tituting 800 f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371600" y="5183280"/>
            <a:ext cx="6477120" cy="1409400"/>
          </a:xfrm>
          <a:prstGeom prst="rect">
            <a:avLst/>
          </a:prstGeom>
          <a:gradFill rotWithShape="0">
            <a:gsLst>
              <a:gs pos="0">
                <a:srgbClr val="9ae1fe"/>
              </a:gs>
              <a:gs pos="50000">
                <a:srgbClr val="e5f6fd"/>
              </a:gs>
              <a:gs pos="100000">
                <a:srgbClr val="9ae1fe"/>
              </a:gs>
            </a:gsLst>
            <a:lin ang="8100000"/>
          </a:gradFill>
          <a:ln w="0">
            <a:noFill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stimated selling price of an                               800 page book is $89.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2971800" y="2362320"/>
            <a:ext cx="2666880" cy="581400"/>
            <a:chOff x="2971800" y="2362320"/>
            <a:chExt cx="2666880" cy="581400"/>
          </a:xfrm>
        </p:grpSpPr>
        <p:sp>
          <p:nvSpPr>
            <p:cNvPr id="1052" name=""/>
            <p:cNvSpPr/>
            <p:nvPr/>
          </p:nvSpPr>
          <p:spPr>
            <a:xfrm>
              <a:off x="2971800" y="2362320"/>
              <a:ext cx="2666880" cy="5814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a7e2ff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48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0.05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3063240" y="2452680"/>
              <a:ext cx="162000" cy="75600"/>
              <a:chOff x="3063240" y="2452680"/>
              <a:chExt cx="162000" cy="75600"/>
            </a:xfrm>
          </p:grpSpPr>
          <p:sp>
            <p:nvSpPr>
              <p:cNvPr id="1054" name=""/>
              <p:cNvSpPr/>
              <p:nvPr/>
            </p:nvSpPr>
            <p:spPr>
              <a:xfrm flipV="1">
                <a:off x="3063240" y="2452680"/>
                <a:ext cx="81360" cy="7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 flipV="1">
                <a:off x="3144240" y="2452680"/>
                <a:ext cx="81000" cy="7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6" name=""/>
          <p:cNvGrpSpPr/>
          <p:nvPr/>
        </p:nvGrpSpPr>
        <p:grpSpPr>
          <a:xfrm>
            <a:off x="2819520" y="3886200"/>
            <a:ext cx="3276000" cy="1068840"/>
            <a:chOff x="2819520" y="3886200"/>
            <a:chExt cx="3276000" cy="1068840"/>
          </a:xfrm>
        </p:grpSpPr>
        <p:sp>
          <p:nvSpPr>
            <p:cNvPr id="1057" name=""/>
            <p:cNvSpPr/>
            <p:nvPr/>
          </p:nvSpPr>
          <p:spPr>
            <a:xfrm>
              <a:off x="2819520" y="3886200"/>
              <a:ext cx="3276000" cy="10688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a7e2ff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48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0.05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800)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= 89.1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8" name=""/>
            <p:cNvGrpSpPr/>
            <p:nvPr/>
          </p:nvGrpSpPr>
          <p:grpSpPr>
            <a:xfrm>
              <a:off x="2931840" y="3976560"/>
              <a:ext cx="199080" cy="75600"/>
              <a:chOff x="2931840" y="3976560"/>
              <a:chExt cx="199080" cy="75600"/>
            </a:xfrm>
          </p:grpSpPr>
          <p:sp>
            <p:nvSpPr>
              <p:cNvPr id="1059" name=""/>
              <p:cNvSpPr/>
              <p:nvPr/>
            </p:nvSpPr>
            <p:spPr>
              <a:xfrm flipV="1">
                <a:off x="2931840" y="3976560"/>
                <a:ext cx="99720" cy="7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 flipV="1">
                <a:off x="3031560" y="3976560"/>
                <a:ext cx="99360" cy="75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in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" name=""/>
          <p:cNvGrpSpPr/>
          <p:nvPr/>
        </p:nvGrpSpPr>
        <p:grpSpPr>
          <a:xfrm>
            <a:off x="2438280" y="1292400"/>
            <a:ext cx="4267440" cy="4115880"/>
            <a:chOff x="2438280" y="1292400"/>
            <a:chExt cx="4267440" cy="4115880"/>
          </a:xfrm>
        </p:grpSpPr>
        <p:pic>
          <p:nvPicPr>
            <p:cNvPr id="1062" name="" descr=""/>
            <p:cNvPicPr/>
            <p:nvPr/>
          </p:nvPicPr>
          <p:blipFill>
            <a:blip r:embed="rId1"/>
            <a:srcRect l="29182" t="5439" r="68186" b="91219"/>
            <a:stretch/>
          </p:blipFill>
          <p:spPr>
            <a:xfrm>
              <a:off x="3581280" y="2603520"/>
              <a:ext cx="1981440" cy="166356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1063" name=""/>
            <p:cNvSpPr/>
            <p:nvPr/>
          </p:nvSpPr>
          <p:spPr>
            <a:xfrm>
              <a:off x="2438280" y="1292400"/>
              <a:ext cx="4267440" cy="4115880"/>
            </a:xfrm>
            <a:prstGeom prst="rect">
              <a:avLst/>
            </a:prstGeom>
            <a:solidFill>
              <a:srgbClr val="00ffcc">
                <a:alpha val="4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0000"/>
                  </a:solidFill>
                  <a:latin typeface="Times New Roman"/>
                </a:rPr>
                <a:t>Using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xcel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476440" y="3808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3475080"/>
            <a:ext cx="7315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onduc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test of hypothes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gress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de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ach coefficient of regress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09480" y="6324480"/>
            <a:ext cx="7772040" cy="304920"/>
            <a:chOff x="609480" y="6324480"/>
            <a:chExt cx="7772040" cy="304920"/>
          </a:xfrm>
        </p:grpSpPr>
        <p:sp>
          <p:nvSpPr>
            <p:cNvPr id="72" name=""/>
            <p:cNvSpPr/>
            <p:nvPr/>
          </p:nvSpPr>
          <p:spPr>
            <a:xfrm flipV="1">
              <a:off x="609480" y="6396840"/>
              <a:ext cx="7772040" cy="144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4"/>
            <a:stretch/>
          </p:blipFill>
          <p:spPr>
            <a:xfrm>
              <a:off x="4365720" y="6324480"/>
              <a:ext cx="56412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419040" y="2408400"/>
            <a:ext cx="685800" cy="685800"/>
            <a:chOff x="419040" y="2408400"/>
            <a:chExt cx="685800" cy="685800"/>
          </a:xfrm>
        </p:grpSpPr>
        <p:pic>
          <p:nvPicPr>
            <p:cNvPr id="75" name="" descr=""/>
            <p:cNvPicPr/>
            <p:nvPr/>
          </p:nvPicPr>
          <p:blipFill>
            <a:blip r:embed="rId5"/>
            <a:srcRect l="0" t="7684" r="4868" b="13458"/>
            <a:stretch/>
          </p:blipFill>
          <p:spPr>
            <a:xfrm>
              <a:off x="419040" y="245448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95000" y="24084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19040" y="3398760"/>
            <a:ext cx="685800" cy="685800"/>
            <a:chOff x="419040" y="3398760"/>
            <a:chExt cx="685800" cy="685800"/>
          </a:xfrm>
        </p:grpSpPr>
        <p:pic>
          <p:nvPicPr>
            <p:cNvPr id="78" name="" descr=""/>
            <p:cNvPicPr/>
            <p:nvPr/>
          </p:nvPicPr>
          <p:blipFill>
            <a:blip r:embed="rId6"/>
            <a:srcRect l="0" t="7684" r="4868" b="13458"/>
            <a:stretch/>
          </p:blipFill>
          <p:spPr>
            <a:xfrm>
              <a:off x="419040" y="344484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95000" y="339876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19040" y="4541760"/>
            <a:ext cx="685800" cy="685800"/>
            <a:chOff x="419040" y="4541760"/>
            <a:chExt cx="685800" cy="685800"/>
          </a:xfrm>
        </p:grpSpPr>
        <p:pic>
          <p:nvPicPr>
            <p:cNvPr id="81" name="" descr=""/>
            <p:cNvPicPr/>
            <p:nvPr/>
          </p:nvPicPr>
          <p:blipFill>
            <a:blip r:embed="rId7"/>
            <a:srcRect l="0" t="7684" r="4868" b="13458"/>
            <a:stretch/>
          </p:blipFill>
          <p:spPr>
            <a:xfrm>
              <a:off x="419040" y="458784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95000" y="454176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28600" y="152280"/>
            <a:ext cx="914400" cy="712800"/>
            <a:chOff x="228600" y="152280"/>
            <a:chExt cx="914400" cy="712800"/>
          </a:xfrm>
        </p:grpSpPr>
        <p:pic>
          <p:nvPicPr>
            <p:cNvPr id="84" name="" descr=""/>
            <p:cNvPicPr/>
            <p:nvPr/>
          </p:nvPicPr>
          <p:blipFill>
            <a:blip r:embed="rId8"/>
            <a:stretch/>
          </p:blipFill>
          <p:spPr>
            <a:xfrm>
              <a:off x="228600" y="152280"/>
              <a:ext cx="914400" cy="712800"/>
            </a:xfrm>
            <a:prstGeom prst="rect">
              <a:avLst/>
            </a:prstGeom>
            <a:ln w="0">
              <a:noFill/>
            </a:ln>
            <a:effectLst>
              <a:outerShdw dist="81185" dir="8478030" blurRad="0" rotWithShape="0">
                <a:srgbClr val="808080"/>
              </a:outerShdw>
            </a:effectLst>
          </p:spPr>
        </p:pic>
        <p:sp>
          <p:nvSpPr>
            <p:cNvPr id="85" name=""/>
            <p:cNvSpPr txBox="1"/>
            <p:nvPr/>
          </p:nvSpPr>
          <p:spPr>
            <a:xfrm>
              <a:off x="457200" y="25560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000000"/>
                    </a:outerShdw>
                  </a:effectLst>
                  <a:latin typeface="Arial Black"/>
                </a:rPr>
                <a:t>1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295280" y="2484360"/>
            <a:ext cx="655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onduct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nalysis of varianc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calcul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coefficient of determin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46324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Estim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fi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diction inter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57200" y="1143000"/>
            <a:ext cx="685800" cy="685800"/>
            <a:chOff x="457200" y="1143000"/>
            <a:chExt cx="685800" cy="685800"/>
          </a:xfrm>
        </p:grpSpPr>
        <p:pic>
          <p:nvPicPr>
            <p:cNvPr id="89" name="" descr=""/>
            <p:cNvPicPr/>
            <p:nvPr/>
          </p:nvPicPr>
          <p:blipFill>
            <a:blip r:embed="rId9"/>
            <a:srcRect l="0" t="7684" r="4868" b="13458"/>
            <a:stretch/>
          </p:blipFill>
          <p:spPr>
            <a:xfrm>
              <a:off x="457200" y="118908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33160" y="1143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701028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3 - </a:t>
            </a:r>
            <a:fld id="{88164146-A0CE-48B2-9FEC-A6FAEC6F4CFC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1219320"/>
            <a:ext cx="754380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Measure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interpr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rength of relationshi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tween two variab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rough 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gression l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echnique of least squar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" descr=""/>
          <p:cNvPicPr/>
          <p:nvPr/>
        </p:nvPicPr>
        <p:blipFill>
          <a:blip r:embed="rId1"/>
          <a:srcRect l="0" t="0" r="0" b="87753"/>
          <a:stretch/>
        </p:blipFill>
        <p:spPr>
          <a:xfrm>
            <a:off x="228600" y="1066680"/>
            <a:ext cx="8686800" cy="914400"/>
          </a:xfrm>
          <a:prstGeom prst="rect">
            <a:avLst/>
          </a:prstGeom>
          <a:ln w="0">
            <a:noFill/>
          </a:ln>
        </p:spPr>
      </p:pic>
      <p:pic>
        <p:nvPicPr>
          <p:cNvPr id="1065" name="" descr=""/>
          <p:cNvPicPr/>
          <p:nvPr/>
        </p:nvPicPr>
        <p:blipFill>
          <a:blip r:embed="rId2"/>
          <a:srcRect l="0" t="20602" r="0" b="8404"/>
          <a:stretch/>
        </p:blipFill>
        <p:spPr>
          <a:xfrm>
            <a:off x="228600" y="2209680"/>
            <a:ext cx="8686800" cy="4343400"/>
          </a:xfrm>
          <a:prstGeom prst="rect">
            <a:avLst/>
          </a:prstGeom>
          <a:ln w="0">
            <a:noFill/>
          </a:ln>
        </p:spPr>
      </p:pic>
      <p:grpSp>
        <p:nvGrpSpPr>
          <p:cNvPr id="1066" name=""/>
          <p:cNvGrpSpPr/>
          <p:nvPr/>
        </p:nvGrpSpPr>
        <p:grpSpPr>
          <a:xfrm>
            <a:off x="4113720" y="228600"/>
            <a:ext cx="925920" cy="825480"/>
            <a:chOff x="4113720" y="228600"/>
            <a:chExt cx="925920" cy="825480"/>
          </a:xfrm>
        </p:grpSpPr>
        <p:pic>
          <p:nvPicPr>
            <p:cNvPr id="1067" name="" descr=""/>
            <p:cNvPicPr/>
            <p:nvPr/>
          </p:nvPicPr>
          <p:blipFill>
            <a:blip r:embed="rId3"/>
            <a:srcRect l="29182" t="5439" r="68186" b="91219"/>
            <a:stretch/>
          </p:blipFill>
          <p:spPr>
            <a:xfrm>
              <a:off x="4305240" y="380880"/>
              <a:ext cx="533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4113720" y="228600"/>
              <a:ext cx="925920" cy="825480"/>
            </a:xfrm>
            <a:prstGeom prst="rect">
              <a:avLst/>
            </a:prstGeom>
            <a:solidFill>
              <a:srgbClr val="66ffff">
                <a:alpha val="4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c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5720040" y="2438280"/>
            <a:ext cx="264060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HART WI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6553080" y="1447920"/>
            <a:ext cx="762120" cy="793800"/>
            <a:chOff x="6553080" y="1447920"/>
            <a:chExt cx="762120" cy="793800"/>
          </a:xfrm>
        </p:grpSpPr>
        <p:pic>
          <p:nvPicPr>
            <p:cNvPr id="1071" name="" descr=""/>
            <p:cNvPicPr/>
            <p:nvPr/>
          </p:nvPicPr>
          <p:blipFill>
            <a:blip r:embed="rId4"/>
            <a:srcRect l="29130" t="5311" r="68268" b="91091"/>
            <a:stretch/>
          </p:blipFill>
          <p:spPr>
            <a:xfrm>
              <a:off x="6553080" y="1447920"/>
              <a:ext cx="754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>
              <a:off x="6553080" y="1447920"/>
              <a:ext cx="762120" cy="79380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4267080" y="3138480"/>
            <a:ext cx="4343400" cy="3262320"/>
            <a:chOff x="4267080" y="3138480"/>
            <a:chExt cx="4343400" cy="3262320"/>
          </a:xfrm>
        </p:grpSpPr>
        <p:pic>
          <p:nvPicPr>
            <p:cNvPr id="1074" name="" descr=""/>
            <p:cNvPicPr/>
            <p:nvPr/>
          </p:nvPicPr>
          <p:blipFill>
            <a:blip r:embed="rId5"/>
            <a:srcRect l="16000" t="16670" r="32000" b="32357"/>
            <a:stretch/>
          </p:blipFill>
          <p:spPr>
            <a:xfrm>
              <a:off x="4267080" y="3429000"/>
              <a:ext cx="434340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4573080" y="3138480"/>
              <a:ext cx="768960" cy="581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34955" dir="78728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S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" descr=""/>
          <p:cNvPicPr/>
          <p:nvPr/>
        </p:nvPicPr>
        <p:blipFill>
          <a:blip r:embed="rId1"/>
          <a:srcRect l="16000" t="16670" r="58921" b="32357"/>
          <a:stretch/>
        </p:blipFill>
        <p:spPr>
          <a:xfrm>
            <a:off x="3581280" y="1434960"/>
            <a:ext cx="4419720" cy="443232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1066680" y="3178080"/>
            <a:ext cx="236232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on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Y (Scat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86200" y="3651120"/>
            <a:ext cx="2362320" cy="3049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4113720" y="228600"/>
            <a:ext cx="925920" cy="825480"/>
            <a:chOff x="4113720" y="228600"/>
            <a:chExt cx="925920" cy="825480"/>
          </a:xfrm>
        </p:grpSpPr>
        <p:pic>
          <p:nvPicPr>
            <p:cNvPr id="1080" name="" descr=""/>
            <p:cNvPicPr/>
            <p:nvPr/>
          </p:nvPicPr>
          <p:blipFill>
            <a:blip r:embed="rId2"/>
            <a:srcRect l="29182" t="5439" r="68186" b="91219"/>
            <a:stretch/>
          </p:blipFill>
          <p:spPr>
            <a:xfrm>
              <a:off x="4305240" y="380880"/>
              <a:ext cx="533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4113720" y="228600"/>
              <a:ext cx="925920" cy="825480"/>
            </a:xfrm>
            <a:prstGeom prst="rect">
              <a:avLst/>
            </a:prstGeom>
            <a:solidFill>
              <a:srgbClr val="66ffff">
                <a:alpha val="4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c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5257800" cy="5410080"/>
          </a:xfrm>
          <a:prstGeom prst="rect">
            <a:avLst/>
          </a:prstGeom>
          <a:ln w="0">
            <a:noFill/>
          </a:ln>
        </p:spPr>
      </p:pic>
      <p:sp>
        <p:nvSpPr>
          <p:cNvPr id="1083" name=""/>
          <p:cNvSpPr/>
          <p:nvPr/>
        </p:nvSpPr>
        <p:spPr>
          <a:xfrm>
            <a:off x="3586320" y="4952880"/>
            <a:ext cx="2885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PUT DATA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610160" y="4343400"/>
            <a:ext cx="838080" cy="5335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363720" y="5410080"/>
            <a:ext cx="1561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515280" y="5943600"/>
            <a:ext cx="1066680" cy="5335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4113720" y="228600"/>
            <a:ext cx="925920" cy="825480"/>
            <a:chOff x="4113720" y="228600"/>
            <a:chExt cx="925920" cy="825480"/>
          </a:xfrm>
        </p:grpSpPr>
        <p:pic>
          <p:nvPicPr>
            <p:cNvPr id="1088" name="" descr=""/>
            <p:cNvPicPr/>
            <p:nvPr/>
          </p:nvPicPr>
          <p:blipFill>
            <a:blip r:embed="rId2"/>
            <a:srcRect l="29182" t="5439" r="68186" b="91219"/>
            <a:stretch/>
          </p:blipFill>
          <p:spPr>
            <a:xfrm>
              <a:off x="4305240" y="380880"/>
              <a:ext cx="533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"/>
            <p:cNvSpPr/>
            <p:nvPr/>
          </p:nvSpPr>
          <p:spPr>
            <a:xfrm>
              <a:off x="4113720" y="228600"/>
              <a:ext cx="925920" cy="825480"/>
            </a:xfrm>
            <a:prstGeom prst="rect">
              <a:avLst/>
            </a:prstGeom>
            <a:solidFill>
              <a:srgbClr val="66ffff">
                <a:alpha val="4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c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0" name="" descr=""/>
          <p:cNvPicPr/>
          <p:nvPr/>
        </p:nvPicPr>
        <p:blipFill>
          <a:blip r:embed="rId3"/>
          <a:srcRect l="0" t="20602" r="55267" b="8404"/>
          <a:stretch/>
        </p:blipFill>
        <p:spPr>
          <a:xfrm>
            <a:off x="533520" y="1905120"/>
            <a:ext cx="2895480" cy="4343400"/>
          </a:xfrm>
          <a:prstGeom prst="rect">
            <a:avLst/>
          </a:prstGeom>
          <a:ln w="0">
            <a:noFill/>
          </a:ln>
        </p:spPr>
      </p:pic>
      <p:sp>
        <p:nvSpPr>
          <p:cNvPr id="1091" name=""/>
          <p:cNvSpPr/>
          <p:nvPr/>
        </p:nvSpPr>
        <p:spPr>
          <a:xfrm>
            <a:off x="2057400" y="2438280"/>
            <a:ext cx="1295280" cy="3657600"/>
          </a:xfrm>
          <a:prstGeom prst="rect">
            <a:avLst/>
          </a:prstGeom>
          <a:solidFill>
            <a:srgbClr val="00ffcc">
              <a:alpha val="19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495680" y="4038480"/>
            <a:ext cx="3962520" cy="304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" descr=""/>
          <p:cNvPicPr/>
          <p:nvPr/>
        </p:nvPicPr>
        <p:blipFill>
          <a:blip r:embed="rId1"/>
          <a:stretch/>
        </p:blipFill>
        <p:spPr>
          <a:xfrm>
            <a:off x="1523880" y="1422360"/>
            <a:ext cx="6096240" cy="4013280"/>
          </a:xfrm>
          <a:prstGeom prst="rect">
            <a:avLst/>
          </a:prstGeom>
          <a:ln w="0">
            <a:noFill/>
          </a:ln>
        </p:spPr>
      </p:pic>
      <p:sp>
        <p:nvSpPr>
          <p:cNvPr id="1094" name=""/>
          <p:cNvSpPr/>
          <p:nvPr/>
        </p:nvSpPr>
        <p:spPr>
          <a:xfrm>
            <a:off x="2200680" y="1676520"/>
            <a:ext cx="474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PUTTING of TIT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801680" y="5562720"/>
            <a:ext cx="1561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77480" y="5562720"/>
            <a:ext cx="176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4113720" y="228600"/>
            <a:ext cx="925920" cy="825480"/>
            <a:chOff x="4113720" y="228600"/>
            <a:chExt cx="925920" cy="825480"/>
          </a:xfrm>
        </p:grpSpPr>
        <p:pic>
          <p:nvPicPr>
            <p:cNvPr id="1098" name="" descr=""/>
            <p:cNvPicPr/>
            <p:nvPr/>
          </p:nvPicPr>
          <p:blipFill>
            <a:blip r:embed="rId2"/>
            <a:srcRect l="29182" t="5439" r="68186" b="91219"/>
            <a:stretch/>
          </p:blipFill>
          <p:spPr>
            <a:xfrm>
              <a:off x="4305240" y="380880"/>
              <a:ext cx="533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9" name=""/>
            <p:cNvSpPr/>
            <p:nvPr/>
          </p:nvSpPr>
          <p:spPr>
            <a:xfrm>
              <a:off x="4113720" y="228600"/>
              <a:ext cx="925920" cy="825480"/>
            </a:xfrm>
            <a:prstGeom prst="rect">
              <a:avLst/>
            </a:prstGeom>
            <a:solidFill>
              <a:srgbClr val="66ffff">
                <a:alpha val="4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c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380880" y="1981080"/>
            <a:ext cx="2667240" cy="2268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                                       “format the axes scales”…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Right mous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i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n one of the ax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1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5295960" cy="4762800"/>
          </a:xfrm>
          <a:prstGeom prst="rect">
            <a:avLst/>
          </a:prstGeom>
          <a:ln w="0">
            <a:noFill/>
          </a:ln>
        </p:spPr>
      </p:pic>
      <p:sp>
        <p:nvSpPr>
          <p:cNvPr id="1102" name=""/>
          <p:cNvSpPr/>
          <p:nvPr/>
        </p:nvSpPr>
        <p:spPr>
          <a:xfrm>
            <a:off x="3357720" y="4572000"/>
            <a:ext cx="487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PUTTING of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943600" y="5257800"/>
            <a:ext cx="142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4" name="" descr=""/>
          <p:cNvPicPr/>
          <p:nvPr/>
        </p:nvPicPr>
        <p:blipFill>
          <a:blip r:embed="rId2"/>
          <a:srcRect l="45314" t="66668" r="45369" b="26042"/>
          <a:stretch/>
        </p:blipFill>
        <p:spPr>
          <a:xfrm>
            <a:off x="380880" y="4952880"/>
            <a:ext cx="2667240" cy="1565280"/>
          </a:xfrm>
          <a:prstGeom prst="rect">
            <a:avLst/>
          </a:prstGeom>
          <a:ln w="0">
            <a:noFill/>
          </a:ln>
        </p:spPr>
      </p:pic>
      <p:sp>
        <p:nvSpPr>
          <p:cNvPr id="1105" name=""/>
          <p:cNvSpPr/>
          <p:nvPr/>
        </p:nvSpPr>
        <p:spPr>
          <a:xfrm>
            <a:off x="5030280" y="1143000"/>
            <a:ext cx="7689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4113720" y="228600"/>
            <a:ext cx="925920" cy="825480"/>
            <a:chOff x="4113720" y="228600"/>
            <a:chExt cx="925920" cy="825480"/>
          </a:xfrm>
        </p:grpSpPr>
        <p:pic>
          <p:nvPicPr>
            <p:cNvPr id="1107" name="" descr=""/>
            <p:cNvPicPr/>
            <p:nvPr/>
          </p:nvPicPr>
          <p:blipFill>
            <a:blip r:embed="rId3"/>
            <a:srcRect l="29182" t="5439" r="68186" b="91219"/>
            <a:stretch/>
          </p:blipFill>
          <p:spPr>
            <a:xfrm>
              <a:off x="4305240" y="380880"/>
              <a:ext cx="533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"/>
            <p:cNvSpPr/>
            <p:nvPr/>
          </p:nvSpPr>
          <p:spPr>
            <a:xfrm>
              <a:off x="4113720" y="228600"/>
              <a:ext cx="925920" cy="825480"/>
            </a:xfrm>
            <a:prstGeom prst="rect">
              <a:avLst/>
            </a:prstGeom>
            <a:solidFill>
              <a:srgbClr val="66ffff">
                <a:alpha val="4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c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838080" y="4191120"/>
            <a:ext cx="1905120" cy="71532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ick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on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ormat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" descr=""/>
          <p:cNvPicPr/>
          <p:nvPr/>
        </p:nvPicPr>
        <p:blipFill>
          <a:blip r:embed="rId1"/>
          <a:srcRect l="3334" t="0" r="836" b="4079"/>
          <a:stretch/>
        </p:blipFill>
        <p:spPr>
          <a:xfrm>
            <a:off x="152280" y="1295280"/>
            <a:ext cx="8763120" cy="510228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/>
          <p:nvPr/>
        </p:nvSpPr>
        <p:spPr>
          <a:xfrm>
            <a:off x="5638680" y="1981080"/>
            <a:ext cx="2971800" cy="2890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remove the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ege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on the right side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Right mous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i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and            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ick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on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4113720" y="228600"/>
            <a:ext cx="925920" cy="825480"/>
            <a:chOff x="4113720" y="228600"/>
            <a:chExt cx="925920" cy="825480"/>
          </a:xfrm>
        </p:grpSpPr>
        <p:pic>
          <p:nvPicPr>
            <p:cNvPr id="1113" name="" descr=""/>
            <p:cNvPicPr/>
            <p:nvPr/>
          </p:nvPicPr>
          <p:blipFill>
            <a:blip r:embed="rId2"/>
            <a:srcRect l="29182" t="5439" r="68186" b="91219"/>
            <a:stretch/>
          </p:blipFill>
          <p:spPr>
            <a:xfrm>
              <a:off x="4305240" y="380880"/>
              <a:ext cx="533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4" name=""/>
            <p:cNvSpPr/>
            <p:nvPr/>
          </p:nvSpPr>
          <p:spPr>
            <a:xfrm>
              <a:off x="4113720" y="228600"/>
              <a:ext cx="925920" cy="825480"/>
            </a:xfrm>
            <a:prstGeom prst="rect">
              <a:avLst/>
            </a:prstGeom>
            <a:solidFill>
              <a:srgbClr val="66ffff">
                <a:alpha val="4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c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" descr=""/>
          <p:cNvPicPr/>
          <p:nvPr/>
        </p:nvPicPr>
        <p:blipFill>
          <a:blip r:embed="rId1"/>
          <a:srcRect l="3334" t="0" r="836" b="4079"/>
          <a:stretch/>
        </p:blipFill>
        <p:spPr>
          <a:xfrm>
            <a:off x="152280" y="1295280"/>
            <a:ext cx="8763120" cy="510228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2362320" y="1905120"/>
            <a:ext cx="2819160" cy="413280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add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gression L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equation to this scatter plot…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Right mous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i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n one of the data point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croll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down to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dd Trendl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4113720" y="228600"/>
            <a:ext cx="925920" cy="825480"/>
            <a:chOff x="4113720" y="228600"/>
            <a:chExt cx="925920" cy="825480"/>
          </a:xfrm>
        </p:grpSpPr>
        <p:pic>
          <p:nvPicPr>
            <p:cNvPr id="1118" name="" descr=""/>
            <p:cNvPicPr/>
            <p:nvPr/>
          </p:nvPicPr>
          <p:blipFill>
            <a:blip r:embed="rId2"/>
            <a:srcRect l="29182" t="5439" r="68186" b="91219"/>
            <a:stretch/>
          </p:blipFill>
          <p:spPr>
            <a:xfrm>
              <a:off x="4305240" y="380880"/>
              <a:ext cx="533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9" name=""/>
            <p:cNvSpPr/>
            <p:nvPr/>
          </p:nvSpPr>
          <p:spPr>
            <a:xfrm>
              <a:off x="4113720" y="228600"/>
              <a:ext cx="925920" cy="825480"/>
            </a:xfrm>
            <a:prstGeom prst="rect">
              <a:avLst/>
            </a:prstGeom>
            <a:solidFill>
              <a:srgbClr val="66ffff">
                <a:alpha val="4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c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0" name="" descr=""/>
          <p:cNvPicPr/>
          <p:nvPr/>
        </p:nvPicPr>
        <p:blipFill>
          <a:blip r:embed="rId3"/>
          <a:srcRect l="52697" t="52335" r="32031" b="30694"/>
          <a:stretch/>
        </p:blipFill>
        <p:spPr>
          <a:xfrm>
            <a:off x="5486400" y="3352680"/>
            <a:ext cx="3200400" cy="26672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7543800" y="5867280"/>
            <a:ext cx="1066680" cy="5814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1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1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" descr=""/>
          <p:cNvPicPr/>
          <p:nvPr/>
        </p:nvPicPr>
        <p:blipFill>
          <a:blip r:embed="rId1"/>
          <a:srcRect l="26564" t="35940" r="25173" b="9736"/>
          <a:stretch/>
        </p:blipFill>
        <p:spPr>
          <a:xfrm>
            <a:off x="380880" y="1152360"/>
            <a:ext cx="8534520" cy="523908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/>
          <p:nvPr/>
        </p:nvSpPr>
        <p:spPr>
          <a:xfrm>
            <a:off x="1926720" y="5410080"/>
            <a:ext cx="4758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OPTIONS T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4113720" y="228600"/>
            <a:ext cx="925920" cy="825480"/>
            <a:chOff x="4113720" y="228600"/>
            <a:chExt cx="925920" cy="825480"/>
          </a:xfrm>
        </p:grpSpPr>
        <p:pic>
          <p:nvPicPr>
            <p:cNvPr id="1125" name="" descr=""/>
            <p:cNvPicPr/>
            <p:nvPr/>
          </p:nvPicPr>
          <p:blipFill>
            <a:blip r:embed="rId2"/>
            <a:srcRect l="29182" t="5439" r="68186" b="91219"/>
            <a:stretch/>
          </p:blipFill>
          <p:spPr>
            <a:xfrm>
              <a:off x="4305240" y="380880"/>
              <a:ext cx="533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6" name=""/>
            <p:cNvSpPr/>
            <p:nvPr/>
          </p:nvSpPr>
          <p:spPr>
            <a:xfrm>
              <a:off x="4113720" y="228600"/>
              <a:ext cx="925920" cy="825480"/>
            </a:xfrm>
            <a:prstGeom prst="rect">
              <a:avLst/>
            </a:prstGeom>
            <a:solidFill>
              <a:srgbClr val="66ffff">
                <a:alpha val="4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c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5257800" y="2438280"/>
            <a:ext cx="1676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971800" y="3048120"/>
            <a:ext cx="1295280" cy="685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789560" y="4365720"/>
            <a:ext cx="2683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1040" dir="792084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o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in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809880" y="2514600"/>
            <a:ext cx="1143000" cy="4572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543800" y="5867280"/>
            <a:ext cx="1066680" cy="5814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" descr=""/>
          <p:cNvPicPr/>
          <p:nvPr/>
        </p:nvPicPr>
        <p:blipFill>
          <a:blip r:embed="rId1"/>
          <a:srcRect l="35937" t="38544" r="24220" b="14584"/>
          <a:stretch/>
        </p:blipFill>
        <p:spPr>
          <a:xfrm>
            <a:off x="762120" y="1295280"/>
            <a:ext cx="7543800" cy="517860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2209680" y="3048120"/>
            <a:ext cx="1219320" cy="9903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059120" y="5283360"/>
            <a:ext cx="5964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ck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QUA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-squar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257800" y="6019920"/>
            <a:ext cx="142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4113720" y="228600"/>
            <a:ext cx="925920" cy="825480"/>
            <a:chOff x="4113720" y="228600"/>
            <a:chExt cx="925920" cy="825480"/>
          </a:xfrm>
        </p:grpSpPr>
        <p:pic>
          <p:nvPicPr>
            <p:cNvPr id="1137" name="" descr=""/>
            <p:cNvPicPr/>
            <p:nvPr/>
          </p:nvPicPr>
          <p:blipFill>
            <a:blip r:embed="rId2"/>
            <a:srcRect l="29182" t="5439" r="68186" b="91219"/>
            <a:stretch/>
          </p:blipFill>
          <p:spPr>
            <a:xfrm>
              <a:off x="4305240" y="380880"/>
              <a:ext cx="533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"/>
            <p:cNvSpPr/>
            <p:nvPr/>
          </p:nvSpPr>
          <p:spPr>
            <a:xfrm>
              <a:off x="4113720" y="228600"/>
              <a:ext cx="925920" cy="825480"/>
            </a:xfrm>
            <a:prstGeom prst="rect">
              <a:avLst/>
            </a:prstGeom>
            <a:solidFill>
              <a:srgbClr val="66ffff">
                <a:alpha val="4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c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838080" y="4114800"/>
            <a:ext cx="3429000" cy="9144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772400" y="6049800"/>
            <a:ext cx="1066680" cy="5814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" descr=""/>
          <p:cNvPicPr/>
          <p:nvPr/>
        </p:nvPicPr>
        <p:blipFill>
          <a:blip r:embed="rId1"/>
          <a:srcRect l="26564" t="35419" r="25782" b="26042"/>
          <a:stretch/>
        </p:blipFill>
        <p:spPr>
          <a:xfrm>
            <a:off x="152280" y="1197000"/>
            <a:ext cx="8763120" cy="4898880"/>
          </a:xfrm>
          <a:prstGeom prst="rect">
            <a:avLst/>
          </a:prstGeom>
          <a:ln w="0">
            <a:noFill/>
          </a:ln>
        </p:spPr>
      </p:pic>
      <p:sp>
        <p:nvSpPr>
          <p:cNvPr id="1142" name=""/>
          <p:cNvSpPr/>
          <p:nvPr/>
        </p:nvSpPr>
        <p:spPr>
          <a:xfrm>
            <a:off x="952560" y="1752480"/>
            <a:ext cx="72388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You can now interpret your result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4113720" y="228600"/>
            <a:ext cx="925920" cy="825480"/>
            <a:chOff x="4113720" y="228600"/>
            <a:chExt cx="925920" cy="825480"/>
          </a:xfrm>
        </p:grpSpPr>
        <p:pic>
          <p:nvPicPr>
            <p:cNvPr id="1144" name="" descr=""/>
            <p:cNvPicPr/>
            <p:nvPr/>
          </p:nvPicPr>
          <p:blipFill>
            <a:blip r:embed="rId2"/>
            <a:srcRect l="29182" t="5439" r="68186" b="91219"/>
            <a:stretch/>
          </p:blipFill>
          <p:spPr>
            <a:xfrm>
              <a:off x="4305240" y="380880"/>
              <a:ext cx="533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5" name=""/>
            <p:cNvSpPr/>
            <p:nvPr/>
          </p:nvSpPr>
          <p:spPr>
            <a:xfrm>
              <a:off x="4113720" y="228600"/>
              <a:ext cx="925920" cy="825480"/>
            </a:xfrm>
            <a:prstGeom prst="rect">
              <a:avLst/>
            </a:prstGeom>
            <a:solidFill>
              <a:srgbClr val="66ffff">
                <a:alpha val="4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c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2895480" y="6019920"/>
            <a:ext cx="6096240" cy="520560"/>
            <a:chOff x="2895480" y="6019920"/>
            <a:chExt cx="6096240" cy="520560"/>
          </a:xfrm>
        </p:grpSpPr>
        <p:sp>
          <p:nvSpPr>
            <p:cNvPr id="1147" name=""/>
            <p:cNvSpPr/>
            <p:nvPr/>
          </p:nvSpPr>
          <p:spPr>
            <a:xfrm>
              <a:off x="2895480" y="6324480"/>
              <a:ext cx="6096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80680" y="6019920"/>
              <a:ext cx="5254200" cy="520560"/>
            </a:xfrm>
            <a:prstGeom prst="rect">
              <a:avLst/>
            </a:prstGeom>
            <a:gradFill rotWithShape="0">
              <a:gsLst>
                <a:gs pos="0">
                  <a:srgbClr val="53d2df"/>
                </a:gs>
                <a:gs pos="50000">
                  <a:srgbClr val="fefefe"/>
                </a:gs>
                <a:gs pos="100000">
                  <a:srgbClr val="53d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cerned about the y intercept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0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068640" y="76320"/>
            <a:ext cx="3003840" cy="1298160"/>
            <a:chOff x="3068640" y="76320"/>
            <a:chExt cx="3003840" cy="1298160"/>
          </a:xfrm>
        </p:grpSpPr>
        <p:sp>
          <p:nvSpPr>
            <p:cNvPr id="94" name=""/>
            <p:cNvSpPr/>
            <p:nvPr/>
          </p:nvSpPr>
          <p:spPr>
            <a:xfrm>
              <a:off x="3068640" y="183240"/>
              <a:ext cx="761760" cy="1191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74040" y="76320"/>
              <a:ext cx="299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95360" y="3124080"/>
            <a:ext cx="86868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 chart that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portrays the relationshi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between the two varia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680" y="25909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Scatter Diagram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360" y="1325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101"/>
                </a:solidFill>
                <a:latin typeface="Times New Roman"/>
              </a:rPr>
              <a:t>Correlation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960" y="1828800"/>
            <a:ext cx="83818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group of statistical techniq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sed to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measure th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rength of the associ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tween two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680" y="38638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ependent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4397400"/>
            <a:ext cx="8762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ariable be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edic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tima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3960" y="5425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provides the basis for estimation.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the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 predictor variable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680" y="501336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Independent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57200" y="6154560"/>
            <a:ext cx="8305920" cy="474840"/>
            <a:chOff x="457200" y="6154560"/>
            <a:chExt cx="8305920" cy="474840"/>
          </a:xfrm>
        </p:grpSpPr>
        <p:sp>
          <p:nvSpPr>
            <p:cNvPr id="105" name=""/>
            <p:cNvSpPr/>
            <p:nvPr/>
          </p:nvSpPr>
          <p:spPr>
            <a:xfrm>
              <a:off x="457200" y="6324480"/>
              <a:ext cx="8305920" cy="763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99"/>
                </a:gs>
                <a:gs pos="100000">
                  <a:srgbClr val="fefefe"/>
                </a:gs>
              </a:gsLst>
              <a:lin ang="81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67080" y="6154560"/>
              <a:ext cx="533520" cy="47484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9db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7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7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7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7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20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9" name="" descr=""/>
          <p:cNvPicPr/>
          <p:nvPr/>
        </p:nvPicPr>
        <p:blipFill>
          <a:blip r:embed="rId1"/>
          <a:srcRect l="26564" t="35419" r="25782" b="27086"/>
          <a:stretch/>
        </p:blipFill>
        <p:spPr>
          <a:xfrm>
            <a:off x="152280" y="2941560"/>
            <a:ext cx="6248520" cy="3687840"/>
          </a:xfrm>
          <a:prstGeom prst="rect">
            <a:avLst/>
          </a:prstGeom>
          <a:ln w="0">
            <a:noFill/>
          </a:ln>
        </p:spPr>
      </p:pic>
      <p:pic>
        <p:nvPicPr>
          <p:cNvPr id="1150" name="" descr=""/>
          <p:cNvPicPr/>
          <p:nvPr/>
        </p:nvPicPr>
        <p:blipFill>
          <a:blip r:embed="rId2"/>
          <a:srcRect l="26564" t="35419" r="25782" b="26042"/>
          <a:stretch/>
        </p:blipFill>
        <p:spPr>
          <a:xfrm>
            <a:off x="1828800" y="76320"/>
            <a:ext cx="5410080" cy="3024000"/>
          </a:xfrm>
          <a:prstGeom prst="rect">
            <a:avLst/>
          </a:prstGeom>
          <a:ln w="0">
            <a:noFill/>
          </a:ln>
        </p:spPr>
      </p:pic>
      <p:grpSp>
        <p:nvGrpSpPr>
          <p:cNvPr id="1151" name=""/>
          <p:cNvGrpSpPr/>
          <p:nvPr/>
        </p:nvGrpSpPr>
        <p:grpSpPr>
          <a:xfrm>
            <a:off x="4419720" y="5937120"/>
            <a:ext cx="4647960" cy="520560"/>
            <a:chOff x="4419720" y="5937120"/>
            <a:chExt cx="4647960" cy="520560"/>
          </a:xfrm>
        </p:grpSpPr>
        <p:sp>
          <p:nvSpPr>
            <p:cNvPr id="1152" name=""/>
            <p:cNvSpPr/>
            <p:nvPr/>
          </p:nvSpPr>
          <p:spPr>
            <a:xfrm>
              <a:off x="4419720" y="6248520"/>
              <a:ext cx="46479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07440" y="5937120"/>
              <a:ext cx="2977200" cy="520560"/>
            </a:xfrm>
            <a:prstGeom prst="rect">
              <a:avLst/>
            </a:prstGeom>
            <a:gradFill rotWithShape="0">
              <a:gsLst>
                <a:gs pos="0">
                  <a:srgbClr val="53d2df"/>
                </a:gs>
                <a:gs pos="50000">
                  <a:srgbClr val="fefefe"/>
                </a:gs>
                <a:gs pos="100000">
                  <a:srgbClr val="53d2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lternate Sol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2209680" y="533520"/>
            <a:ext cx="914400" cy="7617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33520" y="3276720"/>
            <a:ext cx="914400" cy="7617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943600" y="2076480"/>
            <a:ext cx="2971800" cy="2268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ormat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the axe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Resulted in …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a distortion of the             y-inter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cover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" descr=""/>
          <p:cNvPicPr/>
          <p:nvPr/>
        </p:nvPicPr>
        <p:blipFill>
          <a:blip r:embed="rId1"/>
          <a:srcRect l="41408" t="53128" r="20315" b="22917"/>
          <a:stretch/>
        </p:blipFill>
        <p:spPr>
          <a:xfrm>
            <a:off x="1828800" y="1306440"/>
            <a:ext cx="5410080" cy="4713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</p:pic>
      <p:grpSp>
        <p:nvGrpSpPr>
          <p:cNvPr id="1158" name=""/>
          <p:cNvGrpSpPr/>
          <p:nvPr/>
        </p:nvGrpSpPr>
        <p:grpSpPr>
          <a:xfrm>
            <a:off x="4113720" y="228600"/>
            <a:ext cx="925920" cy="825480"/>
            <a:chOff x="4113720" y="228600"/>
            <a:chExt cx="925920" cy="825480"/>
          </a:xfrm>
        </p:grpSpPr>
        <p:pic>
          <p:nvPicPr>
            <p:cNvPr id="1159" name="" descr=""/>
            <p:cNvPicPr/>
            <p:nvPr/>
          </p:nvPicPr>
          <p:blipFill>
            <a:blip r:embed="rId2"/>
            <a:srcRect l="29182" t="5439" r="68186" b="91219"/>
            <a:stretch/>
          </p:blipFill>
          <p:spPr>
            <a:xfrm>
              <a:off x="4305240" y="380880"/>
              <a:ext cx="533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"/>
            <p:cNvSpPr/>
            <p:nvPr/>
          </p:nvSpPr>
          <p:spPr>
            <a:xfrm>
              <a:off x="4113720" y="228600"/>
              <a:ext cx="925920" cy="825480"/>
            </a:xfrm>
            <a:prstGeom prst="rect">
              <a:avLst/>
            </a:prstGeom>
            <a:solidFill>
              <a:srgbClr val="66ffff">
                <a:alpha val="4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c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2438280" y="1685880"/>
            <a:ext cx="4267440" cy="3419640"/>
            <a:chOff x="2438280" y="1685880"/>
            <a:chExt cx="4267440" cy="3419640"/>
          </a:xfrm>
        </p:grpSpPr>
        <p:sp>
          <p:nvSpPr>
            <p:cNvPr id="1162" name=""/>
            <p:cNvSpPr txBox="1"/>
            <p:nvPr/>
          </p:nvSpPr>
          <p:spPr>
            <a:xfrm>
              <a:off x="3473280" y="1685880"/>
              <a:ext cx="2195640" cy="17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ff3300">
                        <a:alpha val="50000"/>
                      </a:srgbClr>
                    </a:outerShdw>
                  </a:effectLst>
                  <a:latin typeface="Times New Roman"/>
                </a:rPr>
                <a:t>Dat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ff3300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ff3300">
                        <a:alpha val="50000"/>
                      </a:srgbClr>
                    </a:outerShdw>
                  </a:effectLst>
                  <a:latin typeface="Times New Roman"/>
                </a:rPr>
                <a:t>Analysi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ff3300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63" name=""/>
            <p:cNvSpPr txBox="1"/>
            <p:nvPr/>
          </p:nvSpPr>
          <p:spPr>
            <a:xfrm>
              <a:off x="2438280" y="3581280"/>
              <a:ext cx="4267440" cy="152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ff3300">
                        <a:alpha val="50000"/>
                      </a:srgbClr>
                    </a:outerShdw>
                  </a:effectLst>
                  <a:latin typeface="Times New Roman"/>
                </a:rPr>
                <a:t>for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ff3300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ff3300">
                        <a:alpha val="50000"/>
                      </a:srgbClr>
                    </a:outerShdw>
                  </a:effectLst>
                  <a:latin typeface="Times New Roman"/>
                </a:rPr>
                <a:t>Linear Regression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ff3300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>
    <p:dissolve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5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"/>
          <p:cNvGrpSpPr/>
          <p:nvPr/>
        </p:nvGrpSpPr>
        <p:grpSpPr>
          <a:xfrm>
            <a:off x="4113720" y="228600"/>
            <a:ext cx="925920" cy="825480"/>
            <a:chOff x="4113720" y="228600"/>
            <a:chExt cx="925920" cy="825480"/>
          </a:xfrm>
        </p:grpSpPr>
        <p:pic>
          <p:nvPicPr>
            <p:cNvPr id="1165" name="" descr=""/>
            <p:cNvPicPr/>
            <p:nvPr/>
          </p:nvPicPr>
          <p:blipFill>
            <a:blip r:embed="rId1"/>
            <a:srcRect l="29182" t="5439" r="68186" b="91219"/>
            <a:stretch/>
          </p:blipFill>
          <p:spPr>
            <a:xfrm>
              <a:off x="4305240" y="380880"/>
              <a:ext cx="533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6" name=""/>
            <p:cNvSpPr/>
            <p:nvPr/>
          </p:nvSpPr>
          <p:spPr>
            <a:xfrm>
              <a:off x="4113720" y="228600"/>
              <a:ext cx="925920" cy="825480"/>
            </a:xfrm>
            <a:prstGeom prst="rect">
              <a:avLst/>
            </a:prstGeom>
            <a:solidFill>
              <a:srgbClr val="66ffff">
                <a:alpha val="4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c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3507840" y="2438280"/>
            <a:ext cx="4053240" cy="3656160"/>
            <a:chOff x="3507840" y="2438280"/>
            <a:chExt cx="4053240" cy="3656160"/>
          </a:xfrm>
        </p:grpSpPr>
        <p:sp>
          <p:nvSpPr>
            <p:cNvPr id="1168" name=""/>
            <p:cNvSpPr/>
            <p:nvPr/>
          </p:nvSpPr>
          <p:spPr>
            <a:xfrm>
              <a:off x="3507840" y="2557440"/>
              <a:ext cx="768960" cy="581400"/>
            </a:xfrm>
            <a:prstGeom prst="rect">
              <a:avLst/>
            </a:prstGeom>
            <a:solidFill>
              <a:srgbClr val="fcfeda"/>
            </a:solidFill>
            <a:ln w="0">
              <a:noFill/>
            </a:ln>
            <a:effectLst>
              <a:outerShdw dist="134955" dir="78728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S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9" name="" descr=""/>
            <p:cNvPicPr/>
            <p:nvPr/>
          </p:nvPicPr>
          <p:blipFill>
            <a:blip r:embed="rId2"/>
            <a:srcRect l="24513" t="14666" r="58004" b="55339"/>
            <a:stretch/>
          </p:blipFill>
          <p:spPr>
            <a:xfrm>
              <a:off x="4291560" y="2438280"/>
              <a:ext cx="3269520" cy="365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0" name="" descr=""/>
          <p:cNvPicPr/>
          <p:nvPr/>
        </p:nvPicPr>
        <p:blipFill>
          <a:blip r:embed="rId3"/>
          <a:srcRect l="0" t="50035" r="0" b="24931"/>
          <a:stretch/>
        </p:blipFill>
        <p:spPr>
          <a:xfrm>
            <a:off x="606600" y="1749600"/>
            <a:ext cx="7924680" cy="688680"/>
          </a:xfrm>
          <a:prstGeom prst="rect">
            <a:avLst/>
          </a:prstGeom>
          <a:ln w="0">
            <a:noFill/>
          </a:ln>
        </p:spPr>
      </p:pic>
      <p:grpSp>
        <p:nvGrpSpPr>
          <p:cNvPr id="1171" name=""/>
          <p:cNvGrpSpPr/>
          <p:nvPr/>
        </p:nvGrpSpPr>
        <p:grpSpPr>
          <a:xfrm>
            <a:off x="4572000" y="702000"/>
            <a:ext cx="3432600" cy="1692000"/>
            <a:chOff x="4572000" y="702000"/>
            <a:chExt cx="3432600" cy="1692000"/>
          </a:xfrm>
        </p:grpSpPr>
        <p:sp>
          <p:nvSpPr>
            <p:cNvPr id="1172" name=""/>
            <p:cNvSpPr/>
            <p:nvPr/>
          </p:nvSpPr>
          <p:spPr>
            <a:xfrm>
              <a:off x="4572000" y="1822320"/>
              <a:ext cx="1046160" cy="57168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20485800">
              <a:off x="5609520" y="1066320"/>
              <a:ext cx="237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on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Too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4" name="" descr=""/>
            <p:cNvPicPr/>
            <p:nvPr/>
          </p:nvPicPr>
          <p:blipFill>
            <a:blip r:embed="rId4"/>
            <a:srcRect l="18768" t="2318" r="77500" b="94576"/>
            <a:stretch/>
          </p:blipFill>
          <p:spPr>
            <a:xfrm>
              <a:off x="4647960" y="1863720"/>
              <a:ext cx="909720" cy="45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5" name=""/>
          <p:cNvGrpSpPr/>
          <p:nvPr/>
        </p:nvGrpSpPr>
        <p:grpSpPr>
          <a:xfrm>
            <a:off x="942840" y="4495680"/>
            <a:ext cx="6676560" cy="1634400"/>
            <a:chOff x="942840" y="4495680"/>
            <a:chExt cx="6676560" cy="1634400"/>
          </a:xfrm>
        </p:grpSpPr>
        <p:sp>
          <p:nvSpPr>
            <p:cNvPr id="1176" name=""/>
            <p:cNvSpPr/>
            <p:nvPr/>
          </p:nvSpPr>
          <p:spPr>
            <a:xfrm>
              <a:off x="942840" y="4495680"/>
              <a:ext cx="3188880" cy="947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on               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DATA ANALY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7" name="" descr=""/>
            <p:cNvPicPr/>
            <p:nvPr/>
          </p:nvPicPr>
          <p:blipFill>
            <a:blip r:embed="rId6"/>
            <a:srcRect l="24753" t="37504" r="58269" b="55434"/>
            <a:stretch/>
          </p:blipFill>
          <p:spPr>
            <a:xfrm>
              <a:off x="4295520" y="5203800"/>
              <a:ext cx="3323880" cy="92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8" name=""/>
          <p:cNvSpPr/>
          <p:nvPr/>
        </p:nvSpPr>
        <p:spPr>
          <a:xfrm>
            <a:off x="7772400" y="6049800"/>
            <a:ext cx="1066680" cy="5814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9" name="" descr=""/>
          <p:cNvPicPr/>
          <p:nvPr/>
        </p:nvPicPr>
        <p:blipFill>
          <a:blip r:embed="rId1"/>
          <a:srcRect l="41408" t="53128" r="20315" b="22917"/>
          <a:stretch/>
        </p:blipFill>
        <p:spPr>
          <a:xfrm>
            <a:off x="457200" y="1219320"/>
            <a:ext cx="8229600" cy="487656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684360" y="5491080"/>
            <a:ext cx="42685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ighligh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5105520"/>
            <a:ext cx="2514600" cy="304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4113720" y="228600"/>
            <a:ext cx="925920" cy="825480"/>
            <a:chOff x="4113720" y="228600"/>
            <a:chExt cx="925920" cy="825480"/>
          </a:xfrm>
        </p:grpSpPr>
        <p:pic>
          <p:nvPicPr>
            <p:cNvPr id="1183" name="" descr=""/>
            <p:cNvPicPr/>
            <p:nvPr/>
          </p:nvPicPr>
          <p:blipFill>
            <a:blip r:embed="rId2"/>
            <a:srcRect l="29182" t="5439" r="68186" b="91219"/>
            <a:stretch/>
          </p:blipFill>
          <p:spPr>
            <a:xfrm>
              <a:off x="4305240" y="380880"/>
              <a:ext cx="533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4" name=""/>
            <p:cNvSpPr/>
            <p:nvPr/>
          </p:nvSpPr>
          <p:spPr>
            <a:xfrm>
              <a:off x="4113720" y="228600"/>
              <a:ext cx="925920" cy="825480"/>
            </a:xfrm>
            <a:prstGeom prst="rect">
              <a:avLst/>
            </a:prstGeom>
            <a:solidFill>
              <a:srgbClr val="66ffff">
                <a:alpha val="4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c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7772400" y="6049800"/>
            <a:ext cx="1066680" cy="5814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786360" y="1600200"/>
            <a:ext cx="1732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0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" descr=""/>
          <p:cNvPicPr/>
          <p:nvPr/>
        </p:nvPicPr>
        <p:blipFill>
          <a:blip r:embed="rId1"/>
          <a:srcRect l="40625" t="41670" r="20315" b="14584"/>
          <a:stretch/>
        </p:blipFill>
        <p:spPr>
          <a:xfrm>
            <a:off x="1295280" y="1066680"/>
            <a:ext cx="6553440" cy="5505480"/>
          </a:xfrm>
          <a:prstGeom prst="rect">
            <a:avLst/>
          </a:prstGeom>
          <a:ln w="0">
            <a:noFill/>
          </a:ln>
        </p:spPr>
      </p:pic>
      <p:sp>
        <p:nvSpPr>
          <p:cNvPr id="1188" name=""/>
          <p:cNvSpPr/>
          <p:nvPr/>
        </p:nvSpPr>
        <p:spPr>
          <a:xfrm>
            <a:off x="3424680" y="1143000"/>
            <a:ext cx="229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PUT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447920" y="2666880"/>
            <a:ext cx="1066680" cy="38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114800" y="4191120"/>
            <a:ext cx="1981080" cy="457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4038480" y="1676520"/>
            <a:ext cx="2057400" cy="838080"/>
            <a:chOff x="4038480" y="1676520"/>
            <a:chExt cx="2057400" cy="838080"/>
          </a:xfrm>
        </p:grpSpPr>
        <p:sp>
          <p:nvSpPr>
            <p:cNvPr id="1192" name=""/>
            <p:cNvSpPr/>
            <p:nvPr/>
          </p:nvSpPr>
          <p:spPr>
            <a:xfrm>
              <a:off x="4038480" y="1676520"/>
              <a:ext cx="2057400" cy="304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038480" y="2209680"/>
              <a:ext cx="2057400" cy="3049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4113720" y="228600"/>
            <a:ext cx="925920" cy="825480"/>
            <a:chOff x="4113720" y="228600"/>
            <a:chExt cx="925920" cy="825480"/>
          </a:xfrm>
        </p:grpSpPr>
        <p:pic>
          <p:nvPicPr>
            <p:cNvPr id="1195" name="" descr=""/>
            <p:cNvPicPr/>
            <p:nvPr/>
          </p:nvPicPr>
          <p:blipFill>
            <a:blip r:embed="rId2"/>
            <a:srcRect l="29182" t="5439" r="68186" b="91219"/>
            <a:stretch/>
          </p:blipFill>
          <p:spPr>
            <a:xfrm>
              <a:off x="4305240" y="380880"/>
              <a:ext cx="533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>
              <a:off x="4113720" y="228600"/>
              <a:ext cx="925920" cy="825480"/>
            </a:xfrm>
            <a:prstGeom prst="rect">
              <a:avLst/>
            </a:prstGeom>
            <a:solidFill>
              <a:srgbClr val="66ffff">
                <a:alpha val="4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c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7772400" y="6049800"/>
            <a:ext cx="1066680" cy="5814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329160" y="990720"/>
            <a:ext cx="1732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7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" descr=""/>
          <p:cNvPicPr/>
          <p:nvPr/>
        </p:nvPicPr>
        <p:blipFill>
          <a:blip r:embed="rId1"/>
          <a:srcRect l="0" t="14584" r="36720" b="31250"/>
          <a:stretch/>
        </p:blipFill>
        <p:spPr>
          <a:xfrm>
            <a:off x="457200" y="1166760"/>
            <a:ext cx="8153280" cy="5462640"/>
          </a:xfrm>
          <a:prstGeom prst="rect">
            <a:avLst/>
          </a:prstGeom>
          <a:ln w="0">
            <a:noFill/>
          </a:ln>
        </p:spPr>
      </p:pic>
      <p:grpSp>
        <p:nvGrpSpPr>
          <p:cNvPr id="1200" name=""/>
          <p:cNvGrpSpPr/>
          <p:nvPr/>
        </p:nvGrpSpPr>
        <p:grpSpPr>
          <a:xfrm>
            <a:off x="4113720" y="228600"/>
            <a:ext cx="925920" cy="825480"/>
            <a:chOff x="4113720" y="228600"/>
            <a:chExt cx="925920" cy="825480"/>
          </a:xfrm>
        </p:grpSpPr>
        <p:pic>
          <p:nvPicPr>
            <p:cNvPr id="1201" name="" descr=""/>
            <p:cNvPicPr/>
            <p:nvPr/>
          </p:nvPicPr>
          <p:blipFill>
            <a:blip r:embed="rId2"/>
            <a:srcRect l="29182" t="5439" r="68186" b="91219"/>
            <a:stretch/>
          </p:blipFill>
          <p:spPr>
            <a:xfrm>
              <a:off x="4305240" y="380880"/>
              <a:ext cx="533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2" name=""/>
            <p:cNvSpPr/>
            <p:nvPr/>
          </p:nvSpPr>
          <p:spPr>
            <a:xfrm>
              <a:off x="4113720" y="228600"/>
              <a:ext cx="925920" cy="825480"/>
            </a:xfrm>
            <a:prstGeom prst="rect">
              <a:avLst/>
            </a:prstGeom>
            <a:solidFill>
              <a:srgbClr val="66ffff">
                <a:alpha val="4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c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7772400" y="6049800"/>
            <a:ext cx="1066680" cy="5814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" descr=""/>
          <p:cNvPicPr/>
          <p:nvPr/>
        </p:nvPicPr>
        <p:blipFill>
          <a:blip r:embed="rId1"/>
          <a:srcRect l="0" t="0" r="37502" b="40626"/>
          <a:stretch/>
        </p:blipFill>
        <p:spPr>
          <a:xfrm>
            <a:off x="304920" y="1143000"/>
            <a:ext cx="8534160" cy="548316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533520" y="5867280"/>
            <a:ext cx="3047760" cy="6858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038480" y="2743200"/>
            <a:ext cx="42674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regression equation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- 0.07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+22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4113720" y="228600"/>
            <a:ext cx="925920" cy="825480"/>
            <a:chOff x="4113720" y="228600"/>
            <a:chExt cx="925920" cy="825480"/>
          </a:xfrm>
        </p:grpSpPr>
        <p:pic>
          <p:nvPicPr>
            <p:cNvPr id="1208" name="" descr=""/>
            <p:cNvPicPr/>
            <p:nvPr/>
          </p:nvPicPr>
          <p:blipFill>
            <a:blip r:embed="rId2"/>
            <a:srcRect l="29182" t="5439" r="68186" b="91219"/>
            <a:stretch/>
          </p:blipFill>
          <p:spPr>
            <a:xfrm>
              <a:off x="4305240" y="380880"/>
              <a:ext cx="533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9" name=""/>
            <p:cNvSpPr/>
            <p:nvPr/>
          </p:nvSpPr>
          <p:spPr>
            <a:xfrm>
              <a:off x="4113720" y="228600"/>
              <a:ext cx="925920" cy="825480"/>
            </a:xfrm>
            <a:prstGeom prst="rect">
              <a:avLst/>
            </a:prstGeom>
            <a:solidFill>
              <a:srgbClr val="66ffff">
                <a:alpha val="4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c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"/>
                            </p:stCondLst>
                            <p:childTnLst>
                              <p:par>
                                <p:cTn id="1082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"/>
          <p:cNvSpPr/>
          <p:nvPr/>
        </p:nvSpPr>
        <p:spPr>
          <a:xfrm>
            <a:off x="2009880" y="247680"/>
            <a:ext cx="5122800" cy="112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Error of Estim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12720" y="1447920"/>
            <a:ext cx="79185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his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Times New Roman"/>
              </a:rPr>
              <a:t>measures the scatter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, or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Times New Roman"/>
              </a:rPr>
              <a:t>disper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          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Times New Roman"/>
              </a:rPr>
              <a:t>of the observed valu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Times New Roman"/>
              </a:rPr>
              <a:t>around the line of 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14440" y="2819520"/>
            <a:ext cx="81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ormulas that are used to compute the standard error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799720" y="5302080"/>
            <a:ext cx="354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5" name=""/>
          <p:cNvGrpSpPr/>
          <p:nvPr/>
        </p:nvGrpSpPr>
        <p:grpSpPr>
          <a:xfrm>
            <a:off x="2133720" y="3835440"/>
            <a:ext cx="1020240" cy="660600"/>
            <a:chOff x="2133720" y="3835440"/>
            <a:chExt cx="1020240" cy="660600"/>
          </a:xfrm>
        </p:grpSpPr>
        <p:sp>
          <p:nvSpPr>
            <p:cNvPr id="1216" name=""/>
            <p:cNvSpPr/>
            <p:nvPr/>
          </p:nvSpPr>
          <p:spPr>
            <a:xfrm>
              <a:off x="2799720" y="3835440"/>
              <a:ext cx="3542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133720" y="3886200"/>
              <a:ext cx="247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438640" y="411480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3159000" y="4933800"/>
            <a:ext cx="4079880" cy="1315080"/>
            <a:chOff x="3159000" y="4933800"/>
            <a:chExt cx="4079880" cy="1315080"/>
          </a:xfrm>
        </p:grpSpPr>
        <p:sp>
          <p:nvSpPr>
            <p:cNvPr id="1220" name=""/>
            <p:cNvSpPr/>
            <p:nvPr/>
          </p:nvSpPr>
          <p:spPr>
            <a:xfrm>
              <a:off x="3579840" y="5648400"/>
              <a:ext cx="36129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336840" y="5697360"/>
              <a:ext cx="81000" cy="4446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3429000" y="4933800"/>
              <a:ext cx="115920" cy="1208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544920" y="4933800"/>
              <a:ext cx="36939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21120" y="5715000"/>
              <a:ext cx="223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295880" y="499284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464440" y="5662440"/>
              <a:ext cx="148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446520" y="5024520"/>
              <a:ext cx="2642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945400" y="5024520"/>
              <a:ext cx="148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181120" y="5037120"/>
              <a:ext cx="2642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16720" y="5024520"/>
              <a:ext cx="148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758760" y="5024520"/>
              <a:ext cx="2642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043600" y="5715000"/>
              <a:ext cx="247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731640" y="5076720"/>
              <a:ext cx="421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68600" y="5076720"/>
              <a:ext cx="223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483880" y="5076720"/>
              <a:ext cx="19872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954320" y="5076720"/>
              <a:ext cx="223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010760" y="5076720"/>
              <a:ext cx="19872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>
              <a:off x="3159000" y="5722920"/>
              <a:ext cx="15264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3200040" y="3460680"/>
            <a:ext cx="2465280" cy="1313280"/>
            <a:chOff x="3200040" y="3460680"/>
            <a:chExt cx="2465280" cy="1313280"/>
          </a:xfrm>
        </p:grpSpPr>
        <p:sp>
          <p:nvSpPr>
            <p:cNvPr id="1240" name=""/>
            <p:cNvSpPr/>
            <p:nvPr/>
          </p:nvSpPr>
          <p:spPr>
            <a:xfrm>
              <a:off x="3620880" y="4175280"/>
              <a:ext cx="19983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377880" y="4224240"/>
              <a:ext cx="80640" cy="4446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3470040" y="3460680"/>
              <a:ext cx="115560" cy="1208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585960" y="3460680"/>
              <a:ext cx="20793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999680" y="4240080"/>
              <a:ext cx="223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145840" y="3603600"/>
              <a:ext cx="148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031280" y="3603600"/>
              <a:ext cx="148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299920" y="351936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97280" y="4187880"/>
              <a:ext cx="148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657320" y="3551400"/>
              <a:ext cx="148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742560" y="3637080"/>
              <a:ext cx="2642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276440" y="4240080"/>
              <a:ext cx="247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893120" y="3603600"/>
              <a:ext cx="19872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196160" y="3603600"/>
              <a:ext cx="19872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3200040" y="4267080"/>
              <a:ext cx="152280" cy="76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4917960" y="3657240"/>
              <a:ext cx="185040" cy="65160"/>
              <a:chOff x="4917960" y="3657240"/>
              <a:chExt cx="185040" cy="65160"/>
            </a:xfrm>
          </p:grpSpPr>
          <p:sp>
            <p:nvSpPr>
              <p:cNvPr id="1256" name=""/>
              <p:cNvSpPr/>
              <p:nvPr/>
            </p:nvSpPr>
            <p:spPr>
              <a:xfrm flipV="1">
                <a:off x="4917960" y="3657240"/>
                <a:ext cx="9288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 flipV="1">
                <a:off x="5010480" y="3657240"/>
                <a:ext cx="9252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in" orient="vert"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387360" y="3173400"/>
            <a:ext cx="858852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009880" y="247680"/>
            <a:ext cx="5122800" cy="112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Error of Estim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19040" y="1371600"/>
            <a:ext cx="8305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tandard error of estim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the problem involving the number of pages in a book and the selling pr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2106000" y="5799240"/>
            <a:ext cx="2085120" cy="605520"/>
            <a:chOff x="2106000" y="5799240"/>
            <a:chExt cx="2085120" cy="605520"/>
          </a:xfrm>
        </p:grpSpPr>
        <p:sp>
          <p:nvSpPr>
            <p:cNvPr id="1262" name=""/>
            <p:cNvSpPr/>
            <p:nvPr/>
          </p:nvSpPr>
          <p:spPr>
            <a:xfrm>
              <a:off x="2666880" y="5916960"/>
              <a:ext cx="1524240" cy="487800"/>
            </a:xfrm>
            <a:prstGeom prst="rect">
              <a:avLst/>
            </a:prstGeom>
            <a:solidFill>
              <a:srgbClr val="fbe7db"/>
            </a:solidFill>
            <a:ln w="0">
              <a:noFill/>
            </a:ln>
            <a:effectLst>
              <a:outerShdw dist="125751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0.40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106000" y="579924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4" name=""/>
          <p:cNvGrpSpPr/>
          <p:nvPr/>
        </p:nvGrpSpPr>
        <p:grpSpPr>
          <a:xfrm>
            <a:off x="2106000" y="4668840"/>
            <a:ext cx="6276960" cy="1108440"/>
            <a:chOff x="2106000" y="4668840"/>
            <a:chExt cx="6276960" cy="1108440"/>
          </a:xfrm>
        </p:grpSpPr>
        <p:sp>
          <p:nvSpPr>
            <p:cNvPr id="1265" name=""/>
            <p:cNvSpPr/>
            <p:nvPr/>
          </p:nvSpPr>
          <p:spPr>
            <a:xfrm>
              <a:off x="2614680" y="5230800"/>
              <a:ext cx="5638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2367000" y="5298840"/>
              <a:ext cx="475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414520" y="5308560"/>
              <a:ext cx="66600" cy="36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490840" y="4674960"/>
              <a:ext cx="95040" cy="100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585880" y="4674960"/>
              <a:ext cx="5704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664960" y="52894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144400" y="52894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246520" y="471492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662600" y="4714920"/>
              <a:ext cx="613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574760" y="471492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992640" y="4714920"/>
              <a:ext cx="613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9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874920" y="471492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847120" y="4714920"/>
              <a:ext cx="1021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514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78000" y="471492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583960" y="47149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126760" y="471492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543200" y="4714920"/>
              <a:ext cx="613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63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426920" y="471492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043520" y="471492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133440" y="4714920"/>
              <a:ext cx="613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60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052080" y="471492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698920" y="471492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5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472720" y="52434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398200" y="466884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856680" y="466884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106000" y="492588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2133720" y="2286000"/>
            <a:ext cx="6553080" cy="932760"/>
            <a:chOff x="2133720" y="2286000"/>
            <a:chExt cx="6553080" cy="932760"/>
          </a:xfrm>
        </p:grpSpPr>
        <p:grpSp>
          <p:nvGrpSpPr>
            <p:cNvPr id="1292" name=""/>
            <p:cNvGrpSpPr/>
            <p:nvPr/>
          </p:nvGrpSpPr>
          <p:grpSpPr>
            <a:xfrm>
              <a:off x="2133720" y="2301840"/>
              <a:ext cx="6553080" cy="916920"/>
              <a:chOff x="2133720" y="2301840"/>
              <a:chExt cx="6553080" cy="916920"/>
            </a:xfrm>
          </p:grpSpPr>
          <p:sp>
            <p:nvSpPr>
              <p:cNvPr id="1293" name=""/>
              <p:cNvSpPr/>
              <p:nvPr/>
            </p:nvSpPr>
            <p:spPr>
              <a:xfrm>
                <a:off x="2433600" y="2301840"/>
                <a:ext cx="625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y</a:t>
                </a: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y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</a:t>
                </a:r>
                <a:r>
                  <a:rPr b="1" i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 baseline="30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</a:t>
                </a:r>
                <a:r>
                  <a:rPr b="1" i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y</a:t>
                </a:r>
                <a:r>
                  <a:rPr b="1" lang="en-US" sz="2400" spc="-1" strike="noStrike" baseline="30000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2133720" y="2759040"/>
                <a:ext cx="655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16002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0000ff"/>
                    </a:solidFill>
                    <a:uFillTx/>
                    <a:latin typeface="Times New Roman"/>
                  </a:rPr>
                  <a:t>4 900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       </a:t>
                </a:r>
                <a:r>
                  <a:rPr b="1" lang="en-US" sz="2400" spc="-1" strike="noStrike" u="sng">
                    <a:solidFill>
                      <a:srgbClr val="ff3300"/>
                    </a:solidFill>
                    <a:uFillTx/>
                    <a:latin typeface="Times New Roman"/>
                  </a:rPr>
                  <a:t> 63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397 20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 u="sng">
                    <a:solidFill>
                      <a:srgbClr val="0000ff"/>
                    </a:solidFill>
                    <a:uFillTx/>
                    <a:latin typeface="Times New Roman"/>
                  </a:rPr>
                  <a:t>3 150 000</a:t>
                </a: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 u="sng">
                    <a:solidFill>
                      <a:srgbClr val="ff3300"/>
                    </a:solidFill>
                    <a:uFillTx/>
                    <a:latin typeface="Times New Roman"/>
                  </a:rPr>
                  <a:t>51 60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286000" y="2682720"/>
                <a:ext cx="633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2286000" y="2286000"/>
              <a:ext cx="5790240" cy="426960"/>
              <a:chOff x="2286000" y="2286000"/>
              <a:chExt cx="5790240" cy="426960"/>
            </a:xfrm>
          </p:grpSpPr>
          <p:sp>
            <p:nvSpPr>
              <p:cNvPr id="1297" name=""/>
              <p:cNvSpPr/>
              <p:nvPr/>
            </p:nvSpPr>
            <p:spPr>
              <a:xfrm>
                <a:off x="2286000" y="2286000"/>
                <a:ext cx="228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428640" y="2286000"/>
                <a:ext cx="228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724280" y="2286000"/>
                <a:ext cx="228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247800" y="2286000"/>
                <a:ext cx="228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848000" y="2286000"/>
                <a:ext cx="228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2" name=""/>
          <p:cNvSpPr/>
          <p:nvPr/>
        </p:nvSpPr>
        <p:spPr>
          <a:xfrm>
            <a:off x="304920" y="2514600"/>
            <a:ext cx="1656000" cy="459720"/>
          </a:xfrm>
          <a:prstGeom prst="rect">
            <a:avLst/>
          </a:prstGeom>
          <a:solidFill>
            <a:srgbClr val="fbe7db"/>
          </a:solid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ious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1447920" y="3733920"/>
            <a:ext cx="1020240" cy="660600"/>
            <a:chOff x="1447920" y="3733920"/>
            <a:chExt cx="1020240" cy="660600"/>
          </a:xfrm>
        </p:grpSpPr>
        <p:sp>
          <p:nvSpPr>
            <p:cNvPr id="1304" name=""/>
            <p:cNvSpPr/>
            <p:nvPr/>
          </p:nvSpPr>
          <p:spPr>
            <a:xfrm>
              <a:off x="2113920" y="3733920"/>
              <a:ext cx="3542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447920" y="3784680"/>
              <a:ext cx="247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752840" y="4013280"/>
              <a:ext cx="1407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2438280" y="3276360"/>
            <a:ext cx="4079880" cy="1315080"/>
            <a:chOff x="2438280" y="3276360"/>
            <a:chExt cx="4079880" cy="1315080"/>
          </a:xfrm>
        </p:grpSpPr>
        <p:sp>
          <p:nvSpPr>
            <p:cNvPr id="1308" name=""/>
            <p:cNvSpPr/>
            <p:nvPr/>
          </p:nvSpPr>
          <p:spPr>
            <a:xfrm>
              <a:off x="2859120" y="3990960"/>
              <a:ext cx="3612960" cy="1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616120" y="4039920"/>
              <a:ext cx="81000" cy="4442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2708280" y="3276360"/>
              <a:ext cx="115920" cy="1207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824200" y="3276720"/>
              <a:ext cx="369396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00400" y="4057560"/>
              <a:ext cx="223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575160" y="33354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743720" y="4005000"/>
              <a:ext cx="148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25800" y="3367080"/>
              <a:ext cx="2642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224680" y="3367080"/>
              <a:ext cx="148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460400" y="3379680"/>
              <a:ext cx="2642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996000" y="3367080"/>
              <a:ext cx="148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038040" y="3367080"/>
              <a:ext cx="2642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322880" y="4057560"/>
              <a:ext cx="247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010920" y="3419280"/>
              <a:ext cx="421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r>
                <a:rPr b="1" i="1" lang="en-US" sz="35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447880" y="3419280"/>
              <a:ext cx="223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763160" y="3419280"/>
              <a:ext cx="19872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233600" y="3419280"/>
              <a:ext cx="223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290040" y="3419280"/>
              <a:ext cx="19872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2438280" y="4065480"/>
              <a:ext cx="152640" cy="75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6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1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0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/>
          <p:nvPr/>
        </p:nvSpPr>
        <p:spPr>
          <a:xfrm>
            <a:off x="1781280" y="268200"/>
            <a:ext cx="5580000" cy="9511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efe">
                  <a:alpha val="60392"/>
                </a:srgbClr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umptions Underlying                           Linear Regr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57200" y="1295280"/>
            <a:ext cx="80773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 value of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there is a group of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values, and thes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ues are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normally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57200" y="2286000"/>
            <a:ext cx="82296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mea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these normal distributions of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 all lie on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aight line of reg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standard devi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these                                                                      normal distributions are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alues are statistically independent.                             This means that in the selection of a sample                                        th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 chosen for a particular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alue                                                                  do not depend on th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                                                     for any other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838080" y="2286000"/>
            <a:ext cx="74678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762120" y="6248520"/>
            <a:ext cx="7467120" cy="304200"/>
            <a:chOff x="762120" y="6248520"/>
            <a:chExt cx="7467120" cy="304200"/>
          </a:xfrm>
        </p:grpSpPr>
        <p:sp>
          <p:nvSpPr>
            <p:cNvPr id="1332" name=""/>
            <p:cNvSpPr/>
            <p:nvPr/>
          </p:nvSpPr>
          <p:spPr>
            <a:xfrm>
              <a:off x="762120" y="6326280"/>
              <a:ext cx="7467120" cy="78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3" name="" descr=""/>
            <p:cNvPicPr/>
            <p:nvPr/>
          </p:nvPicPr>
          <p:blipFill>
            <a:blip r:embed="rId2"/>
            <a:stretch/>
          </p:blipFill>
          <p:spPr>
            <a:xfrm>
              <a:off x="4401360" y="6248520"/>
              <a:ext cx="399960" cy="30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1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0" dur="500"/>
                                        <p:tgtEl>
                                          <p:spTgt spid="1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4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70040" y="1295280"/>
            <a:ext cx="6364440" cy="5220000"/>
          </a:xfrm>
          <a:custGeom>
            <a:avLst/>
            <a:gdLst/>
            <a:ahLst/>
            <a:rect l="l" t="t" r="r" b="b"/>
            <a:pathLst>
              <a:path w="3588" h="3588">
                <a:moveTo>
                  <a:pt x="2218" y="3250"/>
                </a:moveTo>
                <a:lnTo>
                  <a:pt x="2208" y="3255"/>
                </a:lnTo>
                <a:lnTo>
                  <a:pt x="2203" y="3260"/>
                </a:lnTo>
                <a:lnTo>
                  <a:pt x="2192" y="3265"/>
                </a:lnTo>
                <a:lnTo>
                  <a:pt x="2182" y="3270"/>
                </a:lnTo>
                <a:lnTo>
                  <a:pt x="2172" y="3276"/>
                </a:lnTo>
                <a:lnTo>
                  <a:pt x="2161" y="3286"/>
                </a:lnTo>
                <a:lnTo>
                  <a:pt x="2151" y="3291"/>
                </a:lnTo>
                <a:lnTo>
                  <a:pt x="2140" y="3302"/>
                </a:lnTo>
                <a:lnTo>
                  <a:pt x="2130" y="3312"/>
                </a:lnTo>
                <a:lnTo>
                  <a:pt x="2119" y="3322"/>
                </a:lnTo>
                <a:lnTo>
                  <a:pt x="2104" y="3333"/>
                </a:lnTo>
                <a:lnTo>
                  <a:pt x="2093" y="3343"/>
                </a:lnTo>
                <a:lnTo>
                  <a:pt x="2078" y="3354"/>
                </a:lnTo>
                <a:lnTo>
                  <a:pt x="2057" y="3364"/>
                </a:lnTo>
                <a:lnTo>
                  <a:pt x="2041" y="3380"/>
                </a:lnTo>
                <a:lnTo>
                  <a:pt x="2021" y="3390"/>
                </a:lnTo>
                <a:lnTo>
                  <a:pt x="2000" y="3401"/>
                </a:lnTo>
                <a:lnTo>
                  <a:pt x="1979" y="3411"/>
                </a:lnTo>
                <a:lnTo>
                  <a:pt x="1953" y="3427"/>
                </a:lnTo>
                <a:lnTo>
                  <a:pt x="1927" y="3437"/>
                </a:lnTo>
                <a:lnTo>
                  <a:pt x="1901" y="3447"/>
                </a:lnTo>
                <a:lnTo>
                  <a:pt x="1875" y="3463"/>
                </a:lnTo>
                <a:lnTo>
                  <a:pt x="1838" y="3473"/>
                </a:lnTo>
                <a:lnTo>
                  <a:pt x="1807" y="3484"/>
                </a:lnTo>
                <a:lnTo>
                  <a:pt x="1771" y="3494"/>
                </a:lnTo>
                <a:lnTo>
                  <a:pt x="1729" y="3505"/>
                </a:lnTo>
                <a:lnTo>
                  <a:pt x="1687" y="3510"/>
                </a:lnTo>
                <a:lnTo>
                  <a:pt x="1640" y="3520"/>
                </a:lnTo>
                <a:lnTo>
                  <a:pt x="1594" y="3531"/>
                </a:lnTo>
                <a:lnTo>
                  <a:pt x="1547" y="3536"/>
                </a:lnTo>
                <a:lnTo>
                  <a:pt x="1489" y="3546"/>
                </a:lnTo>
                <a:lnTo>
                  <a:pt x="1432" y="3552"/>
                </a:lnTo>
                <a:lnTo>
                  <a:pt x="1401" y="3552"/>
                </a:lnTo>
                <a:lnTo>
                  <a:pt x="1375" y="3552"/>
                </a:lnTo>
                <a:lnTo>
                  <a:pt x="1349" y="3552"/>
                </a:lnTo>
                <a:lnTo>
                  <a:pt x="1333" y="3552"/>
                </a:lnTo>
                <a:lnTo>
                  <a:pt x="1323" y="3546"/>
                </a:lnTo>
                <a:lnTo>
                  <a:pt x="1312" y="3541"/>
                </a:lnTo>
                <a:lnTo>
                  <a:pt x="1312" y="3536"/>
                </a:lnTo>
                <a:lnTo>
                  <a:pt x="1312" y="3531"/>
                </a:lnTo>
                <a:lnTo>
                  <a:pt x="1318" y="3520"/>
                </a:lnTo>
                <a:lnTo>
                  <a:pt x="1323" y="3510"/>
                </a:lnTo>
                <a:lnTo>
                  <a:pt x="1333" y="3499"/>
                </a:lnTo>
                <a:lnTo>
                  <a:pt x="1349" y="3489"/>
                </a:lnTo>
                <a:lnTo>
                  <a:pt x="1364" y="3479"/>
                </a:lnTo>
                <a:lnTo>
                  <a:pt x="1380" y="3468"/>
                </a:lnTo>
                <a:lnTo>
                  <a:pt x="1396" y="3458"/>
                </a:lnTo>
                <a:lnTo>
                  <a:pt x="1416" y="3442"/>
                </a:lnTo>
                <a:lnTo>
                  <a:pt x="1437" y="3432"/>
                </a:lnTo>
                <a:lnTo>
                  <a:pt x="1458" y="3421"/>
                </a:lnTo>
                <a:lnTo>
                  <a:pt x="1479" y="3406"/>
                </a:lnTo>
                <a:lnTo>
                  <a:pt x="1500" y="3395"/>
                </a:lnTo>
                <a:lnTo>
                  <a:pt x="1521" y="3385"/>
                </a:lnTo>
                <a:lnTo>
                  <a:pt x="1541" y="3374"/>
                </a:lnTo>
                <a:lnTo>
                  <a:pt x="1562" y="3359"/>
                </a:lnTo>
                <a:lnTo>
                  <a:pt x="1578" y="3348"/>
                </a:lnTo>
                <a:lnTo>
                  <a:pt x="1594" y="3343"/>
                </a:lnTo>
                <a:lnTo>
                  <a:pt x="1604" y="3333"/>
                </a:lnTo>
                <a:lnTo>
                  <a:pt x="1620" y="3322"/>
                </a:lnTo>
                <a:lnTo>
                  <a:pt x="1625" y="3317"/>
                </a:lnTo>
                <a:lnTo>
                  <a:pt x="1630" y="3312"/>
                </a:lnTo>
                <a:lnTo>
                  <a:pt x="1630" y="3307"/>
                </a:lnTo>
                <a:lnTo>
                  <a:pt x="1630" y="3302"/>
                </a:lnTo>
                <a:lnTo>
                  <a:pt x="1620" y="3302"/>
                </a:lnTo>
                <a:lnTo>
                  <a:pt x="1614" y="3302"/>
                </a:lnTo>
                <a:lnTo>
                  <a:pt x="1604" y="3302"/>
                </a:lnTo>
                <a:lnTo>
                  <a:pt x="1594" y="3302"/>
                </a:lnTo>
                <a:lnTo>
                  <a:pt x="1583" y="3307"/>
                </a:lnTo>
                <a:lnTo>
                  <a:pt x="1573" y="3307"/>
                </a:lnTo>
                <a:lnTo>
                  <a:pt x="1557" y="3312"/>
                </a:lnTo>
                <a:lnTo>
                  <a:pt x="1547" y="3317"/>
                </a:lnTo>
                <a:lnTo>
                  <a:pt x="1536" y="3322"/>
                </a:lnTo>
                <a:lnTo>
                  <a:pt x="1521" y="3328"/>
                </a:lnTo>
                <a:lnTo>
                  <a:pt x="1505" y="3328"/>
                </a:lnTo>
                <a:lnTo>
                  <a:pt x="1489" y="3333"/>
                </a:lnTo>
                <a:lnTo>
                  <a:pt x="1474" y="3338"/>
                </a:lnTo>
                <a:lnTo>
                  <a:pt x="1453" y="3343"/>
                </a:lnTo>
                <a:lnTo>
                  <a:pt x="1437" y="3348"/>
                </a:lnTo>
                <a:lnTo>
                  <a:pt x="1416" y="3354"/>
                </a:lnTo>
                <a:lnTo>
                  <a:pt x="1396" y="3359"/>
                </a:lnTo>
                <a:lnTo>
                  <a:pt x="1370" y="3359"/>
                </a:lnTo>
                <a:lnTo>
                  <a:pt x="1344" y="3364"/>
                </a:lnTo>
                <a:lnTo>
                  <a:pt x="1318" y="3364"/>
                </a:lnTo>
                <a:lnTo>
                  <a:pt x="1291" y="3369"/>
                </a:lnTo>
                <a:lnTo>
                  <a:pt x="1260" y="3369"/>
                </a:lnTo>
                <a:lnTo>
                  <a:pt x="1229" y="3364"/>
                </a:lnTo>
                <a:lnTo>
                  <a:pt x="1193" y="3364"/>
                </a:lnTo>
                <a:lnTo>
                  <a:pt x="1161" y="3359"/>
                </a:lnTo>
                <a:lnTo>
                  <a:pt x="1120" y="3359"/>
                </a:lnTo>
                <a:lnTo>
                  <a:pt x="1083" y="3348"/>
                </a:lnTo>
                <a:lnTo>
                  <a:pt x="1042" y="3343"/>
                </a:lnTo>
                <a:lnTo>
                  <a:pt x="995" y="3333"/>
                </a:lnTo>
                <a:lnTo>
                  <a:pt x="948" y="3322"/>
                </a:lnTo>
                <a:lnTo>
                  <a:pt x="901" y="3312"/>
                </a:lnTo>
                <a:lnTo>
                  <a:pt x="849" y="3296"/>
                </a:lnTo>
                <a:lnTo>
                  <a:pt x="792" y="3281"/>
                </a:lnTo>
                <a:lnTo>
                  <a:pt x="760" y="3270"/>
                </a:lnTo>
                <a:lnTo>
                  <a:pt x="734" y="3260"/>
                </a:lnTo>
                <a:lnTo>
                  <a:pt x="713" y="3250"/>
                </a:lnTo>
                <a:lnTo>
                  <a:pt x="698" y="3239"/>
                </a:lnTo>
                <a:lnTo>
                  <a:pt x="693" y="3234"/>
                </a:lnTo>
                <a:lnTo>
                  <a:pt x="687" y="3223"/>
                </a:lnTo>
                <a:lnTo>
                  <a:pt x="682" y="3218"/>
                </a:lnTo>
                <a:lnTo>
                  <a:pt x="687" y="3213"/>
                </a:lnTo>
                <a:lnTo>
                  <a:pt x="698" y="3208"/>
                </a:lnTo>
                <a:lnTo>
                  <a:pt x="708" y="3203"/>
                </a:lnTo>
                <a:lnTo>
                  <a:pt x="719" y="3197"/>
                </a:lnTo>
                <a:lnTo>
                  <a:pt x="734" y="3192"/>
                </a:lnTo>
                <a:lnTo>
                  <a:pt x="755" y="3187"/>
                </a:lnTo>
                <a:lnTo>
                  <a:pt x="776" y="3182"/>
                </a:lnTo>
                <a:lnTo>
                  <a:pt x="797" y="3177"/>
                </a:lnTo>
                <a:lnTo>
                  <a:pt x="818" y="3177"/>
                </a:lnTo>
                <a:lnTo>
                  <a:pt x="844" y="3171"/>
                </a:lnTo>
                <a:lnTo>
                  <a:pt x="870" y="3166"/>
                </a:lnTo>
                <a:lnTo>
                  <a:pt x="890" y="3166"/>
                </a:lnTo>
                <a:lnTo>
                  <a:pt x="917" y="3161"/>
                </a:lnTo>
                <a:lnTo>
                  <a:pt x="943" y="3161"/>
                </a:lnTo>
                <a:lnTo>
                  <a:pt x="963" y="3156"/>
                </a:lnTo>
                <a:lnTo>
                  <a:pt x="984" y="3156"/>
                </a:lnTo>
                <a:lnTo>
                  <a:pt x="1005" y="3151"/>
                </a:lnTo>
                <a:lnTo>
                  <a:pt x="1026" y="3151"/>
                </a:lnTo>
                <a:lnTo>
                  <a:pt x="1042" y="3145"/>
                </a:lnTo>
                <a:lnTo>
                  <a:pt x="1052" y="3140"/>
                </a:lnTo>
                <a:lnTo>
                  <a:pt x="1062" y="3140"/>
                </a:lnTo>
                <a:lnTo>
                  <a:pt x="1068" y="3135"/>
                </a:lnTo>
                <a:lnTo>
                  <a:pt x="1073" y="3130"/>
                </a:lnTo>
                <a:lnTo>
                  <a:pt x="1073" y="3130"/>
                </a:lnTo>
                <a:lnTo>
                  <a:pt x="1068" y="3125"/>
                </a:lnTo>
                <a:lnTo>
                  <a:pt x="1057" y="3119"/>
                </a:lnTo>
                <a:lnTo>
                  <a:pt x="1047" y="3119"/>
                </a:lnTo>
                <a:lnTo>
                  <a:pt x="1042" y="3114"/>
                </a:lnTo>
                <a:lnTo>
                  <a:pt x="1031" y="3114"/>
                </a:lnTo>
                <a:lnTo>
                  <a:pt x="1015" y="3114"/>
                </a:lnTo>
                <a:lnTo>
                  <a:pt x="1005" y="3109"/>
                </a:lnTo>
                <a:lnTo>
                  <a:pt x="995" y="3109"/>
                </a:lnTo>
                <a:lnTo>
                  <a:pt x="979" y="3109"/>
                </a:lnTo>
                <a:lnTo>
                  <a:pt x="963" y="3109"/>
                </a:lnTo>
                <a:lnTo>
                  <a:pt x="948" y="3109"/>
                </a:lnTo>
                <a:lnTo>
                  <a:pt x="932" y="3104"/>
                </a:lnTo>
                <a:lnTo>
                  <a:pt x="917" y="3104"/>
                </a:lnTo>
                <a:lnTo>
                  <a:pt x="896" y="3104"/>
                </a:lnTo>
                <a:lnTo>
                  <a:pt x="880" y="3098"/>
                </a:lnTo>
                <a:lnTo>
                  <a:pt x="859" y="3098"/>
                </a:lnTo>
                <a:lnTo>
                  <a:pt x="833" y="3093"/>
                </a:lnTo>
                <a:lnTo>
                  <a:pt x="812" y="3088"/>
                </a:lnTo>
                <a:lnTo>
                  <a:pt x="786" y="3078"/>
                </a:lnTo>
                <a:lnTo>
                  <a:pt x="760" y="3072"/>
                </a:lnTo>
                <a:lnTo>
                  <a:pt x="734" y="3062"/>
                </a:lnTo>
                <a:lnTo>
                  <a:pt x="708" y="3052"/>
                </a:lnTo>
                <a:lnTo>
                  <a:pt x="682" y="3036"/>
                </a:lnTo>
                <a:lnTo>
                  <a:pt x="651" y="3026"/>
                </a:lnTo>
                <a:lnTo>
                  <a:pt x="620" y="3010"/>
                </a:lnTo>
                <a:lnTo>
                  <a:pt x="583" y="2989"/>
                </a:lnTo>
                <a:lnTo>
                  <a:pt x="547" y="2968"/>
                </a:lnTo>
                <a:lnTo>
                  <a:pt x="510" y="2947"/>
                </a:lnTo>
                <a:lnTo>
                  <a:pt x="474" y="2921"/>
                </a:lnTo>
                <a:lnTo>
                  <a:pt x="437" y="2895"/>
                </a:lnTo>
                <a:lnTo>
                  <a:pt x="396" y="2864"/>
                </a:lnTo>
                <a:lnTo>
                  <a:pt x="354" y="2833"/>
                </a:lnTo>
                <a:lnTo>
                  <a:pt x="307" y="2796"/>
                </a:lnTo>
                <a:lnTo>
                  <a:pt x="286" y="2776"/>
                </a:lnTo>
                <a:lnTo>
                  <a:pt x="266" y="2755"/>
                </a:lnTo>
                <a:lnTo>
                  <a:pt x="250" y="2739"/>
                </a:lnTo>
                <a:lnTo>
                  <a:pt x="240" y="2724"/>
                </a:lnTo>
                <a:lnTo>
                  <a:pt x="234" y="2713"/>
                </a:lnTo>
                <a:lnTo>
                  <a:pt x="229" y="2703"/>
                </a:lnTo>
                <a:lnTo>
                  <a:pt x="234" y="2698"/>
                </a:lnTo>
                <a:lnTo>
                  <a:pt x="240" y="2692"/>
                </a:lnTo>
                <a:lnTo>
                  <a:pt x="245" y="2692"/>
                </a:lnTo>
                <a:lnTo>
                  <a:pt x="260" y="2687"/>
                </a:lnTo>
                <a:lnTo>
                  <a:pt x="271" y="2687"/>
                </a:lnTo>
                <a:lnTo>
                  <a:pt x="292" y="2692"/>
                </a:lnTo>
                <a:lnTo>
                  <a:pt x="307" y="2692"/>
                </a:lnTo>
                <a:lnTo>
                  <a:pt x="328" y="2698"/>
                </a:lnTo>
                <a:lnTo>
                  <a:pt x="349" y="2703"/>
                </a:lnTo>
                <a:lnTo>
                  <a:pt x="375" y="2708"/>
                </a:lnTo>
                <a:lnTo>
                  <a:pt x="396" y="2713"/>
                </a:lnTo>
                <a:lnTo>
                  <a:pt x="422" y="2718"/>
                </a:lnTo>
                <a:lnTo>
                  <a:pt x="443" y="2729"/>
                </a:lnTo>
                <a:lnTo>
                  <a:pt x="469" y="2734"/>
                </a:lnTo>
                <a:lnTo>
                  <a:pt x="490" y="2739"/>
                </a:lnTo>
                <a:lnTo>
                  <a:pt x="510" y="2744"/>
                </a:lnTo>
                <a:lnTo>
                  <a:pt x="531" y="2750"/>
                </a:lnTo>
                <a:lnTo>
                  <a:pt x="552" y="2755"/>
                </a:lnTo>
                <a:lnTo>
                  <a:pt x="573" y="2760"/>
                </a:lnTo>
                <a:lnTo>
                  <a:pt x="588" y="2765"/>
                </a:lnTo>
                <a:lnTo>
                  <a:pt x="599" y="2765"/>
                </a:lnTo>
                <a:lnTo>
                  <a:pt x="609" y="2765"/>
                </a:lnTo>
                <a:lnTo>
                  <a:pt x="620" y="2765"/>
                </a:lnTo>
                <a:lnTo>
                  <a:pt x="620" y="2765"/>
                </a:lnTo>
                <a:lnTo>
                  <a:pt x="620" y="2760"/>
                </a:lnTo>
                <a:lnTo>
                  <a:pt x="620" y="2755"/>
                </a:lnTo>
                <a:lnTo>
                  <a:pt x="614" y="2744"/>
                </a:lnTo>
                <a:lnTo>
                  <a:pt x="604" y="2739"/>
                </a:lnTo>
                <a:lnTo>
                  <a:pt x="599" y="2734"/>
                </a:lnTo>
                <a:lnTo>
                  <a:pt x="588" y="2729"/>
                </a:lnTo>
                <a:lnTo>
                  <a:pt x="578" y="2724"/>
                </a:lnTo>
                <a:lnTo>
                  <a:pt x="568" y="2718"/>
                </a:lnTo>
                <a:lnTo>
                  <a:pt x="557" y="2713"/>
                </a:lnTo>
                <a:lnTo>
                  <a:pt x="542" y="2703"/>
                </a:lnTo>
                <a:lnTo>
                  <a:pt x="526" y="2698"/>
                </a:lnTo>
                <a:lnTo>
                  <a:pt x="516" y="2692"/>
                </a:lnTo>
                <a:lnTo>
                  <a:pt x="500" y="2687"/>
                </a:lnTo>
                <a:lnTo>
                  <a:pt x="484" y="2677"/>
                </a:lnTo>
                <a:lnTo>
                  <a:pt x="469" y="2666"/>
                </a:lnTo>
                <a:lnTo>
                  <a:pt x="448" y="2656"/>
                </a:lnTo>
                <a:lnTo>
                  <a:pt x="432" y="2645"/>
                </a:lnTo>
                <a:lnTo>
                  <a:pt x="411" y="2635"/>
                </a:lnTo>
                <a:lnTo>
                  <a:pt x="396" y="2619"/>
                </a:lnTo>
                <a:lnTo>
                  <a:pt x="375" y="2604"/>
                </a:lnTo>
                <a:lnTo>
                  <a:pt x="354" y="2588"/>
                </a:lnTo>
                <a:lnTo>
                  <a:pt x="333" y="2567"/>
                </a:lnTo>
                <a:lnTo>
                  <a:pt x="307" y="2546"/>
                </a:lnTo>
                <a:lnTo>
                  <a:pt x="286" y="2526"/>
                </a:lnTo>
                <a:lnTo>
                  <a:pt x="266" y="2500"/>
                </a:lnTo>
                <a:lnTo>
                  <a:pt x="240" y="2474"/>
                </a:lnTo>
                <a:lnTo>
                  <a:pt x="219" y="2442"/>
                </a:lnTo>
                <a:lnTo>
                  <a:pt x="193" y="2411"/>
                </a:lnTo>
                <a:lnTo>
                  <a:pt x="167" y="2375"/>
                </a:lnTo>
                <a:lnTo>
                  <a:pt x="141" y="2338"/>
                </a:lnTo>
                <a:lnTo>
                  <a:pt x="120" y="2297"/>
                </a:lnTo>
                <a:lnTo>
                  <a:pt x="94" y="2250"/>
                </a:lnTo>
                <a:lnTo>
                  <a:pt x="68" y="2203"/>
                </a:lnTo>
                <a:lnTo>
                  <a:pt x="36" y="2156"/>
                </a:lnTo>
                <a:lnTo>
                  <a:pt x="26" y="2125"/>
                </a:lnTo>
                <a:lnTo>
                  <a:pt x="16" y="2099"/>
                </a:lnTo>
                <a:lnTo>
                  <a:pt x="5" y="2078"/>
                </a:lnTo>
                <a:lnTo>
                  <a:pt x="0" y="2062"/>
                </a:lnTo>
                <a:lnTo>
                  <a:pt x="0" y="2047"/>
                </a:lnTo>
                <a:lnTo>
                  <a:pt x="0" y="2041"/>
                </a:lnTo>
                <a:lnTo>
                  <a:pt x="5" y="2036"/>
                </a:lnTo>
                <a:lnTo>
                  <a:pt x="16" y="2031"/>
                </a:lnTo>
                <a:lnTo>
                  <a:pt x="21" y="2031"/>
                </a:lnTo>
                <a:lnTo>
                  <a:pt x="36" y="2036"/>
                </a:lnTo>
                <a:lnTo>
                  <a:pt x="47" y="2041"/>
                </a:lnTo>
                <a:lnTo>
                  <a:pt x="62" y="2047"/>
                </a:lnTo>
                <a:lnTo>
                  <a:pt x="78" y="2057"/>
                </a:lnTo>
                <a:lnTo>
                  <a:pt x="94" y="2067"/>
                </a:lnTo>
                <a:lnTo>
                  <a:pt x="115" y="2083"/>
                </a:lnTo>
                <a:lnTo>
                  <a:pt x="130" y="2093"/>
                </a:lnTo>
                <a:lnTo>
                  <a:pt x="151" y="2109"/>
                </a:lnTo>
                <a:lnTo>
                  <a:pt x="172" y="2119"/>
                </a:lnTo>
                <a:lnTo>
                  <a:pt x="187" y="2135"/>
                </a:lnTo>
                <a:lnTo>
                  <a:pt x="208" y="2151"/>
                </a:lnTo>
                <a:lnTo>
                  <a:pt x="229" y="2166"/>
                </a:lnTo>
                <a:lnTo>
                  <a:pt x="245" y="2177"/>
                </a:lnTo>
                <a:lnTo>
                  <a:pt x="260" y="2192"/>
                </a:lnTo>
                <a:lnTo>
                  <a:pt x="276" y="2203"/>
                </a:lnTo>
                <a:lnTo>
                  <a:pt x="292" y="2213"/>
                </a:lnTo>
                <a:lnTo>
                  <a:pt x="307" y="2218"/>
                </a:lnTo>
                <a:lnTo>
                  <a:pt x="318" y="2229"/>
                </a:lnTo>
                <a:lnTo>
                  <a:pt x="323" y="2229"/>
                </a:lnTo>
                <a:lnTo>
                  <a:pt x="333" y="2234"/>
                </a:lnTo>
                <a:lnTo>
                  <a:pt x="338" y="2229"/>
                </a:lnTo>
                <a:lnTo>
                  <a:pt x="338" y="2229"/>
                </a:lnTo>
                <a:lnTo>
                  <a:pt x="338" y="2218"/>
                </a:lnTo>
                <a:lnTo>
                  <a:pt x="328" y="2198"/>
                </a:lnTo>
                <a:lnTo>
                  <a:pt x="318" y="2182"/>
                </a:lnTo>
                <a:lnTo>
                  <a:pt x="302" y="2161"/>
                </a:lnTo>
                <a:lnTo>
                  <a:pt x="286" y="2140"/>
                </a:lnTo>
                <a:lnTo>
                  <a:pt x="266" y="2119"/>
                </a:lnTo>
                <a:lnTo>
                  <a:pt x="245" y="2088"/>
                </a:lnTo>
                <a:lnTo>
                  <a:pt x="224" y="2057"/>
                </a:lnTo>
                <a:lnTo>
                  <a:pt x="198" y="2021"/>
                </a:lnTo>
                <a:lnTo>
                  <a:pt x="177" y="1979"/>
                </a:lnTo>
                <a:lnTo>
                  <a:pt x="151" y="1927"/>
                </a:lnTo>
                <a:lnTo>
                  <a:pt x="130" y="1870"/>
                </a:lnTo>
                <a:lnTo>
                  <a:pt x="109" y="1802"/>
                </a:lnTo>
                <a:lnTo>
                  <a:pt x="89" y="1729"/>
                </a:lnTo>
                <a:lnTo>
                  <a:pt x="68" y="1640"/>
                </a:lnTo>
                <a:lnTo>
                  <a:pt x="52" y="1541"/>
                </a:lnTo>
                <a:lnTo>
                  <a:pt x="36" y="1432"/>
                </a:lnTo>
                <a:lnTo>
                  <a:pt x="36" y="1375"/>
                </a:lnTo>
                <a:lnTo>
                  <a:pt x="36" y="1333"/>
                </a:lnTo>
                <a:lnTo>
                  <a:pt x="47" y="1312"/>
                </a:lnTo>
                <a:lnTo>
                  <a:pt x="57" y="1312"/>
                </a:lnTo>
                <a:lnTo>
                  <a:pt x="78" y="1323"/>
                </a:lnTo>
                <a:lnTo>
                  <a:pt x="99" y="1344"/>
                </a:lnTo>
                <a:lnTo>
                  <a:pt x="120" y="1380"/>
                </a:lnTo>
                <a:lnTo>
                  <a:pt x="146" y="1416"/>
                </a:lnTo>
                <a:lnTo>
                  <a:pt x="167" y="1458"/>
                </a:lnTo>
                <a:lnTo>
                  <a:pt x="193" y="1500"/>
                </a:lnTo>
                <a:lnTo>
                  <a:pt x="219" y="1541"/>
                </a:lnTo>
                <a:lnTo>
                  <a:pt x="240" y="1578"/>
                </a:lnTo>
                <a:lnTo>
                  <a:pt x="255" y="1604"/>
                </a:lnTo>
                <a:lnTo>
                  <a:pt x="271" y="1625"/>
                </a:lnTo>
                <a:lnTo>
                  <a:pt x="281" y="1630"/>
                </a:lnTo>
                <a:lnTo>
                  <a:pt x="286" y="1620"/>
                </a:lnTo>
                <a:lnTo>
                  <a:pt x="286" y="1604"/>
                </a:lnTo>
                <a:lnTo>
                  <a:pt x="281" y="1583"/>
                </a:lnTo>
                <a:lnTo>
                  <a:pt x="276" y="1557"/>
                </a:lnTo>
                <a:lnTo>
                  <a:pt x="271" y="1531"/>
                </a:lnTo>
                <a:lnTo>
                  <a:pt x="260" y="1505"/>
                </a:lnTo>
                <a:lnTo>
                  <a:pt x="250" y="1474"/>
                </a:lnTo>
                <a:lnTo>
                  <a:pt x="240" y="1432"/>
                </a:lnTo>
                <a:lnTo>
                  <a:pt x="234" y="1390"/>
                </a:lnTo>
                <a:lnTo>
                  <a:pt x="224" y="1344"/>
                </a:lnTo>
                <a:lnTo>
                  <a:pt x="224" y="1286"/>
                </a:lnTo>
                <a:lnTo>
                  <a:pt x="224" y="1229"/>
                </a:lnTo>
                <a:lnTo>
                  <a:pt x="229" y="1156"/>
                </a:lnTo>
                <a:lnTo>
                  <a:pt x="240" y="1078"/>
                </a:lnTo>
                <a:lnTo>
                  <a:pt x="255" y="995"/>
                </a:lnTo>
                <a:lnTo>
                  <a:pt x="276" y="901"/>
                </a:lnTo>
                <a:lnTo>
                  <a:pt x="307" y="792"/>
                </a:lnTo>
                <a:lnTo>
                  <a:pt x="328" y="734"/>
                </a:lnTo>
                <a:lnTo>
                  <a:pt x="349" y="698"/>
                </a:lnTo>
                <a:lnTo>
                  <a:pt x="365" y="682"/>
                </a:lnTo>
                <a:lnTo>
                  <a:pt x="375" y="687"/>
                </a:lnTo>
                <a:lnTo>
                  <a:pt x="391" y="703"/>
                </a:lnTo>
                <a:lnTo>
                  <a:pt x="396" y="734"/>
                </a:lnTo>
                <a:lnTo>
                  <a:pt x="406" y="771"/>
                </a:lnTo>
                <a:lnTo>
                  <a:pt x="411" y="818"/>
                </a:lnTo>
                <a:lnTo>
                  <a:pt x="422" y="864"/>
                </a:lnTo>
                <a:lnTo>
                  <a:pt x="427" y="917"/>
                </a:lnTo>
                <a:lnTo>
                  <a:pt x="432" y="963"/>
                </a:lnTo>
                <a:lnTo>
                  <a:pt x="437" y="1005"/>
                </a:lnTo>
                <a:lnTo>
                  <a:pt x="443" y="1042"/>
                </a:lnTo>
                <a:lnTo>
                  <a:pt x="448" y="1062"/>
                </a:lnTo>
                <a:lnTo>
                  <a:pt x="458" y="1073"/>
                </a:lnTo>
                <a:lnTo>
                  <a:pt x="463" y="1068"/>
                </a:lnTo>
                <a:lnTo>
                  <a:pt x="469" y="1047"/>
                </a:lnTo>
                <a:lnTo>
                  <a:pt x="474" y="1026"/>
                </a:lnTo>
                <a:lnTo>
                  <a:pt x="479" y="1005"/>
                </a:lnTo>
                <a:lnTo>
                  <a:pt x="479" y="979"/>
                </a:lnTo>
                <a:lnTo>
                  <a:pt x="479" y="948"/>
                </a:lnTo>
                <a:lnTo>
                  <a:pt x="484" y="917"/>
                </a:lnTo>
                <a:lnTo>
                  <a:pt x="490" y="875"/>
                </a:lnTo>
                <a:lnTo>
                  <a:pt x="495" y="833"/>
                </a:lnTo>
                <a:lnTo>
                  <a:pt x="510" y="786"/>
                </a:lnTo>
                <a:lnTo>
                  <a:pt x="526" y="734"/>
                </a:lnTo>
                <a:lnTo>
                  <a:pt x="552" y="677"/>
                </a:lnTo>
                <a:lnTo>
                  <a:pt x="583" y="614"/>
                </a:lnTo>
                <a:lnTo>
                  <a:pt x="620" y="547"/>
                </a:lnTo>
                <a:lnTo>
                  <a:pt x="667" y="474"/>
                </a:lnTo>
                <a:lnTo>
                  <a:pt x="724" y="396"/>
                </a:lnTo>
                <a:lnTo>
                  <a:pt x="792" y="307"/>
                </a:lnTo>
                <a:lnTo>
                  <a:pt x="833" y="260"/>
                </a:lnTo>
                <a:lnTo>
                  <a:pt x="864" y="234"/>
                </a:lnTo>
                <a:lnTo>
                  <a:pt x="885" y="229"/>
                </a:lnTo>
                <a:lnTo>
                  <a:pt x="896" y="234"/>
                </a:lnTo>
                <a:lnTo>
                  <a:pt x="901" y="255"/>
                </a:lnTo>
                <a:lnTo>
                  <a:pt x="901" y="286"/>
                </a:lnTo>
                <a:lnTo>
                  <a:pt x="890" y="328"/>
                </a:lnTo>
                <a:lnTo>
                  <a:pt x="880" y="370"/>
                </a:lnTo>
                <a:lnTo>
                  <a:pt x="870" y="417"/>
                </a:lnTo>
                <a:lnTo>
                  <a:pt x="859" y="469"/>
                </a:lnTo>
                <a:lnTo>
                  <a:pt x="844" y="510"/>
                </a:lnTo>
                <a:lnTo>
                  <a:pt x="833" y="552"/>
                </a:lnTo>
                <a:lnTo>
                  <a:pt x="828" y="583"/>
                </a:lnTo>
                <a:lnTo>
                  <a:pt x="823" y="609"/>
                </a:lnTo>
                <a:lnTo>
                  <a:pt x="828" y="620"/>
                </a:lnTo>
                <a:lnTo>
                  <a:pt x="838" y="620"/>
                </a:lnTo>
                <a:lnTo>
                  <a:pt x="844" y="609"/>
                </a:lnTo>
                <a:lnTo>
                  <a:pt x="849" y="604"/>
                </a:lnTo>
                <a:lnTo>
                  <a:pt x="854" y="594"/>
                </a:lnTo>
                <a:lnTo>
                  <a:pt x="859" y="588"/>
                </a:lnTo>
                <a:lnTo>
                  <a:pt x="864" y="578"/>
                </a:lnTo>
                <a:lnTo>
                  <a:pt x="870" y="568"/>
                </a:lnTo>
                <a:lnTo>
                  <a:pt x="875" y="552"/>
                </a:lnTo>
                <a:lnTo>
                  <a:pt x="885" y="542"/>
                </a:lnTo>
                <a:lnTo>
                  <a:pt x="890" y="526"/>
                </a:lnTo>
                <a:lnTo>
                  <a:pt x="896" y="516"/>
                </a:lnTo>
                <a:lnTo>
                  <a:pt x="906" y="500"/>
                </a:lnTo>
                <a:lnTo>
                  <a:pt x="911" y="484"/>
                </a:lnTo>
                <a:lnTo>
                  <a:pt x="922" y="463"/>
                </a:lnTo>
                <a:lnTo>
                  <a:pt x="932" y="448"/>
                </a:lnTo>
                <a:lnTo>
                  <a:pt x="943" y="432"/>
                </a:lnTo>
                <a:lnTo>
                  <a:pt x="953" y="411"/>
                </a:lnTo>
                <a:lnTo>
                  <a:pt x="969" y="391"/>
                </a:lnTo>
                <a:lnTo>
                  <a:pt x="984" y="370"/>
                </a:lnTo>
                <a:lnTo>
                  <a:pt x="1000" y="349"/>
                </a:lnTo>
                <a:lnTo>
                  <a:pt x="1021" y="328"/>
                </a:lnTo>
                <a:lnTo>
                  <a:pt x="1042" y="307"/>
                </a:lnTo>
                <a:lnTo>
                  <a:pt x="1062" y="286"/>
                </a:lnTo>
                <a:lnTo>
                  <a:pt x="1088" y="266"/>
                </a:lnTo>
                <a:lnTo>
                  <a:pt x="1120" y="240"/>
                </a:lnTo>
                <a:lnTo>
                  <a:pt x="1146" y="219"/>
                </a:lnTo>
                <a:lnTo>
                  <a:pt x="1177" y="193"/>
                </a:lnTo>
                <a:lnTo>
                  <a:pt x="1213" y="167"/>
                </a:lnTo>
                <a:lnTo>
                  <a:pt x="1255" y="141"/>
                </a:lnTo>
                <a:lnTo>
                  <a:pt x="1291" y="115"/>
                </a:lnTo>
                <a:lnTo>
                  <a:pt x="1338" y="89"/>
                </a:lnTo>
                <a:lnTo>
                  <a:pt x="1385" y="62"/>
                </a:lnTo>
                <a:lnTo>
                  <a:pt x="1432" y="36"/>
                </a:lnTo>
                <a:lnTo>
                  <a:pt x="1463" y="21"/>
                </a:lnTo>
                <a:lnTo>
                  <a:pt x="1489" y="10"/>
                </a:lnTo>
                <a:lnTo>
                  <a:pt x="1510" y="5"/>
                </a:lnTo>
                <a:lnTo>
                  <a:pt x="1526" y="0"/>
                </a:lnTo>
                <a:lnTo>
                  <a:pt x="1541" y="0"/>
                </a:lnTo>
                <a:lnTo>
                  <a:pt x="1552" y="0"/>
                </a:lnTo>
                <a:lnTo>
                  <a:pt x="1557" y="5"/>
                </a:lnTo>
                <a:lnTo>
                  <a:pt x="1557" y="16"/>
                </a:lnTo>
                <a:lnTo>
                  <a:pt x="1557" y="21"/>
                </a:lnTo>
                <a:lnTo>
                  <a:pt x="1552" y="31"/>
                </a:lnTo>
                <a:lnTo>
                  <a:pt x="1547" y="47"/>
                </a:lnTo>
                <a:lnTo>
                  <a:pt x="1541" y="62"/>
                </a:lnTo>
                <a:lnTo>
                  <a:pt x="1531" y="78"/>
                </a:lnTo>
                <a:lnTo>
                  <a:pt x="1521" y="94"/>
                </a:lnTo>
                <a:lnTo>
                  <a:pt x="1510" y="115"/>
                </a:lnTo>
                <a:lnTo>
                  <a:pt x="1495" y="130"/>
                </a:lnTo>
                <a:lnTo>
                  <a:pt x="1479" y="151"/>
                </a:lnTo>
                <a:lnTo>
                  <a:pt x="1469" y="172"/>
                </a:lnTo>
                <a:lnTo>
                  <a:pt x="1453" y="187"/>
                </a:lnTo>
                <a:lnTo>
                  <a:pt x="1437" y="208"/>
                </a:lnTo>
                <a:lnTo>
                  <a:pt x="1422" y="224"/>
                </a:lnTo>
                <a:lnTo>
                  <a:pt x="1411" y="245"/>
                </a:lnTo>
                <a:lnTo>
                  <a:pt x="1396" y="260"/>
                </a:lnTo>
                <a:lnTo>
                  <a:pt x="1385" y="276"/>
                </a:lnTo>
                <a:lnTo>
                  <a:pt x="1375" y="292"/>
                </a:lnTo>
                <a:lnTo>
                  <a:pt x="1370" y="302"/>
                </a:lnTo>
                <a:lnTo>
                  <a:pt x="1359" y="318"/>
                </a:lnTo>
                <a:lnTo>
                  <a:pt x="1359" y="323"/>
                </a:lnTo>
                <a:lnTo>
                  <a:pt x="1354" y="333"/>
                </a:lnTo>
                <a:lnTo>
                  <a:pt x="1359" y="333"/>
                </a:lnTo>
                <a:lnTo>
                  <a:pt x="1359" y="338"/>
                </a:lnTo>
                <a:lnTo>
                  <a:pt x="1370" y="338"/>
                </a:lnTo>
                <a:lnTo>
                  <a:pt x="1380" y="333"/>
                </a:lnTo>
                <a:lnTo>
                  <a:pt x="1385" y="328"/>
                </a:lnTo>
                <a:lnTo>
                  <a:pt x="1396" y="323"/>
                </a:lnTo>
                <a:lnTo>
                  <a:pt x="1406" y="318"/>
                </a:lnTo>
                <a:lnTo>
                  <a:pt x="1416" y="312"/>
                </a:lnTo>
                <a:lnTo>
                  <a:pt x="1427" y="302"/>
                </a:lnTo>
                <a:lnTo>
                  <a:pt x="1437" y="297"/>
                </a:lnTo>
                <a:lnTo>
                  <a:pt x="1448" y="286"/>
                </a:lnTo>
                <a:lnTo>
                  <a:pt x="1458" y="276"/>
                </a:lnTo>
                <a:lnTo>
                  <a:pt x="1469" y="266"/>
                </a:lnTo>
                <a:lnTo>
                  <a:pt x="1484" y="255"/>
                </a:lnTo>
                <a:lnTo>
                  <a:pt x="1500" y="245"/>
                </a:lnTo>
                <a:lnTo>
                  <a:pt x="1510" y="234"/>
                </a:lnTo>
                <a:lnTo>
                  <a:pt x="1531" y="224"/>
                </a:lnTo>
                <a:lnTo>
                  <a:pt x="1547" y="208"/>
                </a:lnTo>
                <a:lnTo>
                  <a:pt x="1567" y="198"/>
                </a:lnTo>
                <a:lnTo>
                  <a:pt x="1588" y="187"/>
                </a:lnTo>
                <a:lnTo>
                  <a:pt x="1609" y="172"/>
                </a:lnTo>
                <a:lnTo>
                  <a:pt x="1635" y="161"/>
                </a:lnTo>
                <a:lnTo>
                  <a:pt x="1661" y="151"/>
                </a:lnTo>
                <a:lnTo>
                  <a:pt x="1687" y="141"/>
                </a:lnTo>
                <a:lnTo>
                  <a:pt x="1718" y="125"/>
                </a:lnTo>
                <a:lnTo>
                  <a:pt x="1750" y="115"/>
                </a:lnTo>
                <a:lnTo>
                  <a:pt x="1786" y="104"/>
                </a:lnTo>
                <a:lnTo>
                  <a:pt x="1823" y="94"/>
                </a:lnTo>
                <a:lnTo>
                  <a:pt x="1859" y="83"/>
                </a:lnTo>
                <a:lnTo>
                  <a:pt x="1901" y="73"/>
                </a:lnTo>
                <a:lnTo>
                  <a:pt x="1948" y="68"/>
                </a:lnTo>
                <a:lnTo>
                  <a:pt x="1994" y="57"/>
                </a:lnTo>
                <a:lnTo>
                  <a:pt x="2047" y="52"/>
                </a:lnTo>
                <a:lnTo>
                  <a:pt x="2099" y="42"/>
                </a:lnTo>
                <a:lnTo>
                  <a:pt x="2156" y="36"/>
                </a:lnTo>
                <a:lnTo>
                  <a:pt x="2187" y="36"/>
                </a:lnTo>
                <a:lnTo>
                  <a:pt x="2213" y="36"/>
                </a:lnTo>
                <a:lnTo>
                  <a:pt x="2239" y="36"/>
                </a:lnTo>
                <a:lnTo>
                  <a:pt x="2255" y="36"/>
                </a:lnTo>
                <a:lnTo>
                  <a:pt x="2265" y="42"/>
                </a:lnTo>
                <a:lnTo>
                  <a:pt x="2276" y="47"/>
                </a:lnTo>
                <a:lnTo>
                  <a:pt x="2276" y="52"/>
                </a:lnTo>
                <a:lnTo>
                  <a:pt x="2276" y="62"/>
                </a:lnTo>
                <a:lnTo>
                  <a:pt x="2270" y="68"/>
                </a:lnTo>
                <a:lnTo>
                  <a:pt x="2265" y="78"/>
                </a:lnTo>
                <a:lnTo>
                  <a:pt x="2255" y="89"/>
                </a:lnTo>
                <a:lnTo>
                  <a:pt x="2239" y="99"/>
                </a:lnTo>
                <a:lnTo>
                  <a:pt x="2224" y="109"/>
                </a:lnTo>
                <a:lnTo>
                  <a:pt x="2208" y="120"/>
                </a:lnTo>
                <a:lnTo>
                  <a:pt x="2192" y="130"/>
                </a:lnTo>
                <a:lnTo>
                  <a:pt x="2172" y="146"/>
                </a:lnTo>
                <a:lnTo>
                  <a:pt x="2151" y="156"/>
                </a:lnTo>
                <a:lnTo>
                  <a:pt x="2130" y="172"/>
                </a:lnTo>
                <a:lnTo>
                  <a:pt x="2109" y="182"/>
                </a:lnTo>
                <a:lnTo>
                  <a:pt x="2088" y="193"/>
                </a:lnTo>
                <a:lnTo>
                  <a:pt x="2067" y="203"/>
                </a:lnTo>
                <a:lnTo>
                  <a:pt x="2047" y="219"/>
                </a:lnTo>
                <a:lnTo>
                  <a:pt x="2026" y="229"/>
                </a:lnTo>
                <a:lnTo>
                  <a:pt x="2010" y="240"/>
                </a:lnTo>
                <a:lnTo>
                  <a:pt x="1994" y="250"/>
                </a:lnTo>
                <a:lnTo>
                  <a:pt x="1984" y="255"/>
                </a:lnTo>
                <a:lnTo>
                  <a:pt x="1974" y="266"/>
                </a:lnTo>
                <a:lnTo>
                  <a:pt x="1963" y="271"/>
                </a:lnTo>
                <a:lnTo>
                  <a:pt x="1958" y="276"/>
                </a:lnTo>
                <a:lnTo>
                  <a:pt x="1958" y="281"/>
                </a:lnTo>
                <a:lnTo>
                  <a:pt x="1958" y="286"/>
                </a:lnTo>
                <a:lnTo>
                  <a:pt x="1968" y="286"/>
                </a:lnTo>
                <a:lnTo>
                  <a:pt x="1979" y="286"/>
                </a:lnTo>
                <a:lnTo>
                  <a:pt x="1984" y="286"/>
                </a:lnTo>
                <a:lnTo>
                  <a:pt x="1994" y="286"/>
                </a:lnTo>
                <a:lnTo>
                  <a:pt x="2005" y="281"/>
                </a:lnTo>
                <a:lnTo>
                  <a:pt x="2015" y="281"/>
                </a:lnTo>
                <a:lnTo>
                  <a:pt x="2031" y="276"/>
                </a:lnTo>
                <a:lnTo>
                  <a:pt x="2041" y="271"/>
                </a:lnTo>
                <a:lnTo>
                  <a:pt x="2052" y="266"/>
                </a:lnTo>
                <a:lnTo>
                  <a:pt x="2067" y="266"/>
                </a:lnTo>
                <a:lnTo>
                  <a:pt x="2083" y="260"/>
                </a:lnTo>
                <a:lnTo>
                  <a:pt x="2099" y="255"/>
                </a:lnTo>
                <a:lnTo>
                  <a:pt x="2114" y="250"/>
                </a:lnTo>
                <a:lnTo>
                  <a:pt x="2135" y="245"/>
                </a:lnTo>
                <a:lnTo>
                  <a:pt x="2151" y="240"/>
                </a:lnTo>
                <a:lnTo>
                  <a:pt x="2172" y="234"/>
                </a:lnTo>
                <a:lnTo>
                  <a:pt x="2198" y="229"/>
                </a:lnTo>
                <a:lnTo>
                  <a:pt x="2218" y="229"/>
                </a:lnTo>
                <a:lnTo>
                  <a:pt x="2244" y="224"/>
                </a:lnTo>
                <a:lnTo>
                  <a:pt x="2270" y="224"/>
                </a:lnTo>
                <a:lnTo>
                  <a:pt x="2297" y="224"/>
                </a:lnTo>
                <a:lnTo>
                  <a:pt x="2328" y="219"/>
                </a:lnTo>
                <a:lnTo>
                  <a:pt x="2359" y="224"/>
                </a:lnTo>
                <a:lnTo>
                  <a:pt x="2395" y="224"/>
                </a:lnTo>
                <a:lnTo>
                  <a:pt x="2432" y="229"/>
                </a:lnTo>
                <a:lnTo>
                  <a:pt x="2468" y="229"/>
                </a:lnTo>
                <a:lnTo>
                  <a:pt x="2510" y="240"/>
                </a:lnTo>
                <a:lnTo>
                  <a:pt x="2552" y="245"/>
                </a:lnTo>
                <a:lnTo>
                  <a:pt x="2593" y="255"/>
                </a:lnTo>
                <a:lnTo>
                  <a:pt x="2640" y="266"/>
                </a:lnTo>
                <a:lnTo>
                  <a:pt x="2687" y="276"/>
                </a:lnTo>
                <a:lnTo>
                  <a:pt x="2739" y="292"/>
                </a:lnTo>
                <a:lnTo>
                  <a:pt x="2796" y="307"/>
                </a:lnTo>
                <a:lnTo>
                  <a:pt x="2828" y="318"/>
                </a:lnTo>
                <a:lnTo>
                  <a:pt x="2854" y="328"/>
                </a:lnTo>
                <a:lnTo>
                  <a:pt x="2875" y="338"/>
                </a:lnTo>
                <a:lnTo>
                  <a:pt x="2890" y="349"/>
                </a:lnTo>
                <a:lnTo>
                  <a:pt x="2901" y="354"/>
                </a:lnTo>
                <a:lnTo>
                  <a:pt x="2906" y="365"/>
                </a:lnTo>
                <a:lnTo>
                  <a:pt x="2906" y="370"/>
                </a:lnTo>
                <a:lnTo>
                  <a:pt x="2901" y="375"/>
                </a:lnTo>
                <a:lnTo>
                  <a:pt x="2895" y="380"/>
                </a:lnTo>
                <a:lnTo>
                  <a:pt x="2885" y="391"/>
                </a:lnTo>
                <a:lnTo>
                  <a:pt x="2869" y="396"/>
                </a:lnTo>
                <a:lnTo>
                  <a:pt x="2854" y="396"/>
                </a:lnTo>
                <a:lnTo>
                  <a:pt x="2833" y="401"/>
                </a:lnTo>
                <a:lnTo>
                  <a:pt x="2812" y="406"/>
                </a:lnTo>
                <a:lnTo>
                  <a:pt x="2791" y="411"/>
                </a:lnTo>
                <a:lnTo>
                  <a:pt x="2770" y="411"/>
                </a:lnTo>
                <a:lnTo>
                  <a:pt x="2744" y="417"/>
                </a:lnTo>
                <a:lnTo>
                  <a:pt x="2718" y="422"/>
                </a:lnTo>
                <a:lnTo>
                  <a:pt x="2698" y="422"/>
                </a:lnTo>
                <a:lnTo>
                  <a:pt x="2671" y="427"/>
                </a:lnTo>
                <a:lnTo>
                  <a:pt x="2645" y="427"/>
                </a:lnTo>
                <a:lnTo>
                  <a:pt x="2625" y="432"/>
                </a:lnTo>
                <a:lnTo>
                  <a:pt x="2604" y="432"/>
                </a:lnTo>
                <a:lnTo>
                  <a:pt x="2583" y="437"/>
                </a:lnTo>
                <a:lnTo>
                  <a:pt x="2562" y="437"/>
                </a:lnTo>
                <a:lnTo>
                  <a:pt x="2546" y="443"/>
                </a:lnTo>
                <a:lnTo>
                  <a:pt x="2536" y="443"/>
                </a:lnTo>
                <a:lnTo>
                  <a:pt x="2526" y="448"/>
                </a:lnTo>
                <a:lnTo>
                  <a:pt x="2520" y="453"/>
                </a:lnTo>
                <a:lnTo>
                  <a:pt x="2515" y="453"/>
                </a:lnTo>
                <a:lnTo>
                  <a:pt x="2515" y="458"/>
                </a:lnTo>
                <a:lnTo>
                  <a:pt x="2520" y="463"/>
                </a:lnTo>
                <a:lnTo>
                  <a:pt x="2531" y="469"/>
                </a:lnTo>
                <a:lnTo>
                  <a:pt x="2541" y="469"/>
                </a:lnTo>
                <a:lnTo>
                  <a:pt x="2552" y="474"/>
                </a:lnTo>
                <a:lnTo>
                  <a:pt x="2557" y="474"/>
                </a:lnTo>
                <a:lnTo>
                  <a:pt x="2573" y="474"/>
                </a:lnTo>
                <a:lnTo>
                  <a:pt x="2583" y="474"/>
                </a:lnTo>
                <a:lnTo>
                  <a:pt x="2593" y="479"/>
                </a:lnTo>
                <a:lnTo>
                  <a:pt x="2609" y="479"/>
                </a:lnTo>
                <a:lnTo>
                  <a:pt x="2625" y="479"/>
                </a:lnTo>
                <a:lnTo>
                  <a:pt x="2640" y="479"/>
                </a:lnTo>
                <a:lnTo>
                  <a:pt x="2656" y="479"/>
                </a:lnTo>
                <a:lnTo>
                  <a:pt x="2671" y="484"/>
                </a:lnTo>
                <a:lnTo>
                  <a:pt x="2692" y="484"/>
                </a:lnTo>
                <a:lnTo>
                  <a:pt x="2713" y="490"/>
                </a:lnTo>
                <a:lnTo>
                  <a:pt x="2734" y="490"/>
                </a:lnTo>
                <a:lnTo>
                  <a:pt x="2755" y="495"/>
                </a:lnTo>
                <a:lnTo>
                  <a:pt x="2776" y="505"/>
                </a:lnTo>
                <a:lnTo>
                  <a:pt x="2802" y="510"/>
                </a:lnTo>
                <a:lnTo>
                  <a:pt x="2828" y="516"/>
                </a:lnTo>
                <a:lnTo>
                  <a:pt x="2854" y="526"/>
                </a:lnTo>
                <a:lnTo>
                  <a:pt x="2880" y="536"/>
                </a:lnTo>
                <a:lnTo>
                  <a:pt x="2911" y="552"/>
                </a:lnTo>
                <a:lnTo>
                  <a:pt x="2942" y="562"/>
                </a:lnTo>
                <a:lnTo>
                  <a:pt x="2974" y="583"/>
                </a:lnTo>
                <a:lnTo>
                  <a:pt x="3005" y="599"/>
                </a:lnTo>
                <a:lnTo>
                  <a:pt x="3041" y="620"/>
                </a:lnTo>
                <a:lnTo>
                  <a:pt x="3078" y="641"/>
                </a:lnTo>
                <a:lnTo>
                  <a:pt x="3114" y="667"/>
                </a:lnTo>
                <a:lnTo>
                  <a:pt x="3151" y="693"/>
                </a:lnTo>
                <a:lnTo>
                  <a:pt x="3192" y="724"/>
                </a:lnTo>
                <a:lnTo>
                  <a:pt x="3234" y="755"/>
                </a:lnTo>
                <a:lnTo>
                  <a:pt x="3281" y="792"/>
                </a:lnTo>
                <a:lnTo>
                  <a:pt x="3307" y="812"/>
                </a:lnTo>
                <a:lnTo>
                  <a:pt x="3328" y="833"/>
                </a:lnTo>
                <a:lnTo>
                  <a:pt x="3343" y="849"/>
                </a:lnTo>
                <a:lnTo>
                  <a:pt x="3354" y="864"/>
                </a:lnTo>
                <a:lnTo>
                  <a:pt x="3359" y="875"/>
                </a:lnTo>
                <a:lnTo>
                  <a:pt x="3359" y="885"/>
                </a:lnTo>
                <a:lnTo>
                  <a:pt x="3359" y="890"/>
                </a:lnTo>
                <a:lnTo>
                  <a:pt x="3354" y="896"/>
                </a:lnTo>
                <a:lnTo>
                  <a:pt x="3343" y="901"/>
                </a:lnTo>
                <a:lnTo>
                  <a:pt x="3333" y="901"/>
                </a:lnTo>
                <a:lnTo>
                  <a:pt x="3317" y="901"/>
                </a:lnTo>
                <a:lnTo>
                  <a:pt x="3302" y="896"/>
                </a:lnTo>
                <a:lnTo>
                  <a:pt x="3281" y="896"/>
                </a:lnTo>
                <a:lnTo>
                  <a:pt x="3260" y="890"/>
                </a:lnTo>
                <a:lnTo>
                  <a:pt x="3239" y="885"/>
                </a:lnTo>
                <a:lnTo>
                  <a:pt x="3218" y="880"/>
                </a:lnTo>
                <a:lnTo>
                  <a:pt x="3192" y="875"/>
                </a:lnTo>
                <a:lnTo>
                  <a:pt x="3171" y="870"/>
                </a:lnTo>
                <a:lnTo>
                  <a:pt x="3145" y="864"/>
                </a:lnTo>
                <a:lnTo>
                  <a:pt x="3125" y="854"/>
                </a:lnTo>
                <a:lnTo>
                  <a:pt x="3098" y="849"/>
                </a:lnTo>
                <a:lnTo>
                  <a:pt x="3078" y="844"/>
                </a:lnTo>
                <a:lnTo>
                  <a:pt x="3057" y="838"/>
                </a:lnTo>
                <a:lnTo>
                  <a:pt x="3036" y="833"/>
                </a:lnTo>
                <a:lnTo>
                  <a:pt x="3020" y="828"/>
                </a:lnTo>
                <a:lnTo>
                  <a:pt x="3005" y="823"/>
                </a:lnTo>
                <a:lnTo>
                  <a:pt x="2989" y="823"/>
                </a:lnTo>
                <a:lnTo>
                  <a:pt x="2979" y="823"/>
                </a:lnTo>
                <a:lnTo>
                  <a:pt x="2974" y="823"/>
                </a:lnTo>
                <a:lnTo>
                  <a:pt x="2968" y="823"/>
                </a:lnTo>
                <a:lnTo>
                  <a:pt x="2968" y="828"/>
                </a:lnTo>
                <a:lnTo>
                  <a:pt x="2968" y="833"/>
                </a:lnTo>
                <a:lnTo>
                  <a:pt x="2979" y="844"/>
                </a:lnTo>
                <a:lnTo>
                  <a:pt x="2984" y="849"/>
                </a:lnTo>
                <a:lnTo>
                  <a:pt x="2994" y="854"/>
                </a:lnTo>
                <a:lnTo>
                  <a:pt x="3000" y="859"/>
                </a:lnTo>
                <a:lnTo>
                  <a:pt x="3010" y="864"/>
                </a:lnTo>
                <a:lnTo>
                  <a:pt x="3020" y="870"/>
                </a:lnTo>
                <a:lnTo>
                  <a:pt x="3036" y="875"/>
                </a:lnTo>
                <a:lnTo>
                  <a:pt x="3046" y="880"/>
                </a:lnTo>
                <a:lnTo>
                  <a:pt x="3062" y="890"/>
                </a:lnTo>
                <a:lnTo>
                  <a:pt x="3072" y="896"/>
                </a:lnTo>
                <a:lnTo>
                  <a:pt x="3088" y="901"/>
                </a:lnTo>
                <a:lnTo>
                  <a:pt x="3104" y="911"/>
                </a:lnTo>
                <a:lnTo>
                  <a:pt x="3125" y="922"/>
                </a:lnTo>
                <a:lnTo>
                  <a:pt x="3140" y="932"/>
                </a:lnTo>
                <a:lnTo>
                  <a:pt x="3156" y="943"/>
                </a:lnTo>
                <a:lnTo>
                  <a:pt x="3177" y="953"/>
                </a:lnTo>
                <a:lnTo>
                  <a:pt x="3197" y="969"/>
                </a:lnTo>
                <a:lnTo>
                  <a:pt x="3218" y="984"/>
                </a:lnTo>
                <a:lnTo>
                  <a:pt x="3239" y="1000"/>
                </a:lnTo>
                <a:lnTo>
                  <a:pt x="3255" y="1021"/>
                </a:lnTo>
                <a:lnTo>
                  <a:pt x="3281" y="1042"/>
                </a:lnTo>
                <a:lnTo>
                  <a:pt x="3302" y="1062"/>
                </a:lnTo>
                <a:lnTo>
                  <a:pt x="3322" y="1088"/>
                </a:lnTo>
                <a:lnTo>
                  <a:pt x="3348" y="1114"/>
                </a:lnTo>
                <a:lnTo>
                  <a:pt x="3369" y="1146"/>
                </a:lnTo>
                <a:lnTo>
                  <a:pt x="3395" y="1177"/>
                </a:lnTo>
                <a:lnTo>
                  <a:pt x="3421" y="1213"/>
                </a:lnTo>
                <a:lnTo>
                  <a:pt x="3447" y="1250"/>
                </a:lnTo>
                <a:lnTo>
                  <a:pt x="3473" y="1291"/>
                </a:lnTo>
                <a:lnTo>
                  <a:pt x="3499" y="1338"/>
                </a:lnTo>
                <a:lnTo>
                  <a:pt x="3526" y="1385"/>
                </a:lnTo>
                <a:lnTo>
                  <a:pt x="3552" y="1432"/>
                </a:lnTo>
                <a:lnTo>
                  <a:pt x="3567" y="1463"/>
                </a:lnTo>
                <a:lnTo>
                  <a:pt x="3578" y="1489"/>
                </a:lnTo>
                <a:lnTo>
                  <a:pt x="3583" y="1510"/>
                </a:lnTo>
                <a:lnTo>
                  <a:pt x="3588" y="1526"/>
                </a:lnTo>
                <a:lnTo>
                  <a:pt x="3588" y="1541"/>
                </a:lnTo>
                <a:lnTo>
                  <a:pt x="3588" y="1547"/>
                </a:lnTo>
                <a:lnTo>
                  <a:pt x="3583" y="1552"/>
                </a:lnTo>
                <a:lnTo>
                  <a:pt x="3572" y="1557"/>
                </a:lnTo>
                <a:lnTo>
                  <a:pt x="3567" y="1557"/>
                </a:lnTo>
                <a:lnTo>
                  <a:pt x="3557" y="1552"/>
                </a:lnTo>
                <a:lnTo>
                  <a:pt x="3541" y="1547"/>
                </a:lnTo>
                <a:lnTo>
                  <a:pt x="3526" y="1541"/>
                </a:lnTo>
                <a:lnTo>
                  <a:pt x="3510" y="1531"/>
                </a:lnTo>
                <a:lnTo>
                  <a:pt x="3494" y="1521"/>
                </a:lnTo>
                <a:lnTo>
                  <a:pt x="3473" y="1505"/>
                </a:lnTo>
                <a:lnTo>
                  <a:pt x="3458" y="1495"/>
                </a:lnTo>
                <a:lnTo>
                  <a:pt x="3437" y="1479"/>
                </a:lnTo>
                <a:lnTo>
                  <a:pt x="3416" y="1463"/>
                </a:lnTo>
                <a:lnTo>
                  <a:pt x="3401" y="1453"/>
                </a:lnTo>
                <a:lnTo>
                  <a:pt x="3380" y="1437"/>
                </a:lnTo>
                <a:lnTo>
                  <a:pt x="3364" y="1422"/>
                </a:lnTo>
                <a:lnTo>
                  <a:pt x="3343" y="1411"/>
                </a:lnTo>
                <a:lnTo>
                  <a:pt x="3328" y="1396"/>
                </a:lnTo>
                <a:lnTo>
                  <a:pt x="3312" y="1385"/>
                </a:lnTo>
                <a:lnTo>
                  <a:pt x="3296" y="1375"/>
                </a:lnTo>
                <a:lnTo>
                  <a:pt x="3286" y="1364"/>
                </a:lnTo>
                <a:lnTo>
                  <a:pt x="3270" y="1359"/>
                </a:lnTo>
                <a:lnTo>
                  <a:pt x="3265" y="1354"/>
                </a:lnTo>
                <a:lnTo>
                  <a:pt x="3255" y="1354"/>
                </a:lnTo>
                <a:lnTo>
                  <a:pt x="3255" y="1354"/>
                </a:lnTo>
                <a:lnTo>
                  <a:pt x="3250" y="1359"/>
                </a:lnTo>
                <a:lnTo>
                  <a:pt x="3250" y="1370"/>
                </a:lnTo>
                <a:lnTo>
                  <a:pt x="3260" y="1385"/>
                </a:lnTo>
                <a:lnTo>
                  <a:pt x="3270" y="1406"/>
                </a:lnTo>
                <a:lnTo>
                  <a:pt x="3286" y="1427"/>
                </a:lnTo>
                <a:lnTo>
                  <a:pt x="3302" y="1448"/>
                </a:lnTo>
                <a:lnTo>
                  <a:pt x="3322" y="1469"/>
                </a:lnTo>
                <a:lnTo>
                  <a:pt x="3343" y="1500"/>
                </a:lnTo>
                <a:lnTo>
                  <a:pt x="3364" y="1531"/>
                </a:lnTo>
                <a:lnTo>
                  <a:pt x="3390" y="1567"/>
                </a:lnTo>
                <a:lnTo>
                  <a:pt x="3416" y="1609"/>
                </a:lnTo>
                <a:lnTo>
                  <a:pt x="3437" y="1661"/>
                </a:lnTo>
                <a:lnTo>
                  <a:pt x="3463" y="1718"/>
                </a:lnTo>
                <a:lnTo>
                  <a:pt x="3484" y="1786"/>
                </a:lnTo>
                <a:lnTo>
                  <a:pt x="3505" y="1859"/>
                </a:lnTo>
                <a:lnTo>
                  <a:pt x="3520" y="1948"/>
                </a:lnTo>
                <a:lnTo>
                  <a:pt x="3536" y="2047"/>
                </a:lnTo>
                <a:lnTo>
                  <a:pt x="3552" y="2156"/>
                </a:lnTo>
                <a:lnTo>
                  <a:pt x="3552" y="2213"/>
                </a:lnTo>
                <a:lnTo>
                  <a:pt x="3552" y="2255"/>
                </a:lnTo>
                <a:lnTo>
                  <a:pt x="3541" y="2276"/>
                </a:lnTo>
                <a:lnTo>
                  <a:pt x="3526" y="2276"/>
                </a:lnTo>
                <a:lnTo>
                  <a:pt x="3510" y="2265"/>
                </a:lnTo>
                <a:lnTo>
                  <a:pt x="3489" y="2239"/>
                </a:lnTo>
                <a:lnTo>
                  <a:pt x="3468" y="2208"/>
                </a:lnTo>
                <a:lnTo>
                  <a:pt x="3442" y="2172"/>
                </a:lnTo>
                <a:lnTo>
                  <a:pt x="3421" y="2130"/>
                </a:lnTo>
                <a:lnTo>
                  <a:pt x="3395" y="2088"/>
                </a:lnTo>
                <a:lnTo>
                  <a:pt x="3369" y="2047"/>
                </a:lnTo>
                <a:lnTo>
                  <a:pt x="3348" y="2010"/>
                </a:lnTo>
                <a:lnTo>
                  <a:pt x="3333" y="1984"/>
                </a:lnTo>
                <a:lnTo>
                  <a:pt x="3317" y="1963"/>
                </a:lnTo>
                <a:lnTo>
                  <a:pt x="3307" y="1958"/>
                </a:lnTo>
                <a:lnTo>
                  <a:pt x="3302" y="1968"/>
                </a:lnTo>
                <a:lnTo>
                  <a:pt x="3302" y="1984"/>
                </a:lnTo>
                <a:lnTo>
                  <a:pt x="3307" y="2005"/>
                </a:lnTo>
                <a:lnTo>
                  <a:pt x="3312" y="2031"/>
                </a:lnTo>
                <a:lnTo>
                  <a:pt x="3322" y="2057"/>
                </a:lnTo>
                <a:lnTo>
                  <a:pt x="3328" y="2083"/>
                </a:lnTo>
                <a:lnTo>
                  <a:pt x="3338" y="2114"/>
                </a:lnTo>
                <a:lnTo>
                  <a:pt x="3348" y="2151"/>
                </a:lnTo>
                <a:lnTo>
                  <a:pt x="3359" y="2198"/>
                </a:lnTo>
                <a:lnTo>
                  <a:pt x="3364" y="2244"/>
                </a:lnTo>
                <a:lnTo>
                  <a:pt x="3364" y="2297"/>
                </a:lnTo>
                <a:lnTo>
                  <a:pt x="3364" y="2359"/>
                </a:lnTo>
                <a:lnTo>
                  <a:pt x="3359" y="2432"/>
                </a:lnTo>
                <a:lnTo>
                  <a:pt x="3348" y="2510"/>
                </a:lnTo>
                <a:lnTo>
                  <a:pt x="3333" y="2593"/>
                </a:lnTo>
                <a:lnTo>
                  <a:pt x="3312" y="2687"/>
                </a:lnTo>
                <a:lnTo>
                  <a:pt x="3281" y="2796"/>
                </a:lnTo>
                <a:lnTo>
                  <a:pt x="3260" y="2854"/>
                </a:lnTo>
                <a:lnTo>
                  <a:pt x="3239" y="2890"/>
                </a:lnTo>
                <a:lnTo>
                  <a:pt x="3223" y="2906"/>
                </a:lnTo>
                <a:lnTo>
                  <a:pt x="3213" y="2901"/>
                </a:lnTo>
                <a:lnTo>
                  <a:pt x="3203" y="2885"/>
                </a:lnTo>
                <a:lnTo>
                  <a:pt x="3192" y="2854"/>
                </a:lnTo>
                <a:lnTo>
                  <a:pt x="3182" y="2812"/>
                </a:lnTo>
                <a:lnTo>
                  <a:pt x="3177" y="2770"/>
                </a:lnTo>
                <a:lnTo>
                  <a:pt x="3166" y="2718"/>
                </a:lnTo>
                <a:lnTo>
                  <a:pt x="3161" y="2671"/>
                </a:lnTo>
                <a:lnTo>
                  <a:pt x="3156" y="2625"/>
                </a:lnTo>
                <a:lnTo>
                  <a:pt x="3151" y="2583"/>
                </a:lnTo>
                <a:lnTo>
                  <a:pt x="3145" y="2546"/>
                </a:lnTo>
                <a:lnTo>
                  <a:pt x="3140" y="2526"/>
                </a:lnTo>
                <a:lnTo>
                  <a:pt x="3135" y="2515"/>
                </a:lnTo>
                <a:lnTo>
                  <a:pt x="3125" y="2520"/>
                </a:lnTo>
                <a:lnTo>
                  <a:pt x="3119" y="2541"/>
                </a:lnTo>
                <a:lnTo>
                  <a:pt x="3114" y="2557"/>
                </a:lnTo>
                <a:lnTo>
                  <a:pt x="3109" y="2583"/>
                </a:lnTo>
                <a:lnTo>
                  <a:pt x="3109" y="2609"/>
                </a:lnTo>
                <a:lnTo>
                  <a:pt x="3109" y="2640"/>
                </a:lnTo>
                <a:lnTo>
                  <a:pt x="3104" y="2671"/>
                </a:lnTo>
                <a:lnTo>
                  <a:pt x="3098" y="2713"/>
                </a:lnTo>
                <a:lnTo>
                  <a:pt x="3093" y="2755"/>
                </a:lnTo>
                <a:lnTo>
                  <a:pt x="3078" y="2802"/>
                </a:lnTo>
                <a:lnTo>
                  <a:pt x="3062" y="2854"/>
                </a:lnTo>
                <a:lnTo>
                  <a:pt x="3036" y="2911"/>
                </a:lnTo>
                <a:lnTo>
                  <a:pt x="3005" y="2974"/>
                </a:lnTo>
                <a:lnTo>
                  <a:pt x="2968" y="3041"/>
                </a:lnTo>
                <a:lnTo>
                  <a:pt x="2921" y="3114"/>
                </a:lnTo>
                <a:lnTo>
                  <a:pt x="2864" y="3192"/>
                </a:lnTo>
                <a:lnTo>
                  <a:pt x="2796" y="3281"/>
                </a:lnTo>
                <a:lnTo>
                  <a:pt x="2755" y="3328"/>
                </a:lnTo>
                <a:lnTo>
                  <a:pt x="2724" y="3354"/>
                </a:lnTo>
                <a:lnTo>
                  <a:pt x="2703" y="3359"/>
                </a:lnTo>
                <a:lnTo>
                  <a:pt x="2692" y="3354"/>
                </a:lnTo>
                <a:lnTo>
                  <a:pt x="2687" y="3333"/>
                </a:lnTo>
                <a:lnTo>
                  <a:pt x="2692" y="3302"/>
                </a:lnTo>
                <a:lnTo>
                  <a:pt x="2698" y="3260"/>
                </a:lnTo>
                <a:lnTo>
                  <a:pt x="2708" y="3218"/>
                </a:lnTo>
                <a:lnTo>
                  <a:pt x="2718" y="3171"/>
                </a:lnTo>
                <a:lnTo>
                  <a:pt x="2734" y="3125"/>
                </a:lnTo>
                <a:lnTo>
                  <a:pt x="2744" y="3078"/>
                </a:lnTo>
                <a:lnTo>
                  <a:pt x="2755" y="3036"/>
                </a:lnTo>
                <a:lnTo>
                  <a:pt x="2765" y="3005"/>
                </a:lnTo>
                <a:lnTo>
                  <a:pt x="2765" y="2979"/>
                </a:lnTo>
                <a:lnTo>
                  <a:pt x="2760" y="2968"/>
                </a:lnTo>
                <a:lnTo>
                  <a:pt x="2755" y="2974"/>
                </a:lnTo>
                <a:lnTo>
                  <a:pt x="2744" y="2979"/>
                </a:lnTo>
                <a:lnTo>
                  <a:pt x="2739" y="2984"/>
                </a:lnTo>
                <a:lnTo>
                  <a:pt x="2734" y="2994"/>
                </a:lnTo>
                <a:lnTo>
                  <a:pt x="2729" y="3000"/>
                </a:lnTo>
                <a:lnTo>
                  <a:pt x="2724" y="3010"/>
                </a:lnTo>
                <a:lnTo>
                  <a:pt x="2718" y="3020"/>
                </a:lnTo>
                <a:lnTo>
                  <a:pt x="2713" y="3036"/>
                </a:lnTo>
                <a:lnTo>
                  <a:pt x="2708" y="3046"/>
                </a:lnTo>
                <a:lnTo>
                  <a:pt x="2698" y="3062"/>
                </a:lnTo>
                <a:lnTo>
                  <a:pt x="2692" y="3072"/>
                </a:lnTo>
                <a:lnTo>
                  <a:pt x="2687" y="3088"/>
                </a:lnTo>
                <a:lnTo>
                  <a:pt x="2677" y="3104"/>
                </a:lnTo>
                <a:lnTo>
                  <a:pt x="2666" y="3125"/>
                </a:lnTo>
                <a:lnTo>
                  <a:pt x="2656" y="3140"/>
                </a:lnTo>
                <a:lnTo>
                  <a:pt x="2645" y="3156"/>
                </a:lnTo>
                <a:lnTo>
                  <a:pt x="2635" y="3177"/>
                </a:lnTo>
                <a:lnTo>
                  <a:pt x="2619" y="3197"/>
                </a:lnTo>
                <a:lnTo>
                  <a:pt x="2604" y="3218"/>
                </a:lnTo>
                <a:lnTo>
                  <a:pt x="2588" y="3239"/>
                </a:lnTo>
                <a:lnTo>
                  <a:pt x="2567" y="3255"/>
                </a:lnTo>
                <a:lnTo>
                  <a:pt x="2546" y="3281"/>
                </a:lnTo>
                <a:lnTo>
                  <a:pt x="2526" y="3302"/>
                </a:lnTo>
                <a:lnTo>
                  <a:pt x="2500" y="3322"/>
                </a:lnTo>
                <a:lnTo>
                  <a:pt x="2474" y="3348"/>
                </a:lnTo>
                <a:lnTo>
                  <a:pt x="2442" y="3369"/>
                </a:lnTo>
                <a:lnTo>
                  <a:pt x="2411" y="3395"/>
                </a:lnTo>
                <a:lnTo>
                  <a:pt x="2375" y="3421"/>
                </a:lnTo>
                <a:lnTo>
                  <a:pt x="2338" y="3447"/>
                </a:lnTo>
                <a:lnTo>
                  <a:pt x="2297" y="3473"/>
                </a:lnTo>
                <a:lnTo>
                  <a:pt x="2250" y="3499"/>
                </a:lnTo>
                <a:lnTo>
                  <a:pt x="2203" y="3526"/>
                </a:lnTo>
                <a:lnTo>
                  <a:pt x="2156" y="3552"/>
                </a:lnTo>
                <a:lnTo>
                  <a:pt x="2125" y="3567"/>
                </a:lnTo>
                <a:lnTo>
                  <a:pt x="2099" y="3578"/>
                </a:lnTo>
                <a:lnTo>
                  <a:pt x="2078" y="3583"/>
                </a:lnTo>
                <a:lnTo>
                  <a:pt x="2062" y="3588"/>
                </a:lnTo>
                <a:lnTo>
                  <a:pt x="2047" y="3588"/>
                </a:lnTo>
                <a:lnTo>
                  <a:pt x="2041" y="3588"/>
                </a:lnTo>
                <a:lnTo>
                  <a:pt x="2031" y="3583"/>
                </a:lnTo>
                <a:lnTo>
                  <a:pt x="2031" y="3572"/>
                </a:lnTo>
                <a:lnTo>
                  <a:pt x="2031" y="3567"/>
                </a:lnTo>
                <a:lnTo>
                  <a:pt x="2036" y="3557"/>
                </a:lnTo>
                <a:lnTo>
                  <a:pt x="2041" y="3541"/>
                </a:lnTo>
                <a:lnTo>
                  <a:pt x="2047" y="3526"/>
                </a:lnTo>
                <a:lnTo>
                  <a:pt x="2057" y="3510"/>
                </a:lnTo>
                <a:lnTo>
                  <a:pt x="2067" y="3494"/>
                </a:lnTo>
                <a:lnTo>
                  <a:pt x="2078" y="3473"/>
                </a:lnTo>
                <a:lnTo>
                  <a:pt x="2093" y="3458"/>
                </a:lnTo>
                <a:lnTo>
                  <a:pt x="2109" y="3437"/>
                </a:lnTo>
                <a:lnTo>
                  <a:pt x="2119" y="3416"/>
                </a:lnTo>
                <a:lnTo>
                  <a:pt x="2135" y="3401"/>
                </a:lnTo>
                <a:lnTo>
                  <a:pt x="2151" y="3380"/>
                </a:lnTo>
                <a:lnTo>
                  <a:pt x="2166" y="3359"/>
                </a:lnTo>
                <a:lnTo>
                  <a:pt x="2177" y="3343"/>
                </a:lnTo>
                <a:lnTo>
                  <a:pt x="2192" y="3328"/>
                </a:lnTo>
                <a:lnTo>
                  <a:pt x="2203" y="3312"/>
                </a:lnTo>
                <a:lnTo>
                  <a:pt x="2213" y="3296"/>
                </a:lnTo>
                <a:lnTo>
                  <a:pt x="2224" y="3281"/>
                </a:lnTo>
                <a:lnTo>
                  <a:pt x="2229" y="3270"/>
                </a:lnTo>
                <a:lnTo>
                  <a:pt x="2229" y="3260"/>
                </a:lnTo>
                <a:lnTo>
                  <a:pt x="2234" y="3255"/>
                </a:lnTo>
                <a:lnTo>
                  <a:pt x="2234" y="3250"/>
                </a:lnTo>
                <a:lnTo>
                  <a:pt x="2229" y="3250"/>
                </a:lnTo>
                <a:lnTo>
                  <a:pt x="2218" y="325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ffffcc"/>
              </a:gs>
              <a:gs pos="100000">
                <a:srgbClr val="fefefe"/>
              </a:gs>
            </a:gsLst>
            <a:lin ang="81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89240" y="76320"/>
            <a:ext cx="6706800" cy="764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Coefficient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Correlatio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360" y="914400"/>
            <a:ext cx="834372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i="1" lang="en-GB" sz="2800" spc="-1" strike="noStrike">
                <a:solidFill>
                  <a:srgbClr val="ff6600"/>
                </a:solidFill>
                <a:latin typeface="Times New Roman"/>
              </a:rPr>
              <a:t>measure of strength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of the relationship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etween two vari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require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erv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atio-scal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can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range from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-1.00 to 1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ues of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-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0 or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0 indicate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perfec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strong cor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ue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lose to 0.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dicat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weak cor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egative valu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dicate an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inverse relationshi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positive valu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dicate a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direct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57200" y="6307200"/>
            <a:ext cx="8305920" cy="474480"/>
            <a:chOff x="457200" y="6307200"/>
            <a:chExt cx="8305920" cy="474480"/>
          </a:xfrm>
        </p:grpSpPr>
        <p:sp>
          <p:nvSpPr>
            <p:cNvPr id="111" name=""/>
            <p:cNvSpPr/>
            <p:nvPr/>
          </p:nvSpPr>
          <p:spPr>
            <a:xfrm>
              <a:off x="457200" y="6476760"/>
              <a:ext cx="8305920" cy="75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99"/>
                </a:gs>
                <a:gs pos="100000">
                  <a:srgbClr val="fefefe"/>
                </a:gs>
              </a:gsLst>
              <a:lin ang="81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67080" y="6307200"/>
              <a:ext cx="533520" cy="47448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9dbc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2390760" y="228600"/>
            <a:ext cx="4361040" cy="838080"/>
          </a:xfrm>
          <a:prstGeom prst="rect">
            <a:avLst/>
          </a:prstGeom>
          <a:solidFill>
            <a:srgbClr val="fbe7db">
              <a:alpha val="40000"/>
            </a:srgbClr>
          </a:solidFill>
          <a:ln w="0">
            <a:noFill/>
          </a:ln>
          <a:effectLst>
            <a:outerShdw dist="153753" dir="27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fidence Inter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816120" y="2133720"/>
            <a:ext cx="8327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nfidence interval for the mean value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a given value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838080" y="5562720"/>
            <a:ext cx="2286000" cy="761760"/>
            <a:chOff x="838080" y="5562720"/>
            <a:chExt cx="2286000" cy="761760"/>
          </a:xfrm>
        </p:grpSpPr>
        <p:sp>
          <p:nvSpPr>
            <p:cNvPr id="1337" name=""/>
            <p:cNvSpPr/>
            <p:nvPr/>
          </p:nvSpPr>
          <p:spPr>
            <a:xfrm>
              <a:off x="838080" y="5562720"/>
              <a:ext cx="2286000" cy="761760"/>
            </a:xfrm>
            <a:prstGeom prst="rect">
              <a:avLst/>
            </a:prstGeom>
            <a:solidFill>
              <a:srgbClr val="fbe7db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939960" y="5707080"/>
              <a:ext cx="2011680" cy="417600"/>
              <a:chOff x="939960" y="5707080"/>
              <a:chExt cx="2011680" cy="417600"/>
            </a:xfrm>
          </p:grpSpPr>
          <p:sp>
            <p:nvSpPr>
              <p:cNvPr id="1339" name=""/>
              <p:cNvSpPr/>
              <p:nvPr/>
            </p:nvSpPr>
            <p:spPr>
              <a:xfrm>
                <a:off x="2633760" y="5743440"/>
                <a:ext cx="3178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3300"/>
                    </a:solidFill>
                    <a:latin typeface="Times New Roman"/>
                  </a:rPr>
                  <a:t>31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501640" y="5743440"/>
                <a:ext cx="799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3300"/>
                    </a:solidFill>
                    <a:latin typeface="Times New Roman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141640" y="5743440"/>
                <a:ext cx="3178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3300"/>
                    </a:solidFill>
                    <a:latin typeface="Times New Roman"/>
                  </a:rPr>
                  <a:t>15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433520" y="5743440"/>
                <a:ext cx="3178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3300"/>
                    </a:solidFill>
                    <a:latin typeface="Times New Roman"/>
                  </a:rPr>
                  <a:t>14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301400" y="5743440"/>
                <a:ext cx="799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3300"/>
                    </a:solidFill>
                    <a:latin typeface="Times New Roman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939960" y="5743440"/>
                <a:ext cx="3178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3300"/>
                    </a:solidFill>
                    <a:latin typeface="Times New Roman"/>
                  </a:rPr>
                  <a:t>89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872360" y="5707080"/>
                <a:ext cx="25236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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6" name=""/>
          <p:cNvGrpSpPr/>
          <p:nvPr/>
        </p:nvGrpSpPr>
        <p:grpSpPr>
          <a:xfrm>
            <a:off x="4070520" y="4495320"/>
            <a:ext cx="4539960" cy="1384920"/>
            <a:chOff x="4070520" y="4495320"/>
            <a:chExt cx="4539960" cy="1384920"/>
          </a:xfrm>
        </p:grpSpPr>
        <p:grpSp>
          <p:nvGrpSpPr>
            <p:cNvPr id="1347" name=""/>
            <p:cNvGrpSpPr/>
            <p:nvPr/>
          </p:nvGrpSpPr>
          <p:grpSpPr>
            <a:xfrm>
              <a:off x="4122720" y="4495320"/>
              <a:ext cx="4487760" cy="1384920"/>
              <a:chOff x="4122720" y="4495320"/>
              <a:chExt cx="4487760" cy="1384920"/>
            </a:xfrm>
          </p:grpSpPr>
          <p:sp>
            <p:nvSpPr>
              <p:cNvPr id="1348" name=""/>
              <p:cNvSpPr/>
              <p:nvPr/>
            </p:nvSpPr>
            <p:spPr>
              <a:xfrm>
                <a:off x="4341960" y="4991040"/>
                <a:ext cx="2394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978600" y="5457600"/>
                <a:ext cx="1395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176800" y="4991040"/>
                <a:ext cx="3433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122720" y="5303520"/>
                <a:ext cx="73080" cy="49068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V="1">
                <a:off x="4205160" y="4495320"/>
                <a:ext cx="104760" cy="129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309920" y="4495680"/>
                <a:ext cx="4148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683480" y="549900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8091720" y="5067000"/>
                <a:ext cx="1058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310520" y="5067000"/>
                <a:ext cx="7138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3333cc"/>
                    </a:solidFill>
                    <a:latin typeface="Times New Roman"/>
                  </a:rPr>
                  <a:t>4 900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108920" y="5067000"/>
                <a:ext cx="1058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146640" y="5259240"/>
                <a:ext cx="476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3333cc"/>
                    </a:solidFill>
                    <a:latin typeface="Times New Roman"/>
                  </a:rPr>
                  <a:t>000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013440" y="5259240"/>
                <a:ext cx="144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424480" y="5259240"/>
                <a:ext cx="476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3333cc"/>
                    </a:solidFill>
                    <a:latin typeface="Times New Roman"/>
                  </a:rPr>
                  <a:t>150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329080" y="5259240"/>
                <a:ext cx="180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114880" y="525924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645680" y="4595760"/>
                <a:ext cx="1058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454880" y="45957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335360" y="4595760"/>
                <a:ext cx="799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781680" y="4595760"/>
                <a:ext cx="476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Times New Roman"/>
                  </a:rPr>
                  <a:t>612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794200" y="4595760"/>
                <a:ext cx="476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Times New Roman"/>
                  </a:rPr>
                  <a:t>800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600160" y="4595760"/>
                <a:ext cx="1058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468680" y="50367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468680" y="459576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8237160" y="500832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792560" y="453672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739920" y="5222520"/>
                <a:ext cx="1058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508800" y="4559040"/>
                <a:ext cx="1058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817880" y="4755960"/>
                <a:ext cx="1850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6" name=""/>
            <p:cNvSpPr/>
            <p:nvPr/>
          </p:nvSpPr>
          <p:spPr>
            <a:xfrm flipV="1">
              <a:off x="4070520" y="5295600"/>
              <a:ext cx="52200" cy="2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546840" y="4756320"/>
            <a:ext cx="3521520" cy="417240"/>
            <a:chOff x="546840" y="4756320"/>
            <a:chExt cx="3521520" cy="417240"/>
          </a:xfrm>
        </p:grpSpPr>
        <p:sp>
          <p:nvSpPr>
            <p:cNvPr id="1378" name=""/>
            <p:cNvSpPr/>
            <p:nvPr/>
          </p:nvSpPr>
          <p:spPr>
            <a:xfrm>
              <a:off x="3962520" y="47923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455280" y="4792320"/>
              <a:ext cx="476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408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279600" y="479232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905200" y="4792320"/>
              <a:ext cx="317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764080" y="47923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98520" y="4792320"/>
              <a:ext cx="476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447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025360" y="479232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832040" y="47923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068480" y="4792320"/>
              <a:ext cx="317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922320" y="479232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6840" y="4792320"/>
              <a:ext cx="317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89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463040" y="475632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380880" y="1143000"/>
            <a:ext cx="8305920" cy="932760"/>
            <a:chOff x="380880" y="1143000"/>
            <a:chExt cx="8305920" cy="932760"/>
          </a:xfrm>
        </p:grpSpPr>
        <p:sp>
          <p:nvSpPr>
            <p:cNvPr id="1391" name=""/>
            <p:cNvSpPr/>
            <p:nvPr/>
          </p:nvSpPr>
          <p:spPr>
            <a:xfrm>
              <a:off x="380880" y="1371600"/>
              <a:ext cx="1656000" cy="459720"/>
            </a:xfrm>
            <a:prstGeom prst="rect">
              <a:avLst/>
            </a:prstGeom>
            <a:solidFill>
              <a:srgbClr val="fbe7db"/>
            </a:solidFill>
            <a:ln w="0">
              <a:noFill/>
            </a:ln>
            <a:effectLst>
              <a:outerShdw dist="109184" dir="7528307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viousl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2" name=""/>
            <p:cNvGrpSpPr/>
            <p:nvPr/>
          </p:nvGrpSpPr>
          <p:grpSpPr>
            <a:xfrm>
              <a:off x="2133720" y="1143000"/>
              <a:ext cx="6553080" cy="932760"/>
              <a:chOff x="2133720" y="1143000"/>
              <a:chExt cx="6553080" cy="932760"/>
            </a:xfrm>
          </p:grpSpPr>
          <p:grpSp>
            <p:nvGrpSpPr>
              <p:cNvPr id="1393" name=""/>
              <p:cNvGrpSpPr/>
              <p:nvPr/>
            </p:nvGrpSpPr>
            <p:grpSpPr>
              <a:xfrm>
                <a:off x="2133720" y="1158840"/>
                <a:ext cx="6553080" cy="916920"/>
                <a:chOff x="2133720" y="1158840"/>
                <a:chExt cx="6553080" cy="916920"/>
              </a:xfrm>
            </p:grpSpPr>
            <p:sp>
              <p:nvSpPr>
                <p:cNvPr id="1394" name=""/>
                <p:cNvSpPr/>
                <p:nvPr/>
              </p:nvSpPr>
              <p:spPr>
                <a:xfrm>
                  <a:off x="2433600" y="1158840"/>
                  <a:ext cx="625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r>
                    <a:rPr b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  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   </a:t>
                  </a:r>
                  <a:r>
                    <a:rPr b="1" i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y</a:t>
                  </a: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</a:t>
                  </a:r>
                  <a:r>
                    <a:rPr b="1" i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r>
                    <a:rPr b="1" i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y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</a:t>
                  </a:r>
                  <a:r>
                    <a:rPr b="1" i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r>
                    <a:rPr b="1" lang="en-US" sz="2400" spc="-1" strike="noStrike" baseline="30000">
                      <a:solidFill>
                        <a:srgbClr val="0000ff"/>
                      </a:solidFill>
                      <a:latin typeface="Times New Roman"/>
                    </a:rPr>
                    <a:t>2</a:t>
                  </a:r>
                  <a:r>
                    <a:rPr b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	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</a:t>
                  </a:r>
                  <a:r>
                    <a:rPr b="1" i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y</a:t>
                  </a:r>
                  <a:r>
                    <a:rPr b="1" lang="en-US" sz="2400" spc="-1" strike="noStrike" baseline="30000">
                      <a:solidFill>
                        <a:srgbClr val="ff33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2133720" y="1616040"/>
                  <a:ext cx="6553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16002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ff"/>
                      </a:solidFill>
                      <a:uFillTx/>
                      <a:latin typeface="Times New Roman"/>
                    </a:rPr>
                    <a:t>4 900</a:t>
                  </a:r>
                  <a:r>
                    <a:rPr b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       </a:t>
                  </a:r>
                  <a:r>
                    <a:rPr b="1" lang="en-US" sz="2400" spc="-1" strike="noStrike" u="sng">
                      <a:solidFill>
                        <a:srgbClr val="ff3300"/>
                      </a:solidFill>
                      <a:uFillTx/>
                      <a:latin typeface="Times New Roman"/>
                    </a:rPr>
                    <a:t> 636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 </a:t>
                  </a: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397 200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1" lang="en-US" sz="2400" spc="-1" strike="noStrike" u="sng">
                      <a:solidFill>
                        <a:srgbClr val="0000ff"/>
                      </a:solidFill>
                      <a:uFillTx/>
                      <a:latin typeface="Times New Roman"/>
                    </a:rPr>
                    <a:t>3 150 000</a:t>
                  </a:r>
                  <a:r>
                    <a:rPr b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	</a:t>
                  </a:r>
                  <a:r>
                    <a:rPr b="1" lang="en-US" sz="2400" spc="-1" strike="noStrike" u="sng">
                      <a:solidFill>
                        <a:srgbClr val="ff3300"/>
                      </a:solidFill>
                      <a:uFillTx/>
                      <a:latin typeface="Times New Roman"/>
                    </a:rPr>
                    <a:t>51 60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2286000" y="1539720"/>
                  <a:ext cx="6330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7" name=""/>
              <p:cNvGrpSpPr/>
              <p:nvPr/>
            </p:nvGrpSpPr>
            <p:grpSpPr>
              <a:xfrm>
                <a:off x="2286000" y="1143000"/>
                <a:ext cx="5790240" cy="426960"/>
                <a:chOff x="2286000" y="1143000"/>
                <a:chExt cx="5790240" cy="426960"/>
              </a:xfrm>
            </p:grpSpPr>
            <p:sp>
              <p:nvSpPr>
                <p:cNvPr id="1398" name=""/>
                <p:cNvSpPr/>
                <p:nvPr/>
              </p:nvSpPr>
              <p:spPr>
                <a:xfrm>
                  <a:off x="2286000" y="1143000"/>
                  <a:ext cx="2282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3428640" y="1143000"/>
                  <a:ext cx="2282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4724280" y="1143000"/>
                  <a:ext cx="2282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6247800" y="1143000"/>
                  <a:ext cx="2282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7848000" y="1143000"/>
                  <a:ext cx="2282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03" name=""/>
          <p:cNvGrpSpPr/>
          <p:nvPr/>
        </p:nvGrpSpPr>
        <p:grpSpPr>
          <a:xfrm>
            <a:off x="1843200" y="3042720"/>
            <a:ext cx="5244120" cy="1300320"/>
            <a:chOff x="1843200" y="3042720"/>
            <a:chExt cx="5244120" cy="1300320"/>
          </a:xfrm>
        </p:grpSpPr>
        <p:sp>
          <p:nvSpPr>
            <p:cNvPr id="1404" name=""/>
            <p:cNvSpPr/>
            <p:nvPr/>
          </p:nvSpPr>
          <p:spPr>
            <a:xfrm>
              <a:off x="4014720" y="3539880"/>
              <a:ext cx="27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962680" y="4006440"/>
              <a:ext cx="112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727520" y="3539880"/>
              <a:ext cx="235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3673440" y="3844440"/>
              <a:ext cx="50760" cy="2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724200" y="3852720"/>
              <a:ext cx="73080" cy="4903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V="1">
              <a:off x="3808440" y="3042720"/>
              <a:ext cx="103320" cy="12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911760" y="3043080"/>
              <a:ext cx="3103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829560" y="361620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119280" y="361620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513840" y="314280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101560" y="314280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084560" y="31428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978240" y="3557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317560" y="37494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659280" y="30841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687280" y="37717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800240" y="3771720"/>
              <a:ext cx="188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762880" y="31064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51040" y="330480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039040" y="327168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552720" y="395748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072040" y="37288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079160" y="350028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542760" y="350172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1843200" y="3341520"/>
              <a:ext cx="238680" cy="494280"/>
              <a:chOff x="1843200" y="3341520"/>
              <a:chExt cx="238680" cy="494280"/>
            </a:xfrm>
          </p:grpSpPr>
          <p:sp>
            <p:nvSpPr>
              <p:cNvPr id="1429" name=""/>
              <p:cNvSpPr/>
              <p:nvPr/>
            </p:nvSpPr>
            <p:spPr>
              <a:xfrm>
                <a:off x="1843200" y="3341520"/>
                <a:ext cx="14076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972800" y="357624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1" name=""/>
              <p:cNvGrpSpPr/>
              <p:nvPr/>
            </p:nvGrpSpPr>
            <p:grpSpPr>
              <a:xfrm>
                <a:off x="1849320" y="3347640"/>
                <a:ext cx="136800" cy="74880"/>
                <a:chOff x="1849320" y="3347640"/>
                <a:chExt cx="136800" cy="74880"/>
              </a:xfrm>
            </p:grpSpPr>
            <p:sp>
              <p:nvSpPr>
                <p:cNvPr id="1432" name=""/>
                <p:cNvSpPr/>
                <p:nvPr/>
              </p:nvSpPr>
              <p:spPr>
                <a:xfrm flipV="1">
                  <a:off x="1849320" y="3347640"/>
                  <a:ext cx="6840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 flipH="1" flipV="1">
                  <a:off x="1917720" y="3347640"/>
                  <a:ext cx="6840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4" name=""/>
            <p:cNvGrpSpPr/>
            <p:nvPr/>
          </p:nvGrpSpPr>
          <p:grpSpPr>
            <a:xfrm>
              <a:off x="2325600" y="3347640"/>
              <a:ext cx="822600" cy="488160"/>
              <a:chOff x="2325600" y="3347640"/>
              <a:chExt cx="822600" cy="488160"/>
            </a:xfrm>
          </p:grpSpPr>
          <p:sp>
            <p:nvSpPr>
              <p:cNvPr id="1435" name=""/>
              <p:cNvSpPr/>
              <p:nvPr/>
            </p:nvSpPr>
            <p:spPr>
              <a:xfrm>
                <a:off x="2325600" y="33476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415960" y="3576240"/>
                <a:ext cx="732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α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/2(n-2)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7" name=""/>
            <p:cNvSpPr/>
            <p:nvPr/>
          </p:nvSpPr>
          <p:spPr>
            <a:xfrm>
              <a:off x="3063240" y="327168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372840" y="33476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5257800" y="3209040"/>
              <a:ext cx="21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6110280" y="3209040"/>
              <a:ext cx="21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486040" y="32907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281280" y="3619080"/>
              <a:ext cx="188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553080" y="357624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1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"/>
          <p:cNvSpPr/>
          <p:nvPr/>
        </p:nvSpPr>
        <p:spPr>
          <a:xfrm>
            <a:off x="2311560" y="380880"/>
            <a:ext cx="4622760" cy="75888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  <a:effectLst>
            <a:outerShdw dist="153753" dir="27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ediction Inter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85800" y="20574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ediction interval for an individual value of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a given value of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given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380160" y="4603680"/>
            <a:ext cx="3521520" cy="417600"/>
            <a:chOff x="380160" y="4603680"/>
            <a:chExt cx="3521520" cy="417600"/>
          </a:xfrm>
        </p:grpSpPr>
        <p:sp>
          <p:nvSpPr>
            <p:cNvPr id="1447" name=""/>
            <p:cNvSpPr/>
            <p:nvPr/>
          </p:nvSpPr>
          <p:spPr>
            <a:xfrm>
              <a:off x="3795840" y="4640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288600" y="4640040"/>
              <a:ext cx="476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408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112920" y="464004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738520" y="4640040"/>
              <a:ext cx="317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597400" y="46400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031840" y="4640040"/>
              <a:ext cx="476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447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858680" y="464004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65360" y="464004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901800" y="4640040"/>
              <a:ext cx="317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55640" y="464004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80160" y="4640040"/>
              <a:ext cx="317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89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296360" y="460368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3809880" y="4343040"/>
            <a:ext cx="4837320" cy="1372320"/>
            <a:chOff x="3809880" y="4343040"/>
            <a:chExt cx="4837320" cy="1372320"/>
          </a:xfrm>
        </p:grpSpPr>
        <p:sp>
          <p:nvSpPr>
            <p:cNvPr id="1460" name=""/>
            <p:cNvSpPr/>
            <p:nvPr/>
          </p:nvSpPr>
          <p:spPr>
            <a:xfrm>
              <a:off x="4637160" y="4838760"/>
              <a:ext cx="239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251840" y="5292720"/>
              <a:ext cx="1395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454720" y="4876920"/>
              <a:ext cx="3047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862440" y="5151600"/>
              <a:ext cx="73080" cy="4903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3944880" y="4343040"/>
              <a:ext cx="104760" cy="12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049640" y="4343400"/>
              <a:ext cx="4148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956720" y="53341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364600" y="4902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583760" y="4902120"/>
              <a:ext cx="713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4 90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382160" y="49021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419880" y="5094360"/>
              <a:ext cx="476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00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697360" y="5094360"/>
              <a:ext cx="476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15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388120" y="509436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918560" y="444348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728120" y="44434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608600" y="444348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054920" y="4443480"/>
              <a:ext cx="476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61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067440" y="4443480"/>
              <a:ext cx="476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80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873040" y="444348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741920" y="488484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741920" y="44434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8510040" y="484344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065800" y="43848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012800" y="50576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782040" y="440676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090760" y="460368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3809880" y="5143680"/>
              <a:ext cx="52560" cy="2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952440" y="452592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 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838080" y="5562720"/>
            <a:ext cx="2590920" cy="761760"/>
            <a:chOff x="838080" y="5562720"/>
            <a:chExt cx="2590920" cy="761760"/>
          </a:xfrm>
        </p:grpSpPr>
        <p:sp>
          <p:nvSpPr>
            <p:cNvPr id="1489" name=""/>
            <p:cNvSpPr/>
            <p:nvPr/>
          </p:nvSpPr>
          <p:spPr>
            <a:xfrm>
              <a:off x="838080" y="5562720"/>
              <a:ext cx="2590920" cy="761760"/>
            </a:xfrm>
            <a:prstGeom prst="rect">
              <a:avLst/>
            </a:prstGeom>
            <a:solidFill>
              <a:srgbClr val="fbe7db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730600" y="5743440"/>
              <a:ext cx="317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3300"/>
                  </a:solidFill>
                  <a:latin typeface="Times New Roman"/>
                </a:rPr>
                <a:t>7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598480" y="574344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238480" y="5743440"/>
              <a:ext cx="317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3300"/>
                  </a:solidFill>
                  <a:latin typeface="Times New Roman"/>
                </a:rPr>
                <a:t>29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433520" y="5743440"/>
              <a:ext cx="317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3300"/>
                  </a:solidFill>
                  <a:latin typeface="Times New Roman"/>
                </a:rPr>
                <a:t>14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301400" y="574344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939960" y="5743440"/>
              <a:ext cx="317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3300"/>
                  </a:solidFill>
                  <a:latin typeface="Times New Roman"/>
                </a:rPr>
                <a:t>89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872360" y="570708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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1843200" y="3042720"/>
            <a:ext cx="5244120" cy="1300320"/>
            <a:chOff x="1843200" y="3042720"/>
            <a:chExt cx="5244120" cy="1300320"/>
          </a:xfrm>
        </p:grpSpPr>
        <p:sp>
          <p:nvSpPr>
            <p:cNvPr id="1498" name=""/>
            <p:cNvSpPr/>
            <p:nvPr/>
          </p:nvSpPr>
          <p:spPr>
            <a:xfrm>
              <a:off x="4014720" y="3539880"/>
              <a:ext cx="27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962680" y="4006440"/>
              <a:ext cx="112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727520" y="3539880"/>
              <a:ext cx="2359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3673440" y="3844440"/>
              <a:ext cx="50760" cy="2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724200" y="3852720"/>
              <a:ext cx="73080" cy="4903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3808440" y="3042720"/>
              <a:ext cx="103320" cy="12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911760" y="3043080"/>
              <a:ext cx="3103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829560" y="361620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119280" y="361620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513840" y="314280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101560" y="314280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084560" y="31428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978240" y="3557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317560" y="37494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59280" y="30841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687280" y="37717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800240" y="3771720"/>
              <a:ext cx="188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762880" y="310644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451040" y="330480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039040" y="327168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552720" y="395748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072040" y="37288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079160" y="350028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542760" y="3501720"/>
              <a:ext cx="9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2" name=""/>
            <p:cNvGrpSpPr/>
            <p:nvPr/>
          </p:nvGrpSpPr>
          <p:grpSpPr>
            <a:xfrm>
              <a:off x="1843200" y="3341520"/>
              <a:ext cx="238680" cy="494280"/>
              <a:chOff x="1843200" y="3341520"/>
              <a:chExt cx="238680" cy="494280"/>
            </a:xfrm>
          </p:grpSpPr>
          <p:sp>
            <p:nvSpPr>
              <p:cNvPr id="1523" name=""/>
              <p:cNvSpPr/>
              <p:nvPr/>
            </p:nvSpPr>
            <p:spPr>
              <a:xfrm>
                <a:off x="1843200" y="3341520"/>
                <a:ext cx="14076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972800" y="3576240"/>
                <a:ext cx="109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5" name=""/>
              <p:cNvGrpSpPr/>
              <p:nvPr/>
            </p:nvGrpSpPr>
            <p:grpSpPr>
              <a:xfrm>
                <a:off x="1849320" y="3347640"/>
                <a:ext cx="136800" cy="74880"/>
                <a:chOff x="1849320" y="3347640"/>
                <a:chExt cx="136800" cy="74880"/>
              </a:xfrm>
            </p:grpSpPr>
            <p:sp>
              <p:nvSpPr>
                <p:cNvPr id="1526" name=""/>
                <p:cNvSpPr/>
                <p:nvPr/>
              </p:nvSpPr>
              <p:spPr>
                <a:xfrm flipV="1">
                  <a:off x="1849320" y="3347640"/>
                  <a:ext cx="6840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flipH="1" flipV="1">
                  <a:off x="1917720" y="3347640"/>
                  <a:ext cx="6840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8" name=""/>
            <p:cNvGrpSpPr/>
            <p:nvPr/>
          </p:nvGrpSpPr>
          <p:grpSpPr>
            <a:xfrm>
              <a:off x="2325600" y="3347640"/>
              <a:ext cx="822600" cy="488160"/>
              <a:chOff x="2325600" y="3347640"/>
              <a:chExt cx="822600" cy="488160"/>
            </a:xfrm>
          </p:grpSpPr>
          <p:sp>
            <p:nvSpPr>
              <p:cNvPr id="1529" name=""/>
              <p:cNvSpPr/>
              <p:nvPr/>
            </p:nvSpPr>
            <p:spPr>
              <a:xfrm>
                <a:off x="2325600" y="3347640"/>
                <a:ext cx="892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5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415960" y="3576240"/>
                <a:ext cx="732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α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/2(n-2)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1" name=""/>
            <p:cNvSpPr/>
            <p:nvPr/>
          </p:nvSpPr>
          <p:spPr>
            <a:xfrm>
              <a:off x="3063240" y="327168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372840" y="33476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5257800" y="3209040"/>
              <a:ext cx="21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6110280" y="3209040"/>
              <a:ext cx="21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486040" y="32907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281280" y="3619080"/>
              <a:ext cx="188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553080" y="357624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8" name=""/>
          <p:cNvGrpSpPr/>
          <p:nvPr/>
        </p:nvGrpSpPr>
        <p:grpSpPr>
          <a:xfrm>
            <a:off x="380880" y="1143000"/>
            <a:ext cx="8305920" cy="932760"/>
            <a:chOff x="380880" y="1143000"/>
            <a:chExt cx="8305920" cy="932760"/>
          </a:xfrm>
        </p:grpSpPr>
        <p:sp>
          <p:nvSpPr>
            <p:cNvPr id="1539" name=""/>
            <p:cNvSpPr/>
            <p:nvPr/>
          </p:nvSpPr>
          <p:spPr>
            <a:xfrm>
              <a:off x="380880" y="1371600"/>
              <a:ext cx="1656000" cy="459720"/>
            </a:xfrm>
            <a:prstGeom prst="rect">
              <a:avLst/>
            </a:prstGeom>
            <a:solidFill>
              <a:srgbClr val="fbe7db"/>
            </a:solidFill>
            <a:ln w="0">
              <a:noFill/>
            </a:ln>
            <a:effectLst>
              <a:outerShdw dist="109184" dir="7528307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viousl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0" name=""/>
            <p:cNvGrpSpPr/>
            <p:nvPr/>
          </p:nvGrpSpPr>
          <p:grpSpPr>
            <a:xfrm>
              <a:off x="2133720" y="1143000"/>
              <a:ext cx="6553080" cy="932760"/>
              <a:chOff x="2133720" y="1143000"/>
              <a:chExt cx="6553080" cy="932760"/>
            </a:xfrm>
          </p:grpSpPr>
          <p:grpSp>
            <p:nvGrpSpPr>
              <p:cNvPr id="1541" name=""/>
              <p:cNvGrpSpPr/>
              <p:nvPr/>
            </p:nvGrpSpPr>
            <p:grpSpPr>
              <a:xfrm>
                <a:off x="2133720" y="1158840"/>
                <a:ext cx="6553080" cy="916920"/>
                <a:chOff x="2133720" y="1158840"/>
                <a:chExt cx="6553080" cy="91692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2433600" y="1158840"/>
                  <a:ext cx="625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r>
                    <a:rPr b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  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   </a:t>
                  </a:r>
                  <a:r>
                    <a:rPr b="1" i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y</a:t>
                  </a: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</a:t>
                  </a:r>
                  <a:r>
                    <a:rPr b="1" i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r>
                    <a:rPr b="1" i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y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</a:t>
                  </a:r>
                  <a:r>
                    <a:rPr b="1" i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x</a:t>
                  </a:r>
                  <a:r>
                    <a:rPr b="1" lang="en-US" sz="2400" spc="-1" strike="noStrike" baseline="30000">
                      <a:solidFill>
                        <a:srgbClr val="0000ff"/>
                      </a:solidFill>
                      <a:latin typeface="Times New Roman"/>
                    </a:rPr>
                    <a:t>2</a:t>
                  </a:r>
                  <a:r>
                    <a:rPr b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	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</a:t>
                  </a:r>
                  <a:r>
                    <a:rPr b="1" i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y</a:t>
                  </a:r>
                  <a:r>
                    <a:rPr b="1" lang="en-US" sz="2400" spc="-1" strike="noStrike" baseline="30000">
                      <a:solidFill>
                        <a:srgbClr val="ff33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2133720" y="1616040"/>
                  <a:ext cx="6553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16002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0000ff"/>
                      </a:solidFill>
                      <a:uFillTx/>
                      <a:latin typeface="Times New Roman"/>
                    </a:rPr>
                    <a:t>4 900</a:t>
                  </a:r>
                  <a:r>
                    <a:rPr b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       </a:t>
                  </a:r>
                  <a:r>
                    <a:rPr b="1" lang="en-US" sz="2400" spc="-1" strike="noStrike" u="sng">
                      <a:solidFill>
                        <a:srgbClr val="ff3300"/>
                      </a:solidFill>
                      <a:uFillTx/>
                      <a:latin typeface="Times New Roman"/>
                    </a:rPr>
                    <a:t> 636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 </a:t>
                  </a:r>
                  <a:r>
                    <a:rPr b="1" lang="en-US" sz="2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397 200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1" lang="en-US" sz="2400" spc="-1" strike="noStrike" u="sng">
                      <a:solidFill>
                        <a:srgbClr val="0000ff"/>
                      </a:solidFill>
                      <a:uFillTx/>
                      <a:latin typeface="Times New Roman"/>
                    </a:rPr>
                    <a:t>3 150 000</a:t>
                  </a:r>
                  <a:r>
                    <a:rPr b="1" lang="en-US" sz="2400" spc="-1" strike="noStrike">
                      <a:solidFill>
                        <a:srgbClr val="0000ff"/>
                      </a:solidFill>
                      <a:latin typeface="Times New Roman"/>
                    </a:rPr>
                    <a:t>	</a:t>
                  </a:r>
                  <a:r>
                    <a:rPr b="1" lang="en-US" sz="2400" spc="-1" strike="noStrike" u="sng">
                      <a:solidFill>
                        <a:srgbClr val="ff3300"/>
                      </a:solidFill>
                      <a:uFillTx/>
                      <a:latin typeface="Times New Roman"/>
                    </a:rPr>
                    <a:t>51 60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2286000" y="1539720"/>
                  <a:ext cx="6330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5" name=""/>
              <p:cNvGrpSpPr/>
              <p:nvPr/>
            </p:nvGrpSpPr>
            <p:grpSpPr>
              <a:xfrm>
                <a:off x="2286000" y="1143000"/>
                <a:ext cx="5790240" cy="426960"/>
                <a:chOff x="2286000" y="1143000"/>
                <a:chExt cx="5790240" cy="426960"/>
              </a:xfrm>
            </p:grpSpPr>
            <p:sp>
              <p:nvSpPr>
                <p:cNvPr id="1546" name=""/>
                <p:cNvSpPr/>
                <p:nvPr/>
              </p:nvSpPr>
              <p:spPr>
                <a:xfrm>
                  <a:off x="2286000" y="1143000"/>
                  <a:ext cx="2282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3428640" y="1143000"/>
                  <a:ext cx="2282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4724280" y="1143000"/>
                  <a:ext cx="2282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6247800" y="1143000"/>
                  <a:ext cx="2282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7848000" y="1143000"/>
                  <a:ext cx="22824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pull dir="rd"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3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/>
          <p:nvPr/>
        </p:nvSpPr>
        <p:spPr>
          <a:xfrm>
            <a:off x="277920" y="971640"/>
            <a:ext cx="85881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f33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stimated selling price for a book with 800 pages i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$89.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ff33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tandard error of estim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$10.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ff33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5 percent confide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terval for                              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all books wi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800 pages i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$89.14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$15.3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This means the limits are between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$73.8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$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4.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ff33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95 percent prediction interv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for a particular boo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th 800 pages i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$89.14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$29.7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The means the limits are between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$59.42 and $118.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301840" y="304920"/>
            <a:ext cx="4540320" cy="106884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  <a:effectLst>
            <a:outerShdw dist="153753" dir="2700000" blurRad="0" rotWithShape="0">
              <a:srgbClr val="ff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ummarizing th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54880" y="5805360"/>
            <a:ext cx="8632800" cy="52056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se results appear in the following MINITAB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2" dur="500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7" dur="500"/>
                                        <p:tgtEl>
                                          <p:spTgt spid="1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2" dur="500"/>
                                        <p:tgtEl>
                                          <p:spTgt spid="1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1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0" dur="500"/>
                                        <p:tgtEl>
                                          <p:spTgt spid="1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/>
          <p:nvPr/>
        </p:nvSpPr>
        <p:spPr>
          <a:xfrm>
            <a:off x="387360" y="990720"/>
            <a:ext cx="8299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 regression equation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ce = 48.0 + 0.0514 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edictor       Coef      SE Coef        T       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tant        48.00       16.94       2.83    0.0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ges         0.05143     0.02700       1.90    0.1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 = 10.41       R-Sq = 37.7%     R-Sq(adj) = 27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alysis of Var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urce            DF        SS          MS         F       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gression         1       393.4       393.4      3.63    0.1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idual Error     6       650.6       108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tal              7      104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edicted Values for New Obser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Obs    Fit     SE Fit      95.0% CI        95.0% 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         89.14     6.26   (73.82,104.46)   (59.41,118.88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773720" y="304920"/>
            <a:ext cx="55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ression Analysis:    Price versus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3200040" y="380880"/>
            <a:ext cx="2707560" cy="94716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XCEL 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ice vs.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7" name="" descr=""/>
          <p:cNvPicPr/>
          <p:nvPr/>
        </p:nvPicPr>
        <p:blipFill>
          <a:blip r:embed="rId1"/>
          <a:srcRect l="2193" t="16666" r="32814" b="41670"/>
          <a:stretch/>
        </p:blipFill>
        <p:spPr>
          <a:xfrm>
            <a:off x="152280" y="1600200"/>
            <a:ext cx="8610840" cy="441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/>
          <p:nvPr/>
        </p:nvSpPr>
        <p:spPr>
          <a:xfrm>
            <a:off x="1676520" y="228600"/>
            <a:ext cx="5638680" cy="764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Test your learning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685800" y="1600200"/>
            <a:ext cx="7619760" cy="1312920"/>
            <a:chOff x="685800" y="1600200"/>
            <a:chExt cx="7619760" cy="1312920"/>
          </a:xfrm>
        </p:grpSpPr>
        <p:sp>
          <p:nvSpPr>
            <p:cNvPr id="1560" name=""/>
            <p:cNvSpPr/>
            <p:nvPr/>
          </p:nvSpPr>
          <p:spPr>
            <a:xfrm>
              <a:off x="685800" y="1600200"/>
              <a:ext cx="7619760" cy="1066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>
                    <a:alpha val="25098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879840" y="1844280"/>
              <a:ext cx="7293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www.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mcgrawhill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.ca/college/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li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2" name=""/>
          <p:cNvSpPr/>
          <p:nvPr/>
        </p:nvSpPr>
        <p:spPr>
          <a:xfrm rot="20514600">
            <a:off x="612720" y="1447920"/>
            <a:ext cx="20462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  <a:effectLst>
            <a:outerShdw dist="176971" dir="1205873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ick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3" name=""/>
          <p:cNvGrpSpPr/>
          <p:nvPr/>
        </p:nvGrpSpPr>
        <p:grpSpPr>
          <a:xfrm>
            <a:off x="1676520" y="5562720"/>
            <a:ext cx="5866920" cy="304560"/>
            <a:chOff x="1676520" y="5562720"/>
            <a:chExt cx="5866920" cy="304560"/>
          </a:xfrm>
        </p:grpSpPr>
        <p:sp>
          <p:nvSpPr>
            <p:cNvPr id="1564" name=""/>
            <p:cNvSpPr/>
            <p:nvPr/>
          </p:nvSpPr>
          <p:spPr>
            <a:xfrm flipV="1">
              <a:off x="1676520" y="5634000"/>
              <a:ext cx="5866920" cy="14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5" name="" descr=""/>
            <p:cNvPicPr/>
            <p:nvPr/>
          </p:nvPicPr>
          <p:blipFill>
            <a:blip r:embed="rId6"/>
            <a:stretch/>
          </p:blipFill>
          <p:spPr>
            <a:xfrm>
              <a:off x="4511880" y="5562720"/>
              <a:ext cx="4258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6" name=""/>
          <p:cNvSpPr/>
          <p:nvPr/>
        </p:nvSpPr>
        <p:spPr>
          <a:xfrm>
            <a:off x="1443960" y="266688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Learning 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642680" y="3124080"/>
            <a:ext cx="5595840" cy="2281680"/>
            <a:chOff x="1642680" y="3124080"/>
            <a:chExt cx="5595840" cy="2281680"/>
          </a:xfrm>
        </p:grpSpPr>
        <p:sp>
          <p:nvSpPr>
            <p:cNvPr id="1568" name=""/>
            <p:cNvSpPr/>
            <p:nvPr/>
          </p:nvSpPr>
          <p:spPr>
            <a:xfrm>
              <a:off x="1642680" y="312408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quiz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078640" y="3483000"/>
              <a:ext cx="5159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ra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able gloss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ss to Statistics Canada’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-St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much mor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70" name="" descr=""/>
          <p:cNvPicPr/>
          <p:nvPr/>
        </p:nvPicPr>
        <p:blipFill>
          <a:blip r:embed="rId7"/>
          <a:stretch/>
        </p:blipFill>
        <p:spPr>
          <a:xfrm>
            <a:off x="685800" y="2743200"/>
            <a:ext cx="847800" cy="741240"/>
          </a:xfrm>
          <a:prstGeom prst="rect">
            <a:avLst/>
          </a:prstGeom>
          <a:ln w="0">
            <a:noFill/>
          </a:ln>
        </p:spPr>
      </p:pic>
      <p:pic>
        <p:nvPicPr>
          <p:cNvPr id="1571" name="" descr=""/>
          <p:cNvPicPr/>
          <p:nvPr/>
        </p:nvPicPr>
        <p:blipFill>
          <a:blip r:embed="rId8"/>
          <a:stretch/>
        </p:blipFill>
        <p:spPr>
          <a:xfrm>
            <a:off x="7238880" y="3809880"/>
            <a:ext cx="1063800" cy="14814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/>
          <p:nvPr/>
        </p:nvSpPr>
        <p:spPr>
          <a:xfrm>
            <a:off x="1710720" y="3078000"/>
            <a:ext cx="5978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completes Chapter 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0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52280" y="1371600"/>
            <a:ext cx="7689960" cy="5075640"/>
            <a:chOff x="152280" y="1371600"/>
            <a:chExt cx="7689960" cy="5075640"/>
          </a:xfrm>
        </p:grpSpPr>
        <p:sp>
          <p:nvSpPr>
            <p:cNvPr id="114" name=""/>
            <p:cNvSpPr/>
            <p:nvPr/>
          </p:nvSpPr>
          <p:spPr>
            <a:xfrm>
              <a:off x="1758960" y="1533600"/>
              <a:ext cx="6083280" cy="364500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0" y="5197320"/>
              <a:ext cx="0" cy="15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38480" y="5197320"/>
              <a:ext cx="0" cy="15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05160" y="5197320"/>
              <a:ext cx="0" cy="15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38680" y="5197320"/>
              <a:ext cx="0" cy="15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72200" y="5197320"/>
              <a:ext cx="0" cy="15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5197320"/>
              <a:ext cx="0" cy="15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91160" y="5197320"/>
              <a:ext cx="0" cy="15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04960" y="5197320"/>
              <a:ext cx="0" cy="15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71800" y="5197320"/>
              <a:ext cx="0" cy="15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38280" y="5197320"/>
              <a:ext cx="0" cy="15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04760" y="5197320"/>
              <a:ext cx="0" cy="152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84000" y="5486400"/>
              <a:ext cx="6128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   1     2      3    4     5     6     7     8      9  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599840" y="1996920"/>
              <a:ext cx="152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599840" y="1616040"/>
              <a:ext cx="152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599840" y="2378160"/>
              <a:ext cx="152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599840" y="2682720"/>
              <a:ext cx="152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599840" y="2987640"/>
              <a:ext cx="152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599840" y="3292560"/>
              <a:ext cx="152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599840" y="3673440"/>
              <a:ext cx="152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599840" y="4054320"/>
              <a:ext cx="152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599840" y="4359240"/>
              <a:ext cx="152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599840" y="4740120"/>
              <a:ext cx="152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599840" y="5045040"/>
              <a:ext cx="152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74160" y="1371600"/>
              <a:ext cx="48996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04920" y="5867280"/>
              <a:ext cx="98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2280" y="3048120"/>
              <a:ext cx="866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559520" y="104760"/>
            <a:ext cx="607896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fec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Negativ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362320" y="1828800"/>
            <a:ext cx="4952880" cy="3124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444760" y="1841400"/>
            <a:ext cx="4863960" cy="3111480"/>
            <a:chOff x="2444760" y="1841400"/>
            <a:chExt cx="4863960" cy="3111480"/>
          </a:xfrm>
        </p:grpSpPr>
        <p:sp>
          <p:nvSpPr>
            <p:cNvPr id="144" name=""/>
            <p:cNvSpPr/>
            <p:nvPr/>
          </p:nvSpPr>
          <p:spPr>
            <a:xfrm>
              <a:off x="2444760" y="1841400"/>
              <a:ext cx="139680" cy="1396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37240" y="3257640"/>
              <a:ext cx="139680" cy="1396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54240" y="2222640"/>
              <a:ext cx="139680" cy="1396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64080" y="2603520"/>
              <a:ext cx="139680" cy="1396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03720" y="2952720"/>
              <a:ext cx="139680" cy="1396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59560" y="4432320"/>
              <a:ext cx="139680" cy="1396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4095720"/>
              <a:ext cx="139680" cy="1396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75320" y="3822840"/>
              <a:ext cx="139680" cy="1396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3562200"/>
              <a:ext cx="139680" cy="1396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69040" y="4813200"/>
              <a:ext cx="139680" cy="13968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217800" y="1371600"/>
            <a:ext cx="7630920" cy="4989960"/>
            <a:chOff x="217800" y="1371600"/>
            <a:chExt cx="7630920" cy="4989960"/>
          </a:xfrm>
        </p:grpSpPr>
        <p:grpSp>
          <p:nvGrpSpPr>
            <p:cNvPr id="155" name=""/>
            <p:cNvGrpSpPr/>
            <p:nvPr/>
          </p:nvGrpSpPr>
          <p:grpSpPr>
            <a:xfrm>
              <a:off x="980640" y="1371600"/>
              <a:ext cx="6868080" cy="4989960"/>
              <a:chOff x="980640" y="1371600"/>
              <a:chExt cx="6868080" cy="4989960"/>
            </a:xfrm>
          </p:grpSpPr>
          <p:sp>
            <p:nvSpPr>
              <p:cNvPr id="156" name=""/>
              <p:cNvSpPr/>
              <p:nvPr/>
            </p:nvSpPr>
            <p:spPr>
              <a:xfrm>
                <a:off x="1765440" y="1546200"/>
                <a:ext cx="6083280" cy="3645000"/>
              </a:xfrm>
              <a:prstGeom prst="rect">
                <a:avLst/>
              </a:prstGeom>
              <a:solidFill>
                <a:srgbClr val="00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78480" y="5197320"/>
                <a:ext cx="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44960" y="5197320"/>
                <a:ext cx="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11640" y="5197320"/>
                <a:ext cx="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645160" y="5197320"/>
                <a:ext cx="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178680" y="5197320"/>
                <a:ext cx="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788160" y="5197320"/>
                <a:ext cx="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397640" y="5197320"/>
                <a:ext cx="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511440" y="5197320"/>
                <a:ext cx="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78280" y="5197320"/>
                <a:ext cx="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444760" y="5197320"/>
                <a:ext cx="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11240" y="5197320"/>
                <a:ext cx="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90480" y="5486400"/>
                <a:ext cx="6128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     1     2      3    4     5     6     7     8      9      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1606320" y="19969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1606320" y="16160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1606320" y="237816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1606320" y="26827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1606320" y="29876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1606320" y="329256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606320" y="36734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1606320" y="40543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1606320" y="43592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606320" y="47401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1606320" y="50450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80640" y="1371600"/>
                <a:ext cx="489960" cy="41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027320" y="5781600"/>
                <a:ext cx="989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     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17800" y="3209760"/>
              <a:ext cx="739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659240" y="104760"/>
            <a:ext cx="588384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fect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Positiv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444760" y="1828800"/>
            <a:ext cx="4952880" cy="3124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7175520" y="185112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883040" y="326700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566040" y="223200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956200" y="261288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416560" y="296244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060720" y="444168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600360" y="410544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44960" y="383220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438800" y="357192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451240" y="4822920"/>
            <a:ext cx="139680" cy="139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218880" y="1324080"/>
            <a:ext cx="7629840" cy="5076360"/>
            <a:chOff x="218880" y="1324080"/>
            <a:chExt cx="7629840" cy="5076360"/>
          </a:xfrm>
        </p:grpSpPr>
        <p:sp>
          <p:nvSpPr>
            <p:cNvPr id="196" name=""/>
            <p:cNvSpPr/>
            <p:nvPr/>
          </p:nvSpPr>
          <p:spPr>
            <a:xfrm>
              <a:off x="1765440" y="1498320"/>
              <a:ext cx="6083280" cy="3644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8480" y="51498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44960" y="51498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11640" y="51498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5160" y="51498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78680" y="51498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88160" y="51498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97640" y="51498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1440" y="51498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78280" y="51498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44760" y="51498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11240" y="51498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90480" y="5438520"/>
              <a:ext cx="6128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   1     2      3    4     5     6     7     8      9  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606320" y="1949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1606320" y="1568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606320" y="2330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606320" y="26352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606320" y="2939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606320" y="3244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606320" y="36255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606320" y="4006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606320" y="4311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606320" y="4692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606320" y="4997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80640" y="1324080"/>
              <a:ext cx="48996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28400" y="5759280"/>
              <a:ext cx="1087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8880" y="3000240"/>
              <a:ext cx="807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789280" y="104760"/>
            <a:ext cx="362376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er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987560" y="3305160"/>
            <a:ext cx="5562720" cy="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74920" y="1628640"/>
            <a:ext cx="4483080" cy="2959200"/>
            <a:chOff x="2374920" y="1628640"/>
            <a:chExt cx="4483080" cy="2959200"/>
          </a:xfrm>
        </p:grpSpPr>
        <p:sp>
          <p:nvSpPr>
            <p:cNvPr id="226" name=""/>
            <p:cNvSpPr/>
            <p:nvPr/>
          </p:nvSpPr>
          <p:spPr>
            <a:xfrm>
              <a:off x="2374920" y="1628640"/>
              <a:ext cx="63360" cy="6336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74920" y="2009520"/>
              <a:ext cx="63360" cy="6372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32120" y="2009520"/>
              <a:ext cx="63360" cy="6372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41600" y="1628640"/>
              <a:ext cx="63720" cy="6336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13000" y="3152520"/>
              <a:ext cx="63720" cy="6372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2466720"/>
              <a:ext cx="63360" cy="6372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94640" y="2162160"/>
              <a:ext cx="63360" cy="6336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08440" y="4295520"/>
              <a:ext cx="63360" cy="6372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51440" y="4448160"/>
              <a:ext cx="63360" cy="6336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18120" y="3990960"/>
              <a:ext cx="63360" cy="6336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32520" y="2162160"/>
              <a:ext cx="63360" cy="6336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1440" y="2543040"/>
              <a:ext cx="63360" cy="6336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84600" y="1933560"/>
              <a:ext cx="63720" cy="6336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51640" y="4524120"/>
              <a:ext cx="63360" cy="6372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27600" y="3609720"/>
              <a:ext cx="63720" cy="6372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13200" y="3686040"/>
              <a:ext cx="63720" cy="6336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98800" y="3533760"/>
              <a:ext cx="63720" cy="6336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89720" y="3533760"/>
              <a:ext cx="63360" cy="6336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42000" y="4219560"/>
              <a:ext cx="63720" cy="6336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74920" y="3914640"/>
              <a:ext cx="63360" cy="6336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f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218880" y="1295280"/>
            <a:ext cx="7629840" cy="5076720"/>
            <a:chOff x="218880" y="1295280"/>
            <a:chExt cx="7629840" cy="5076720"/>
          </a:xfrm>
        </p:grpSpPr>
        <p:sp>
          <p:nvSpPr>
            <p:cNvPr id="247" name=""/>
            <p:cNvSpPr/>
            <p:nvPr/>
          </p:nvSpPr>
          <p:spPr>
            <a:xfrm>
              <a:off x="1765440" y="1469880"/>
              <a:ext cx="6083280" cy="36450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78480" y="512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44960" y="512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11640" y="512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45160" y="512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78680" y="512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88160" y="512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97640" y="512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11440" y="512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78280" y="512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44760" y="512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11240" y="5121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90480" y="5410080"/>
              <a:ext cx="6128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   1     2      3    4     5     6     7     8      9  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606320" y="19209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606320" y="1539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1606320" y="2301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1606320" y="2606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606320" y="2911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1606320" y="3216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606320" y="35971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606320" y="3978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606320" y="42829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606320" y="4664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1606320" y="4968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80640" y="1295280"/>
              <a:ext cx="48996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15640" y="5730840"/>
              <a:ext cx="1087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8880" y="2971800"/>
              <a:ext cx="807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flipV="1">
            <a:off x="2139840" y="1752120"/>
            <a:ext cx="5029200" cy="3124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374920" y="2368440"/>
            <a:ext cx="4254480" cy="2425680"/>
            <a:chOff x="2374920" y="2368440"/>
            <a:chExt cx="4254480" cy="2425680"/>
          </a:xfrm>
        </p:grpSpPr>
        <p:sp>
          <p:nvSpPr>
            <p:cNvPr id="276" name=""/>
            <p:cNvSpPr/>
            <p:nvPr/>
          </p:nvSpPr>
          <p:spPr>
            <a:xfrm>
              <a:off x="3365640" y="3816360"/>
              <a:ext cx="139680" cy="63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51440" y="3435480"/>
              <a:ext cx="139680" cy="63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03720" y="3282840"/>
              <a:ext cx="139680" cy="637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22840" y="3740040"/>
              <a:ext cx="139680" cy="637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32120" y="4044960"/>
              <a:ext cx="139680" cy="63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27600" y="2368440"/>
              <a:ext cx="139680" cy="637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27600" y="2597040"/>
              <a:ext cx="139680" cy="637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08640" y="3130560"/>
              <a:ext cx="139680" cy="63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84600" y="3435480"/>
              <a:ext cx="139680" cy="63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37240" y="2978280"/>
              <a:ext cx="139680" cy="63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13200" y="3359160"/>
              <a:ext cx="139680" cy="63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27600" y="2901960"/>
              <a:ext cx="139680" cy="63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94440" y="3054240"/>
              <a:ext cx="139680" cy="637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89720" y="2368440"/>
              <a:ext cx="139680" cy="637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03720" y="3587760"/>
              <a:ext cx="139680" cy="63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56000" y="3740040"/>
              <a:ext cx="139680" cy="637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27200" y="3892680"/>
              <a:ext cx="139680" cy="63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08440" y="4425840"/>
              <a:ext cx="139680" cy="637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41600" y="4121280"/>
              <a:ext cx="139680" cy="63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37040" y="4273560"/>
              <a:ext cx="139680" cy="63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74920" y="4425840"/>
              <a:ext cx="139680" cy="637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03520" y="4730760"/>
              <a:ext cx="139680" cy="633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7396200" y="6110280"/>
            <a:ext cx="1523520" cy="5205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5000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00280" y="104760"/>
            <a:ext cx="580176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ong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Positiv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18:11:41Z</dcterms:created>
  <dc:creator>Colleen Quinn &amp; Ron Thornbury</dc:creator>
  <dc:description/>
  <dc:language>en-US</dc:language>
  <cp:lastModifiedBy>jeff_skinner</cp:lastModifiedBy>
  <dcterms:modified xsi:type="dcterms:W3CDTF">2003-04-28T14:10:24Z</dcterms:modified>
  <cp:revision>63</cp:revision>
  <dc:subject/>
  <dc:title>PowerPoint Presentation</dc:title>
</cp:coreProperties>
</file>