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9342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146160"/>
            <a:ext cx="914400" cy="712800"/>
            <a:chOff x="228600" y="146160"/>
            <a:chExt cx="914400" cy="712800"/>
          </a:xfrm>
        </p:grpSpPr>
        <p:pic>
          <p:nvPicPr>
            <p:cNvPr id="1" name="" descr=""/>
            <p:cNvPicPr/>
            <p:nvPr/>
          </p:nvPicPr>
          <p:blipFill>
            <a:blip r:embed="rId2"/>
            <a:stretch/>
          </p:blipFill>
          <p:spPr>
            <a:xfrm>
              <a:off x="228600" y="146160"/>
              <a:ext cx="914400" cy="712800"/>
            </a:xfrm>
            <a:prstGeom prst="rect">
              <a:avLst/>
            </a:prstGeom>
            <a:ln w="0">
              <a:noFill/>
            </a:ln>
            <a:effectLst>
              <a:outerShdw dist="81185" dir="8478030" blurRad="0" rotWithShape="0">
                <a:srgbClr val="808080"/>
              </a:outerShdw>
            </a:effectLst>
          </p:spPr>
        </p:pic>
        <p:sp>
          <p:nvSpPr>
            <p:cNvPr id="2" name=""/>
            <p:cNvSpPr txBox="1"/>
            <p:nvPr/>
          </p:nvSpPr>
          <p:spPr>
            <a:xfrm>
              <a:off x="457200" y="249120"/>
              <a:ext cx="30492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52300" dir="9963564" blurRad="0" rotWithShape="0">
                      <a:srgbClr val="000000"/>
                    </a:outerShdw>
                  </a:effectLst>
                  <a:latin typeface="Arial Black"/>
                </a:rPr>
                <a:t>14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52300" dir="9963564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162920" y="1522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4 - </a:t>
            </a:r>
            <a:fld id="{5E4276AD-22CC-4830-A98D-252B3E3B43FD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-457200" y="6642000"/>
            <a:ext cx="457200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Book Antiqua"/>
              </a:rPr>
              <a:t>Copyright © 2004 by The McGraw-Hill Companies, Inc.  All rights reserved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1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mcgrawhill.ca/college/lind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5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614840" cy="5781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362320" y="5410080"/>
            <a:ext cx="4390920" cy="70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45929" dir="7428877" blurRad="0" rotWithShape="0">
                    <a:srgbClr val="ffffcc"/>
                  </a:outerShdw>
                </a:effectLst>
                <a:latin typeface="Copper Black"/>
              </a:rPr>
              <a:t>Chapter 14</a:t>
            </a:r>
            <a:endParaRPr b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45929" dir="7428877" blurRad="0" rotWithShape="0">
                  <a:srgbClr val="ffffcc"/>
                </a:outerShdw>
              </a:effectLst>
              <a:latin typeface="Copper Black"/>
              <a:ea typeface="Copper Black"/>
            </a:endParaRPr>
          </a:p>
        </p:txBody>
      </p:sp>
      <p:sp>
        <p:nvSpPr>
          <p:cNvPr id="43" name=""/>
          <p:cNvSpPr/>
          <p:nvPr/>
        </p:nvSpPr>
        <p:spPr>
          <a:xfrm>
            <a:off x="7935840" y="0"/>
            <a:ext cx="95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353360" y="343080"/>
            <a:ext cx="135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2133720"/>
            <a:ext cx="807732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Multiple Regression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533520" y="1484280"/>
            <a:ext cx="8001000" cy="38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00"/>
              </a:spcBef>
              <a:buClr>
                <a:srgbClr val="ff33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orts the variation in the                         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dependent var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variat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s divided into two compon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… the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Explained</a:t>
            </a:r>
            <a:r>
              <a:rPr b="1" i="1" lang="en-US" sz="24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Vari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that accounted for                         by the set of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dependent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…  the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Unexplained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or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Random</a:t>
            </a: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Variation   </a:t>
            </a: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 not accounted for by the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dependent variabl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515680" y="196920"/>
            <a:ext cx="3966480" cy="6426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8c3d9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  <a:effectLst>
            <a:outerShdw dist="137587" dir="74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AVOVA T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1219320" y="5715000"/>
            <a:ext cx="6857640" cy="533520"/>
            <a:chOff x="1219320" y="5715000"/>
            <a:chExt cx="6857640" cy="533520"/>
          </a:xfrm>
        </p:grpSpPr>
        <p:sp>
          <p:nvSpPr>
            <p:cNvPr id="283" name=""/>
            <p:cNvSpPr/>
            <p:nvPr/>
          </p:nvSpPr>
          <p:spPr>
            <a:xfrm>
              <a:off x="1219320" y="5905440"/>
              <a:ext cx="6857640" cy="85680"/>
            </a:xfrm>
            <a:prstGeom prst="rect">
              <a:avLst/>
            </a:prstGeom>
            <a:solidFill>
              <a:srgbClr val="fbe7db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365720" y="5715000"/>
              <a:ext cx="438840" cy="533520"/>
            </a:xfrm>
            <a:prstGeom prst="sun">
              <a:avLst>
                <a:gd name="adj" fmla="val 25000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9dbc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d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553440" cy="489096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1219320" y="1219320"/>
            <a:ext cx="7086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orrelation matri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s used                                                                to show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ll possible simple correlation coefficients among the variabl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343160" y="1295280"/>
          <a:ext cx="333360" cy="381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43160" y="1295280"/>
                    <a:ext cx="33336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"/>
          <p:cNvSpPr/>
          <p:nvPr/>
        </p:nvSpPr>
        <p:spPr>
          <a:xfrm>
            <a:off x="1371600" y="3962520"/>
            <a:ext cx="457200" cy="380880"/>
          </a:xfrm>
          <a:prstGeom prst="sun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762120" y="6095880"/>
            <a:ext cx="7467120" cy="304560"/>
            <a:chOff x="762120" y="6095880"/>
            <a:chExt cx="7467120" cy="304560"/>
          </a:xfrm>
        </p:grpSpPr>
        <p:sp>
          <p:nvSpPr>
            <p:cNvPr id="291" name=""/>
            <p:cNvSpPr/>
            <p:nvPr/>
          </p:nvSpPr>
          <p:spPr>
            <a:xfrm>
              <a:off x="762120" y="6173640"/>
              <a:ext cx="7467120" cy="781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2" name="" descr=""/>
            <p:cNvPicPr/>
            <p:nvPr/>
          </p:nvPicPr>
          <p:blipFill>
            <a:blip r:embed="rId5"/>
            <a:stretch/>
          </p:blipFill>
          <p:spPr>
            <a:xfrm>
              <a:off x="4401360" y="6095880"/>
              <a:ext cx="399960" cy="30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3" name=""/>
          <p:cNvSpPr/>
          <p:nvPr/>
        </p:nvSpPr>
        <p:spPr>
          <a:xfrm>
            <a:off x="1447920" y="3809880"/>
            <a:ext cx="586728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 shows how strongly                                 each independent variable                                           is correlated                                                         with the dependent variable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2743200"/>
            <a:ext cx="69339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atrix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useful for locating correlated independent vari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09480" y="2895480"/>
            <a:ext cx="838440" cy="457200"/>
          </a:xfrm>
          <a:custGeom>
            <a:avLst/>
            <a:gdLst>
              <a:gd name="textAreaLeft" fmla="*/ 131040 w 838440"/>
              <a:gd name="textAreaRight" fmla="*/ 733680 w 83844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630520" y="272880"/>
            <a:ext cx="3949560" cy="64260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  <a:effectLst>
            <a:outerShdw dist="137587" dir="74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orrelation Matri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209680" y="1523880"/>
            <a:ext cx="4572000" cy="4011840"/>
          </a:xfrm>
          <a:prstGeom prst="rect">
            <a:avLst/>
          </a:prstGeom>
          <a:ln w="0">
            <a:noFill/>
          </a:ln>
        </p:spPr>
      </p:pic>
      <p:grpSp>
        <p:nvGrpSpPr>
          <p:cNvPr id="298" name=""/>
          <p:cNvGrpSpPr/>
          <p:nvPr/>
        </p:nvGrpSpPr>
        <p:grpSpPr>
          <a:xfrm>
            <a:off x="3038400" y="228600"/>
            <a:ext cx="3065400" cy="934920"/>
            <a:chOff x="3038400" y="228600"/>
            <a:chExt cx="3065400" cy="934920"/>
          </a:xfrm>
        </p:grpSpPr>
        <p:pic>
          <p:nvPicPr>
            <p:cNvPr id="299" name="" descr=""/>
            <p:cNvPicPr/>
            <p:nvPr/>
          </p:nvPicPr>
          <p:blipFill>
            <a:blip r:embed="rId2">
              <a:lum bright="70000" contrast="-70000"/>
            </a:blip>
            <a:stretch/>
          </p:blipFill>
          <p:spPr>
            <a:xfrm>
              <a:off x="4038480" y="228600"/>
              <a:ext cx="106704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>
              <a:off x="3038400" y="380880"/>
              <a:ext cx="30654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Times New Roman"/>
                </a:rPr>
                <a:t>Global Test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544680" y="1219320"/>
            <a:ext cx="805464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global test is                                                   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used to investigate whether any of the independent variables                                                 have significant coefficients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2286720" y="4973760"/>
            <a:ext cx="4722840" cy="741240"/>
            <a:chOff x="2286720" y="4973760"/>
            <a:chExt cx="4722840" cy="741240"/>
          </a:xfrm>
        </p:grpSpPr>
        <p:sp>
          <p:nvSpPr>
            <p:cNvPr id="303" name=""/>
            <p:cNvSpPr/>
            <p:nvPr/>
          </p:nvSpPr>
          <p:spPr>
            <a:xfrm>
              <a:off x="6750000" y="5030640"/>
              <a:ext cx="25956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635160" y="5030640"/>
              <a:ext cx="12420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30320" y="5030640"/>
              <a:ext cx="115740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900" spc="-1" strike="noStrike">
                  <a:solidFill>
                    <a:srgbClr val="000000"/>
                  </a:solidFill>
                  <a:latin typeface="Times New Roman"/>
                </a:rPr>
                <a:t>equal</a:t>
              </a:r>
              <a:endParaRPr b="0" lang="en-US" sz="3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415120" y="5030640"/>
              <a:ext cx="12420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26840" y="5030640"/>
              <a:ext cx="19260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9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119560" y="5030640"/>
              <a:ext cx="12420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645800" y="5030640"/>
              <a:ext cx="12420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154040" y="5030640"/>
              <a:ext cx="52344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900" spc="-1" strike="noStrike">
                  <a:solidFill>
                    <a:srgbClr val="000000"/>
                  </a:solidFill>
                  <a:latin typeface="Times New Roman"/>
                </a:rPr>
                <a:t>all</a:t>
              </a:r>
              <a:endParaRPr b="0" lang="en-US" sz="3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254400" y="5030640"/>
              <a:ext cx="86796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900" spc="-1" strike="noStrike">
                  <a:solidFill>
                    <a:srgbClr val="000000"/>
                  </a:solidFill>
                  <a:latin typeface="Times New Roman"/>
                </a:rPr>
                <a:t>Not </a:t>
              </a:r>
              <a:endParaRPr b="0" lang="en-US" sz="3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114360" y="5030640"/>
              <a:ext cx="12420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024720" y="5030640"/>
              <a:ext cx="16524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9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700720" y="528804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784760" y="4973760"/>
              <a:ext cx="27216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3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286720" y="5030640"/>
              <a:ext cx="38628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9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3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1828440" y="3994200"/>
            <a:ext cx="5385600" cy="741240"/>
            <a:chOff x="1828440" y="3994200"/>
            <a:chExt cx="5385600" cy="741240"/>
          </a:xfrm>
        </p:grpSpPr>
        <p:sp>
          <p:nvSpPr>
            <p:cNvPr id="318" name=""/>
            <p:cNvSpPr/>
            <p:nvPr/>
          </p:nvSpPr>
          <p:spPr>
            <a:xfrm>
              <a:off x="6964920" y="4051080"/>
              <a:ext cx="24912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970160" y="4051080"/>
              <a:ext cx="37116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9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590560" y="4051080"/>
              <a:ext cx="16524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9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228560" y="430668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129840" y="430668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255400" y="430668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852520" y="3994200"/>
              <a:ext cx="27216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3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91960" y="3994200"/>
              <a:ext cx="27216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3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833200" y="3994200"/>
              <a:ext cx="27216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3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828440" y="4051080"/>
              <a:ext cx="38628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9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3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189120" y="430848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514200" y="3994200"/>
              <a:ext cx="39384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3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377320" y="3994200"/>
              <a:ext cx="39384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3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540680" y="3994200"/>
              <a:ext cx="39384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3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16760" y="3994200"/>
              <a:ext cx="39384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3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2665080" y="3382920"/>
            <a:ext cx="366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hypotheses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479640" y="5943600"/>
            <a:ext cx="212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…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ontinu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209680" y="1523880"/>
            <a:ext cx="4572000" cy="401184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76320" y="1447920"/>
            <a:ext cx="88660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test statistic is the …                                                                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distribution with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k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number of independent variables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n-(k+1)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degrees of freedom,                                                    where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is the sample 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038400" y="228600"/>
            <a:ext cx="3065400" cy="934920"/>
            <a:chOff x="3038400" y="228600"/>
            <a:chExt cx="3065400" cy="934920"/>
          </a:xfrm>
        </p:grpSpPr>
        <p:pic>
          <p:nvPicPr>
            <p:cNvPr id="338" name="" descr=""/>
            <p:cNvPicPr/>
            <p:nvPr/>
          </p:nvPicPr>
          <p:blipFill>
            <a:blip r:embed="rId2">
              <a:lum bright="70000" contrast="-70000"/>
            </a:blip>
            <a:stretch/>
          </p:blipFill>
          <p:spPr>
            <a:xfrm>
              <a:off x="4038480" y="228600"/>
              <a:ext cx="106704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"/>
            <p:cNvSpPr/>
            <p:nvPr/>
          </p:nvSpPr>
          <p:spPr>
            <a:xfrm>
              <a:off x="3038400" y="380880"/>
              <a:ext cx="30654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Times New Roman"/>
                </a:rPr>
                <a:t>Global Test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338080" y="762120"/>
            <a:ext cx="212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…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ontinu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762120" y="6095880"/>
            <a:ext cx="7467120" cy="304560"/>
            <a:chOff x="762120" y="6095880"/>
            <a:chExt cx="7467120" cy="304560"/>
          </a:xfrm>
        </p:grpSpPr>
        <p:sp>
          <p:nvSpPr>
            <p:cNvPr id="342" name=""/>
            <p:cNvSpPr/>
            <p:nvPr/>
          </p:nvSpPr>
          <p:spPr>
            <a:xfrm>
              <a:off x="762120" y="6173640"/>
              <a:ext cx="7467120" cy="781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3" name="" descr=""/>
            <p:cNvPicPr/>
            <p:nvPr/>
          </p:nvPicPr>
          <p:blipFill>
            <a:blip r:embed="rId4"/>
            <a:stretch/>
          </p:blipFill>
          <p:spPr>
            <a:xfrm>
              <a:off x="4401360" y="6095880"/>
              <a:ext cx="399960" cy="304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hecker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1465200" y="1836720"/>
            <a:ext cx="6154920" cy="369720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1582560" y="228600"/>
            <a:ext cx="6266160" cy="7221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8c3d91"/>
              </a:gs>
              <a:gs pos="100000">
                <a:srgbClr val="0000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be7db"/>
                </a:solidFill>
                <a:latin typeface="Times New Roman"/>
              </a:rPr>
              <a:t>Test for Individual Variab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93840" y="1295280"/>
            <a:ext cx="8354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 test i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used to determine which independent variables                 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have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non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zero regression coeffic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63600" y="3124080"/>
            <a:ext cx="841536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variabl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at have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zero regression coefficient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re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usually dropped from the analysi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test statistic is the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stribution with    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1) degrees of freed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1219320" y="5715000"/>
            <a:ext cx="6857640" cy="533520"/>
            <a:chOff x="1219320" y="5715000"/>
            <a:chExt cx="6857640" cy="533520"/>
          </a:xfrm>
        </p:grpSpPr>
        <p:sp>
          <p:nvSpPr>
            <p:cNvPr id="349" name=""/>
            <p:cNvSpPr/>
            <p:nvPr/>
          </p:nvSpPr>
          <p:spPr>
            <a:xfrm>
              <a:off x="1219320" y="5905440"/>
              <a:ext cx="6857640" cy="85680"/>
            </a:xfrm>
            <a:prstGeom prst="rect">
              <a:avLst/>
            </a:prstGeom>
            <a:solidFill>
              <a:srgbClr val="fbe7db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365720" y="5715000"/>
              <a:ext cx="438840" cy="533520"/>
            </a:xfrm>
            <a:prstGeom prst="sun">
              <a:avLst>
                <a:gd name="adj" fmla="val 25000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9dbc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7934400" y="5865840"/>
            <a:ext cx="981000" cy="83988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 rot="121200">
            <a:off x="243000" y="1294920"/>
            <a:ext cx="8375400" cy="5097600"/>
          </a:xfrm>
          <a:custGeom>
            <a:avLst/>
            <a:gdLst/>
            <a:ahLst/>
            <a:rect l="l" t="t" r="r" b="b"/>
            <a:pathLst>
              <a:path w="2085" h="2090">
                <a:moveTo>
                  <a:pt x="751" y="2087"/>
                </a:moveTo>
                <a:lnTo>
                  <a:pt x="754" y="2087"/>
                </a:lnTo>
                <a:lnTo>
                  <a:pt x="757" y="2087"/>
                </a:lnTo>
                <a:lnTo>
                  <a:pt x="759" y="2087"/>
                </a:lnTo>
                <a:lnTo>
                  <a:pt x="762" y="2087"/>
                </a:lnTo>
                <a:lnTo>
                  <a:pt x="765" y="2087"/>
                </a:lnTo>
                <a:lnTo>
                  <a:pt x="768" y="2087"/>
                </a:lnTo>
                <a:lnTo>
                  <a:pt x="770" y="2087"/>
                </a:lnTo>
                <a:lnTo>
                  <a:pt x="773" y="2084"/>
                </a:lnTo>
                <a:lnTo>
                  <a:pt x="776" y="2084"/>
                </a:lnTo>
                <a:lnTo>
                  <a:pt x="776" y="2084"/>
                </a:lnTo>
                <a:lnTo>
                  <a:pt x="779" y="2084"/>
                </a:lnTo>
                <a:lnTo>
                  <a:pt x="781" y="2084"/>
                </a:lnTo>
                <a:lnTo>
                  <a:pt x="781" y="2082"/>
                </a:lnTo>
                <a:lnTo>
                  <a:pt x="784" y="2082"/>
                </a:lnTo>
                <a:lnTo>
                  <a:pt x="787" y="2082"/>
                </a:lnTo>
                <a:lnTo>
                  <a:pt x="790" y="2082"/>
                </a:lnTo>
                <a:lnTo>
                  <a:pt x="825" y="2062"/>
                </a:lnTo>
                <a:lnTo>
                  <a:pt x="861" y="2040"/>
                </a:lnTo>
                <a:lnTo>
                  <a:pt x="894" y="2016"/>
                </a:lnTo>
                <a:lnTo>
                  <a:pt x="924" y="1988"/>
                </a:lnTo>
                <a:lnTo>
                  <a:pt x="955" y="1958"/>
                </a:lnTo>
                <a:lnTo>
                  <a:pt x="982" y="1928"/>
                </a:lnTo>
                <a:lnTo>
                  <a:pt x="1010" y="1895"/>
                </a:lnTo>
                <a:lnTo>
                  <a:pt x="1037" y="1864"/>
                </a:lnTo>
                <a:lnTo>
                  <a:pt x="1040" y="1862"/>
                </a:lnTo>
                <a:lnTo>
                  <a:pt x="1043" y="1862"/>
                </a:lnTo>
                <a:lnTo>
                  <a:pt x="1045" y="1862"/>
                </a:lnTo>
                <a:lnTo>
                  <a:pt x="1048" y="1862"/>
                </a:lnTo>
                <a:lnTo>
                  <a:pt x="1051" y="1862"/>
                </a:lnTo>
                <a:lnTo>
                  <a:pt x="1054" y="1862"/>
                </a:lnTo>
                <a:lnTo>
                  <a:pt x="1056" y="1862"/>
                </a:lnTo>
                <a:lnTo>
                  <a:pt x="1059" y="1864"/>
                </a:lnTo>
                <a:lnTo>
                  <a:pt x="1059" y="1864"/>
                </a:lnTo>
                <a:lnTo>
                  <a:pt x="1059" y="1864"/>
                </a:lnTo>
                <a:lnTo>
                  <a:pt x="1059" y="1864"/>
                </a:lnTo>
                <a:lnTo>
                  <a:pt x="1062" y="1867"/>
                </a:lnTo>
                <a:lnTo>
                  <a:pt x="1062" y="1867"/>
                </a:lnTo>
                <a:lnTo>
                  <a:pt x="1062" y="1867"/>
                </a:lnTo>
                <a:lnTo>
                  <a:pt x="1062" y="1870"/>
                </a:lnTo>
                <a:lnTo>
                  <a:pt x="1062" y="1870"/>
                </a:lnTo>
                <a:lnTo>
                  <a:pt x="1062" y="1870"/>
                </a:lnTo>
                <a:lnTo>
                  <a:pt x="1065" y="1870"/>
                </a:lnTo>
                <a:lnTo>
                  <a:pt x="1065" y="1870"/>
                </a:lnTo>
                <a:lnTo>
                  <a:pt x="1067" y="1873"/>
                </a:lnTo>
                <a:lnTo>
                  <a:pt x="1067" y="1873"/>
                </a:lnTo>
                <a:lnTo>
                  <a:pt x="1070" y="1875"/>
                </a:lnTo>
                <a:lnTo>
                  <a:pt x="1070" y="1875"/>
                </a:lnTo>
                <a:lnTo>
                  <a:pt x="1070" y="1875"/>
                </a:lnTo>
                <a:lnTo>
                  <a:pt x="1078" y="1884"/>
                </a:lnTo>
                <a:lnTo>
                  <a:pt x="1084" y="1895"/>
                </a:lnTo>
                <a:lnTo>
                  <a:pt x="1092" y="1903"/>
                </a:lnTo>
                <a:lnTo>
                  <a:pt x="1103" y="1911"/>
                </a:lnTo>
                <a:lnTo>
                  <a:pt x="1111" y="1919"/>
                </a:lnTo>
                <a:lnTo>
                  <a:pt x="1122" y="1925"/>
                </a:lnTo>
                <a:lnTo>
                  <a:pt x="1133" y="1930"/>
                </a:lnTo>
                <a:lnTo>
                  <a:pt x="1147" y="1933"/>
                </a:lnTo>
                <a:lnTo>
                  <a:pt x="1153" y="1936"/>
                </a:lnTo>
                <a:lnTo>
                  <a:pt x="1161" y="1936"/>
                </a:lnTo>
                <a:lnTo>
                  <a:pt x="1166" y="1936"/>
                </a:lnTo>
                <a:lnTo>
                  <a:pt x="1175" y="1936"/>
                </a:lnTo>
                <a:lnTo>
                  <a:pt x="1180" y="1936"/>
                </a:lnTo>
                <a:lnTo>
                  <a:pt x="1188" y="1933"/>
                </a:lnTo>
                <a:lnTo>
                  <a:pt x="1197" y="1933"/>
                </a:lnTo>
                <a:lnTo>
                  <a:pt x="1205" y="1933"/>
                </a:lnTo>
                <a:lnTo>
                  <a:pt x="1205" y="1933"/>
                </a:lnTo>
                <a:lnTo>
                  <a:pt x="1208" y="1933"/>
                </a:lnTo>
                <a:lnTo>
                  <a:pt x="1208" y="1930"/>
                </a:lnTo>
                <a:lnTo>
                  <a:pt x="1210" y="1930"/>
                </a:lnTo>
                <a:lnTo>
                  <a:pt x="1213" y="1930"/>
                </a:lnTo>
                <a:lnTo>
                  <a:pt x="1216" y="1928"/>
                </a:lnTo>
                <a:lnTo>
                  <a:pt x="1216" y="1928"/>
                </a:lnTo>
                <a:lnTo>
                  <a:pt x="1219" y="1928"/>
                </a:lnTo>
                <a:lnTo>
                  <a:pt x="1221" y="1928"/>
                </a:lnTo>
                <a:lnTo>
                  <a:pt x="1224" y="1925"/>
                </a:lnTo>
                <a:lnTo>
                  <a:pt x="1227" y="1925"/>
                </a:lnTo>
                <a:lnTo>
                  <a:pt x="1230" y="1925"/>
                </a:lnTo>
                <a:lnTo>
                  <a:pt x="1232" y="1922"/>
                </a:lnTo>
                <a:lnTo>
                  <a:pt x="1235" y="1922"/>
                </a:lnTo>
                <a:lnTo>
                  <a:pt x="1238" y="1922"/>
                </a:lnTo>
                <a:lnTo>
                  <a:pt x="1241" y="1919"/>
                </a:lnTo>
                <a:lnTo>
                  <a:pt x="1241" y="1919"/>
                </a:lnTo>
                <a:lnTo>
                  <a:pt x="1243" y="1919"/>
                </a:lnTo>
                <a:lnTo>
                  <a:pt x="1243" y="1917"/>
                </a:lnTo>
                <a:lnTo>
                  <a:pt x="1246" y="1917"/>
                </a:lnTo>
                <a:lnTo>
                  <a:pt x="1249" y="1917"/>
                </a:lnTo>
                <a:lnTo>
                  <a:pt x="1252" y="1914"/>
                </a:lnTo>
                <a:lnTo>
                  <a:pt x="1252" y="1914"/>
                </a:lnTo>
                <a:lnTo>
                  <a:pt x="1254" y="1914"/>
                </a:lnTo>
                <a:lnTo>
                  <a:pt x="1329" y="1878"/>
                </a:lnTo>
                <a:lnTo>
                  <a:pt x="1331" y="1878"/>
                </a:lnTo>
                <a:lnTo>
                  <a:pt x="1334" y="1878"/>
                </a:lnTo>
                <a:lnTo>
                  <a:pt x="1337" y="1878"/>
                </a:lnTo>
                <a:lnTo>
                  <a:pt x="1340" y="1878"/>
                </a:lnTo>
                <a:lnTo>
                  <a:pt x="1342" y="1881"/>
                </a:lnTo>
                <a:lnTo>
                  <a:pt x="1345" y="1881"/>
                </a:lnTo>
                <a:lnTo>
                  <a:pt x="1348" y="1884"/>
                </a:lnTo>
                <a:lnTo>
                  <a:pt x="1351" y="1884"/>
                </a:lnTo>
                <a:lnTo>
                  <a:pt x="1351" y="1884"/>
                </a:lnTo>
                <a:lnTo>
                  <a:pt x="1351" y="1884"/>
                </a:lnTo>
                <a:lnTo>
                  <a:pt x="1353" y="1886"/>
                </a:lnTo>
                <a:lnTo>
                  <a:pt x="1353" y="1886"/>
                </a:lnTo>
                <a:lnTo>
                  <a:pt x="1353" y="1886"/>
                </a:lnTo>
                <a:lnTo>
                  <a:pt x="1353" y="1889"/>
                </a:lnTo>
                <a:lnTo>
                  <a:pt x="1353" y="1889"/>
                </a:lnTo>
                <a:lnTo>
                  <a:pt x="1356" y="1889"/>
                </a:lnTo>
                <a:lnTo>
                  <a:pt x="1356" y="1889"/>
                </a:lnTo>
                <a:lnTo>
                  <a:pt x="1356" y="1892"/>
                </a:lnTo>
                <a:lnTo>
                  <a:pt x="1356" y="1892"/>
                </a:lnTo>
                <a:lnTo>
                  <a:pt x="1356" y="1895"/>
                </a:lnTo>
                <a:lnTo>
                  <a:pt x="1359" y="1895"/>
                </a:lnTo>
                <a:lnTo>
                  <a:pt x="1359" y="1897"/>
                </a:lnTo>
                <a:lnTo>
                  <a:pt x="1359" y="1897"/>
                </a:lnTo>
                <a:lnTo>
                  <a:pt x="1359" y="1897"/>
                </a:lnTo>
                <a:lnTo>
                  <a:pt x="1364" y="1903"/>
                </a:lnTo>
                <a:lnTo>
                  <a:pt x="1370" y="1911"/>
                </a:lnTo>
                <a:lnTo>
                  <a:pt x="1375" y="1917"/>
                </a:lnTo>
                <a:lnTo>
                  <a:pt x="1384" y="1922"/>
                </a:lnTo>
                <a:lnTo>
                  <a:pt x="1389" y="1930"/>
                </a:lnTo>
                <a:lnTo>
                  <a:pt x="1395" y="1936"/>
                </a:lnTo>
                <a:lnTo>
                  <a:pt x="1403" y="1941"/>
                </a:lnTo>
                <a:lnTo>
                  <a:pt x="1408" y="1947"/>
                </a:lnTo>
                <a:lnTo>
                  <a:pt x="1414" y="1947"/>
                </a:lnTo>
                <a:lnTo>
                  <a:pt x="1417" y="1950"/>
                </a:lnTo>
                <a:lnTo>
                  <a:pt x="1422" y="1952"/>
                </a:lnTo>
                <a:lnTo>
                  <a:pt x="1428" y="1952"/>
                </a:lnTo>
                <a:lnTo>
                  <a:pt x="1436" y="1952"/>
                </a:lnTo>
                <a:lnTo>
                  <a:pt x="1441" y="1955"/>
                </a:lnTo>
                <a:lnTo>
                  <a:pt x="1447" y="1955"/>
                </a:lnTo>
                <a:lnTo>
                  <a:pt x="1452" y="1955"/>
                </a:lnTo>
                <a:lnTo>
                  <a:pt x="1494" y="1933"/>
                </a:lnTo>
                <a:lnTo>
                  <a:pt x="1529" y="1906"/>
                </a:lnTo>
                <a:lnTo>
                  <a:pt x="1560" y="1873"/>
                </a:lnTo>
                <a:lnTo>
                  <a:pt x="1590" y="1837"/>
                </a:lnTo>
                <a:lnTo>
                  <a:pt x="1617" y="1801"/>
                </a:lnTo>
                <a:lnTo>
                  <a:pt x="1645" y="1765"/>
                </a:lnTo>
                <a:lnTo>
                  <a:pt x="1672" y="1730"/>
                </a:lnTo>
                <a:lnTo>
                  <a:pt x="1703" y="1697"/>
                </a:lnTo>
                <a:lnTo>
                  <a:pt x="1733" y="1658"/>
                </a:lnTo>
                <a:lnTo>
                  <a:pt x="1763" y="1620"/>
                </a:lnTo>
                <a:lnTo>
                  <a:pt x="1793" y="1584"/>
                </a:lnTo>
                <a:lnTo>
                  <a:pt x="1821" y="1548"/>
                </a:lnTo>
                <a:lnTo>
                  <a:pt x="1848" y="1510"/>
                </a:lnTo>
                <a:lnTo>
                  <a:pt x="1873" y="1474"/>
                </a:lnTo>
                <a:lnTo>
                  <a:pt x="1898" y="1435"/>
                </a:lnTo>
                <a:lnTo>
                  <a:pt x="1920" y="1394"/>
                </a:lnTo>
                <a:lnTo>
                  <a:pt x="1945" y="1356"/>
                </a:lnTo>
                <a:lnTo>
                  <a:pt x="1967" y="1317"/>
                </a:lnTo>
                <a:lnTo>
                  <a:pt x="1991" y="1279"/>
                </a:lnTo>
                <a:lnTo>
                  <a:pt x="2013" y="1240"/>
                </a:lnTo>
                <a:lnTo>
                  <a:pt x="2033" y="1202"/>
                </a:lnTo>
                <a:lnTo>
                  <a:pt x="2052" y="1163"/>
                </a:lnTo>
                <a:lnTo>
                  <a:pt x="2071" y="1125"/>
                </a:lnTo>
                <a:lnTo>
                  <a:pt x="2085" y="1083"/>
                </a:lnTo>
                <a:lnTo>
                  <a:pt x="2085" y="1083"/>
                </a:lnTo>
                <a:lnTo>
                  <a:pt x="2085" y="1081"/>
                </a:lnTo>
                <a:lnTo>
                  <a:pt x="2085" y="1081"/>
                </a:lnTo>
                <a:lnTo>
                  <a:pt x="2085" y="1078"/>
                </a:lnTo>
                <a:lnTo>
                  <a:pt x="2082" y="1075"/>
                </a:lnTo>
                <a:lnTo>
                  <a:pt x="2082" y="1072"/>
                </a:lnTo>
                <a:lnTo>
                  <a:pt x="2082" y="1072"/>
                </a:lnTo>
                <a:lnTo>
                  <a:pt x="2079" y="1070"/>
                </a:lnTo>
                <a:lnTo>
                  <a:pt x="2079" y="1067"/>
                </a:lnTo>
                <a:lnTo>
                  <a:pt x="2077" y="1061"/>
                </a:lnTo>
                <a:lnTo>
                  <a:pt x="2074" y="1059"/>
                </a:lnTo>
                <a:lnTo>
                  <a:pt x="2071" y="1056"/>
                </a:lnTo>
                <a:lnTo>
                  <a:pt x="2068" y="1050"/>
                </a:lnTo>
                <a:lnTo>
                  <a:pt x="2066" y="1048"/>
                </a:lnTo>
                <a:lnTo>
                  <a:pt x="2063" y="1042"/>
                </a:lnTo>
                <a:lnTo>
                  <a:pt x="2060" y="1040"/>
                </a:lnTo>
                <a:lnTo>
                  <a:pt x="2057" y="1040"/>
                </a:lnTo>
                <a:lnTo>
                  <a:pt x="2057" y="1037"/>
                </a:lnTo>
                <a:lnTo>
                  <a:pt x="2055" y="1037"/>
                </a:lnTo>
                <a:lnTo>
                  <a:pt x="2052" y="1037"/>
                </a:lnTo>
                <a:lnTo>
                  <a:pt x="2052" y="1034"/>
                </a:lnTo>
                <a:lnTo>
                  <a:pt x="2049" y="1034"/>
                </a:lnTo>
                <a:lnTo>
                  <a:pt x="2049" y="1031"/>
                </a:lnTo>
                <a:lnTo>
                  <a:pt x="2046" y="1031"/>
                </a:lnTo>
                <a:lnTo>
                  <a:pt x="2044" y="1029"/>
                </a:lnTo>
                <a:lnTo>
                  <a:pt x="2038" y="1026"/>
                </a:lnTo>
                <a:lnTo>
                  <a:pt x="2035" y="1026"/>
                </a:lnTo>
                <a:lnTo>
                  <a:pt x="2030" y="1023"/>
                </a:lnTo>
                <a:lnTo>
                  <a:pt x="2027" y="1023"/>
                </a:lnTo>
                <a:lnTo>
                  <a:pt x="2022" y="1023"/>
                </a:lnTo>
                <a:lnTo>
                  <a:pt x="2019" y="1020"/>
                </a:lnTo>
                <a:lnTo>
                  <a:pt x="2016" y="1020"/>
                </a:lnTo>
                <a:lnTo>
                  <a:pt x="1991" y="1015"/>
                </a:lnTo>
                <a:lnTo>
                  <a:pt x="1967" y="1015"/>
                </a:lnTo>
                <a:lnTo>
                  <a:pt x="1945" y="1020"/>
                </a:lnTo>
                <a:lnTo>
                  <a:pt x="1920" y="1029"/>
                </a:lnTo>
                <a:lnTo>
                  <a:pt x="1901" y="1037"/>
                </a:lnTo>
                <a:lnTo>
                  <a:pt x="1879" y="1050"/>
                </a:lnTo>
                <a:lnTo>
                  <a:pt x="1859" y="1067"/>
                </a:lnTo>
                <a:lnTo>
                  <a:pt x="1843" y="1083"/>
                </a:lnTo>
                <a:lnTo>
                  <a:pt x="1840" y="1083"/>
                </a:lnTo>
                <a:lnTo>
                  <a:pt x="1837" y="1083"/>
                </a:lnTo>
                <a:lnTo>
                  <a:pt x="1835" y="1083"/>
                </a:lnTo>
                <a:lnTo>
                  <a:pt x="1832" y="1083"/>
                </a:lnTo>
                <a:lnTo>
                  <a:pt x="1832" y="1083"/>
                </a:lnTo>
                <a:lnTo>
                  <a:pt x="1829" y="1083"/>
                </a:lnTo>
                <a:lnTo>
                  <a:pt x="1826" y="1083"/>
                </a:lnTo>
                <a:lnTo>
                  <a:pt x="1824" y="1083"/>
                </a:lnTo>
                <a:lnTo>
                  <a:pt x="1835" y="1042"/>
                </a:lnTo>
                <a:lnTo>
                  <a:pt x="1854" y="1004"/>
                </a:lnTo>
                <a:lnTo>
                  <a:pt x="1873" y="965"/>
                </a:lnTo>
                <a:lnTo>
                  <a:pt x="1895" y="927"/>
                </a:lnTo>
                <a:lnTo>
                  <a:pt x="1912" y="888"/>
                </a:lnTo>
                <a:lnTo>
                  <a:pt x="1923" y="847"/>
                </a:lnTo>
                <a:lnTo>
                  <a:pt x="1925" y="803"/>
                </a:lnTo>
                <a:lnTo>
                  <a:pt x="1912" y="756"/>
                </a:lnTo>
                <a:lnTo>
                  <a:pt x="1901" y="748"/>
                </a:lnTo>
                <a:lnTo>
                  <a:pt x="1887" y="743"/>
                </a:lnTo>
                <a:lnTo>
                  <a:pt x="1870" y="737"/>
                </a:lnTo>
                <a:lnTo>
                  <a:pt x="1854" y="734"/>
                </a:lnTo>
                <a:lnTo>
                  <a:pt x="1837" y="732"/>
                </a:lnTo>
                <a:lnTo>
                  <a:pt x="1821" y="726"/>
                </a:lnTo>
                <a:lnTo>
                  <a:pt x="1807" y="721"/>
                </a:lnTo>
                <a:lnTo>
                  <a:pt x="1793" y="710"/>
                </a:lnTo>
                <a:lnTo>
                  <a:pt x="1793" y="710"/>
                </a:lnTo>
                <a:lnTo>
                  <a:pt x="1793" y="707"/>
                </a:lnTo>
                <a:lnTo>
                  <a:pt x="1793" y="704"/>
                </a:lnTo>
                <a:lnTo>
                  <a:pt x="1793" y="701"/>
                </a:lnTo>
                <a:lnTo>
                  <a:pt x="1793" y="699"/>
                </a:lnTo>
                <a:lnTo>
                  <a:pt x="1793" y="696"/>
                </a:lnTo>
                <a:lnTo>
                  <a:pt x="1793" y="693"/>
                </a:lnTo>
                <a:lnTo>
                  <a:pt x="1793" y="690"/>
                </a:lnTo>
                <a:lnTo>
                  <a:pt x="1793" y="690"/>
                </a:lnTo>
                <a:lnTo>
                  <a:pt x="1796" y="688"/>
                </a:lnTo>
                <a:lnTo>
                  <a:pt x="1796" y="688"/>
                </a:lnTo>
                <a:lnTo>
                  <a:pt x="1796" y="685"/>
                </a:lnTo>
                <a:lnTo>
                  <a:pt x="1799" y="685"/>
                </a:lnTo>
                <a:lnTo>
                  <a:pt x="1799" y="682"/>
                </a:lnTo>
                <a:lnTo>
                  <a:pt x="1799" y="682"/>
                </a:lnTo>
                <a:lnTo>
                  <a:pt x="1802" y="682"/>
                </a:lnTo>
                <a:lnTo>
                  <a:pt x="1802" y="679"/>
                </a:lnTo>
                <a:lnTo>
                  <a:pt x="1804" y="677"/>
                </a:lnTo>
                <a:lnTo>
                  <a:pt x="1804" y="677"/>
                </a:lnTo>
                <a:lnTo>
                  <a:pt x="1807" y="674"/>
                </a:lnTo>
                <a:lnTo>
                  <a:pt x="1810" y="671"/>
                </a:lnTo>
                <a:lnTo>
                  <a:pt x="1813" y="668"/>
                </a:lnTo>
                <a:lnTo>
                  <a:pt x="1815" y="666"/>
                </a:lnTo>
                <a:lnTo>
                  <a:pt x="1815" y="660"/>
                </a:lnTo>
                <a:lnTo>
                  <a:pt x="1818" y="657"/>
                </a:lnTo>
                <a:lnTo>
                  <a:pt x="1821" y="655"/>
                </a:lnTo>
                <a:lnTo>
                  <a:pt x="1824" y="652"/>
                </a:lnTo>
                <a:lnTo>
                  <a:pt x="1826" y="649"/>
                </a:lnTo>
                <a:lnTo>
                  <a:pt x="1826" y="646"/>
                </a:lnTo>
                <a:lnTo>
                  <a:pt x="1829" y="644"/>
                </a:lnTo>
                <a:lnTo>
                  <a:pt x="1832" y="641"/>
                </a:lnTo>
                <a:lnTo>
                  <a:pt x="1832" y="638"/>
                </a:lnTo>
                <a:lnTo>
                  <a:pt x="1848" y="613"/>
                </a:lnTo>
                <a:lnTo>
                  <a:pt x="1868" y="589"/>
                </a:lnTo>
                <a:lnTo>
                  <a:pt x="1887" y="561"/>
                </a:lnTo>
                <a:lnTo>
                  <a:pt x="1906" y="536"/>
                </a:lnTo>
                <a:lnTo>
                  <a:pt x="1925" y="509"/>
                </a:lnTo>
                <a:lnTo>
                  <a:pt x="1939" y="481"/>
                </a:lnTo>
                <a:lnTo>
                  <a:pt x="1953" y="451"/>
                </a:lnTo>
                <a:lnTo>
                  <a:pt x="1961" y="421"/>
                </a:lnTo>
                <a:lnTo>
                  <a:pt x="1961" y="418"/>
                </a:lnTo>
                <a:lnTo>
                  <a:pt x="1958" y="415"/>
                </a:lnTo>
                <a:lnTo>
                  <a:pt x="1958" y="413"/>
                </a:lnTo>
                <a:lnTo>
                  <a:pt x="1956" y="410"/>
                </a:lnTo>
                <a:lnTo>
                  <a:pt x="1956" y="407"/>
                </a:lnTo>
                <a:lnTo>
                  <a:pt x="1956" y="404"/>
                </a:lnTo>
                <a:lnTo>
                  <a:pt x="1953" y="402"/>
                </a:lnTo>
                <a:lnTo>
                  <a:pt x="1953" y="399"/>
                </a:lnTo>
                <a:lnTo>
                  <a:pt x="1950" y="393"/>
                </a:lnTo>
                <a:lnTo>
                  <a:pt x="1945" y="388"/>
                </a:lnTo>
                <a:lnTo>
                  <a:pt x="1942" y="382"/>
                </a:lnTo>
                <a:lnTo>
                  <a:pt x="1936" y="380"/>
                </a:lnTo>
                <a:lnTo>
                  <a:pt x="1931" y="374"/>
                </a:lnTo>
                <a:lnTo>
                  <a:pt x="1923" y="369"/>
                </a:lnTo>
                <a:lnTo>
                  <a:pt x="1917" y="366"/>
                </a:lnTo>
                <a:lnTo>
                  <a:pt x="1912" y="360"/>
                </a:lnTo>
                <a:lnTo>
                  <a:pt x="1912" y="360"/>
                </a:lnTo>
                <a:lnTo>
                  <a:pt x="1909" y="358"/>
                </a:lnTo>
                <a:lnTo>
                  <a:pt x="1906" y="358"/>
                </a:lnTo>
                <a:lnTo>
                  <a:pt x="1903" y="355"/>
                </a:lnTo>
                <a:lnTo>
                  <a:pt x="1903" y="355"/>
                </a:lnTo>
                <a:lnTo>
                  <a:pt x="1901" y="352"/>
                </a:lnTo>
                <a:lnTo>
                  <a:pt x="1898" y="352"/>
                </a:lnTo>
                <a:lnTo>
                  <a:pt x="1895" y="349"/>
                </a:lnTo>
                <a:lnTo>
                  <a:pt x="1892" y="349"/>
                </a:lnTo>
                <a:lnTo>
                  <a:pt x="1890" y="349"/>
                </a:lnTo>
                <a:lnTo>
                  <a:pt x="1887" y="349"/>
                </a:lnTo>
                <a:lnTo>
                  <a:pt x="1887" y="349"/>
                </a:lnTo>
                <a:lnTo>
                  <a:pt x="1884" y="349"/>
                </a:lnTo>
                <a:lnTo>
                  <a:pt x="1881" y="349"/>
                </a:lnTo>
                <a:lnTo>
                  <a:pt x="1881" y="347"/>
                </a:lnTo>
                <a:lnTo>
                  <a:pt x="1881" y="347"/>
                </a:lnTo>
                <a:lnTo>
                  <a:pt x="1873" y="347"/>
                </a:lnTo>
                <a:lnTo>
                  <a:pt x="1868" y="347"/>
                </a:lnTo>
                <a:lnTo>
                  <a:pt x="1862" y="347"/>
                </a:lnTo>
                <a:lnTo>
                  <a:pt x="1857" y="347"/>
                </a:lnTo>
                <a:lnTo>
                  <a:pt x="1851" y="347"/>
                </a:lnTo>
                <a:lnTo>
                  <a:pt x="1846" y="349"/>
                </a:lnTo>
                <a:lnTo>
                  <a:pt x="1840" y="349"/>
                </a:lnTo>
                <a:lnTo>
                  <a:pt x="1832" y="349"/>
                </a:lnTo>
                <a:lnTo>
                  <a:pt x="1832" y="352"/>
                </a:lnTo>
                <a:lnTo>
                  <a:pt x="1832" y="352"/>
                </a:lnTo>
                <a:lnTo>
                  <a:pt x="1829" y="352"/>
                </a:lnTo>
                <a:lnTo>
                  <a:pt x="1826" y="352"/>
                </a:lnTo>
                <a:lnTo>
                  <a:pt x="1826" y="352"/>
                </a:lnTo>
                <a:lnTo>
                  <a:pt x="1824" y="352"/>
                </a:lnTo>
                <a:lnTo>
                  <a:pt x="1821" y="352"/>
                </a:lnTo>
                <a:lnTo>
                  <a:pt x="1818" y="352"/>
                </a:lnTo>
                <a:lnTo>
                  <a:pt x="1782" y="377"/>
                </a:lnTo>
                <a:lnTo>
                  <a:pt x="1747" y="402"/>
                </a:lnTo>
                <a:lnTo>
                  <a:pt x="1714" y="432"/>
                </a:lnTo>
                <a:lnTo>
                  <a:pt x="1681" y="462"/>
                </a:lnTo>
                <a:lnTo>
                  <a:pt x="1650" y="495"/>
                </a:lnTo>
                <a:lnTo>
                  <a:pt x="1620" y="528"/>
                </a:lnTo>
                <a:lnTo>
                  <a:pt x="1587" y="561"/>
                </a:lnTo>
                <a:lnTo>
                  <a:pt x="1554" y="594"/>
                </a:lnTo>
                <a:lnTo>
                  <a:pt x="1551" y="597"/>
                </a:lnTo>
                <a:lnTo>
                  <a:pt x="1549" y="602"/>
                </a:lnTo>
                <a:lnTo>
                  <a:pt x="1546" y="605"/>
                </a:lnTo>
                <a:lnTo>
                  <a:pt x="1543" y="608"/>
                </a:lnTo>
                <a:lnTo>
                  <a:pt x="1540" y="611"/>
                </a:lnTo>
                <a:lnTo>
                  <a:pt x="1540" y="611"/>
                </a:lnTo>
                <a:lnTo>
                  <a:pt x="1538" y="613"/>
                </a:lnTo>
                <a:lnTo>
                  <a:pt x="1538" y="613"/>
                </a:lnTo>
                <a:lnTo>
                  <a:pt x="1535" y="616"/>
                </a:lnTo>
                <a:lnTo>
                  <a:pt x="1532" y="616"/>
                </a:lnTo>
                <a:lnTo>
                  <a:pt x="1529" y="616"/>
                </a:lnTo>
                <a:lnTo>
                  <a:pt x="1527" y="616"/>
                </a:lnTo>
                <a:lnTo>
                  <a:pt x="1524" y="619"/>
                </a:lnTo>
                <a:lnTo>
                  <a:pt x="1521" y="616"/>
                </a:lnTo>
                <a:lnTo>
                  <a:pt x="1521" y="616"/>
                </a:lnTo>
                <a:lnTo>
                  <a:pt x="1518" y="613"/>
                </a:lnTo>
                <a:lnTo>
                  <a:pt x="1518" y="611"/>
                </a:lnTo>
                <a:lnTo>
                  <a:pt x="1518" y="611"/>
                </a:lnTo>
                <a:lnTo>
                  <a:pt x="1518" y="608"/>
                </a:lnTo>
                <a:lnTo>
                  <a:pt x="1518" y="605"/>
                </a:lnTo>
                <a:lnTo>
                  <a:pt x="1518" y="602"/>
                </a:lnTo>
                <a:lnTo>
                  <a:pt x="1521" y="602"/>
                </a:lnTo>
                <a:lnTo>
                  <a:pt x="1521" y="600"/>
                </a:lnTo>
                <a:lnTo>
                  <a:pt x="1524" y="597"/>
                </a:lnTo>
                <a:lnTo>
                  <a:pt x="1524" y="597"/>
                </a:lnTo>
                <a:lnTo>
                  <a:pt x="1524" y="594"/>
                </a:lnTo>
                <a:lnTo>
                  <a:pt x="1524" y="591"/>
                </a:lnTo>
                <a:lnTo>
                  <a:pt x="1524" y="589"/>
                </a:lnTo>
                <a:lnTo>
                  <a:pt x="1524" y="589"/>
                </a:lnTo>
                <a:lnTo>
                  <a:pt x="1524" y="586"/>
                </a:lnTo>
                <a:lnTo>
                  <a:pt x="1527" y="583"/>
                </a:lnTo>
                <a:lnTo>
                  <a:pt x="1527" y="580"/>
                </a:lnTo>
                <a:lnTo>
                  <a:pt x="1540" y="550"/>
                </a:lnTo>
                <a:lnTo>
                  <a:pt x="1560" y="523"/>
                </a:lnTo>
                <a:lnTo>
                  <a:pt x="1576" y="495"/>
                </a:lnTo>
                <a:lnTo>
                  <a:pt x="1595" y="468"/>
                </a:lnTo>
                <a:lnTo>
                  <a:pt x="1615" y="440"/>
                </a:lnTo>
                <a:lnTo>
                  <a:pt x="1631" y="410"/>
                </a:lnTo>
                <a:lnTo>
                  <a:pt x="1645" y="380"/>
                </a:lnTo>
                <a:lnTo>
                  <a:pt x="1659" y="347"/>
                </a:lnTo>
                <a:lnTo>
                  <a:pt x="1659" y="333"/>
                </a:lnTo>
                <a:lnTo>
                  <a:pt x="1661" y="319"/>
                </a:lnTo>
                <a:lnTo>
                  <a:pt x="1661" y="305"/>
                </a:lnTo>
                <a:lnTo>
                  <a:pt x="1661" y="292"/>
                </a:lnTo>
                <a:lnTo>
                  <a:pt x="1659" y="278"/>
                </a:lnTo>
                <a:lnTo>
                  <a:pt x="1653" y="264"/>
                </a:lnTo>
                <a:lnTo>
                  <a:pt x="1648" y="253"/>
                </a:lnTo>
                <a:lnTo>
                  <a:pt x="1639" y="239"/>
                </a:lnTo>
                <a:lnTo>
                  <a:pt x="1639" y="239"/>
                </a:lnTo>
                <a:lnTo>
                  <a:pt x="1639" y="237"/>
                </a:lnTo>
                <a:lnTo>
                  <a:pt x="1637" y="237"/>
                </a:lnTo>
                <a:lnTo>
                  <a:pt x="1637" y="234"/>
                </a:lnTo>
                <a:lnTo>
                  <a:pt x="1634" y="231"/>
                </a:lnTo>
                <a:lnTo>
                  <a:pt x="1631" y="231"/>
                </a:lnTo>
                <a:lnTo>
                  <a:pt x="1631" y="228"/>
                </a:lnTo>
                <a:lnTo>
                  <a:pt x="1628" y="228"/>
                </a:lnTo>
                <a:lnTo>
                  <a:pt x="1617" y="223"/>
                </a:lnTo>
                <a:lnTo>
                  <a:pt x="1606" y="220"/>
                </a:lnTo>
                <a:lnTo>
                  <a:pt x="1595" y="217"/>
                </a:lnTo>
                <a:lnTo>
                  <a:pt x="1584" y="217"/>
                </a:lnTo>
                <a:lnTo>
                  <a:pt x="1571" y="217"/>
                </a:lnTo>
                <a:lnTo>
                  <a:pt x="1560" y="217"/>
                </a:lnTo>
                <a:lnTo>
                  <a:pt x="1549" y="220"/>
                </a:lnTo>
                <a:lnTo>
                  <a:pt x="1538" y="223"/>
                </a:lnTo>
                <a:lnTo>
                  <a:pt x="1496" y="242"/>
                </a:lnTo>
                <a:lnTo>
                  <a:pt x="1461" y="270"/>
                </a:lnTo>
                <a:lnTo>
                  <a:pt x="1425" y="300"/>
                </a:lnTo>
                <a:lnTo>
                  <a:pt x="1392" y="333"/>
                </a:lnTo>
                <a:lnTo>
                  <a:pt x="1362" y="366"/>
                </a:lnTo>
                <a:lnTo>
                  <a:pt x="1331" y="402"/>
                </a:lnTo>
                <a:lnTo>
                  <a:pt x="1304" y="437"/>
                </a:lnTo>
                <a:lnTo>
                  <a:pt x="1276" y="470"/>
                </a:lnTo>
                <a:lnTo>
                  <a:pt x="1243" y="506"/>
                </a:lnTo>
                <a:lnTo>
                  <a:pt x="1213" y="542"/>
                </a:lnTo>
                <a:lnTo>
                  <a:pt x="1183" y="578"/>
                </a:lnTo>
                <a:lnTo>
                  <a:pt x="1155" y="613"/>
                </a:lnTo>
                <a:lnTo>
                  <a:pt x="1125" y="649"/>
                </a:lnTo>
                <a:lnTo>
                  <a:pt x="1095" y="682"/>
                </a:lnTo>
                <a:lnTo>
                  <a:pt x="1065" y="718"/>
                </a:lnTo>
                <a:lnTo>
                  <a:pt x="1037" y="754"/>
                </a:lnTo>
                <a:lnTo>
                  <a:pt x="1018" y="776"/>
                </a:lnTo>
                <a:lnTo>
                  <a:pt x="999" y="795"/>
                </a:lnTo>
                <a:lnTo>
                  <a:pt x="982" y="814"/>
                </a:lnTo>
                <a:lnTo>
                  <a:pt x="966" y="833"/>
                </a:lnTo>
                <a:lnTo>
                  <a:pt x="949" y="853"/>
                </a:lnTo>
                <a:lnTo>
                  <a:pt x="933" y="869"/>
                </a:lnTo>
                <a:lnTo>
                  <a:pt x="916" y="888"/>
                </a:lnTo>
                <a:lnTo>
                  <a:pt x="900" y="908"/>
                </a:lnTo>
                <a:lnTo>
                  <a:pt x="897" y="908"/>
                </a:lnTo>
                <a:lnTo>
                  <a:pt x="897" y="908"/>
                </a:lnTo>
                <a:lnTo>
                  <a:pt x="894" y="908"/>
                </a:lnTo>
                <a:lnTo>
                  <a:pt x="891" y="910"/>
                </a:lnTo>
                <a:lnTo>
                  <a:pt x="889" y="910"/>
                </a:lnTo>
                <a:lnTo>
                  <a:pt x="889" y="910"/>
                </a:lnTo>
                <a:lnTo>
                  <a:pt x="886" y="908"/>
                </a:lnTo>
                <a:lnTo>
                  <a:pt x="883" y="908"/>
                </a:lnTo>
                <a:lnTo>
                  <a:pt x="905" y="866"/>
                </a:lnTo>
                <a:lnTo>
                  <a:pt x="927" y="825"/>
                </a:lnTo>
                <a:lnTo>
                  <a:pt x="952" y="787"/>
                </a:lnTo>
                <a:lnTo>
                  <a:pt x="977" y="745"/>
                </a:lnTo>
                <a:lnTo>
                  <a:pt x="1001" y="707"/>
                </a:lnTo>
                <a:lnTo>
                  <a:pt x="1029" y="668"/>
                </a:lnTo>
                <a:lnTo>
                  <a:pt x="1054" y="627"/>
                </a:lnTo>
                <a:lnTo>
                  <a:pt x="1078" y="589"/>
                </a:lnTo>
                <a:lnTo>
                  <a:pt x="1103" y="547"/>
                </a:lnTo>
                <a:lnTo>
                  <a:pt x="1128" y="509"/>
                </a:lnTo>
                <a:lnTo>
                  <a:pt x="1150" y="468"/>
                </a:lnTo>
                <a:lnTo>
                  <a:pt x="1175" y="429"/>
                </a:lnTo>
                <a:lnTo>
                  <a:pt x="1199" y="391"/>
                </a:lnTo>
                <a:lnTo>
                  <a:pt x="1224" y="349"/>
                </a:lnTo>
                <a:lnTo>
                  <a:pt x="1249" y="311"/>
                </a:lnTo>
                <a:lnTo>
                  <a:pt x="1276" y="272"/>
                </a:lnTo>
                <a:lnTo>
                  <a:pt x="1290" y="253"/>
                </a:lnTo>
                <a:lnTo>
                  <a:pt x="1301" y="231"/>
                </a:lnTo>
                <a:lnTo>
                  <a:pt x="1315" y="212"/>
                </a:lnTo>
                <a:lnTo>
                  <a:pt x="1329" y="193"/>
                </a:lnTo>
                <a:lnTo>
                  <a:pt x="1340" y="173"/>
                </a:lnTo>
                <a:lnTo>
                  <a:pt x="1351" y="154"/>
                </a:lnTo>
                <a:lnTo>
                  <a:pt x="1362" y="135"/>
                </a:lnTo>
                <a:lnTo>
                  <a:pt x="1373" y="113"/>
                </a:lnTo>
                <a:lnTo>
                  <a:pt x="1375" y="105"/>
                </a:lnTo>
                <a:lnTo>
                  <a:pt x="1375" y="96"/>
                </a:lnTo>
                <a:lnTo>
                  <a:pt x="1375" y="88"/>
                </a:lnTo>
                <a:lnTo>
                  <a:pt x="1375" y="83"/>
                </a:lnTo>
                <a:lnTo>
                  <a:pt x="1375" y="74"/>
                </a:lnTo>
                <a:lnTo>
                  <a:pt x="1375" y="66"/>
                </a:lnTo>
                <a:lnTo>
                  <a:pt x="1373" y="58"/>
                </a:lnTo>
                <a:lnTo>
                  <a:pt x="1373" y="47"/>
                </a:lnTo>
                <a:lnTo>
                  <a:pt x="1370" y="44"/>
                </a:lnTo>
                <a:lnTo>
                  <a:pt x="1367" y="39"/>
                </a:lnTo>
                <a:lnTo>
                  <a:pt x="1364" y="36"/>
                </a:lnTo>
                <a:lnTo>
                  <a:pt x="1362" y="30"/>
                </a:lnTo>
                <a:lnTo>
                  <a:pt x="1359" y="28"/>
                </a:lnTo>
                <a:lnTo>
                  <a:pt x="1353" y="22"/>
                </a:lnTo>
                <a:lnTo>
                  <a:pt x="1351" y="19"/>
                </a:lnTo>
                <a:lnTo>
                  <a:pt x="1345" y="17"/>
                </a:lnTo>
                <a:lnTo>
                  <a:pt x="1345" y="14"/>
                </a:lnTo>
                <a:lnTo>
                  <a:pt x="1342" y="14"/>
                </a:lnTo>
                <a:lnTo>
                  <a:pt x="1342" y="14"/>
                </a:lnTo>
                <a:lnTo>
                  <a:pt x="1340" y="14"/>
                </a:lnTo>
                <a:lnTo>
                  <a:pt x="1337" y="11"/>
                </a:lnTo>
                <a:lnTo>
                  <a:pt x="1337" y="11"/>
                </a:lnTo>
                <a:lnTo>
                  <a:pt x="1334" y="11"/>
                </a:lnTo>
                <a:lnTo>
                  <a:pt x="1331" y="8"/>
                </a:lnTo>
                <a:lnTo>
                  <a:pt x="1315" y="3"/>
                </a:lnTo>
                <a:lnTo>
                  <a:pt x="1301" y="0"/>
                </a:lnTo>
                <a:lnTo>
                  <a:pt x="1285" y="0"/>
                </a:lnTo>
                <a:lnTo>
                  <a:pt x="1268" y="3"/>
                </a:lnTo>
                <a:lnTo>
                  <a:pt x="1252" y="8"/>
                </a:lnTo>
                <a:lnTo>
                  <a:pt x="1235" y="17"/>
                </a:lnTo>
                <a:lnTo>
                  <a:pt x="1219" y="25"/>
                </a:lnTo>
                <a:lnTo>
                  <a:pt x="1205" y="33"/>
                </a:lnTo>
                <a:lnTo>
                  <a:pt x="1177" y="55"/>
                </a:lnTo>
                <a:lnTo>
                  <a:pt x="1150" y="80"/>
                </a:lnTo>
                <a:lnTo>
                  <a:pt x="1125" y="105"/>
                </a:lnTo>
                <a:lnTo>
                  <a:pt x="1098" y="132"/>
                </a:lnTo>
                <a:lnTo>
                  <a:pt x="1073" y="160"/>
                </a:lnTo>
                <a:lnTo>
                  <a:pt x="1048" y="184"/>
                </a:lnTo>
                <a:lnTo>
                  <a:pt x="1023" y="212"/>
                </a:lnTo>
                <a:lnTo>
                  <a:pt x="1001" y="237"/>
                </a:lnTo>
                <a:lnTo>
                  <a:pt x="1001" y="237"/>
                </a:lnTo>
                <a:lnTo>
                  <a:pt x="1001" y="237"/>
                </a:lnTo>
                <a:lnTo>
                  <a:pt x="1001" y="239"/>
                </a:lnTo>
                <a:lnTo>
                  <a:pt x="999" y="239"/>
                </a:lnTo>
                <a:lnTo>
                  <a:pt x="999" y="239"/>
                </a:lnTo>
                <a:lnTo>
                  <a:pt x="999" y="242"/>
                </a:lnTo>
                <a:lnTo>
                  <a:pt x="999" y="242"/>
                </a:lnTo>
                <a:lnTo>
                  <a:pt x="999" y="242"/>
                </a:lnTo>
                <a:lnTo>
                  <a:pt x="996" y="242"/>
                </a:lnTo>
                <a:lnTo>
                  <a:pt x="996" y="245"/>
                </a:lnTo>
                <a:lnTo>
                  <a:pt x="996" y="245"/>
                </a:lnTo>
                <a:lnTo>
                  <a:pt x="993" y="248"/>
                </a:lnTo>
                <a:lnTo>
                  <a:pt x="993" y="248"/>
                </a:lnTo>
                <a:lnTo>
                  <a:pt x="993" y="250"/>
                </a:lnTo>
                <a:lnTo>
                  <a:pt x="990" y="250"/>
                </a:lnTo>
                <a:lnTo>
                  <a:pt x="990" y="250"/>
                </a:lnTo>
                <a:lnTo>
                  <a:pt x="963" y="286"/>
                </a:lnTo>
                <a:lnTo>
                  <a:pt x="933" y="319"/>
                </a:lnTo>
                <a:lnTo>
                  <a:pt x="905" y="355"/>
                </a:lnTo>
                <a:lnTo>
                  <a:pt x="875" y="388"/>
                </a:lnTo>
                <a:lnTo>
                  <a:pt x="847" y="424"/>
                </a:lnTo>
                <a:lnTo>
                  <a:pt x="820" y="459"/>
                </a:lnTo>
                <a:lnTo>
                  <a:pt x="790" y="492"/>
                </a:lnTo>
                <a:lnTo>
                  <a:pt x="759" y="528"/>
                </a:lnTo>
                <a:lnTo>
                  <a:pt x="748" y="542"/>
                </a:lnTo>
                <a:lnTo>
                  <a:pt x="735" y="553"/>
                </a:lnTo>
                <a:lnTo>
                  <a:pt x="726" y="567"/>
                </a:lnTo>
                <a:lnTo>
                  <a:pt x="715" y="578"/>
                </a:lnTo>
                <a:lnTo>
                  <a:pt x="704" y="589"/>
                </a:lnTo>
                <a:lnTo>
                  <a:pt x="696" y="600"/>
                </a:lnTo>
                <a:lnTo>
                  <a:pt x="685" y="611"/>
                </a:lnTo>
                <a:lnTo>
                  <a:pt x="674" y="622"/>
                </a:lnTo>
                <a:lnTo>
                  <a:pt x="674" y="622"/>
                </a:lnTo>
                <a:lnTo>
                  <a:pt x="671" y="622"/>
                </a:lnTo>
                <a:lnTo>
                  <a:pt x="671" y="624"/>
                </a:lnTo>
                <a:lnTo>
                  <a:pt x="669" y="624"/>
                </a:lnTo>
                <a:lnTo>
                  <a:pt x="666" y="624"/>
                </a:lnTo>
                <a:lnTo>
                  <a:pt x="663" y="624"/>
                </a:lnTo>
                <a:lnTo>
                  <a:pt x="663" y="624"/>
                </a:lnTo>
                <a:lnTo>
                  <a:pt x="660" y="622"/>
                </a:lnTo>
                <a:lnTo>
                  <a:pt x="660" y="619"/>
                </a:lnTo>
                <a:lnTo>
                  <a:pt x="658" y="616"/>
                </a:lnTo>
                <a:lnTo>
                  <a:pt x="658" y="613"/>
                </a:lnTo>
                <a:lnTo>
                  <a:pt x="658" y="611"/>
                </a:lnTo>
                <a:lnTo>
                  <a:pt x="660" y="608"/>
                </a:lnTo>
                <a:lnTo>
                  <a:pt x="660" y="605"/>
                </a:lnTo>
                <a:lnTo>
                  <a:pt x="660" y="602"/>
                </a:lnTo>
                <a:lnTo>
                  <a:pt x="660" y="597"/>
                </a:lnTo>
                <a:lnTo>
                  <a:pt x="663" y="597"/>
                </a:lnTo>
                <a:lnTo>
                  <a:pt x="663" y="594"/>
                </a:lnTo>
                <a:lnTo>
                  <a:pt x="663" y="591"/>
                </a:lnTo>
                <a:lnTo>
                  <a:pt x="663" y="589"/>
                </a:lnTo>
                <a:lnTo>
                  <a:pt x="666" y="589"/>
                </a:lnTo>
                <a:lnTo>
                  <a:pt x="666" y="586"/>
                </a:lnTo>
                <a:lnTo>
                  <a:pt x="666" y="583"/>
                </a:lnTo>
                <a:lnTo>
                  <a:pt x="666" y="580"/>
                </a:lnTo>
                <a:lnTo>
                  <a:pt x="680" y="550"/>
                </a:lnTo>
                <a:lnTo>
                  <a:pt x="696" y="520"/>
                </a:lnTo>
                <a:lnTo>
                  <a:pt x="715" y="492"/>
                </a:lnTo>
                <a:lnTo>
                  <a:pt x="732" y="465"/>
                </a:lnTo>
                <a:lnTo>
                  <a:pt x="751" y="440"/>
                </a:lnTo>
                <a:lnTo>
                  <a:pt x="768" y="410"/>
                </a:lnTo>
                <a:lnTo>
                  <a:pt x="784" y="380"/>
                </a:lnTo>
                <a:lnTo>
                  <a:pt x="795" y="347"/>
                </a:lnTo>
                <a:lnTo>
                  <a:pt x="798" y="333"/>
                </a:lnTo>
                <a:lnTo>
                  <a:pt x="801" y="319"/>
                </a:lnTo>
                <a:lnTo>
                  <a:pt x="801" y="305"/>
                </a:lnTo>
                <a:lnTo>
                  <a:pt x="801" y="292"/>
                </a:lnTo>
                <a:lnTo>
                  <a:pt x="798" y="278"/>
                </a:lnTo>
                <a:lnTo>
                  <a:pt x="792" y="264"/>
                </a:lnTo>
                <a:lnTo>
                  <a:pt x="787" y="253"/>
                </a:lnTo>
                <a:lnTo>
                  <a:pt x="781" y="239"/>
                </a:lnTo>
                <a:lnTo>
                  <a:pt x="779" y="239"/>
                </a:lnTo>
                <a:lnTo>
                  <a:pt x="779" y="237"/>
                </a:lnTo>
                <a:lnTo>
                  <a:pt x="776" y="237"/>
                </a:lnTo>
                <a:lnTo>
                  <a:pt x="776" y="234"/>
                </a:lnTo>
                <a:lnTo>
                  <a:pt x="773" y="231"/>
                </a:lnTo>
                <a:lnTo>
                  <a:pt x="773" y="231"/>
                </a:lnTo>
                <a:lnTo>
                  <a:pt x="770" y="228"/>
                </a:lnTo>
                <a:lnTo>
                  <a:pt x="770" y="228"/>
                </a:lnTo>
                <a:lnTo>
                  <a:pt x="768" y="228"/>
                </a:lnTo>
                <a:lnTo>
                  <a:pt x="765" y="226"/>
                </a:lnTo>
                <a:lnTo>
                  <a:pt x="762" y="226"/>
                </a:lnTo>
                <a:lnTo>
                  <a:pt x="759" y="223"/>
                </a:lnTo>
                <a:lnTo>
                  <a:pt x="757" y="223"/>
                </a:lnTo>
                <a:lnTo>
                  <a:pt x="754" y="223"/>
                </a:lnTo>
                <a:lnTo>
                  <a:pt x="748" y="220"/>
                </a:lnTo>
                <a:lnTo>
                  <a:pt x="746" y="220"/>
                </a:lnTo>
                <a:lnTo>
                  <a:pt x="737" y="217"/>
                </a:lnTo>
                <a:lnTo>
                  <a:pt x="726" y="215"/>
                </a:lnTo>
                <a:lnTo>
                  <a:pt x="718" y="215"/>
                </a:lnTo>
                <a:lnTo>
                  <a:pt x="707" y="215"/>
                </a:lnTo>
                <a:lnTo>
                  <a:pt x="699" y="217"/>
                </a:lnTo>
                <a:lnTo>
                  <a:pt x="688" y="217"/>
                </a:lnTo>
                <a:lnTo>
                  <a:pt x="680" y="220"/>
                </a:lnTo>
                <a:lnTo>
                  <a:pt x="671" y="223"/>
                </a:lnTo>
                <a:lnTo>
                  <a:pt x="647" y="234"/>
                </a:lnTo>
                <a:lnTo>
                  <a:pt x="625" y="250"/>
                </a:lnTo>
                <a:lnTo>
                  <a:pt x="603" y="267"/>
                </a:lnTo>
                <a:lnTo>
                  <a:pt x="581" y="286"/>
                </a:lnTo>
                <a:lnTo>
                  <a:pt x="559" y="305"/>
                </a:lnTo>
                <a:lnTo>
                  <a:pt x="537" y="325"/>
                </a:lnTo>
                <a:lnTo>
                  <a:pt x="515" y="344"/>
                </a:lnTo>
                <a:lnTo>
                  <a:pt x="493" y="360"/>
                </a:lnTo>
                <a:lnTo>
                  <a:pt x="493" y="363"/>
                </a:lnTo>
                <a:lnTo>
                  <a:pt x="490" y="363"/>
                </a:lnTo>
                <a:lnTo>
                  <a:pt x="490" y="363"/>
                </a:lnTo>
                <a:lnTo>
                  <a:pt x="487" y="363"/>
                </a:lnTo>
                <a:lnTo>
                  <a:pt x="484" y="363"/>
                </a:lnTo>
                <a:lnTo>
                  <a:pt x="482" y="363"/>
                </a:lnTo>
                <a:lnTo>
                  <a:pt x="482" y="363"/>
                </a:lnTo>
                <a:lnTo>
                  <a:pt x="479" y="360"/>
                </a:lnTo>
                <a:lnTo>
                  <a:pt x="476" y="360"/>
                </a:lnTo>
                <a:lnTo>
                  <a:pt x="476" y="360"/>
                </a:lnTo>
                <a:lnTo>
                  <a:pt x="473" y="360"/>
                </a:lnTo>
                <a:lnTo>
                  <a:pt x="471" y="360"/>
                </a:lnTo>
                <a:lnTo>
                  <a:pt x="471" y="358"/>
                </a:lnTo>
                <a:lnTo>
                  <a:pt x="468" y="358"/>
                </a:lnTo>
                <a:lnTo>
                  <a:pt x="468" y="355"/>
                </a:lnTo>
                <a:lnTo>
                  <a:pt x="465" y="355"/>
                </a:lnTo>
                <a:lnTo>
                  <a:pt x="462" y="352"/>
                </a:lnTo>
                <a:lnTo>
                  <a:pt x="460" y="349"/>
                </a:lnTo>
                <a:lnTo>
                  <a:pt x="454" y="347"/>
                </a:lnTo>
                <a:lnTo>
                  <a:pt x="451" y="344"/>
                </a:lnTo>
                <a:lnTo>
                  <a:pt x="446" y="341"/>
                </a:lnTo>
                <a:lnTo>
                  <a:pt x="443" y="338"/>
                </a:lnTo>
                <a:lnTo>
                  <a:pt x="438" y="336"/>
                </a:lnTo>
                <a:lnTo>
                  <a:pt x="435" y="333"/>
                </a:lnTo>
                <a:lnTo>
                  <a:pt x="427" y="330"/>
                </a:lnTo>
                <a:lnTo>
                  <a:pt x="418" y="327"/>
                </a:lnTo>
                <a:lnTo>
                  <a:pt x="410" y="327"/>
                </a:lnTo>
                <a:lnTo>
                  <a:pt x="402" y="327"/>
                </a:lnTo>
                <a:lnTo>
                  <a:pt x="394" y="330"/>
                </a:lnTo>
                <a:lnTo>
                  <a:pt x="385" y="330"/>
                </a:lnTo>
                <a:lnTo>
                  <a:pt x="377" y="330"/>
                </a:lnTo>
                <a:lnTo>
                  <a:pt x="369" y="333"/>
                </a:lnTo>
                <a:lnTo>
                  <a:pt x="366" y="333"/>
                </a:lnTo>
                <a:lnTo>
                  <a:pt x="366" y="336"/>
                </a:lnTo>
                <a:lnTo>
                  <a:pt x="363" y="336"/>
                </a:lnTo>
                <a:lnTo>
                  <a:pt x="363" y="336"/>
                </a:lnTo>
                <a:lnTo>
                  <a:pt x="361" y="338"/>
                </a:lnTo>
                <a:lnTo>
                  <a:pt x="358" y="338"/>
                </a:lnTo>
                <a:lnTo>
                  <a:pt x="355" y="338"/>
                </a:lnTo>
                <a:lnTo>
                  <a:pt x="355" y="338"/>
                </a:lnTo>
                <a:lnTo>
                  <a:pt x="317" y="366"/>
                </a:lnTo>
                <a:lnTo>
                  <a:pt x="281" y="396"/>
                </a:lnTo>
                <a:lnTo>
                  <a:pt x="253" y="429"/>
                </a:lnTo>
                <a:lnTo>
                  <a:pt x="226" y="468"/>
                </a:lnTo>
                <a:lnTo>
                  <a:pt x="201" y="506"/>
                </a:lnTo>
                <a:lnTo>
                  <a:pt x="179" y="547"/>
                </a:lnTo>
                <a:lnTo>
                  <a:pt x="157" y="589"/>
                </a:lnTo>
                <a:lnTo>
                  <a:pt x="135" y="630"/>
                </a:lnTo>
                <a:lnTo>
                  <a:pt x="127" y="652"/>
                </a:lnTo>
                <a:lnTo>
                  <a:pt x="119" y="671"/>
                </a:lnTo>
                <a:lnTo>
                  <a:pt x="108" y="690"/>
                </a:lnTo>
                <a:lnTo>
                  <a:pt x="99" y="710"/>
                </a:lnTo>
                <a:lnTo>
                  <a:pt x="91" y="729"/>
                </a:lnTo>
                <a:lnTo>
                  <a:pt x="83" y="745"/>
                </a:lnTo>
                <a:lnTo>
                  <a:pt x="75" y="765"/>
                </a:lnTo>
                <a:lnTo>
                  <a:pt x="69" y="784"/>
                </a:lnTo>
                <a:lnTo>
                  <a:pt x="66" y="787"/>
                </a:lnTo>
                <a:lnTo>
                  <a:pt x="66" y="789"/>
                </a:lnTo>
                <a:lnTo>
                  <a:pt x="66" y="792"/>
                </a:lnTo>
                <a:lnTo>
                  <a:pt x="64" y="795"/>
                </a:lnTo>
                <a:lnTo>
                  <a:pt x="64" y="798"/>
                </a:lnTo>
                <a:lnTo>
                  <a:pt x="61" y="800"/>
                </a:lnTo>
                <a:lnTo>
                  <a:pt x="61" y="803"/>
                </a:lnTo>
                <a:lnTo>
                  <a:pt x="61" y="803"/>
                </a:lnTo>
                <a:lnTo>
                  <a:pt x="20" y="930"/>
                </a:lnTo>
                <a:lnTo>
                  <a:pt x="17" y="932"/>
                </a:lnTo>
                <a:lnTo>
                  <a:pt x="17" y="935"/>
                </a:lnTo>
                <a:lnTo>
                  <a:pt x="17" y="938"/>
                </a:lnTo>
                <a:lnTo>
                  <a:pt x="17" y="941"/>
                </a:lnTo>
                <a:lnTo>
                  <a:pt x="17" y="943"/>
                </a:lnTo>
                <a:lnTo>
                  <a:pt x="17" y="946"/>
                </a:lnTo>
                <a:lnTo>
                  <a:pt x="17" y="949"/>
                </a:lnTo>
                <a:lnTo>
                  <a:pt x="17" y="952"/>
                </a:lnTo>
                <a:lnTo>
                  <a:pt x="0" y="1053"/>
                </a:lnTo>
                <a:lnTo>
                  <a:pt x="0" y="1056"/>
                </a:lnTo>
                <a:lnTo>
                  <a:pt x="0" y="1059"/>
                </a:lnTo>
                <a:lnTo>
                  <a:pt x="3" y="1061"/>
                </a:lnTo>
                <a:lnTo>
                  <a:pt x="3" y="1064"/>
                </a:lnTo>
                <a:lnTo>
                  <a:pt x="3" y="1067"/>
                </a:lnTo>
                <a:lnTo>
                  <a:pt x="3" y="1070"/>
                </a:lnTo>
                <a:lnTo>
                  <a:pt x="6" y="1072"/>
                </a:lnTo>
                <a:lnTo>
                  <a:pt x="9" y="1075"/>
                </a:lnTo>
                <a:lnTo>
                  <a:pt x="9" y="1078"/>
                </a:lnTo>
                <a:lnTo>
                  <a:pt x="11" y="1078"/>
                </a:lnTo>
                <a:lnTo>
                  <a:pt x="11" y="1081"/>
                </a:lnTo>
                <a:lnTo>
                  <a:pt x="14" y="1081"/>
                </a:lnTo>
                <a:lnTo>
                  <a:pt x="17" y="1083"/>
                </a:lnTo>
                <a:lnTo>
                  <a:pt x="20" y="1083"/>
                </a:lnTo>
                <a:lnTo>
                  <a:pt x="22" y="1086"/>
                </a:lnTo>
                <a:lnTo>
                  <a:pt x="25" y="1089"/>
                </a:lnTo>
                <a:lnTo>
                  <a:pt x="132" y="1108"/>
                </a:lnTo>
                <a:lnTo>
                  <a:pt x="135" y="1111"/>
                </a:lnTo>
                <a:lnTo>
                  <a:pt x="135" y="1111"/>
                </a:lnTo>
                <a:lnTo>
                  <a:pt x="135" y="1111"/>
                </a:lnTo>
                <a:lnTo>
                  <a:pt x="135" y="1114"/>
                </a:lnTo>
                <a:lnTo>
                  <a:pt x="135" y="1114"/>
                </a:lnTo>
                <a:lnTo>
                  <a:pt x="138" y="1116"/>
                </a:lnTo>
                <a:lnTo>
                  <a:pt x="138" y="1116"/>
                </a:lnTo>
                <a:lnTo>
                  <a:pt x="141" y="1116"/>
                </a:lnTo>
                <a:lnTo>
                  <a:pt x="141" y="1119"/>
                </a:lnTo>
                <a:lnTo>
                  <a:pt x="138" y="1122"/>
                </a:lnTo>
                <a:lnTo>
                  <a:pt x="138" y="1122"/>
                </a:lnTo>
                <a:lnTo>
                  <a:pt x="138" y="1125"/>
                </a:lnTo>
                <a:lnTo>
                  <a:pt x="138" y="1125"/>
                </a:lnTo>
                <a:lnTo>
                  <a:pt x="135" y="1127"/>
                </a:lnTo>
                <a:lnTo>
                  <a:pt x="135" y="1130"/>
                </a:lnTo>
                <a:lnTo>
                  <a:pt x="135" y="1130"/>
                </a:lnTo>
                <a:lnTo>
                  <a:pt x="124" y="1149"/>
                </a:lnTo>
                <a:lnTo>
                  <a:pt x="116" y="1171"/>
                </a:lnTo>
                <a:lnTo>
                  <a:pt x="110" y="1191"/>
                </a:lnTo>
                <a:lnTo>
                  <a:pt x="105" y="1213"/>
                </a:lnTo>
                <a:lnTo>
                  <a:pt x="102" y="1235"/>
                </a:lnTo>
                <a:lnTo>
                  <a:pt x="99" y="1257"/>
                </a:lnTo>
                <a:lnTo>
                  <a:pt x="97" y="1276"/>
                </a:lnTo>
                <a:lnTo>
                  <a:pt x="94" y="1298"/>
                </a:lnTo>
                <a:lnTo>
                  <a:pt x="97" y="1303"/>
                </a:lnTo>
                <a:lnTo>
                  <a:pt x="97" y="1306"/>
                </a:lnTo>
                <a:lnTo>
                  <a:pt x="99" y="1309"/>
                </a:lnTo>
                <a:lnTo>
                  <a:pt x="99" y="1314"/>
                </a:lnTo>
                <a:lnTo>
                  <a:pt x="99" y="1317"/>
                </a:lnTo>
                <a:lnTo>
                  <a:pt x="102" y="1320"/>
                </a:lnTo>
                <a:lnTo>
                  <a:pt x="105" y="1325"/>
                </a:lnTo>
                <a:lnTo>
                  <a:pt x="108" y="1328"/>
                </a:lnTo>
                <a:lnTo>
                  <a:pt x="110" y="1328"/>
                </a:lnTo>
                <a:lnTo>
                  <a:pt x="110" y="1331"/>
                </a:lnTo>
                <a:lnTo>
                  <a:pt x="113" y="1331"/>
                </a:lnTo>
                <a:lnTo>
                  <a:pt x="113" y="1334"/>
                </a:lnTo>
                <a:lnTo>
                  <a:pt x="116" y="1334"/>
                </a:lnTo>
                <a:lnTo>
                  <a:pt x="116" y="1336"/>
                </a:lnTo>
                <a:lnTo>
                  <a:pt x="119" y="1336"/>
                </a:lnTo>
                <a:lnTo>
                  <a:pt x="119" y="1336"/>
                </a:lnTo>
                <a:lnTo>
                  <a:pt x="130" y="1342"/>
                </a:lnTo>
                <a:lnTo>
                  <a:pt x="143" y="1345"/>
                </a:lnTo>
                <a:lnTo>
                  <a:pt x="154" y="1347"/>
                </a:lnTo>
                <a:lnTo>
                  <a:pt x="168" y="1347"/>
                </a:lnTo>
                <a:lnTo>
                  <a:pt x="182" y="1347"/>
                </a:lnTo>
                <a:lnTo>
                  <a:pt x="196" y="1347"/>
                </a:lnTo>
                <a:lnTo>
                  <a:pt x="209" y="1345"/>
                </a:lnTo>
                <a:lnTo>
                  <a:pt x="220" y="1345"/>
                </a:lnTo>
                <a:lnTo>
                  <a:pt x="240" y="1331"/>
                </a:lnTo>
                <a:lnTo>
                  <a:pt x="259" y="1320"/>
                </a:lnTo>
                <a:lnTo>
                  <a:pt x="275" y="1306"/>
                </a:lnTo>
                <a:lnTo>
                  <a:pt x="292" y="1290"/>
                </a:lnTo>
                <a:lnTo>
                  <a:pt x="308" y="1276"/>
                </a:lnTo>
                <a:lnTo>
                  <a:pt x="328" y="1259"/>
                </a:lnTo>
                <a:lnTo>
                  <a:pt x="344" y="1243"/>
                </a:lnTo>
                <a:lnTo>
                  <a:pt x="361" y="1226"/>
                </a:lnTo>
                <a:lnTo>
                  <a:pt x="363" y="1226"/>
                </a:lnTo>
                <a:lnTo>
                  <a:pt x="363" y="1226"/>
                </a:lnTo>
                <a:lnTo>
                  <a:pt x="366" y="1226"/>
                </a:lnTo>
                <a:lnTo>
                  <a:pt x="369" y="1226"/>
                </a:lnTo>
                <a:lnTo>
                  <a:pt x="372" y="1226"/>
                </a:lnTo>
                <a:lnTo>
                  <a:pt x="372" y="1226"/>
                </a:lnTo>
                <a:lnTo>
                  <a:pt x="374" y="1226"/>
                </a:lnTo>
                <a:lnTo>
                  <a:pt x="374" y="1226"/>
                </a:lnTo>
                <a:lnTo>
                  <a:pt x="377" y="1229"/>
                </a:lnTo>
                <a:lnTo>
                  <a:pt x="377" y="1235"/>
                </a:lnTo>
                <a:lnTo>
                  <a:pt x="377" y="1237"/>
                </a:lnTo>
                <a:lnTo>
                  <a:pt x="377" y="1240"/>
                </a:lnTo>
                <a:lnTo>
                  <a:pt x="377" y="1246"/>
                </a:lnTo>
                <a:lnTo>
                  <a:pt x="374" y="1248"/>
                </a:lnTo>
                <a:lnTo>
                  <a:pt x="374" y="1251"/>
                </a:lnTo>
                <a:lnTo>
                  <a:pt x="374" y="1257"/>
                </a:lnTo>
                <a:lnTo>
                  <a:pt x="352" y="1301"/>
                </a:lnTo>
                <a:lnTo>
                  <a:pt x="330" y="1345"/>
                </a:lnTo>
                <a:lnTo>
                  <a:pt x="306" y="1389"/>
                </a:lnTo>
                <a:lnTo>
                  <a:pt x="281" y="1435"/>
                </a:lnTo>
                <a:lnTo>
                  <a:pt x="262" y="1482"/>
                </a:lnTo>
                <a:lnTo>
                  <a:pt x="248" y="1532"/>
                </a:lnTo>
                <a:lnTo>
                  <a:pt x="242" y="1581"/>
                </a:lnTo>
                <a:lnTo>
                  <a:pt x="248" y="1633"/>
                </a:lnTo>
                <a:lnTo>
                  <a:pt x="248" y="1636"/>
                </a:lnTo>
                <a:lnTo>
                  <a:pt x="248" y="1639"/>
                </a:lnTo>
                <a:lnTo>
                  <a:pt x="248" y="1639"/>
                </a:lnTo>
                <a:lnTo>
                  <a:pt x="251" y="1642"/>
                </a:lnTo>
                <a:lnTo>
                  <a:pt x="251" y="1642"/>
                </a:lnTo>
                <a:lnTo>
                  <a:pt x="251" y="1642"/>
                </a:lnTo>
                <a:lnTo>
                  <a:pt x="251" y="1642"/>
                </a:lnTo>
                <a:lnTo>
                  <a:pt x="251" y="1642"/>
                </a:lnTo>
                <a:lnTo>
                  <a:pt x="259" y="1653"/>
                </a:lnTo>
                <a:lnTo>
                  <a:pt x="273" y="1661"/>
                </a:lnTo>
                <a:lnTo>
                  <a:pt x="284" y="1666"/>
                </a:lnTo>
                <a:lnTo>
                  <a:pt x="300" y="1669"/>
                </a:lnTo>
                <a:lnTo>
                  <a:pt x="314" y="1669"/>
                </a:lnTo>
                <a:lnTo>
                  <a:pt x="330" y="1669"/>
                </a:lnTo>
                <a:lnTo>
                  <a:pt x="347" y="1666"/>
                </a:lnTo>
                <a:lnTo>
                  <a:pt x="361" y="1664"/>
                </a:lnTo>
                <a:lnTo>
                  <a:pt x="380" y="1658"/>
                </a:lnTo>
                <a:lnTo>
                  <a:pt x="396" y="1650"/>
                </a:lnTo>
                <a:lnTo>
                  <a:pt x="413" y="1639"/>
                </a:lnTo>
                <a:lnTo>
                  <a:pt x="429" y="1628"/>
                </a:lnTo>
                <a:lnTo>
                  <a:pt x="443" y="1620"/>
                </a:lnTo>
                <a:lnTo>
                  <a:pt x="457" y="1609"/>
                </a:lnTo>
                <a:lnTo>
                  <a:pt x="473" y="1598"/>
                </a:lnTo>
                <a:lnTo>
                  <a:pt x="490" y="1589"/>
                </a:lnTo>
                <a:lnTo>
                  <a:pt x="493" y="1589"/>
                </a:lnTo>
                <a:lnTo>
                  <a:pt x="493" y="1589"/>
                </a:lnTo>
                <a:lnTo>
                  <a:pt x="495" y="1589"/>
                </a:lnTo>
                <a:lnTo>
                  <a:pt x="495" y="1589"/>
                </a:lnTo>
                <a:lnTo>
                  <a:pt x="498" y="1589"/>
                </a:lnTo>
                <a:lnTo>
                  <a:pt x="501" y="1589"/>
                </a:lnTo>
                <a:lnTo>
                  <a:pt x="501" y="1589"/>
                </a:lnTo>
                <a:lnTo>
                  <a:pt x="504" y="1592"/>
                </a:lnTo>
                <a:lnTo>
                  <a:pt x="504" y="1592"/>
                </a:lnTo>
                <a:lnTo>
                  <a:pt x="504" y="1592"/>
                </a:lnTo>
                <a:lnTo>
                  <a:pt x="504" y="1592"/>
                </a:lnTo>
                <a:lnTo>
                  <a:pt x="504" y="1592"/>
                </a:lnTo>
                <a:lnTo>
                  <a:pt x="504" y="1595"/>
                </a:lnTo>
                <a:lnTo>
                  <a:pt x="504" y="1595"/>
                </a:lnTo>
                <a:lnTo>
                  <a:pt x="504" y="1598"/>
                </a:lnTo>
                <a:lnTo>
                  <a:pt x="504" y="1600"/>
                </a:lnTo>
                <a:lnTo>
                  <a:pt x="487" y="1631"/>
                </a:lnTo>
                <a:lnTo>
                  <a:pt x="465" y="1664"/>
                </a:lnTo>
                <a:lnTo>
                  <a:pt x="440" y="1694"/>
                </a:lnTo>
                <a:lnTo>
                  <a:pt x="418" y="1727"/>
                </a:lnTo>
                <a:lnTo>
                  <a:pt x="402" y="1760"/>
                </a:lnTo>
                <a:lnTo>
                  <a:pt x="388" y="1796"/>
                </a:lnTo>
                <a:lnTo>
                  <a:pt x="385" y="1834"/>
                </a:lnTo>
                <a:lnTo>
                  <a:pt x="391" y="1875"/>
                </a:lnTo>
                <a:lnTo>
                  <a:pt x="391" y="1878"/>
                </a:lnTo>
                <a:lnTo>
                  <a:pt x="391" y="1881"/>
                </a:lnTo>
                <a:lnTo>
                  <a:pt x="394" y="1884"/>
                </a:lnTo>
                <a:lnTo>
                  <a:pt x="396" y="1886"/>
                </a:lnTo>
                <a:lnTo>
                  <a:pt x="399" y="1889"/>
                </a:lnTo>
                <a:lnTo>
                  <a:pt x="402" y="1892"/>
                </a:lnTo>
                <a:lnTo>
                  <a:pt x="402" y="1895"/>
                </a:lnTo>
                <a:lnTo>
                  <a:pt x="405" y="1897"/>
                </a:lnTo>
                <a:lnTo>
                  <a:pt x="407" y="1900"/>
                </a:lnTo>
                <a:lnTo>
                  <a:pt x="410" y="1900"/>
                </a:lnTo>
                <a:lnTo>
                  <a:pt x="413" y="1903"/>
                </a:lnTo>
                <a:lnTo>
                  <a:pt x="416" y="1903"/>
                </a:lnTo>
                <a:lnTo>
                  <a:pt x="416" y="1906"/>
                </a:lnTo>
                <a:lnTo>
                  <a:pt x="418" y="1908"/>
                </a:lnTo>
                <a:lnTo>
                  <a:pt x="421" y="1908"/>
                </a:lnTo>
                <a:lnTo>
                  <a:pt x="427" y="1911"/>
                </a:lnTo>
                <a:lnTo>
                  <a:pt x="438" y="1917"/>
                </a:lnTo>
                <a:lnTo>
                  <a:pt x="451" y="1917"/>
                </a:lnTo>
                <a:lnTo>
                  <a:pt x="465" y="1919"/>
                </a:lnTo>
                <a:lnTo>
                  <a:pt x="479" y="1917"/>
                </a:lnTo>
                <a:lnTo>
                  <a:pt x="493" y="1917"/>
                </a:lnTo>
                <a:lnTo>
                  <a:pt x="509" y="1914"/>
                </a:lnTo>
                <a:lnTo>
                  <a:pt x="523" y="1911"/>
                </a:lnTo>
                <a:lnTo>
                  <a:pt x="537" y="1906"/>
                </a:lnTo>
                <a:lnTo>
                  <a:pt x="572" y="1884"/>
                </a:lnTo>
                <a:lnTo>
                  <a:pt x="605" y="1859"/>
                </a:lnTo>
                <a:lnTo>
                  <a:pt x="638" y="1834"/>
                </a:lnTo>
                <a:lnTo>
                  <a:pt x="671" y="1804"/>
                </a:lnTo>
                <a:lnTo>
                  <a:pt x="704" y="1774"/>
                </a:lnTo>
                <a:lnTo>
                  <a:pt x="735" y="1743"/>
                </a:lnTo>
                <a:lnTo>
                  <a:pt x="768" y="1713"/>
                </a:lnTo>
                <a:lnTo>
                  <a:pt x="803" y="1686"/>
                </a:lnTo>
                <a:lnTo>
                  <a:pt x="803" y="1686"/>
                </a:lnTo>
                <a:lnTo>
                  <a:pt x="806" y="1686"/>
                </a:lnTo>
                <a:lnTo>
                  <a:pt x="809" y="1686"/>
                </a:lnTo>
                <a:lnTo>
                  <a:pt x="809" y="1686"/>
                </a:lnTo>
                <a:lnTo>
                  <a:pt x="812" y="1686"/>
                </a:lnTo>
                <a:lnTo>
                  <a:pt x="812" y="1686"/>
                </a:lnTo>
                <a:lnTo>
                  <a:pt x="814" y="1686"/>
                </a:lnTo>
                <a:lnTo>
                  <a:pt x="814" y="1686"/>
                </a:lnTo>
                <a:lnTo>
                  <a:pt x="814" y="1688"/>
                </a:lnTo>
                <a:lnTo>
                  <a:pt x="817" y="1688"/>
                </a:lnTo>
                <a:lnTo>
                  <a:pt x="817" y="1691"/>
                </a:lnTo>
                <a:lnTo>
                  <a:pt x="817" y="1694"/>
                </a:lnTo>
                <a:lnTo>
                  <a:pt x="817" y="1694"/>
                </a:lnTo>
                <a:lnTo>
                  <a:pt x="817" y="1697"/>
                </a:lnTo>
                <a:lnTo>
                  <a:pt x="817" y="1699"/>
                </a:lnTo>
                <a:lnTo>
                  <a:pt x="817" y="1702"/>
                </a:lnTo>
                <a:lnTo>
                  <a:pt x="817" y="1702"/>
                </a:lnTo>
                <a:lnTo>
                  <a:pt x="817" y="1705"/>
                </a:lnTo>
                <a:lnTo>
                  <a:pt x="817" y="1705"/>
                </a:lnTo>
                <a:lnTo>
                  <a:pt x="814" y="1708"/>
                </a:lnTo>
                <a:lnTo>
                  <a:pt x="814" y="1710"/>
                </a:lnTo>
                <a:lnTo>
                  <a:pt x="814" y="1710"/>
                </a:lnTo>
                <a:lnTo>
                  <a:pt x="812" y="1713"/>
                </a:lnTo>
                <a:lnTo>
                  <a:pt x="812" y="1716"/>
                </a:lnTo>
                <a:lnTo>
                  <a:pt x="792" y="1757"/>
                </a:lnTo>
                <a:lnTo>
                  <a:pt x="768" y="1796"/>
                </a:lnTo>
                <a:lnTo>
                  <a:pt x="743" y="1834"/>
                </a:lnTo>
                <a:lnTo>
                  <a:pt x="718" y="1875"/>
                </a:lnTo>
                <a:lnTo>
                  <a:pt x="693" y="1917"/>
                </a:lnTo>
                <a:lnTo>
                  <a:pt x="677" y="1958"/>
                </a:lnTo>
                <a:lnTo>
                  <a:pt x="671" y="2002"/>
                </a:lnTo>
                <a:lnTo>
                  <a:pt x="674" y="2051"/>
                </a:lnTo>
                <a:lnTo>
                  <a:pt x="677" y="2054"/>
                </a:lnTo>
                <a:lnTo>
                  <a:pt x="680" y="2057"/>
                </a:lnTo>
                <a:lnTo>
                  <a:pt x="680" y="2060"/>
                </a:lnTo>
                <a:lnTo>
                  <a:pt x="682" y="2062"/>
                </a:lnTo>
                <a:lnTo>
                  <a:pt x="685" y="2068"/>
                </a:lnTo>
                <a:lnTo>
                  <a:pt x="688" y="2071"/>
                </a:lnTo>
                <a:lnTo>
                  <a:pt x="691" y="2073"/>
                </a:lnTo>
                <a:lnTo>
                  <a:pt x="696" y="2076"/>
                </a:lnTo>
                <a:lnTo>
                  <a:pt x="696" y="2079"/>
                </a:lnTo>
                <a:lnTo>
                  <a:pt x="699" y="2079"/>
                </a:lnTo>
                <a:lnTo>
                  <a:pt x="702" y="2079"/>
                </a:lnTo>
                <a:lnTo>
                  <a:pt x="704" y="2082"/>
                </a:lnTo>
                <a:lnTo>
                  <a:pt x="707" y="2082"/>
                </a:lnTo>
                <a:lnTo>
                  <a:pt x="710" y="2082"/>
                </a:lnTo>
                <a:lnTo>
                  <a:pt x="713" y="2084"/>
                </a:lnTo>
                <a:lnTo>
                  <a:pt x="715" y="2084"/>
                </a:lnTo>
                <a:lnTo>
                  <a:pt x="718" y="2087"/>
                </a:lnTo>
                <a:lnTo>
                  <a:pt x="718" y="2087"/>
                </a:lnTo>
                <a:lnTo>
                  <a:pt x="721" y="2087"/>
                </a:lnTo>
                <a:lnTo>
                  <a:pt x="724" y="2087"/>
                </a:lnTo>
                <a:lnTo>
                  <a:pt x="726" y="2087"/>
                </a:lnTo>
                <a:lnTo>
                  <a:pt x="729" y="2090"/>
                </a:lnTo>
                <a:lnTo>
                  <a:pt x="729" y="2090"/>
                </a:lnTo>
                <a:lnTo>
                  <a:pt x="732" y="2090"/>
                </a:lnTo>
                <a:lnTo>
                  <a:pt x="735" y="2090"/>
                </a:lnTo>
                <a:lnTo>
                  <a:pt x="737" y="2090"/>
                </a:lnTo>
                <a:lnTo>
                  <a:pt x="740" y="2090"/>
                </a:lnTo>
                <a:lnTo>
                  <a:pt x="743" y="2090"/>
                </a:lnTo>
                <a:lnTo>
                  <a:pt x="746" y="2090"/>
                </a:lnTo>
                <a:lnTo>
                  <a:pt x="748" y="2090"/>
                </a:lnTo>
                <a:lnTo>
                  <a:pt x="748" y="2087"/>
                </a:lnTo>
                <a:lnTo>
                  <a:pt x="751" y="2087"/>
                </a:lnTo>
                <a:close/>
              </a:path>
            </a:pathLst>
          </a:custGeom>
          <a:gradFill rotWithShape="0">
            <a:gsLst>
              <a:gs pos="0">
                <a:srgbClr val="ffebe9"/>
              </a:gs>
              <a:gs pos="50000">
                <a:srgbClr val="fef9f9"/>
              </a:gs>
              <a:gs pos="100000">
                <a:srgbClr val="ffebe9"/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914400" y="1066680"/>
            <a:ext cx="7315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market researcher for Super Dollar Super Markets is studying the yearly amount                       families of four or more spend on foo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4081320" y="228600"/>
            <a:ext cx="981360" cy="8398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838080" y="2590920"/>
            <a:ext cx="7296120" cy="947160"/>
          </a:xfrm>
          <a:prstGeom prst="rect">
            <a:avLst/>
          </a:prstGeom>
          <a:solidFill>
            <a:srgbClr val="fbe7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hree independent variabl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re thought to be related to yearly food expenditur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Foo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6760" y="3505320"/>
            <a:ext cx="8610480" cy="2067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efefe"/>
              </a:gs>
              <a:gs pos="100000">
                <a:srgbClr val="ffff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ose variables ar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tal family income (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ncom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in $00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ze of family (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Siz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,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ther the family has children in college (</a:t>
            </a: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Colleg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7505640" y="6248520"/>
            <a:ext cx="12574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83017" dir="12821405" blurRad="0" rotWithShape="0">
                    <a:srgbClr val="b2b2b2">
                      <a:alpha val="50000"/>
                    </a:srgbClr>
                  </a:outerShdw>
                </a:effectLst>
                <a:latin typeface="Copper Black"/>
              </a:rPr>
              <a:t>and..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83017" dir="12821405" blurRad="0" rotWithShape="0">
                  <a:srgbClr val="b2b2b2">
                    <a:alpha val="50000"/>
                  </a:srgbClr>
                </a:outerShdw>
              </a:effectLst>
              <a:latin typeface="Copper Black"/>
              <a:ea typeface="Copper Black"/>
            </a:endParaRPr>
          </a:p>
        </p:txBody>
      </p:sp>
    </p:spTree>
  </p:cSld>
  <p:transition>
    <p:dissolve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000"/>
                            </p:stCondLst>
                            <p:childTnLst>
                              <p:par>
                                <p:cTn id="390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3500"/>
                            </p:stCondLst>
                            <p:childTnLst>
                              <p:par>
                                <p:cTn id="394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5000"/>
                            </p:stCondLst>
                            <p:childTnLst>
                              <p:par>
                                <p:cTn id="398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6500"/>
                            </p:stCondLst>
                            <p:childTnLst>
                              <p:par>
                                <p:cTn id="402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895320" y="3886200"/>
            <a:ext cx="802008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part is acceptable or unaccep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voter will or will not vote for the incumbent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4081320" y="228600"/>
            <a:ext cx="981360" cy="83988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4879440" y="609480"/>
            <a:ext cx="212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…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ontinu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31120" y="1219320"/>
            <a:ext cx="8722800" cy="52056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efefe"/>
              </a:gs>
              <a:gs pos="100000">
                <a:srgbClr val="00cc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Note: 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e following regarding the regression eq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47640" y="1828800"/>
            <a:ext cx="78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variable colle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called                                                                  a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umm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dicator varia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                                                                          (It can take only one of two possible outcomes,                                    i.e. a child is a college student or no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445040" y="3429000"/>
            <a:ext cx="6241680" cy="459720"/>
          </a:xfrm>
          <a:prstGeom prst="rect">
            <a:avLst/>
          </a:prstGeom>
          <a:solidFill>
            <a:srgbClr val="fbe7db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her examples of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ummy variabl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clud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990720" y="5486400"/>
            <a:ext cx="7543800" cy="94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e usually code one value of the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 dummy variable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s 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“1”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d the other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“0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d"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"/>
          <p:cNvGrpSpPr/>
          <p:nvPr/>
        </p:nvGrpSpPr>
        <p:grpSpPr>
          <a:xfrm>
            <a:off x="4081320" y="228600"/>
            <a:ext cx="2925000" cy="901440"/>
            <a:chOff x="4081320" y="228600"/>
            <a:chExt cx="2925000" cy="901440"/>
          </a:xfrm>
        </p:grpSpPr>
        <p:pic>
          <p:nvPicPr>
            <p:cNvPr id="366" name="" descr=""/>
            <p:cNvPicPr/>
            <p:nvPr/>
          </p:nvPicPr>
          <p:blipFill>
            <a:blip r:embed="rId1"/>
            <a:stretch/>
          </p:blipFill>
          <p:spPr>
            <a:xfrm>
              <a:off x="4081320" y="228600"/>
              <a:ext cx="98136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4879440" y="609480"/>
              <a:ext cx="21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… 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continu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533520" y="1143000"/>
            <a:ext cx="8076960" cy="5345280"/>
            <a:chOff x="533520" y="1143000"/>
            <a:chExt cx="8076960" cy="5345280"/>
          </a:xfrm>
        </p:grpSpPr>
        <p:sp>
          <p:nvSpPr>
            <p:cNvPr id="369" name=""/>
            <p:cNvSpPr/>
            <p:nvPr/>
          </p:nvSpPr>
          <p:spPr>
            <a:xfrm>
              <a:off x="533520" y="1143000"/>
              <a:ext cx="8076960" cy="533412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50000">
                  <a:srgbClr val="fefefe"/>
                </a:gs>
                <a:gs pos="100000">
                  <a:srgbClr val="00ffff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0" name=""/>
            <p:cNvGrpSpPr/>
            <p:nvPr/>
          </p:nvGrpSpPr>
          <p:grpSpPr>
            <a:xfrm>
              <a:off x="533520" y="1149480"/>
              <a:ext cx="8076600" cy="5338800"/>
              <a:chOff x="533520" y="1149480"/>
              <a:chExt cx="8076600" cy="5338800"/>
            </a:xfrm>
          </p:grpSpPr>
          <p:sp>
            <p:nvSpPr>
              <p:cNvPr id="371" name=""/>
              <p:cNvSpPr/>
              <p:nvPr/>
            </p:nvSpPr>
            <p:spPr>
              <a:xfrm>
                <a:off x="1119240" y="1220760"/>
                <a:ext cx="78696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</a:rPr>
                  <a:t>Family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2745720" y="1220760"/>
                <a:ext cx="6073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ff3300"/>
                    </a:solidFill>
                    <a:latin typeface="Arial"/>
                  </a:rPr>
                  <a:t>Food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230720" y="1220760"/>
                <a:ext cx="8755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3333cc"/>
                    </a:solidFill>
                    <a:latin typeface="Arial"/>
                  </a:rPr>
                  <a:t>Income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033960" y="1220760"/>
                <a:ext cx="52056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9900"/>
                    </a:solidFill>
                    <a:latin typeface="Arial"/>
                  </a:rPr>
                  <a:t>Size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310880" y="1220760"/>
                <a:ext cx="91980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</a:rPr>
                  <a:t>Student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445400" y="1630440"/>
                <a:ext cx="14868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742120" y="1630440"/>
                <a:ext cx="59220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</a:rPr>
                  <a:t>3900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494960" y="1630440"/>
                <a:ext cx="44424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</a:rPr>
                  <a:t>376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171480" y="1630440"/>
                <a:ext cx="14868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7782840" y="1630440"/>
                <a:ext cx="14868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1445400" y="2038320"/>
                <a:ext cx="14868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742120" y="2038320"/>
                <a:ext cx="59220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</a:rPr>
                  <a:t>5300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494960" y="2038320"/>
                <a:ext cx="44424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</a:rPr>
                  <a:t>515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171480" y="2038320"/>
                <a:ext cx="14868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7782840" y="2038320"/>
                <a:ext cx="14868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445400" y="2448000"/>
                <a:ext cx="14868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742120" y="2448000"/>
                <a:ext cx="59220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</a:rPr>
                  <a:t>4300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494960" y="2448000"/>
                <a:ext cx="44424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</a:rPr>
                  <a:t>516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171480" y="2448000"/>
                <a:ext cx="14868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782840" y="2448000"/>
                <a:ext cx="14868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445400" y="2857680"/>
                <a:ext cx="14868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742120" y="2857680"/>
                <a:ext cx="59220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</a:rPr>
                  <a:t>4900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494960" y="2857680"/>
                <a:ext cx="44424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</a:rPr>
                  <a:t>468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171480" y="2857680"/>
                <a:ext cx="14868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7782840" y="2857680"/>
                <a:ext cx="14868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445400" y="3265560"/>
                <a:ext cx="14868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742120" y="3265560"/>
                <a:ext cx="59220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</a:rPr>
                  <a:t>6400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494960" y="3265560"/>
                <a:ext cx="44424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</a:rPr>
                  <a:t>538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171480" y="3265560"/>
                <a:ext cx="14868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7782840" y="3265560"/>
                <a:ext cx="14868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445400" y="3675240"/>
                <a:ext cx="14868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2742120" y="3675240"/>
                <a:ext cx="59220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</a:rPr>
                  <a:t>7300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494960" y="3675240"/>
                <a:ext cx="44424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</a:rPr>
                  <a:t>626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171480" y="3675240"/>
                <a:ext cx="14868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7782840" y="3675240"/>
                <a:ext cx="14868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445400" y="4083120"/>
                <a:ext cx="14868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742120" y="4083120"/>
                <a:ext cx="59220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</a:rPr>
                  <a:t>4900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494960" y="4083120"/>
                <a:ext cx="44424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</a:rPr>
                  <a:t>543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171480" y="4083120"/>
                <a:ext cx="14868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7782840" y="4083120"/>
                <a:ext cx="14868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445400" y="4492800"/>
                <a:ext cx="14868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742120" y="4492800"/>
                <a:ext cx="59220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</a:rPr>
                  <a:t>5300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494960" y="4492800"/>
                <a:ext cx="44424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</a:rPr>
                  <a:t>437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171480" y="4492800"/>
                <a:ext cx="14868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782840" y="4492800"/>
                <a:ext cx="14868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445400" y="4900680"/>
                <a:ext cx="14868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742120" y="4900680"/>
                <a:ext cx="59220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</a:rPr>
                  <a:t>6100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494960" y="4900680"/>
                <a:ext cx="44424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</a:rPr>
                  <a:t>608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171480" y="4900680"/>
                <a:ext cx="14868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7782840" y="4900680"/>
                <a:ext cx="14868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294560" y="5310360"/>
                <a:ext cx="29628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2742120" y="5310360"/>
                <a:ext cx="59220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</a:rPr>
                  <a:t>6400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494960" y="5310360"/>
                <a:ext cx="44424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</a:rPr>
                  <a:t>513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171480" y="5310360"/>
                <a:ext cx="14868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782840" y="5310360"/>
                <a:ext cx="14868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294560" y="5718240"/>
                <a:ext cx="29628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2742120" y="5718240"/>
                <a:ext cx="59220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</a:rPr>
                  <a:t>7400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494960" y="5718240"/>
                <a:ext cx="44424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</a:rPr>
                  <a:t>493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171480" y="5718240"/>
                <a:ext cx="14868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782840" y="5718240"/>
                <a:ext cx="14868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1294560" y="6127920"/>
                <a:ext cx="29628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2742120" y="6127920"/>
                <a:ext cx="59220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</a:rPr>
                  <a:t>5800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494960" y="6127920"/>
                <a:ext cx="44424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</a:rPr>
                  <a:t>563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6171480" y="6127920"/>
                <a:ext cx="14868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782840" y="6127920"/>
                <a:ext cx="14868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33520" y="1149480"/>
                <a:ext cx="805140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533520" y="1149480"/>
                <a:ext cx="8051400" cy="237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533520" y="1558800"/>
                <a:ext cx="805140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33520" y="1558800"/>
                <a:ext cx="8051400" cy="237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533520" y="1967040"/>
                <a:ext cx="805140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33520" y="1967040"/>
                <a:ext cx="8051400" cy="237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33520" y="2376360"/>
                <a:ext cx="805140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33520" y="2376360"/>
                <a:ext cx="8051400" cy="241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33520" y="2784600"/>
                <a:ext cx="805140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33520" y="2784600"/>
                <a:ext cx="8051400" cy="237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33520" y="3193920"/>
                <a:ext cx="805140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33520" y="3193920"/>
                <a:ext cx="8051400" cy="241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33520" y="3602160"/>
                <a:ext cx="805140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33520" y="3602160"/>
                <a:ext cx="8051400" cy="237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33520" y="4011480"/>
                <a:ext cx="805140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33520" y="4011480"/>
                <a:ext cx="8051400" cy="241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33520" y="4419720"/>
                <a:ext cx="805140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533520" y="4419720"/>
                <a:ext cx="8051400" cy="237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33520" y="4829040"/>
                <a:ext cx="805140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33520" y="4829040"/>
                <a:ext cx="8051400" cy="241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33520" y="5237280"/>
                <a:ext cx="805140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33520" y="5237280"/>
                <a:ext cx="8051400" cy="237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33520" y="5646600"/>
                <a:ext cx="805140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33520" y="5646600"/>
                <a:ext cx="8051400" cy="241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33520" y="6054840"/>
                <a:ext cx="805140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33520" y="6054840"/>
                <a:ext cx="8051400" cy="237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33520" y="6464160"/>
                <a:ext cx="805140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33520" y="6464160"/>
                <a:ext cx="8051400" cy="241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33520" y="1149480"/>
                <a:ext cx="1440" cy="5338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33520" y="1149480"/>
                <a:ext cx="25200" cy="5338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2143080" y="1149480"/>
                <a:ext cx="1080" cy="5338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2143080" y="1149480"/>
                <a:ext cx="24840" cy="5338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3754440" y="1149480"/>
                <a:ext cx="1080" cy="5338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754440" y="1149480"/>
                <a:ext cx="24840" cy="5338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364000" y="1149480"/>
                <a:ext cx="1440" cy="5338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364000" y="1149480"/>
                <a:ext cx="25200" cy="5338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6975360" y="1149480"/>
                <a:ext cx="1080" cy="5338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975360" y="1149480"/>
                <a:ext cx="25200" cy="5338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8584920" y="1149480"/>
                <a:ext cx="1440" cy="5338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8584920" y="1149480"/>
                <a:ext cx="25200" cy="5338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pull dir="rd"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777960" y="1295280"/>
            <a:ext cx="7586640" cy="25146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efefe"/>
              </a:gs>
              <a:gs pos="100000">
                <a:srgbClr val="00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 a computer software package, such as MINITAB or Excel,                                                             to develop a correlation matri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om the analysis provided by MINITAB,    write out the regression equation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4081320" y="228600"/>
            <a:ext cx="2925000" cy="901440"/>
            <a:chOff x="4081320" y="228600"/>
            <a:chExt cx="2925000" cy="901440"/>
          </a:xfrm>
        </p:grpSpPr>
        <p:pic>
          <p:nvPicPr>
            <p:cNvPr id="478" name="" descr=""/>
            <p:cNvPicPr/>
            <p:nvPr/>
          </p:nvPicPr>
          <p:blipFill>
            <a:blip r:embed="rId1"/>
            <a:stretch/>
          </p:blipFill>
          <p:spPr>
            <a:xfrm>
              <a:off x="4081320" y="228600"/>
              <a:ext cx="98136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"/>
            <p:cNvSpPr/>
            <p:nvPr/>
          </p:nvSpPr>
          <p:spPr>
            <a:xfrm>
              <a:off x="4879440" y="609480"/>
              <a:ext cx="21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… 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continu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0" name=""/>
          <p:cNvSpPr/>
          <p:nvPr/>
        </p:nvSpPr>
        <p:spPr>
          <a:xfrm>
            <a:off x="1143000" y="4114800"/>
            <a:ext cx="6858000" cy="222696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efefe"/>
              </a:gs>
              <a:gs pos="100000">
                <a:srgbClr val="00ffff"/>
              </a:gs>
            </a:gsLst>
            <a:lin ang="10800000"/>
          </a:gra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food expenditure would you estimate for a family of 4, with </a:t>
            </a: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no college student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                                                     and an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ncome of $50,00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(which is input as 500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"/>
          <p:cNvGrpSpPr/>
          <p:nvPr/>
        </p:nvGrpSpPr>
        <p:grpSpPr>
          <a:xfrm>
            <a:off x="609480" y="1066680"/>
            <a:ext cx="7848720" cy="5410440"/>
            <a:chOff x="609480" y="1066680"/>
            <a:chExt cx="7848720" cy="5410440"/>
          </a:xfrm>
        </p:grpSpPr>
        <p:sp>
          <p:nvSpPr>
            <p:cNvPr id="482" name=""/>
            <p:cNvSpPr/>
            <p:nvPr/>
          </p:nvSpPr>
          <p:spPr>
            <a:xfrm>
              <a:off x="609480" y="1066680"/>
              <a:ext cx="7848720" cy="5410440"/>
            </a:xfrm>
            <a:prstGeom prst="rect">
              <a:avLst/>
            </a:prstGeom>
            <a:gradFill rotWithShape="0">
              <a:gsLst>
                <a:gs pos="0">
                  <a:srgbClr val="ccff99"/>
                </a:gs>
                <a:gs pos="50000">
                  <a:srgbClr val="fefefe"/>
                </a:gs>
                <a:gs pos="100000">
                  <a:srgbClr val="ccff99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60320" y="1251000"/>
              <a:ext cx="7547040" cy="499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31840" indent="-231840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ourier New"/>
                </a:rPr>
                <a:t>The regression equation i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1840" indent="-231840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ourier New"/>
                </a:rPr>
                <a:t>Food = 954 + 1.09 Income + 748 Size + 565 Studen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1840" indent="-231840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1840" indent="-231840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ourier New"/>
                </a:rPr>
                <a:t>Predictor        Coef      SE Coef       T        P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1840" indent="-231840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ourier New"/>
                </a:rPr>
                <a:t>Constant          954        1581       0.60    0.56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1840" indent="-231840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ourier New"/>
                </a:rPr>
                <a:t>Income          1.092       3.153       0.35    0.73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1840" indent="-231840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ourier New"/>
                </a:rPr>
                <a:t>Size            748.4       303.0       2.47    0.03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1840" indent="-231840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ourier New"/>
                </a:rPr>
                <a:t>Student         564.5       495.1       1.14    0.287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1840" indent="-231840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1840" indent="-231840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ourier New"/>
                </a:rPr>
                <a:t>S = 572.7       R-Sq = 80.4%     R-Sq(adj) = 73.1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1840" indent="-231840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1840" indent="-231840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ourier New"/>
                </a:rPr>
                <a:t>Analysis of Varianc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1840" indent="-231840">
                <a:lnSpc>
                  <a:spcPct val="100000"/>
                </a:lnSpc>
                <a:spcBef>
                  <a:spcPts val="374"/>
                </a:spcBef>
                <a:buClr>
                  <a:srgbClr val="000000"/>
                </a:buClr>
                <a:buFont typeface="Courier Ne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1840" indent="-231840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ourier New"/>
                </a:rPr>
                <a:t>Source            DF      SS          MS          F        P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1840" indent="-231840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ourier New"/>
                </a:rPr>
                <a:t>Regression        3    10762903     3587634     10.94    0.00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1840" indent="-231840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ourier New"/>
                </a:rPr>
                <a:t>Residual Error    8     2623764      32797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1840" indent="-231840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ourier New"/>
                </a:rPr>
                <a:t>Total             11   13386667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1840" indent="-231840">
                <a:lnSpc>
                  <a:spcPct val="100000"/>
                </a:lnSpc>
                <a:spcBef>
                  <a:spcPts val="374"/>
                </a:spcBef>
                <a:buClr>
                  <a:srgbClr val="000000"/>
                </a:buClr>
                <a:buFont typeface="Courier Ne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4081320" y="228600"/>
            <a:ext cx="2925000" cy="901440"/>
            <a:chOff x="4081320" y="228600"/>
            <a:chExt cx="2925000" cy="901440"/>
          </a:xfrm>
        </p:grpSpPr>
        <p:pic>
          <p:nvPicPr>
            <p:cNvPr id="485" name="" descr=""/>
            <p:cNvPicPr/>
            <p:nvPr/>
          </p:nvPicPr>
          <p:blipFill>
            <a:blip r:embed="rId1"/>
            <a:stretch/>
          </p:blipFill>
          <p:spPr>
            <a:xfrm>
              <a:off x="4081320" y="228600"/>
              <a:ext cx="98136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6" name=""/>
            <p:cNvSpPr/>
            <p:nvPr/>
          </p:nvSpPr>
          <p:spPr>
            <a:xfrm>
              <a:off x="4879440" y="609480"/>
              <a:ext cx="21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… 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continu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1676520" y="6019920"/>
            <a:ext cx="5790960" cy="579600"/>
            <a:chOff x="1676520" y="6019920"/>
            <a:chExt cx="5790960" cy="579600"/>
          </a:xfrm>
        </p:grpSpPr>
        <p:sp>
          <p:nvSpPr>
            <p:cNvPr id="488" name=""/>
            <p:cNvSpPr/>
            <p:nvPr/>
          </p:nvSpPr>
          <p:spPr>
            <a:xfrm>
              <a:off x="1676520" y="6019920"/>
              <a:ext cx="5790960" cy="57960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ffff"/>
                </a:gs>
              </a:gsLst>
              <a:lin ang="8100000"/>
            </a:gradFill>
            <a:ln w="0">
              <a:noFill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y =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954 +1.09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+ 748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+ 565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9" name=""/>
            <p:cNvGrpSpPr/>
            <p:nvPr/>
          </p:nvGrpSpPr>
          <p:grpSpPr>
            <a:xfrm>
              <a:off x="1778040" y="6140160"/>
              <a:ext cx="151920" cy="75960"/>
              <a:chOff x="1778040" y="6140160"/>
              <a:chExt cx="151920" cy="75960"/>
            </a:xfrm>
          </p:grpSpPr>
          <p:sp>
            <p:nvSpPr>
              <p:cNvPr id="490" name=""/>
              <p:cNvSpPr/>
              <p:nvPr/>
            </p:nvSpPr>
            <p:spPr>
              <a:xfrm flipV="1">
                <a:off x="1778040" y="6140160"/>
                <a:ext cx="76320" cy="75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H="1" flipV="1">
                <a:off x="1854000" y="6140160"/>
                <a:ext cx="75960" cy="75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r"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00040" y="1447920"/>
            <a:ext cx="79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G Times"/>
              </a:rPr>
              <a:t>When you have completed this chapter, you will be able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476440" y="380880"/>
            <a:ext cx="3886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28496" dir="9225519" blurRad="0" rotWithShape="0">
                    <a:srgbClr val="808080"/>
                  </a:outerShdw>
                </a:effectLst>
                <a:latin typeface="Copper Black"/>
              </a:rPr>
              <a:t>Chapter Goa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28496" dir="9225519" blurRad="0" rotWithShape="0">
                  <a:srgbClr val="808080"/>
                </a:outerShdw>
              </a:effectLst>
              <a:latin typeface="Copper Black"/>
              <a:ea typeface="Copper Black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2057400"/>
            <a:ext cx="7696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Underst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e importance of an appropriate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odel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pecificatio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ultiple regression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14400" y="2819520"/>
            <a:ext cx="7391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30040" indent="-5688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Comprehend the natur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800" spc="-1" strike="noStrike">
                <a:solidFill>
                  <a:srgbClr val="ff6600"/>
                </a:solidFill>
                <a:latin typeface="Times New Roman"/>
              </a:rPr>
              <a:t>techniq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ultiple regression model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the concept of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artial regression coeffici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4114800"/>
            <a:ext cx="75438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Us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imation techniqu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ltiple regressi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od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7505640" y="6248520"/>
            <a:ext cx="12574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83017" dir="12821405" blurRad="0" rotWithShape="0">
                    <a:srgbClr val="b2b2b2">
                      <a:alpha val="50000"/>
                    </a:srgbClr>
                  </a:outerShdw>
                </a:effectLst>
                <a:latin typeface="Copper Black"/>
              </a:rPr>
              <a:t>and..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83017" dir="12821405" blurRad="0" rotWithShape="0">
                  <a:srgbClr val="b2b2b2">
                    <a:alpha val="50000"/>
                  </a:srgbClr>
                </a:outerShdw>
              </a:effectLst>
              <a:latin typeface="Copper Black"/>
              <a:ea typeface="Copper Black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1981080"/>
            <a:ext cx="685800" cy="685800"/>
            <a:chOff x="380880" y="1981080"/>
            <a:chExt cx="685800" cy="685800"/>
          </a:xfrm>
        </p:grpSpPr>
        <p:pic>
          <p:nvPicPr>
            <p:cNvPr id="53" name="" descr=""/>
            <p:cNvPicPr/>
            <p:nvPr/>
          </p:nvPicPr>
          <p:blipFill>
            <a:blip r:embed="rId3"/>
            <a:srcRect l="0" t="7684" r="4868" b="13458"/>
            <a:stretch/>
          </p:blipFill>
          <p:spPr>
            <a:xfrm>
              <a:off x="380880" y="2027160"/>
              <a:ext cx="68580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456840" y="19810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0880" y="2743200"/>
            <a:ext cx="685800" cy="685800"/>
            <a:chOff x="380880" y="2743200"/>
            <a:chExt cx="685800" cy="685800"/>
          </a:xfrm>
        </p:grpSpPr>
        <p:pic>
          <p:nvPicPr>
            <p:cNvPr id="56" name="" descr=""/>
            <p:cNvPicPr/>
            <p:nvPr/>
          </p:nvPicPr>
          <p:blipFill>
            <a:blip r:embed="rId4"/>
            <a:srcRect l="0" t="7684" r="4868" b="13458"/>
            <a:stretch/>
          </p:blipFill>
          <p:spPr>
            <a:xfrm>
              <a:off x="380880" y="2789280"/>
              <a:ext cx="68580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456840" y="274320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380880" y="4038480"/>
            <a:ext cx="761760" cy="685800"/>
            <a:chOff x="380880" y="4038480"/>
            <a:chExt cx="761760" cy="685800"/>
          </a:xfrm>
        </p:grpSpPr>
        <p:pic>
          <p:nvPicPr>
            <p:cNvPr id="59" name="" descr=""/>
            <p:cNvPicPr/>
            <p:nvPr/>
          </p:nvPicPr>
          <p:blipFill>
            <a:blip r:embed="rId5"/>
            <a:srcRect l="0" t="7684" r="4868" b="13458"/>
            <a:stretch/>
          </p:blipFill>
          <p:spPr>
            <a:xfrm>
              <a:off x="380880" y="4084560"/>
              <a:ext cx="7617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465120" y="4038480"/>
              <a:ext cx="67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380880" y="4952880"/>
            <a:ext cx="685800" cy="685800"/>
            <a:chOff x="380880" y="4952880"/>
            <a:chExt cx="685800" cy="685800"/>
          </a:xfrm>
        </p:grpSpPr>
        <p:pic>
          <p:nvPicPr>
            <p:cNvPr id="62" name="" descr=""/>
            <p:cNvPicPr/>
            <p:nvPr/>
          </p:nvPicPr>
          <p:blipFill>
            <a:blip r:embed="rId6"/>
            <a:srcRect l="0" t="7684" r="4868" b="13458"/>
            <a:stretch/>
          </p:blipFill>
          <p:spPr>
            <a:xfrm>
              <a:off x="380880" y="4998960"/>
              <a:ext cx="68580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456840" y="4952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4" name="" descr=""/>
          <p:cNvPicPr/>
          <p:nvPr/>
        </p:nvPicPr>
        <p:blipFill>
          <a:blip r:embed="rId7"/>
          <a:stretch/>
        </p:blipFill>
        <p:spPr>
          <a:xfrm>
            <a:off x="228600" y="152280"/>
            <a:ext cx="914400" cy="712800"/>
          </a:xfrm>
          <a:prstGeom prst="rect">
            <a:avLst/>
          </a:prstGeom>
          <a:ln w="0">
            <a:noFill/>
          </a:ln>
          <a:effectLst>
            <a:outerShdw dist="81185" dir="8478030" blurRad="0" rotWithShape="0">
              <a:srgbClr val="808080"/>
            </a:outerShdw>
          </a:effectLst>
        </p:spPr>
      </p:pic>
      <p:sp>
        <p:nvSpPr>
          <p:cNvPr id="65" name=""/>
          <p:cNvSpPr txBox="1"/>
          <p:nvPr/>
        </p:nvSpPr>
        <p:spPr>
          <a:xfrm>
            <a:off x="457200" y="255600"/>
            <a:ext cx="304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52300" dir="9963564" blurRad="0" rotWithShape="0">
                    <a:srgbClr val="000000"/>
                  </a:outerShdw>
                </a:effectLst>
                <a:latin typeface="Arial Black"/>
              </a:rPr>
              <a:t>14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52300" dir="9963564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505944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Condu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nalysis of varian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f an estimated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"/>
          <p:cNvGrpSpPr/>
          <p:nvPr/>
        </p:nvGrpSpPr>
        <p:grpSpPr>
          <a:xfrm>
            <a:off x="76320" y="1066680"/>
            <a:ext cx="6095880" cy="5029200"/>
            <a:chOff x="76320" y="1066680"/>
            <a:chExt cx="6095880" cy="5029200"/>
          </a:xfrm>
        </p:grpSpPr>
        <p:sp>
          <p:nvSpPr>
            <p:cNvPr id="493" name=""/>
            <p:cNvSpPr/>
            <p:nvPr/>
          </p:nvSpPr>
          <p:spPr>
            <a:xfrm>
              <a:off x="76320" y="1066680"/>
              <a:ext cx="6095880" cy="5029200"/>
            </a:xfrm>
            <a:prstGeom prst="rect">
              <a:avLst/>
            </a:prstGeom>
            <a:gradFill rotWithShape="0">
              <a:gsLst>
                <a:gs pos="0">
                  <a:srgbClr val="ccff99"/>
                </a:gs>
                <a:gs pos="50000">
                  <a:srgbClr val="fefefe"/>
                </a:gs>
                <a:gs pos="100000">
                  <a:srgbClr val="ccff99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03040" y="1238400"/>
              <a:ext cx="5969160" cy="46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58680" indent="-58680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ourier New"/>
                </a:rPr>
                <a:t>The regression equation i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8680" indent="-58680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ourier New"/>
                </a:rPr>
                <a:t>Food = 954 + 1.09 Income + 748 Size + 565 Studen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8680" indent="-58680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ourier New"/>
                </a:rPr>
                <a:t>Predictor  Coef  SE Coef T      P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8680" indent="-58680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ourier New"/>
                </a:rPr>
                <a:t>Constant    954   1581  0.60  0.56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8680" indent="-58680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ourier New"/>
                </a:rPr>
                <a:t>Income    1.092  3.153  0.35  0.73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8680" indent="-58680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ourier New"/>
                </a:rPr>
                <a:t>Size      748.4  303.0  2.47  0.03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8680" indent="-58680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ourier New"/>
                </a:rPr>
                <a:t>Student   564.5  495.1  1.14  0.287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8680" indent="-58680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8680" indent="-58680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ourier New"/>
                </a:rPr>
                <a:t>S=572.7 R-Sq = 80.4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8680" indent="-58680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ourier New"/>
                </a:rPr>
                <a:t>R-Sq(adj) = 73.1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8680" indent="-58680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ourier New"/>
                </a:rPr>
                <a:t>Analysis of Varianc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8680" indent="-58680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ourier New"/>
                </a:rPr>
                <a:t>Source          DF    SS        MS      F     P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8680" indent="-58680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ourier New"/>
                </a:rPr>
                <a:t>Regression       3   10762903 3587634 10.94  0.00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8680" indent="-58680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ourier New"/>
                </a:rPr>
                <a:t>Residual Error   8    2623764  32797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8680" indent="-58680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ourier New"/>
                </a:rPr>
                <a:t>Total           11   13386667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8680" indent="-58680">
                <a:lnSpc>
                  <a:spcPct val="100000"/>
                </a:lnSpc>
                <a:spcBef>
                  <a:spcPts val="374"/>
                </a:spcBef>
                <a:buClr>
                  <a:srgbClr val="000000"/>
                </a:buClr>
                <a:buFont typeface="Courier Ne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5638680" y="1600200"/>
            <a:ext cx="3276720" cy="234936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215809" dir="9116325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om the regression output we no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oefficient of determinat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is 80.4 percen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4081320" y="228600"/>
            <a:ext cx="2925000" cy="901440"/>
            <a:chOff x="4081320" y="228600"/>
            <a:chExt cx="2925000" cy="901440"/>
          </a:xfrm>
        </p:grpSpPr>
        <p:pic>
          <p:nvPicPr>
            <p:cNvPr id="497" name="" descr=""/>
            <p:cNvPicPr/>
            <p:nvPr/>
          </p:nvPicPr>
          <p:blipFill>
            <a:blip r:embed="rId1"/>
            <a:stretch/>
          </p:blipFill>
          <p:spPr>
            <a:xfrm>
              <a:off x="4081320" y="228600"/>
              <a:ext cx="98136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"/>
            <p:cNvSpPr/>
            <p:nvPr/>
          </p:nvSpPr>
          <p:spPr>
            <a:xfrm>
              <a:off x="4879440" y="609480"/>
              <a:ext cx="21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… 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continu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1066680" y="3429000"/>
            <a:ext cx="1752840" cy="3049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666880" y="4191120"/>
            <a:ext cx="6172200" cy="228852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means that                                                          more than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80 percent of the variation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n the amount spent on food                                                 is accounted for by                                                            the variables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com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family size, and stu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28600" y="1523880"/>
            <a:ext cx="609480" cy="30492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2" name=""/>
          <p:cNvGrpSpPr/>
          <p:nvPr/>
        </p:nvGrpSpPr>
        <p:grpSpPr>
          <a:xfrm>
            <a:off x="76320" y="1066680"/>
            <a:ext cx="6095880" cy="5029200"/>
            <a:chOff x="76320" y="1066680"/>
            <a:chExt cx="6095880" cy="5029200"/>
          </a:xfrm>
        </p:grpSpPr>
        <p:sp>
          <p:nvSpPr>
            <p:cNvPr id="503" name=""/>
            <p:cNvSpPr/>
            <p:nvPr/>
          </p:nvSpPr>
          <p:spPr>
            <a:xfrm>
              <a:off x="76320" y="1066680"/>
              <a:ext cx="6095880" cy="5029200"/>
            </a:xfrm>
            <a:prstGeom prst="rect">
              <a:avLst/>
            </a:prstGeom>
            <a:gradFill rotWithShape="0">
              <a:gsLst>
                <a:gs pos="0">
                  <a:srgbClr val="ccff99"/>
                </a:gs>
                <a:gs pos="50000">
                  <a:srgbClr val="fefefe"/>
                </a:gs>
                <a:gs pos="100000">
                  <a:srgbClr val="ccff99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03040" y="1238400"/>
              <a:ext cx="5969160" cy="46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58680" indent="-58680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ourier New"/>
                </a:rPr>
                <a:t>The regression equation i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8680" indent="-58680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ourier New"/>
                </a:rPr>
                <a:t>Food = 954 + 1.09 Income + 748 Size + 565 Studen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8680" indent="-58680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ourier New"/>
                </a:rPr>
                <a:t>Predictor  Coef  SE Coef T      P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8680" indent="-58680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ourier New"/>
                </a:rPr>
                <a:t>Constant    954   1581  0.60  0.56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8680" indent="-58680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ourier New"/>
                </a:rPr>
                <a:t>Income    1.092  3.153  0.35  0.73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8680" indent="-58680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ourier New"/>
                </a:rPr>
                <a:t>Size      748.4  303.0  2.47  0.03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8680" indent="-58680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ourier New"/>
                </a:rPr>
                <a:t>Student   564.5  495.1  1.14  0.287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8680" indent="-58680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8680" indent="-58680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ourier New"/>
                </a:rPr>
                <a:t>S=572.7 R-Sq = 80.4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8680" indent="-58680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ourier New"/>
                </a:rPr>
                <a:t>R-Sq(adj) = 73.1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8680" indent="-58680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ourier New"/>
                </a:rPr>
                <a:t>Analysis of Varianc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8680" indent="-58680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ourier New"/>
                </a:rPr>
                <a:t>Source          DF    SS        MS      F     P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8680" indent="-58680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ourier New"/>
                </a:rPr>
                <a:t>Regression       3   10762903 3587634 10.94  0.00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8680" indent="-58680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ourier New"/>
                </a:rPr>
                <a:t>Residual Error   8    2623764  32797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8680" indent="-58680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ourier New"/>
                </a:rPr>
                <a:t>Total           11   13386667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8680" indent="-58680">
                <a:lnSpc>
                  <a:spcPct val="100000"/>
                </a:lnSpc>
                <a:spcBef>
                  <a:spcPts val="374"/>
                </a:spcBef>
                <a:buClr>
                  <a:srgbClr val="000000"/>
                </a:buClr>
                <a:buFont typeface="Courier Ne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5" name=""/>
          <p:cNvSpPr/>
          <p:nvPr/>
        </p:nvSpPr>
        <p:spPr>
          <a:xfrm>
            <a:off x="6095880" y="1219320"/>
            <a:ext cx="2895840" cy="192276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efefe"/>
              </a:gs>
              <a:gs pos="100000">
                <a:srgbClr val="00ffff"/>
              </a:gs>
            </a:gsLst>
            <a:lin ang="8100000"/>
          </a:gradFill>
          <a:ln w="0">
            <a:noFill/>
          </a:ln>
          <a:effectLst>
            <a:outerShdw dist="179718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 additional family member will increase the amount spent per year on food by $7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6" name=""/>
          <p:cNvGrpSpPr/>
          <p:nvPr/>
        </p:nvGrpSpPr>
        <p:grpSpPr>
          <a:xfrm>
            <a:off x="4081320" y="228600"/>
            <a:ext cx="2925000" cy="901440"/>
            <a:chOff x="4081320" y="228600"/>
            <a:chExt cx="2925000" cy="901440"/>
          </a:xfrm>
        </p:grpSpPr>
        <p:pic>
          <p:nvPicPr>
            <p:cNvPr id="507" name="" descr=""/>
            <p:cNvPicPr/>
            <p:nvPr/>
          </p:nvPicPr>
          <p:blipFill>
            <a:blip r:embed="rId1"/>
            <a:stretch/>
          </p:blipFill>
          <p:spPr>
            <a:xfrm>
              <a:off x="4081320" y="228600"/>
              <a:ext cx="98136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8" name=""/>
            <p:cNvSpPr/>
            <p:nvPr/>
          </p:nvSpPr>
          <p:spPr>
            <a:xfrm>
              <a:off x="4879440" y="609480"/>
              <a:ext cx="21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… 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continu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" name=""/>
          <p:cNvSpPr/>
          <p:nvPr/>
        </p:nvSpPr>
        <p:spPr>
          <a:xfrm>
            <a:off x="6095880" y="3429000"/>
            <a:ext cx="2743200" cy="228852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fefefe"/>
              </a:gs>
              <a:gs pos="100000">
                <a:srgbClr val="ccff99"/>
              </a:gs>
            </a:gsLst>
            <a:lin ang="8100000"/>
          </a:gradFill>
          <a:ln w="0">
            <a:noFill/>
          </a:ln>
          <a:effectLst>
            <a:outerShdw dist="188838" dir="7937743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family with a college student will spend $565 more per year on food than those without a college stu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276720" y="1447920"/>
            <a:ext cx="533160" cy="380880"/>
          </a:xfrm>
          <a:prstGeom prst="rect">
            <a:avLst/>
          </a:pr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572000" y="1447920"/>
            <a:ext cx="533520" cy="380880"/>
          </a:xfrm>
          <a:prstGeom prst="rect">
            <a:avLst/>
          </a:prstGeom>
          <a:noFill/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28600" y="1523880"/>
            <a:ext cx="609480" cy="30492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500"/>
                            </p:stCondLst>
                            <p:childTnLst>
                              <p:par>
                                <p:cTn id="5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3" name=""/>
          <p:cNvGrpSpPr/>
          <p:nvPr/>
        </p:nvGrpSpPr>
        <p:grpSpPr>
          <a:xfrm>
            <a:off x="4081320" y="228600"/>
            <a:ext cx="2925000" cy="901440"/>
            <a:chOff x="4081320" y="228600"/>
            <a:chExt cx="2925000" cy="901440"/>
          </a:xfrm>
        </p:grpSpPr>
        <p:pic>
          <p:nvPicPr>
            <p:cNvPr id="514" name="" descr=""/>
            <p:cNvPicPr/>
            <p:nvPr/>
          </p:nvPicPr>
          <p:blipFill>
            <a:blip r:embed="rId1"/>
            <a:stretch/>
          </p:blipFill>
          <p:spPr>
            <a:xfrm>
              <a:off x="4081320" y="228600"/>
              <a:ext cx="98136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"/>
            <p:cNvSpPr/>
            <p:nvPr/>
          </p:nvSpPr>
          <p:spPr>
            <a:xfrm>
              <a:off x="4879440" y="609480"/>
              <a:ext cx="21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… 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continu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6" name=""/>
          <p:cNvSpPr/>
          <p:nvPr/>
        </p:nvSpPr>
        <p:spPr>
          <a:xfrm>
            <a:off x="1600200" y="1066680"/>
            <a:ext cx="6019920" cy="45972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efefe"/>
              </a:gs>
              <a:gs pos="100000">
                <a:srgbClr val="00ffff"/>
              </a:gs>
            </a:gsLst>
            <a:lin ang="8100000"/>
          </a:gradFill>
          <a:ln w="0">
            <a:noFill/>
          </a:ln>
          <a:effectLst>
            <a:outerShdw dist="179718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orrelation matrix is as foll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914400" y="1600200"/>
            <a:ext cx="7238880" cy="185508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fefefe"/>
              </a:gs>
              <a:gs pos="100000">
                <a:srgbClr val="ccff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ourier New"/>
              </a:rPr>
              <a:t>Food     Income    Siz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urier New"/>
              </a:rPr>
              <a:t>Income    0.587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urier New"/>
              </a:rPr>
              <a:t>Size      0.876    0.609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urier New"/>
              </a:rPr>
              <a:t>Student   0.773    0.491    0.743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52280" y="3429000"/>
            <a:ext cx="4953240" cy="192276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fefefe"/>
              </a:gs>
              <a:gs pos="100000">
                <a:srgbClr val="ccff99"/>
              </a:gs>
            </a:gsLst>
            <a:lin ang="8100000"/>
          </a:gradFill>
          <a:ln w="0">
            <a:noFill/>
          </a:ln>
          <a:effectLst>
            <a:outerShdw dist="188838" dir="7937743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strongest correlation between the dependent variable (Food) and an independent variable is between  family size and amount spent on fo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514600" y="2514600"/>
            <a:ext cx="1600200" cy="4572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038480" y="5153040"/>
            <a:ext cx="5105520" cy="15570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efefe"/>
              </a:gs>
              <a:gs pos="100000">
                <a:srgbClr val="00ffff"/>
              </a:gs>
            </a:gsLst>
            <a:lin ang="8100000"/>
          </a:gradFill>
          <a:ln w="0">
            <a:noFill/>
          </a:ln>
          <a:effectLst>
            <a:outerShdw dist="179718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ne of the correlations among the independent variables should cause problems.                                                       All are between –.70 and .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1143000" y="1295280"/>
            <a:ext cx="67816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nd the estimated food expenditure for                                      a family of 4 with a                                            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$500 (that is $50,000) incom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and no college stud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081320" y="228600"/>
            <a:ext cx="2925000" cy="901440"/>
            <a:chOff x="4081320" y="228600"/>
            <a:chExt cx="2925000" cy="9014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081320" y="228600"/>
              <a:ext cx="98136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"/>
            <p:cNvSpPr/>
            <p:nvPr/>
          </p:nvSpPr>
          <p:spPr>
            <a:xfrm>
              <a:off x="4879440" y="609480"/>
              <a:ext cx="21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… 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continu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533520" y="3352680"/>
            <a:ext cx="8076600" cy="990720"/>
            <a:chOff x="533520" y="3352680"/>
            <a:chExt cx="8076600" cy="990720"/>
          </a:xfrm>
        </p:grpSpPr>
        <p:grpSp>
          <p:nvGrpSpPr>
            <p:cNvPr id="526" name=""/>
            <p:cNvGrpSpPr/>
            <p:nvPr/>
          </p:nvGrpSpPr>
          <p:grpSpPr>
            <a:xfrm>
              <a:off x="533520" y="3352680"/>
              <a:ext cx="8076600" cy="990720"/>
              <a:chOff x="533520" y="3352680"/>
              <a:chExt cx="8076600" cy="990720"/>
            </a:xfrm>
          </p:grpSpPr>
          <p:sp>
            <p:nvSpPr>
              <p:cNvPr id="527" name=""/>
              <p:cNvSpPr/>
              <p:nvPr/>
            </p:nvSpPr>
            <p:spPr>
              <a:xfrm>
                <a:off x="533520" y="3352680"/>
                <a:ext cx="8076600" cy="990720"/>
              </a:xfrm>
              <a:prstGeom prst="rect">
                <a:avLst/>
              </a:prstGeom>
              <a:gradFill rotWithShape="0">
                <a:gsLst>
                  <a:gs pos="0">
                    <a:srgbClr val="ccff99"/>
                  </a:gs>
                  <a:gs pos="50000">
                    <a:srgbClr val="fefefe"/>
                  </a:gs>
                  <a:gs pos="100000">
                    <a:srgbClr val="ccff99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701280" y="3524400"/>
                <a:ext cx="7908840" cy="81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58680" indent="-58680">
                  <a:lnSpc>
                    <a:spcPct val="100000"/>
                  </a:lnSpc>
                  <a:spcBef>
                    <a:spcPts val="4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9" name=""/>
            <p:cNvSpPr/>
            <p:nvPr/>
          </p:nvSpPr>
          <p:spPr>
            <a:xfrm>
              <a:off x="609480" y="3375000"/>
              <a:ext cx="7924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regression equation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is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od = 954 + 1.09 Income + 748 Size + 565 Stude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990720" y="4836960"/>
            <a:ext cx="7391160" cy="1251720"/>
            <a:chOff x="990720" y="4836960"/>
            <a:chExt cx="7391160" cy="1251720"/>
          </a:xfrm>
        </p:grpSpPr>
        <p:sp>
          <p:nvSpPr>
            <p:cNvPr id="531" name=""/>
            <p:cNvSpPr/>
            <p:nvPr/>
          </p:nvSpPr>
          <p:spPr>
            <a:xfrm>
              <a:off x="990720" y="4836960"/>
              <a:ext cx="7391160" cy="1251720"/>
            </a:xfrm>
            <a:prstGeom prst="rect">
              <a:avLst/>
            </a:prstGeom>
            <a:gradFill rotWithShape="0">
              <a:gsLst>
                <a:gs pos="0">
                  <a:srgbClr val="00ccff"/>
                </a:gs>
                <a:gs pos="50000">
                  <a:srgbClr val="fefefe"/>
                </a:gs>
                <a:gs pos="100000">
                  <a:srgbClr val="00ccff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= 954 + </a:t>
              </a: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1.09(500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) + </a:t>
              </a:r>
              <a:r>
                <a:rPr b="1" lang="en-US" sz="3200" spc="-1" strike="noStrike">
                  <a:solidFill>
                    <a:srgbClr val="009900"/>
                  </a:solidFill>
                  <a:latin typeface="Times New Roman"/>
                </a:rPr>
                <a:t>748(4)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+ 565(0)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= $4,491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2" name=""/>
            <p:cNvGrpSpPr/>
            <p:nvPr/>
          </p:nvGrpSpPr>
          <p:grpSpPr>
            <a:xfrm>
              <a:off x="1123920" y="4952880"/>
              <a:ext cx="151920" cy="76320"/>
              <a:chOff x="1123920" y="4952880"/>
              <a:chExt cx="151920" cy="76320"/>
            </a:xfrm>
          </p:grpSpPr>
          <p:sp>
            <p:nvSpPr>
              <p:cNvPr id="533" name=""/>
              <p:cNvSpPr/>
              <p:nvPr/>
            </p:nvSpPr>
            <p:spPr>
              <a:xfrm flipV="1">
                <a:off x="1123920" y="4952880"/>
                <a:ext cx="76320" cy="76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H="1" flipV="1">
                <a:off x="1199880" y="4952880"/>
                <a:ext cx="75960" cy="76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push dir="r"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0" y="5791320"/>
            <a:ext cx="9144000" cy="8758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ecision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rej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Not 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he regression coefficients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re z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76320" y="1066680"/>
            <a:ext cx="5638680" cy="4800600"/>
            <a:chOff x="76320" y="1066680"/>
            <a:chExt cx="5638680" cy="4800600"/>
          </a:xfrm>
        </p:grpSpPr>
        <p:sp>
          <p:nvSpPr>
            <p:cNvPr id="537" name=""/>
            <p:cNvSpPr/>
            <p:nvPr/>
          </p:nvSpPr>
          <p:spPr>
            <a:xfrm>
              <a:off x="76320" y="1066680"/>
              <a:ext cx="5638680" cy="4800600"/>
            </a:xfrm>
            <a:prstGeom prst="rect">
              <a:avLst/>
            </a:prstGeom>
            <a:gradFill rotWithShape="0">
              <a:gsLst>
                <a:gs pos="0">
                  <a:srgbClr val="ccff99"/>
                </a:gs>
                <a:gs pos="50000">
                  <a:srgbClr val="fefefe"/>
                </a:gs>
                <a:gs pos="100000">
                  <a:srgbClr val="ccff99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93320" y="1230480"/>
              <a:ext cx="5521320" cy="442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58680" indent="-58680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ourier New"/>
                </a:rPr>
                <a:t>The regression equation i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8680" indent="-58680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ourier New"/>
                </a:rPr>
                <a:t>Food = 954 + 1.09 Income + 748 Size + 565 Studen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8680" indent="-58680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ourier New"/>
                </a:rPr>
                <a:t>Predictor  Coef  SE Coef T      P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8680" indent="-58680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ourier New"/>
                </a:rPr>
                <a:t>Constant    954   1581  0.60  0.56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8680" indent="-58680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ourier New"/>
                </a:rPr>
                <a:t>Income    1.092  3.153  0.35  0.73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8680" indent="-58680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ourier New"/>
                </a:rPr>
                <a:t>Size      748.4  303.0  2.47  0.03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8680" indent="-58680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ourier New"/>
                </a:rPr>
                <a:t>Student   564.5  495.1  1.14  0.287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8680" indent="-58680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8680" indent="-58680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ourier New"/>
                </a:rPr>
                <a:t>S=572.7 R-Sq = 80.4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8680" indent="-58680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ourier New"/>
                </a:rPr>
                <a:t>R-Sq(adj) = 73.1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8680" indent="-58680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ourier New"/>
                </a:rPr>
                <a:t>Analysis of Varianc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8680" indent="-58680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ourier New"/>
                </a:rPr>
                <a:t>Source        DF    SS        MS     F     P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8680" indent="-58680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ourier New"/>
                </a:rPr>
                <a:t>Regression     3   10762903 3587634 10.94 0.00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8680" indent="-58680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ourier New"/>
                </a:rPr>
                <a:t>Residual Error 8    2623764  32797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8680" indent="-58680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ourier New"/>
                </a:rPr>
                <a:t>Total         11   13386667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9" name=""/>
          <p:cNvSpPr/>
          <p:nvPr/>
        </p:nvSpPr>
        <p:spPr>
          <a:xfrm>
            <a:off x="4343400" y="4495680"/>
            <a:ext cx="685800" cy="6098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105520" y="1295280"/>
            <a:ext cx="3733560" cy="152424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fefefe"/>
              </a:gs>
              <a:gs pos="100000">
                <a:srgbClr val="ccff99"/>
              </a:gs>
            </a:gsLst>
            <a:lin ang="81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duct a global test of hypothesis to determine if any of the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regression coefficien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not z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715000" y="3790800"/>
            <a:ext cx="3200400" cy="2415240"/>
          </a:xfrm>
          <a:prstGeom prst="rect">
            <a:avLst/>
          </a:prstGeom>
          <a:gradFill rotWithShape="0">
            <a:gsLst>
              <a:gs pos="0">
                <a:srgbClr val="ccff99">
                  <a:alpha val="60392"/>
                </a:srgbClr>
              </a:gs>
              <a:gs pos="50000">
                <a:srgbClr val="fefefe"/>
              </a:gs>
              <a:gs pos="100000">
                <a:srgbClr val="ccff99">
                  <a:alpha val="60392"/>
                </a:srgbClr>
              </a:gs>
            </a:gsLst>
            <a:lin ang="81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rejected if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4.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om the MINITAB output,                                              the computed value                  of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0.9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4081320" y="228600"/>
            <a:ext cx="2925000" cy="901440"/>
            <a:chOff x="4081320" y="228600"/>
            <a:chExt cx="2925000" cy="901440"/>
          </a:xfrm>
        </p:grpSpPr>
        <p:pic>
          <p:nvPicPr>
            <p:cNvPr id="543" name="" descr=""/>
            <p:cNvPicPr/>
            <p:nvPr/>
          </p:nvPicPr>
          <p:blipFill>
            <a:blip r:embed="rId1"/>
            <a:stretch/>
          </p:blipFill>
          <p:spPr>
            <a:xfrm>
              <a:off x="4081320" y="228600"/>
              <a:ext cx="98136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4879440" y="609480"/>
              <a:ext cx="21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… 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continu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5" name=""/>
          <p:cNvSpPr/>
          <p:nvPr/>
        </p:nvSpPr>
        <p:spPr>
          <a:xfrm>
            <a:off x="6031080" y="3092400"/>
            <a:ext cx="4093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5409360" y="3124080"/>
            <a:ext cx="3507120" cy="534240"/>
            <a:chOff x="5409360" y="3124080"/>
            <a:chExt cx="3507120" cy="534240"/>
          </a:xfrm>
        </p:grpSpPr>
        <p:sp>
          <p:nvSpPr>
            <p:cNvPr id="547" name=""/>
            <p:cNvSpPr/>
            <p:nvPr/>
          </p:nvSpPr>
          <p:spPr>
            <a:xfrm>
              <a:off x="8711640" y="313992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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8359200" y="3124080"/>
              <a:ext cx="3236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902000" y="312408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8056080" y="3124080"/>
              <a:ext cx="2246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406280" y="3138480"/>
              <a:ext cx="6120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on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507360" y="3138480"/>
              <a:ext cx="895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least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058080" y="3138480"/>
              <a:ext cx="4824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893560" y="3138480"/>
              <a:ext cx="13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700600" y="336852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409360" y="3138480"/>
              <a:ext cx="3178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5571360" y="2743200"/>
            <a:ext cx="2964240" cy="523440"/>
            <a:chOff x="5571360" y="2743200"/>
            <a:chExt cx="2964240" cy="523440"/>
          </a:xfrm>
        </p:grpSpPr>
        <p:sp>
          <p:nvSpPr>
            <p:cNvPr id="558" name=""/>
            <p:cNvSpPr/>
            <p:nvPr/>
          </p:nvSpPr>
          <p:spPr>
            <a:xfrm>
              <a:off x="8010000" y="2743200"/>
              <a:ext cx="3236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293960" y="2743200"/>
              <a:ext cx="3236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567120" y="2743200"/>
              <a:ext cx="3236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630920" y="2743200"/>
              <a:ext cx="2246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903720" y="2743200"/>
              <a:ext cx="2246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213600" y="2743200"/>
              <a:ext cx="2239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8330760" y="277884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047640" y="2778840"/>
              <a:ext cx="13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845480" y="296424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123320" y="296424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411960" y="296424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854680" y="296424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571360" y="2778840"/>
              <a:ext cx="3178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500"/>
                            </p:stCondLst>
                            <p:childTnLst>
                              <p:par>
                                <p:cTn id="5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5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1219320" y="4038480"/>
            <a:ext cx="6705360" cy="99072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efefe"/>
              </a:gs>
              <a:gs pos="100000">
                <a:srgbClr val="00ffff"/>
              </a:gs>
            </a:gsLst>
            <a:lin ang="8100000"/>
          </a:gradFill>
          <a:ln w="9360">
            <a:solidFill>
              <a:srgbClr val="ff33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ing the 5% level of significance,                                   reject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f 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value&lt;.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4081320" y="228600"/>
            <a:ext cx="2925000" cy="901440"/>
            <a:chOff x="4081320" y="228600"/>
            <a:chExt cx="2925000" cy="901440"/>
          </a:xfrm>
        </p:grpSpPr>
        <p:pic>
          <p:nvPicPr>
            <p:cNvPr id="573" name="" descr=""/>
            <p:cNvPicPr/>
            <p:nvPr/>
          </p:nvPicPr>
          <p:blipFill>
            <a:blip r:embed="rId1"/>
            <a:stretch/>
          </p:blipFill>
          <p:spPr>
            <a:xfrm>
              <a:off x="4081320" y="228600"/>
              <a:ext cx="98136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4879440" y="609480"/>
              <a:ext cx="21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… 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continu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5" name=""/>
          <p:cNvSpPr/>
          <p:nvPr/>
        </p:nvSpPr>
        <p:spPr>
          <a:xfrm>
            <a:off x="762120" y="5029200"/>
            <a:ext cx="7619760" cy="19227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ffffcc"/>
              </a:gs>
              <a:gs pos="100000">
                <a:srgbClr val="fefefe"/>
              </a:gs>
            </a:gsLst>
            <a:lin ang="8100000"/>
          </a:gradFill>
          <a:ln w="9360">
            <a:solidFill>
              <a:srgbClr val="ff33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om the MINITAB output,                                              the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only significant variable i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FAMILY (family size) using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values                                                                            (The other variables can be omitted from the mod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5180760" y="3429000"/>
            <a:ext cx="1974960" cy="588240"/>
            <a:chOff x="5180760" y="3429000"/>
            <a:chExt cx="1974960" cy="588240"/>
          </a:xfrm>
        </p:grpSpPr>
        <p:sp>
          <p:nvSpPr>
            <p:cNvPr id="577" name=""/>
            <p:cNvSpPr/>
            <p:nvPr/>
          </p:nvSpPr>
          <p:spPr>
            <a:xfrm>
              <a:off x="5180760" y="3476880"/>
              <a:ext cx="3178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559480" y="372744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176880" y="372744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950880" y="347688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718960" y="3476880"/>
              <a:ext cx="13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916240" y="3429000"/>
              <a:ext cx="2246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473160" y="3429000"/>
              <a:ext cx="3236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2152080" y="3451320"/>
            <a:ext cx="2498040" cy="587880"/>
            <a:chOff x="2152080" y="3451320"/>
            <a:chExt cx="2498040" cy="587880"/>
          </a:xfrm>
        </p:grpSpPr>
        <p:sp>
          <p:nvSpPr>
            <p:cNvPr id="585" name=""/>
            <p:cNvSpPr/>
            <p:nvPr/>
          </p:nvSpPr>
          <p:spPr>
            <a:xfrm>
              <a:off x="2152080" y="3498840"/>
              <a:ext cx="3178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549880" y="374940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188160" y="374940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961800" y="349884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730240" y="3498840"/>
              <a:ext cx="13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927160" y="3451320"/>
              <a:ext cx="2246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485880" y="3451320"/>
              <a:ext cx="3236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240800" y="3498840"/>
              <a:ext cx="409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304920" y="1219320"/>
            <a:ext cx="4572000" cy="2286000"/>
            <a:chOff x="304920" y="1219320"/>
            <a:chExt cx="4572000" cy="2286000"/>
          </a:xfrm>
        </p:grpSpPr>
        <p:sp>
          <p:nvSpPr>
            <p:cNvPr id="594" name=""/>
            <p:cNvSpPr/>
            <p:nvPr/>
          </p:nvSpPr>
          <p:spPr>
            <a:xfrm>
              <a:off x="304920" y="1219320"/>
              <a:ext cx="4572000" cy="2286000"/>
            </a:xfrm>
            <a:prstGeom prst="rect">
              <a:avLst/>
            </a:prstGeom>
            <a:gradFill rotWithShape="0">
              <a:gsLst>
                <a:gs pos="0">
                  <a:srgbClr val="ccff99"/>
                </a:gs>
                <a:gs pos="50000">
                  <a:srgbClr val="fefefe"/>
                </a:gs>
                <a:gs pos="100000">
                  <a:srgbClr val="ccff99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99960" y="1297080"/>
              <a:ext cx="4476960" cy="210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58680" indent="-58680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ourier New"/>
                </a:rPr>
                <a:t>The regression equation i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8680" indent="-58680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ourier New"/>
                </a:rPr>
                <a:t>Food = 954 + 1.09 Income + 748 Size             + 565 Studen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8680" indent="-58680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ourier New"/>
                </a:rPr>
                <a:t>Predictor  Coef  SECoef   T     P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8680" indent="-58680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ourier New"/>
                </a:rPr>
                <a:t>Constant    954   1581  0.60  0.56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8680" indent="-58680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ourier New"/>
                </a:rPr>
                <a:t>Income    1.092  3.153  0.35  0.73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8680" indent="-58680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ourier New"/>
                </a:rPr>
                <a:t>Size      748.4  303.0  2.47  0.03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8680" indent="-58680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ourier New"/>
                </a:rPr>
                <a:t>Student   564.5  495.1  1.14  0.287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6" name=""/>
          <p:cNvSpPr/>
          <p:nvPr/>
        </p:nvSpPr>
        <p:spPr>
          <a:xfrm>
            <a:off x="3809880" y="2133720"/>
            <a:ext cx="838440" cy="13716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029200" y="1219320"/>
            <a:ext cx="3733920" cy="33858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efefe"/>
              </a:gs>
              <a:gs pos="100000">
                <a:srgbClr val="00ffff"/>
              </a:gs>
            </a:gsLst>
            <a:lin ang="81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duct an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dividual te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o determine which coefficients are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not zer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(This is the hypothesis for the independent variable family 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500"/>
                            </p:stCondLst>
                            <p:childTnLst>
                              <p:par>
                                <p:cTn id="5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1000"/>
                            </p:stCondLst>
                            <p:childTnLst>
                              <p:par>
                                <p:cTn id="5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500"/>
                            </p:stCondLst>
                            <p:childTnLst>
                              <p:par>
                                <p:cTn id="6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9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8" name=""/>
          <p:cNvGrpSpPr/>
          <p:nvPr/>
        </p:nvGrpSpPr>
        <p:grpSpPr>
          <a:xfrm>
            <a:off x="228600" y="1752480"/>
            <a:ext cx="4114800" cy="3276720"/>
            <a:chOff x="228600" y="1752480"/>
            <a:chExt cx="4114800" cy="3276720"/>
          </a:xfrm>
        </p:grpSpPr>
        <p:sp>
          <p:nvSpPr>
            <p:cNvPr id="599" name=""/>
            <p:cNvSpPr/>
            <p:nvPr/>
          </p:nvSpPr>
          <p:spPr>
            <a:xfrm>
              <a:off x="228600" y="1752480"/>
              <a:ext cx="4114800" cy="3276720"/>
            </a:xfrm>
            <a:prstGeom prst="rect">
              <a:avLst/>
            </a:prstGeom>
            <a:gradFill rotWithShape="0">
              <a:gsLst>
                <a:gs pos="0">
                  <a:srgbClr val="ccff99"/>
                </a:gs>
                <a:gs pos="50000">
                  <a:srgbClr val="fefefe"/>
                </a:gs>
                <a:gs pos="100000">
                  <a:srgbClr val="ccff99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98440" y="1933560"/>
              <a:ext cx="4044960" cy="30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58680" indent="-586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Courier New"/>
                </a:rPr>
                <a:t>The regression equation i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8680" indent="-586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Courier New"/>
                </a:rPr>
                <a:t>Food = 954 + 1.09 Income                  + 748 Size + 565 Studen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8680" indent="-586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Courier New"/>
                </a:rPr>
                <a:t>Predictor Coef SECoef                              </a:t>
              </a:r>
              <a:r>
                <a:rPr b="1" lang="en-US" sz="19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1900" spc="-1" strike="noStrike">
                  <a:solidFill>
                    <a:srgbClr val="000000"/>
                  </a:solidFill>
                  <a:latin typeface="Courier New"/>
                </a:rPr>
                <a:t>954 1581 0.60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8680" indent="-586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Courier New"/>
                </a:rPr>
                <a:t>Income   1.092  3.153          Size     748.4  303.0          Student  564.5  495.1          S=572.7 R-Sq = 80.4%           R-Sq(adj) = 73.1%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523880" y="4419720"/>
              <a:ext cx="1905120" cy="30456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2" name=""/>
          <p:cNvSpPr/>
          <p:nvPr/>
        </p:nvSpPr>
        <p:spPr>
          <a:xfrm>
            <a:off x="4572000" y="1752480"/>
            <a:ext cx="4251240" cy="327672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efefe"/>
              </a:gs>
              <a:gs pos="100000">
                <a:srgbClr val="00ffff"/>
              </a:gs>
            </a:gsLst>
            <a:lin ang="81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31840" indent="-231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12ea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ression Analysi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d versus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e regression equation 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od = 340 + 1031 S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edictor Coef  SECoe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ant  339.7  940.7        Size    1031.0  179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 = 557.7   R-Sq = 76.8%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-Sq(adj) = 74.4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400800" y="4419720"/>
            <a:ext cx="2133720" cy="30456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648320" y="2819520"/>
            <a:ext cx="3276360" cy="30456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4081320" y="228600"/>
            <a:ext cx="2925000" cy="901440"/>
            <a:chOff x="4081320" y="228600"/>
            <a:chExt cx="2925000" cy="901440"/>
          </a:xfrm>
        </p:grpSpPr>
        <p:pic>
          <p:nvPicPr>
            <p:cNvPr id="606" name="" descr=""/>
            <p:cNvPicPr/>
            <p:nvPr/>
          </p:nvPicPr>
          <p:blipFill>
            <a:blip r:embed="rId1"/>
            <a:stretch/>
          </p:blipFill>
          <p:spPr>
            <a:xfrm>
              <a:off x="4081320" y="228600"/>
              <a:ext cx="98136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7" name=""/>
            <p:cNvSpPr/>
            <p:nvPr/>
          </p:nvSpPr>
          <p:spPr>
            <a:xfrm>
              <a:off x="4879440" y="609480"/>
              <a:ext cx="21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… 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continu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>
            <a:off x="0" y="1143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run the analysis using only the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ignificant independent family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86520" y="6172200"/>
            <a:ext cx="768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the R-square term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was reduced by only 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3.6 per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52280" y="1660680"/>
            <a:ext cx="8763120" cy="1584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838080" y="542592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..the coefficient of determination is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76.8 percent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the two independent variables are dropp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429000" y="4724280"/>
            <a:ext cx="2895480" cy="0"/>
          </a:xfrm>
          <a:prstGeom prst="line">
            <a:avLst/>
          </a:prstGeom>
          <a:ln w="7632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914400" y="5029200"/>
            <a:ext cx="7238880" cy="459720"/>
            <a:chOff x="914400" y="5029200"/>
            <a:chExt cx="7238880" cy="459720"/>
          </a:xfrm>
        </p:grpSpPr>
        <p:sp>
          <p:nvSpPr>
            <p:cNvPr id="614" name=""/>
            <p:cNvSpPr/>
            <p:nvPr/>
          </p:nvSpPr>
          <p:spPr>
            <a:xfrm>
              <a:off x="914400" y="5029200"/>
              <a:ext cx="723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new regression equation is: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= 340 + 1031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5" name=""/>
            <p:cNvGrpSpPr/>
            <p:nvPr/>
          </p:nvGrpSpPr>
          <p:grpSpPr>
            <a:xfrm>
              <a:off x="5562720" y="5114880"/>
              <a:ext cx="151920" cy="76320"/>
              <a:chOff x="5562720" y="5114880"/>
              <a:chExt cx="151920" cy="76320"/>
            </a:xfrm>
          </p:grpSpPr>
          <p:sp>
            <p:nvSpPr>
              <p:cNvPr id="616" name=""/>
              <p:cNvSpPr/>
              <p:nvPr/>
            </p:nvSpPr>
            <p:spPr>
              <a:xfrm flipV="1">
                <a:off x="5562720" y="5114880"/>
                <a:ext cx="76320" cy="76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H="1" flipV="1">
                <a:off x="5638680" y="5114880"/>
                <a:ext cx="75960" cy="76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split dir="out" orient="vert"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500"/>
                            </p:stCondLst>
                            <p:childTnLst>
                              <p:par>
                                <p:cTn id="6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500"/>
                            </p:stCondLst>
                            <p:childTnLst>
                              <p:par>
                                <p:cTn id="6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500"/>
                            </p:stCondLst>
                            <p:childTnLst>
                              <p:par>
                                <p:cTn id="65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7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1000"/>
                            </p:stCondLst>
                            <p:childTnLst>
                              <p:par>
                                <p:cTn id="65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1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1600200" y="2819520"/>
            <a:ext cx="5943600" cy="947160"/>
          </a:xfrm>
          <a:prstGeom prst="rect">
            <a:avLst/>
          </a:prstGeom>
          <a:gradFill rotWithShape="0">
            <a:gsLst>
              <a:gs pos="0">
                <a:srgbClr val="c84ea2"/>
              </a:gs>
              <a:gs pos="50000">
                <a:srgbClr val="fefefe">
                  <a:alpha val="40000"/>
                </a:srgbClr>
              </a:gs>
              <a:gs pos="100000">
                <a:srgbClr val="c84ea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iduals should b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pproximatel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normally distribu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2514600" y="152280"/>
            <a:ext cx="4038480" cy="1142640"/>
            <a:chOff x="2514600" y="152280"/>
            <a:chExt cx="4038480" cy="1142640"/>
          </a:xfrm>
        </p:grpSpPr>
        <p:sp>
          <p:nvSpPr>
            <p:cNvPr id="620" name=""/>
            <p:cNvSpPr/>
            <p:nvPr/>
          </p:nvSpPr>
          <p:spPr>
            <a:xfrm>
              <a:off x="2514600" y="152280"/>
              <a:ext cx="4038480" cy="114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c84ea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Analysis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1" lang="en-US" sz="4400" spc="-1" strike="noStrike">
                  <a:solidFill>
                    <a:srgbClr val="c84ea2"/>
                  </a:solidFill>
                  <a:latin typeface="Times New Roman"/>
                </a:rPr>
                <a:t>Residuals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 txBox="1"/>
            <p:nvPr/>
          </p:nvSpPr>
          <p:spPr>
            <a:xfrm>
              <a:off x="4191120" y="235440"/>
              <a:ext cx="685800" cy="83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53753" dir="2700000" blurRad="0" rotWithShape="0">
                      <a:srgbClr val="868686">
                        <a:alpha val="50000"/>
                      </a:srgbClr>
                    </a:outerShdw>
                  </a:effectLst>
                  <a:latin typeface="Times New Roman"/>
                </a:rPr>
                <a:t>of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622" name=""/>
          <p:cNvSpPr/>
          <p:nvPr/>
        </p:nvSpPr>
        <p:spPr>
          <a:xfrm>
            <a:off x="533520" y="2666880"/>
            <a:ext cx="7848360" cy="0"/>
          </a:xfrm>
          <a:prstGeom prst="line">
            <a:avLst/>
          </a:prstGeom>
          <a:ln w="76320">
            <a:solidFill>
              <a:srgbClr val="c84e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295280" y="3809880"/>
            <a:ext cx="6477120" cy="1373760"/>
          </a:xfrm>
          <a:prstGeom prst="rect">
            <a:avLst/>
          </a:prstGeom>
          <a:gradFill rotWithShape="0">
            <a:gsLst>
              <a:gs pos="0">
                <a:srgbClr val="efcde4"/>
              </a:gs>
              <a:gs pos="100000">
                <a:srgbClr val="fefefe">
                  <a:alpha val="1921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stograms and stem-and-leaf charts                                                    are useful in checking this requir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80880" y="1523880"/>
            <a:ext cx="8305920" cy="990720"/>
            <a:chOff x="380880" y="1523880"/>
            <a:chExt cx="8305920" cy="990720"/>
          </a:xfrm>
        </p:grpSpPr>
        <p:sp>
          <p:nvSpPr>
            <p:cNvPr id="625" name=""/>
            <p:cNvSpPr/>
            <p:nvPr/>
          </p:nvSpPr>
          <p:spPr>
            <a:xfrm>
              <a:off x="380880" y="1523880"/>
              <a:ext cx="8305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1" lang="en-US" sz="3200" spc="-1" strike="noStrike">
                  <a:solidFill>
                    <a:srgbClr val="c84ea2"/>
                  </a:solidFill>
                  <a:latin typeface="Times New Roman"/>
                </a:rPr>
                <a:t>residual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is the </a:t>
              </a:r>
              <a:r>
                <a:rPr b="1" lang="en-US" sz="3200" spc="-1" strike="noStrike">
                  <a:solidFill>
                    <a:srgbClr val="c84ea2"/>
                  </a:solidFill>
                  <a:latin typeface="Times New Roman"/>
                </a:rPr>
                <a:t>difference between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the actual value of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and the predicted value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6" name=""/>
            <p:cNvGrpSpPr/>
            <p:nvPr/>
          </p:nvGrpSpPr>
          <p:grpSpPr>
            <a:xfrm>
              <a:off x="7591320" y="2128680"/>
              <a:ext cx="151920" cy="76320"/>
              <a:chOff x="7591320" y="2128680"/>
              <a:chExt cx="151920" cy="76320"/>
            </a:xfrm>
          </p:grpSpPr>
          <p:sp>
            <p:nvSpPr>
              <p:cNvPr id="627" name=""/>
              <p:cNvSpPr/>
              <p:nvPr/>
            </p:nvSpPr>
            <p:spPr>
              <a:xfrm flipV="1">
                <a:off x="7591320" y="2128680"/>
                <a:ext cx="76320" cy="76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flipH="1" flipV="1">
                <a:off x="7667280" y="2128680"/>
                <a:ext cx="75960" cy="76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9" name=""/>
          <p:cNvGrpSpPr/>
          <p:nvPr/>
        </p:nvGrpSpPr>
        <p:grpSpPr>
          <a:xfrm>
            <a:off x="609480" y="4952880"/>
            <a:ext cx="8001000" cy="1800360"/>
            <a:chOff x="609480" y="4952880"/>
            <a:chExt cx="8001000" cy="1800360"/>
          </a:xfrm>
        </p:grpSpPr>
        <p:sp>
          <p:nvSpPr>
            <p:cNvPr id="630" name=""/>
            <p:cNvSpPr/>
            <p:nvPr/>
          </p:nvSpPr>
          <p:spPr>
            <a:xfrm>
              <a:off x="609480" y="4952880"/>
              <a:ext cx="8001000" cy="1800360"/>
            </a:xfrm>
            <a:prstGeom prst="rect">
              <a:avLst/>
            </a:prstGeom>
            <a:gradFill rotWithShape="0">
              <a:gsLst>
                <a:gs pos="0">
                  <a:srgbClr val="efcde4"/>
                </a:gs>
                <a:gs pos="50000">
                  <a:srgbClr val="fefefe"/>
                </a:gs>
                <a:gs pos="100000">
                  <a:srgbClr val="efcde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…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 plot of the residuals and their corresponding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values is used for showing                                                                                              </a:t>
              </a:r>
              <a:r>
                <a:rPr b="1" lang="en-US" sz="2800" spc="-1" strike="noStrike">
                  <a:solidFill>
                    <a:srgbClr val="c84ea2"/>
                  </a:solidFill>
                  <a:latin typeface="Times New Roman"/>
                </a:rPr>
                <a:t>that there are no trends or patterns in the residual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1" name=""/>
            <p:cNvGrpSpPr/>
            <p:nvPr/>
          </p:nvGrpSpPr>
          <p:grpSpPr>
            <a:xfrm>
              <a:off x="8305920" y="5029200"/>
              <a:ext cx="151920" cy="76320"/>
              <a:chOff x="8305920" y="5029200"/>
              <a:chExt cx="151920" cy="76320"/>
            </a:xfrm>
          </p:grpSpPr>
          <p:sp>
            <p:nvSpPr>
              <p:cNvPr id="632" name=""/>
              <p:cNvSpPr/>
              <p:nvPr/>
            </p:nvSpPr>
            <p:spPr>
              <a:xfrm flipV="1">
                <a:off x="8305920" y="5029200"/>
                <a:ext cx="76320" cy="76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 flipV="1">
                <a:off x="8381880" y="5029200"/>
                <a:ext cx="75960" cy="76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push dir="r"/>
  </p:transition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8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500"/>
                            </p:stCondLst>
                            <p:childTnLst>
                              <p:par>
                                <p:cTn id="67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7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4" name=""/>
          <p:cNvGrpSpPr/>
          <p:nvPr/>
        </p:nvGrpSpPr>
        <p:grpSpPr>
          <a:xfrm>
            <a:off x="2514600" y="152280"/>
            <a:ext cx="4038480" cy="1142640"/>
            <a:chOff x="2514600" y="152280"/>
            <a:chExt cx="4038480" cy="1142640"/>
          </a:xfrm>
        </p:grpSpPr>
        <p:sp>
          <p:nvSpPr>
            <p:cNvPr id="635" name=""/>
            <p:cNvSpPr/>
            <p:nvPr/>
          </p:nvSpPr>
          <p:spPr>
            <a:xfrm>
              <a:off x="2514600" y="152280"/>
              <a:ext cx="4038480" cy="114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c84ea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Analysis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1" lang="en-US" sz="4400" spc="-1" strike="noStrike">
                  <a:solidFill>
                    <a:srgbClr val="c84ea2"/>
                  </a:solidFill>
                  <a:latin typeface="Times New Roman"/>
                </a:rPr>
                <a:t>Residuals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 txBox="1"/>
            <p:nvPr/>
          </p:nvSpPr>
          <p:spPr>
            <a:xfrm>
              <a:off x="4191120" y="235440"/>
              <a:ext cx="685800" cy="83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53753" dir="2700000" blurRad="0" rotWithShape="0">
                      <a:srgbClr val="868686">
                        <a:alpha val="50000"/>
                      </a:srgbClr>
                    </a:outerShdw>
                  </a:effectLst>
                  <a:latin typeface="Times New Roman"/>
                </a:rPr>
                <a:t>of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637" name=""/>
          <p:cNvSpPr/>
          <p:nvPr/>
        </p:nvSpPr>
        <p:spPr>
          <a:xfrm>
            <a:off x="1676520" y="3962520"/>
            <a:ext cx="6172200" cy="0"/>
          </a:xfrm>
          <a:prstGeom prst="line">
            <a:avLst/>
          </a:prstGeom>
          <a:ln w="28440">
            <a:solidFill>
              <a:srgbClr val="c84e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533520" y="1461960"/>
            <a:ext cx="7308720" cy="5092200"/>
            <a:chOff x="533520" y="1461960"/>
            <a:chExt cx="7308720" cy="5092200"/>
          </a:xfrm>
        </p:grpSpPr>
        <p:grpSp>
          <p:nvGrpSpPr>
            <p:cNvPr id="639" name=""/>
            <p:cNvGrpSpPr/>
            <p:nvPr/>
          </p:nvGrpSpPr>
          <p:grpSpPr>
            <a:xfrm>
              <a:off x="533520" y="1461960"/>
              <a:ext cx="7308720" cy="5092200"/>
              <a:chOff x="533520" y="1461960"/>
              <a:chExt cx="7308720" cy="5092200"/>
            </a:xfrm>
          </p:grpSpPr>
          <p:sp>
            <p:nvSpPr>
              <p:cNvPr id="640" name=""/>
              <p:cNvSpPr/>
              <p:nvPr/>
            </p:nvSpPr>
            <p:spPr>
              <a:xfrm>
                <a:off x="1682640" y="2155680"/>
                <a:ext cx="6159600" cy="3416400"/>
              </a:xfrm>
              <a:prstGeom prst="rect">
                <a:avLst/>
              </a:prstGeom>
              <a:gradFill rotWithShape="0">
                <a:gsLst>
                  <a:gs pos="0">
                    <a:srgbClr val="c0c0c0"/>
                  </a:gs>
                  <a:gs pos="50000">
                    <a:srgbClr val="fefefe"/>
                  </a:gs>
                  <a:gs pos="100000">
                    <a:srgbClr val="c0c0c0"/>
                  </a:gs>
                </a:gsLst>
                <a:lin ang="81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2368440" y="2689200"/>
                <a:ext cx="63720" cy="63360"/>
              </a:xfrm>
              <a:prstGeom prst="ellipse">
                <a:avLst/>
              </a:prstGeom>
              <a:solidFill>
                <a:srgbClr val="33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5721480" y="3679920"/>
                <a:ext cx="63360" cy="63360"/>
              </a:xfrm>
              <a:prstGeom prst="ellipse">
                <a:avLst/>
              </a:prstGeom>
              <a:solidFill>
                <a:srgbClr val="33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359160" y="3070080"/>
                <a:ext cx="63360" cy="63720"/>
              </a:xfrm>
              <a:prstGeom prst="ellipse">
                <a:avLst/>
              </a:prstGeom>
              <a:solidFill>
                <a:srgbClr val="33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483240" y="2765520"/>
                <a:ext cx="63720" cy="63360"/>
              </a:xfrm>
              <a:prstGeom prst="ellipse">
                <a:avLst/>
              </a:prstGeom>
              <a:solidFill>
                <a:srgbClr val="33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730760" y="2612880"/>
                <a:ext cx="63360" cy="63720"/>
              </a:xfrm>
              <a:prstGeom prst="ellipse">
                <a:avLst/>
              </a:prstGeom>
              <a:solidFill>
                <a:srgbClr val="33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502160" y="3527280"/>
                <a:ext cx="63360" cy="63720"/>
              </a:xfrm>
              <a:prstGeom prst="ellipse">
                <a:avLst/>
              </a:prstGeom>
              <a:solidFill>
                <a:srgbClr val="33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3664080" y="4137120"/>
                <a:ext cx="63360" cy="63360"/>
              </a:xfrm>
              <a:prstGeom prst="ellipse">
                <a:avLst/>
              </a:prstGeom>
              <a:solidFill>
                <a:srgbClr val="33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3816360" y="4518000"/>
                <a:ext cx="63360" cy="63360"/>
              </a:xfrm>
              <a:prstGeom prst="ellipse">
                <a:avLst/>
              </a:prstGeom>
              <a:solidFill>
                <a:srgbClr val="33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340240" y="4441680"/>
                <a:ext cx="63720" cy="63720"/>
              </a:xfrm>
              <a:prstGeom prst="ellipse">
                <a:avLst/>
              </a:prstGeom>
              <a:solidFill>
                <a:srgbClr val="33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359160" y="5203800"/>
                <a:ext cx="63360" cy="63360"/>
              </a:xfrm>
              <a:prstGeom prst="ellipse">
                <a:avLst/>
              </a:prstGeom>
              <a:solidFill>
                <a:srgbClr val="33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2825640" y="4746600"/>
                <a:ext cx="63720" cy="63360"/>
              </a:xfrm>
              <a:prstGeom prst="ellipse">
                <a:avLst/>
              </a:prstGeom>
              <a:solidFill>
                <a:srgbClr val="33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4425840" y="5051520"/>
                <a:ext cx="63720" cy="63360"/>
              </a:xfrm>
              <a:prstGeom prst="ellipse">
                <a:avLst/>
              </a:prstGeom>
              <a:solidFill>
                <a:srgbClr val="33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559560" y="4898880"/>
                <a:ext cx="63360" cy="63720"/>
              </a:xfrm>
              <a:prstGeom prst="ellipse">
                <a:avLst/>
              </a:prstGeom>
              <a:solidFill>
                <a:srgbClr val="33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2041200" y="5562720"/>
                <a:ext cx="7945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450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384600" y="5562720"/>
                <a:ext cx="7945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750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4174920" y="5562720"/>
                <a:ext cx="7945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600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1050480" y="4114800"/>
                <a:ext cx="337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84ea2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7840" y="5181480"/>
                <a:ext cx="744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84ea2"/>
                    </a:solidFill>
                    <a:latin typeface="Times New Roman"/>
                  </a:rPr>
                  <a:t>-50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974520" y="3276720"/>
                <a:ext cx="6422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84ea2"/>
                    </a:solidFill>
                    <a:latin typeface="Times New Roman"/>
                  </a:rPr>
                  <a:t>50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821880" y="2209680"/>
                <a:ext cx="7945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84ea2"/>
                    </a:solidFill>
                    <a:latin typeface="Times New Roman"/>
                  </a:rPr>
                  <a:t>100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869640" y="6095880"/>
                <a:ext cx="7016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6200000">
                <a:off x="42840" y="3657960"/>
                <a:ext cx="14392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84ea2"/>
                    </a:solidFill>
                    <a:latin typeface="Times New Roman"/>
                  </a:rPr>
                  <a:t>Residual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3957120" y="1461960"/>
                <a:ext cx="1229400" cy="825120"/>
              </a:xfrm>
              <a:prstGeom prst="rect">
                <a:avLst/>
              </a:prstGeom>
              <a:solidFill>
                <a:srgbClr val="efcde4"/>
              </a:solidFill>
              <a:ln w="0">
                <a:noFill/>
              </a:ln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c84ea2"/>
                    </a:solidFill>
                    <a:latin typeface="Times New Roman"/>
                  </a:rPr>
                  <a:t>Plot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4" name=""/>
            <p:cNvGrpSpPr/>
            <p:nvPr/>
          </p:nvGrpSpPr>
          <p:grpSpPr>
            <a:xfrm>
              <a:off x="4343400" y="6172200"/>
              <a:ext cx="111240" cy="55440"/>
              <a:chOff x="4343400" y="6172200"/>
              <a:chExt cx="111240" cy="55440"/>
            </a:xfrm>
          </p:grpSpPr>
          <p:sp>
            <p:nvSpPr>
              <p:cNvPr id="665" name=""/>
              <p:cNvSpPr/>
              <p:nvPr/>
            </p:nvSpPr>
            <p:spPr>
              <a:xfrm flipV="1">
                <a:off x="4343400" y="6172200"/>
                <a:ext cx="55800" cy="55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flipH="1" flipV="1">
                <a:off x="4399200" y="6172200"/>
                <a:ext cx="55440" cy="55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zoom dir="out"/>
  </p:transition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0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7" name=""/>
          <p:cNvGrpSpPr/>
          <p:nvPr/>
        </p:nvGrpSpPr>
        <p:grpSpPr>
          <a:xfrm>
            <a:off x="2514600" y="152280"/>
            <a:ext cx="4038480" cy="1142640"/>
            <a:chOff x="2514600" y="152280"/>
            <a:chExt cx="4038480" cy="1142640"/>
          </a:xfrm>
        </p:grpSpPr>
        <p:sp>
          <p:nvSpPr>
            <p:cNvPr id="668" name=""/>
            <p:cNvSpPr/>
            <p:nvPr/>
          </p:nvSpPr>
          <p:spPr>
            <a:xfrm>
              <a:off x="2514600" y="152280"/>
              <a:ext cx="4038480" cy="114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c84ea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Analysis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1" lang="en-US" sz="4400" spc="-1" strike="noStrike">
                  <a:solidFill>
                    <a:srgbClr val="c84ea2"/>
                  </a:solidFill>
                  <a:latin typeface="Times New Roman"/>
                </a:rPr>
                <a:t>Residuals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 txBox="1"/>
            <p:nvPr/>
          </p:nvSpPr>
          <p:spPr>
            <a:xfrm>
              <a:off x="4191120" y="235440"/>
              <a:ext cx="685800" cy="83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53753" dir="2700000" blurRad="0" rotWithShape="0">
                      <a:srgbClr val="868686">
                        <a:alpha val="50000"/>
                      </a:srgbClr>
                    </a:outerShdw>
                  </a:effectLst>
                  <a:latin typeface="Times New Roman"/>
                </a:rPr>
                <a:t>of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670" name=""/>
          <p:cNvGrpSpPr/>
          <p:nvPr/>
        </p:nvGrpSpPr>
        <p:grpSpPr>
          <a:xfrm>
            <a:off x="380880" y="1676520"/>
            <a:ext cx="7580160" cy="4649040"/>
            <a:chOff x="380880" y="1676520"/>
            <a:chExt cx="7580160" cy="4649040"/>
          </a:xfrm>
        </p:grpSpPr>
        <p:sp>
          <p:nvSpPr>
            <p:cNvPr id="671" name=""/>
            <p:cNvSpPr/>
            <p:nvPr/>
          </p:nvSpPr>
          <p:spPr>
            <a:xfrm>
              <a:off x="1420560" y="2063880"/>
              <a:ext cx="6540480" cy="3340080"/>
            </a:xfrm>
            <a:prstGeom prst="rect">
              <a:avLst/>
            </a:prstGeom>
            <a:gradFill rotWithShape="0">
              <a:gsLst>
                <a:gs pos="0">
                  <a:srgbClr val="efcde4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931040" y="5394240"/>
              <a:ext cx="5646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84ea2"/>
                  </a:solidFill>
                  <a:latin typeface="Times New Roman"/>
                </a:rPr>
                <a:t>-600         -200         200          600         1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093320" y="2117880"/>
              <a:ext cx="337320" cy="33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rot="16200000">
              <a:off x="-176400" y="3466440"/>
              <a:ext cx="1573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requenc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938040" y="5867280"/>
              <a:ext cx="14392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84ea2"/>
                  </a:solidFill>
                  <a:latin typeface="Times New Roman"/>
                </a:rPr>
                <a:t>Residua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801440" y="4578480"/>
              <a:ext cx="1130400" cy="825480"/>
            </a:xfrm>
            <a:prstGeom prst="rect">
              <a:avLst/>
            </a:prstGeom>
            <a:solidFill>
              <a:srgbClr val="4db14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944440" y="3435480"/>
              <a:ext cx="1206720" cy="1968480"/>
            </a:xfrm>
            <a:prstGeom prst="rect">
              <a:avLst/>
            </a:prstGeom>
            <a:solidFill>
              <a:srgbClr val="a800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163760" y="4197240"/>
              <a:ext cx="1054080" cy="1206720"/>
            </a:xfrm>
            <a:prstGeom prst="rect">
              <a:avLst/>
            </a:prstGeom>
            <a:solidFill>
              <a:srgbClr val="ff310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230440" y="4578480"/>
              <a:ext cx="1206720" cy="825480"/>
            </a:xfrm>
            <a:prstGeom prst="rect">
              <a:avLst/>
            </a:prstGeom>
            <a:solidFill>
              <a:srgbClr val="ffd6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449760" y="4273560"/>
              <a:ext cx="1282680" cy="1130400"/>
            </a:xfrm>
            <a:prstGeom prst="rect">
              <a:avLst/>
            </a:prstGeom>
            <a:solidFill>
              <a:srgbClr val="510c9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205080" y="1676520"/>
              <a:ext cx="2971800" cy="1047600"/>
            </a:xfrm>
            <a:prstGeom prst="rect">
              <a:avLst/>
            </a:prstGeom>
            <a:gradFill rotWithShape="0">
              <a:gsLst>
                <a:gs pos="0">
                  <a:srgbClr val="efcde4"/>
                </a:gs>
                <a:gs pos="50000">
                  <a:srgbClr val="fefefe"/>
                </a:gs>
                <a:gs pos="100000">
                  <a:srgbClr val="efcde4"/>
                </a:gs>
              </a:gsLst>
              <a:lin ang="8100000"/>
            </a:gradFill>
            <a:ln w="0">
              <a:noFill/>
            </a:ln>
            <a:effectLst>
              <a:outerShdw dist="153753" dir="2700000" blurRad="0" rotWithShape="0">
                <a:srgbClr val="c84ea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Histograms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in"/>
  </p:transition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0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2476440" y="380880"/>
            <a:ext cx="3886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28496" dir="9225519" blurRad="0" rotWithShape="0">
                    <a:srgbClr val="808080"/>
                  </a:outerShdw>
                </a:effectLst>
                <a:latin typeface="Copper Black"/>
              </a:rPr>
              <a:t>Chapter Goa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28496" dir="9225519" blurRad="0" rotWithShape="0">
                  <a:srgbClr val="808080"/>
                </a:outerShdw>
              </a:effectLst>
              <a:latin typeface="Copper Black"/>
              <a:ea typeface="Copper Black"/>
            </a:endParaRPr>
          </a:p>
        </p:txBody>
      </p:sp>
      <p:sp>
        <p:nvSpPr>
          <p:cNvPr id="68" name=""/>
          <p:cNvSpPr/>
          <p:nvPr/>
        </p:nvSpPr>
        <p:spPr>
          <a:xfrm>
            <a:off x="1219320" y="4038480"/>
            <a:ext cx="73152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Identif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he problems raised, and the remedi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reof, by the presence of 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multicollinearit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the 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data 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419040" y="1752480"/>
            <a:ext cx="685800" cy="685800"/>
            <a:chOff x="419040" y="1752480"/>
            <a:chExt cx="685800" cy="685800"/>
          </a:xfrm>
        </p:grpSpPr>
        <p:pic>
          <p:nvPicPr>
            <p:cNvPr id="70" name="" descr=""/>
            <p:cNvPicPr/>
            <p:nvPr/>
          </p:nvPicPr>
          <p:blipFill>
            <a:blip r:embed="rId3"/>
            <a:srcRect l="0" t="7684" r="4868" b="13458"/>
            <a:stretch/>
          </p:blipFill>
          <p:spPr>
            <a:xfrm>
              <a:off x="419040" y="1798560"/>
              <a:ext cx="68580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495000" y="17524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6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419040" y="2819520"/>
            <a:ext cx="685800" cy="685800"/>
            <a:chOff x="419040" y="2819520"/>
            <a:chExt cx="685800" cy="685800"/>
          </a:xfrm>
        </p:grpSpPr>
        <p:pic>
          <p:nvPicPr>
            <p:cNvPr id="73" name="" descr=""/>
            <p:cNvPicPr/>
            <p:nvPr/>
          </p:nvPicPr>
          <p:blipFill>
            <a:blip r:embed="rId4"/>
            <a:srcRect l="0" t="7684" r="4868" b="13458"/>
            <a:stretch/>
          </p:blipFill>
          <p:spPr>
            <a:xfrm>
              <a:off x="419040" y="2865600"/>
              <a:ext cx="68580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495000" y="281952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7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419040" y="4038480"/>
            <a:ext cx="685800" cy="685800"/>
            <a:chOff x="419040" y="4038480"/>
            <a:chExt cx="685800" cy="685800"/>
          </a:xfrm>
        </p:grpSpPr>
        <p:pic>
          <p:nvPicPr>
            <p:cNvPr id="76" name="" descr=""/>
            <p:cNvPicPr/>
            <p:nvPr/>
          </p:nvPicPr>
          <p:blipFill>
            <a:blip r:embed="rId5"/>
            <a:srcRect l="0" t="7684" r="4868" b="13458"/>
            <a:stretch/>
          </p:blipFill>
          <p:spPr>
            <a:xfrm>
              <a:off x="419040" y="4084560"/>
              <a:ext cx="68580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495000" y="40384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8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228600" y="152280"/>
            <a:ext cx="914400" cy="712800"/>
          </a:xfrm>
          <a:prstGeom prst="rect">
            <a:avLst/>
          </a:prstGeom>
          <a:ln w="0">
            <a:noFill/>
          </a:ln>
          <a:effectLst>
            <a:outerShdw dist="81185" dir="8478030" blurRad="0" rotWithShape="0">
              <a:srgbClr val="808080"/>
            </a:outerShdw>
          </a:effectLst>
        </p:spPr>
      </p:pic>
      <p:sp>
        <p:nvSpPr>
          <p:cNvPr id="79" name=""/>
          <p:cNvSpPr txBox="1"/>
          <p:nvPr/>
        </p:nvSpPr>
        <p:spPr>
          <a:xfrm>
            <a:off x="457200" y="255600"/>
            <a:ext cx="304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52300" dir="9963564" blurRad="0" rotWithShape="0">
                    <a:srgbClr val="000000"/>
                  </a:outerShdw>
                </a:effectLst>
                <a:latin typeface="Arial Black"/>
              </a:rPr>
              <a:t>14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52300" dir="9963564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0" name=""/>
          <p:cNvSpPr/>
          <p:nvPr/>
        </p:nvSpPr>
        <p:spPr>
          <a:xfrm>
            <a:off x="1295280" y="1752480"/>
            <a:ext cx="739152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i="1" lang="en-CA" sz="2800" spc="-1" strike="noStrike">
                <a:solidFill>
                  <a:srgbClr val="ff3300"/>
                </a:solidFill>
                <a:latin typeface="CaslonTwoTwentyFour-Book"/>
              </a:rPr>
              <a:t>Draw inferences</a:t>
            </a:r>
            <a:r>
              <a:rPr b="1" i="1" lang="en-CA" sz="2400" spc="-1" strike="noStrike">
                <a:solidFill>
                  <a:srgbClr val="000000"/>
                </a:solidFill>
                <a:latin typeface="CaslonTwoTwentyFour-Book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CaslonTwoTwentyFour-Book"/>
              </a:rPr>
              <a:t>about the </a:t>
            </a:r>
            <a:r>
              <a:rPr b="1" lang="en-CA" sz="2400" spc="-1" strike="noStrike">
                <a:solidFill>
                  <a:srgbClr val="009900"/>
                </a:solidFill>
                <a:latin typeface="CaslonTwoTwentyFour-Book"/>
              </a:rPr>
              <a:t>assumed (true) model</a:t>
            </a:r>
            <a:r>
              <a:rPr b="1" lang="en-CA" sz="2400" spc="-1" strike="noStrike">
                <a:solidFill>
                  <a:srgbClr val="000000"/>
                </a:solidFill>
                <a:latin typeface="CaslonTwoTwentyFour-Book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400" spc="-1" strike="noStrike">
                <a:solidFill>
                  <a:srgbClr val="000000"/>
                </a:solidFill>
                <a:latin typeface="CaslonTwoTwentyFour-Book"/>
              </a:rPr>
              <a:t>though a </a:t>
            </a:r>
            <a:r>
              <a:rPr b="1" i="1" lang="en-CA" sz="2400" spc="-1" strike="noStrike">
                <a:solidFill>
                  <a:srgbClr val="3333cc"/>
                </a:solidFill>
                <a:latin typeface="CaslonTwoTwentyFour-Book"/>
              </a:rPr>
              <a:t>joint test</a:t>
            </a:r>
            <a:r>
              <a:rPr b="1" lang="en-CA" sz="2400" spc="-1" strike="noStrike">
                <a:solidFill>
                  <a:srgbClr val="000000"/>
                </a:solidFill>
                <a:latin typeface="CaslonTwoTwentyFour-Book"/>
              </a:rPr>
              <a:t> of </a:t>
            </a:r>
            <a:r>
              <a:rPr b="1" lang="en-CA" sz="2400" spc="-1" strike="noStrike">
                <a:solidFill>
                  <a:srgbClr val="009900"/>
                </a:solidFill>
                <a:latin typeface="CaslonTwoTwentyFour-Book"/>
              </a:rPr>
              <a:t>hypothesis </a:t>
            </a:r>
            <a:r>
              <a:rPr b="1" lang="en-CA" sz="2400" spc="-1" strike="noStrike">
                <a:solidFill>
                  <a:srgbClr val="009900"/>
                </a:solidFill>
                <a:latin typeface="CaslonTwoTwentyFour-BookIt"/>
              </a:rPr>
              <a:t>(F tes</a:t>
            </a:r>
            <a:r>
              <a:rPr b="1" lang="en-CA" sz="2400" spc="-1" strike="noStrike">
                <a:solidFill>
                  <a:srgbClr val="009900"/>
                </a:solidFill>
                <a:latin typeface="CaslonTwoTwentyFour-Book"/>
              </a:rPr>
              <a:t>t)</a:t>
            </a:r>
            <a:r>
              <a:rPr b="1" lang="en-CA" sz="2400" spc="-1" strike="noStrike">
                <a:solidFill>
                  <a:srgbClr val="000000"/>
                </a:solidFill>
                <a:latin typeface="CaslonTwoTwentyFour-Book"/>
              </a:rPr>
              <a:t> on th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400" spc="-1" strike="noStrike">
                <a:solidFill>
                  <a:srgbClr val="3333cc"/>
                </a:solidFill>
                <a:latin typeface="CaslonTwoTwentyFour-Book"/>
              </a:rPr>
              <a:t>coefficients of all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2879640"/>
            <a:ext cx="71629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Draw inferences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bout the importance of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independent variabl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hrough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ests of hypothesis (t-tes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380880" y="1143000"/>
            <a:ext cx="685800" cy="685800"/>
            <a:chOff x="380880" y="1143000"/>
            <a:chExt cx="685800" cy="685800"/>
          </a:xfrm>
        </p:grpSpPr>
        <p:pic>
          <p:nvPicPr>
            <p:cNvPr id="83" name="" descr=""/>
            <p:cNvPicPr/>
            <p:nvPr/>
          </p:nvPicPr>
          <p:blipFill>
            <a:blip r:embed="rId7"/>
            <a:srcRect l="0" t="7684" r="4868" b="13458"/>
            <a:stretch/>
          </p:blipFill>
          <p:spPr>
            <a:xfrm>
              <a:off x="380880" y="1189080"/>
              <a:ext cx="68580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456840" y="114300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5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1219320" y="12193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Explain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goodness of fi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f an estimated mod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7505640" y="6248520"/>
            <a:ext cx="12574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83017" dir="12821405" blurRad="0" rotWithShape="0">
                    <a:srgbClr val="b2b2b2">
                      <a:alpha val="50000"/>
                    </a:srgbClr>
                  </a:outerShdw>
                </a:effectLst>
                <a:latin typeface="Copper Black"/>
              </a:rPr>
              <a:t>and..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83017" dir="12821405" blurRad="0" rotWithShape="0">
                  <a:srgbClr val="b2b2b2">
                    <a:alpha val="50000"/>
                  </a:srgbClr>
                </a:outerShdw>
              </a:effectLst>
              <a:latin typeface="Copper Black"/>
              <a:ea typeface="Copper Black"/>
            </a:endParaRPr>
          </a:p>
        </p:txBody>
      </p:sp>
      <p:sp>
        <p:nvSpPr>
          <p:cNvPr id="87" name=""/>
          <p:cNvSpPr/>
          <p:nvPr/>
        </p:nvSpPr>
        <p:spPr>
          <a:xfrm>
            <a:off x="1219320" y="5151600"/>
            <a:ext cx="73152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Identif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he problems raised, and the remedi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reof, by the presence of 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outliers/influential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observation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n the 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data 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419040" y="5151600"/>
            <a:ext cx="685800" cy="685800"/>
            <a:chOff x="419040" y="5151600"/>
            <a:chExt cx="685800" cy="685800"/>
          </a:xfrm>
        </p:grpSpPr>
        <p:pic>
          <p:nvPicPr>
            <p:cNvPr id="89" name="" descr=""/>
            <p:cNvPicPr/>
            <p:nvPr/>
          </p:nvPicPr>
          <p:blipFill>
            <a:blip r:embed="rId8"/>
            <a:srcRect l="0" t="7684" r="4868" b="13458"/>
            <a:stretch/>
          </p:blipFill>
          <p:spPr>
            <a:xfrm>
              <a:off x="419040" y="5197680"/>
              <a:ext cx="68580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495000" y="515160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9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over dir="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1676520" y="228600"/>
            <a:ext cx="5638680" cy="764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8c3d9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  <a:effectLst>
            <a:outerShdw dist="134955" dir="83271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99"/>
                </a:solidFill>
                <a:latin typeface="Times New Roman"/>
              </a:rPr>
              <a:t>Test your learning</a:t>
            </a:r>
            <a:r>
              <a:rPr b="1" i="1" lang="en-US" sz="3600" spc="-1" strike="noStrike">
                <a:solidFill>
                  <a:srgbClr val="ffff99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685800" y="1600200"/>
            <a:ext cx="7619760" cy="1312920"/>
            <a:chOff x="685800" y="1600200"/>
            <a:chExt cx="7619760" cy="1312920"/>
          </a:xfrm>
        </p:grpSpPr>
        <p:sp>
          <p:nvSpPr>
            <p:cNvPr id="684" name=""/>
            <p:cNvSpPr/>
            <p:nvPr/>
          </p:nvSpPr>
          <p:spPr>
            <a:xfrm>
              <a:off x="685800" y="1600200"/>
              <a:ext cx="7619760" cy="10666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8c3d91">
                    <a:alpha val="25098"/>
                  </a:srgbClr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879840" y="1844280"/>
              <a:ext cx="72939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      </a:t>
              </a:r>
              <a:r>
                <a:rPr b="0" lang="en-US" sz="32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www.mcgrawhill.ca/college/lin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 rot="20514600">
            <a:off x="612720" y="1447920"/>
            <a:ext cx="2046240" cy="581400"/>
          </a:xfrm>
          <a:prstGeom prst="rect">
            <a:avLst/>
          </a:prstGeom>
          <a:solidFill>
            <a:srgbClr val="ffff99"/>
          </a:solidFill>
          <a:ln w="9360">
            <a:solidFill>
              <a:srgbClr val="ff3300"/>
            </a:solidFill>
            <a:miter/>
          </a:ln>
          <a:effectLst>
            <a:outerShdw dist="176971" dir="12058737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Click on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1676520" y="5562720"/>
            <a:ext cx="5866920" cy="304560"/>
            <a:chOff x="1676520" y="5562720"/>
            <a:chExt cx="5866920" cy="304560"/>
          </a:xfrm>
        </p:grpSpPr>
        <p:sp>
          <p:nvSpPr>
            <p:cNvPr id="688" name=""/>
            <p:cNvSpPr/>
            <p:nvPr/>
          </p:nvSpPr>
          <p:spPr>
            <a:xfrm flipV="1">
              <a:off x="1676520" y="5634000"/>
              <a:ext cx="5866920" cy="1443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89" name="" descr=""/>
            <p:cNvPicPr/>
            <p:nvPr/>
          </p:nvPicPr>
          <p:blipFill>
            <a:blip r:embed="rId3"/>
            <a:stretch/>
          </p:blipFill>
          <p:spPr>
            <a:xfrm>
              <a:off x="4511880" y="5562720"/>
              <a:ext cx="425880" cy="30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0" name=""/>
          <p:cNvSpPr/>
          <p:nvPr/>
        </p:nvSpPr>
        <p:spPr>
          <a:xfrm>
            <a:off x="1443960" y="266688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ine Learning Cent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1642680" y="3124080"/>
            <a:ext cx="5595840" cy="2281680"/>
            <a:chOff x="1642680" y="3124080"/>
            <a:chExt cx="5595840" cy="2281680"/>
          </a:xfrm>
        </p:grpSpPr>
        <p:sp>
          <p:nvSpPr>
            <p:cNvPr id="692" name=""/>
            <p:cNvSpPr/>
            <p:nvPr/>
          </p:nvSpPr>
          <p:spPr>
            <a:xfrm>
              <a:off x="1642680" y="312408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or quizz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078640" y="3483000"/>
              <a:ext cx="51598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xtra cont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ata se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archable glossa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ccess to Statistics Canada’s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-Sta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nd much more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94" name="" descr=""/>
          <p:cNvPicPr/>
          <p:nvPr/>
        </p:nvPicPr>
        <p:blipFill>
          <a:blip r:embed="rId4"/>
          <a:stretch/>
        </p:blipFill>
        <p:spPr>
          <a:xfrm>
            <a:off x="685800" y="2743200"/>
            <a:ext cx="847800" cy="741240"/>
          </a:xfrm>
          <a:prstGeom prst="rect">
            <a:avLst/>
          </a:prstGeom>
          <a:ln w="0">
            <a:noFill/>
          </a:ln>
        </p:spPr>
      </p:pic>
      <p:pic>
        <p:nvPicPr>
          <p:cNvPr id="695" name="" descr=""/>
          <p:cNvPicPr/>
          <p:nvPr/>
        </p:nvPicPr>
        <p:blipFill>
          <a:blip r:embed="rId5"/>
          <a:stretch/>
        </p:blipFill>
        <p:spPr>
          <a:xfrm>
            <a:off x="7238880" y="3809880"/>
            <a:ext cx="1063800" cy="14814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/>
          <p:nvPr/>
        </p:nvSpPr>
        <p:spPr>
          <a:xfrm>
            <a:off x="1600200" y="3092400"/>
            <a:ext cx="5943600" cy="642600"/>
          </a:xfrm>
          <a:prstGeom prst="rect">
            <a:avLst/>
          </a:prstGeom>
          <a:gradFill rotWithShape="0">
            <a:gsLst>
              <a:gs pos="0">
                <a:srgbClr val="efcde4"/>
              </a:gs>
              <a:gs pos="50000">
                <a:srgbClr val="fefefe"/>
              </a:gs>
              <a:gs pos="100000">
                <a:srgbClr val="efcde4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8e7a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84ea2"/>
                </a:solidFill>
                <a:latin typeface="Times New Roman"/>
              </a:rPr>
              <a:t>This completes Chapter 1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0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2476440" y="380880"/>
            <a:ext cx="3886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28496" dir="9225519" blurRad="0" rotWithShape="0">
                    <a:srgbClr val="808080"/>
                  </a:outerShdw>
                </a:effectLst>
                <a:latin typeface="Copper Black"/>
              </a:rPr>
              <a:t>Chapter Goa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28496" dir="9225519" blurRad="0" rotWithShape="0">
                  <a:srgbClr val="808080"/>
                </a:outerShdw>
              </a:effectLst>
              <a:latin typeface="Copper Black"/>
              <a:ea typeface="Copper Black"/>
            </a:endParaRPr>
          </a:p>
        </p:txBody>
      </p:sp>
      <p:sp>
        <p:nvSpPr>
          <p:cNvPr id="92" name=""/>
          <p:cNvSpPr/>
          <p:nvPr/>
        </p:nvSpPr>
        <p:spPr>
          <a:xfrm>
            <a:off x="1219320" y="4449600"/>
            <a:ext cx="7315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Comprehe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conce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partial correlation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s importance in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ultiple regression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57200" y="2590920"/>
            <a:ext cx="800280" cy="761400"/>
            <a:chOff x="457200" y="2590920"/>
            <a:chExt cx="800280" cy="761400"/>
          </a:xfrm>
        </p:grpSpPr>
        <p:pic>
          <p:nvPicPr>
            <p:cNvPr id="94" name="" descr=""/>
            <p:cNvPicPr/>
            <p:nvPr/>
          </p:nvPicPr>
          <p:blipFill>
            <a:blip r:embed="rId3"/>
            <a:srcRect l="0" t="7684" r="4868" b="13458"/>
            <a:stretch/>
          </p:blipFill>
          <p:spPr>
            <a:xfrm>
              <a:off x="457200" y="2590920"/>
              <a:ext cx="800280" cy="76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533520" y="2616480"/>
              <a:ext cx="64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457200" y="3551400"/>
            <a:ext cx="799920" cy="761400"/>
            <a:chOff x="457200" y="3551400"/>
            <a:chExt cx="799920" cy="761400"/>
          </a:xfrm>
        </p:grpSpPr>
        <p:pic>
          <p:nvPicPr>
            <p:cNvPr id="97" name="" descr=""/>
            <p:cNvPicPr/>
            <p:nvPr/>
          </p:nvPicPr>
          <p:blipFill>
            <a:blip r:embed="rId4"/>
            <a:srcRect l="0" t="7684" r="4868" b="13458"/>
            <a:stretch/>
          </p:blipFill>
          <p:spPr>
            <a:xfrm>
              <a:off x="457200" y="3551400"/>
              <a:ext cx="799920" cy="76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533160" y="3612960"/>
              <a:ext cx="723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2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228600" y="152280"/>
            <a:ext cx="914400" cy="712800"/>
          </a:xfrm>
          <a:prstGeom prst="rect">
            <a:avLst/>
          </a:prstGeom>
          <a:ln w="0">
            <a:noFill/>
          </a:ln>
          <a:effectLst>
            <a:outerShdw dist="81185" dir="8478030" blurRad="0" rotWithShape="0">
              <a:srgbClr val="808080"/>
            </a:outerShdw>
          </a:effectLst>
        </p:spPr>
      </p:pic>
      <p:sp>
        <p:nvSpPr>
          <p:cNvPr id="100" name=""/>
          <p:cNvSpPr txBox="1"/>
          <p:nvPr/>
        </p:nvSpPr>
        <p:spPr>
          <a:xfrm>
            <a:off x="457200" y="255600"/>
            <a:ext cx="304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52300" dir="9963564" blurRad="0" rotWithShape="0">
                    <a:srgbClr val="000000"/>
                  </a:outerShdw>
                </a:effectLst>
                <a:latin typeface="Arial Black"/>
              </a:rPr>
              <a:t>14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52300" dir="9963564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3505320"/>
            <a:ext cx="71629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Wri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 research report on an investigation using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ultiple regression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19320" y="2637000"/>
            <a:ext cx="77724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Use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me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imple remedial measur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n the presence o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olations of the model assump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57200" y="4419720"/>
            <a:ext cx="799920" cy="761400"/>
            <a:chOff x="457200" y="4419720"/>
            <a:chExt cx="799920" cy="761400"/>
          </a:xfrm>
        </p:grpSpPr>
        <p:pic>
          <p:nvPicPr>
            <p:cNvPr id="104" name="" descr=""/>
            <p:cNvPicPr/>
            <p:nvPr/>
          </p:nvPicPr>
          <p:blipFill>
            <a:blip r:embed="rId6"/>
            <a:srcRect l="0" t="7684" r="4868" b="13458"/>
            <a:stretch/>
          </p:blipFill>
          <p:spPr>
            <a:xfrm>
              <a:off x="457200" y="4419720"/>
              <a:ext cx="799920" cy="76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33160" y="4481280"/>
              <a:ext cx="723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3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457200" y="1417680"/>
            <a:ext cx="799920" cy="761760"/>
            <a:chOff x="457200" y="1417680"/>
            <a:chExt cx="799920" cy="761760"/>
          </a:xfrm>
        </p:grpSpPr>
        <p:pic>
          <p:nvPicPr>
            <p:cNvPr id="107" name="" descr=""/>
            <p:cNvPicPr/>
            <p:nvPr/>
          </p:nvPicPr>
          <p:blipFill>
            <a:blip r:embed="rId7"/>
            <a:srcRect l="0" t="7684" r="4868" b="13458"/>
            <a:stretch/>
          </p:blipFill>
          <p:spPr>
            <a:xfrm>
              <a:off x="457200" y="1417680"/>
              <a:ext cx="79992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33160" y="1479240"/>
              <a:ext cx="723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0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1295280" y="1371600"/>
            <a:ext cx="74678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Identif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viol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f model assumptions, including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linearit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homoscedasticit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autocorrel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normalit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hrough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imple diagnosic procedur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476440" y="380880"/>
            <a:ext cx="3886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28496" dir="9225519" blurRad="0" rotWithShape="0">
                    <a:srgbClr val="808080"/>
                  </a:outerShdw>
                </a:effectLst>
                <a:latin typeface="Copper Black"/>
              </a:rPr>
              <a:t>Chapter Goa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28496" dir="9225519" blurRad="0" rotWithShape="0">
                  <a:srgbClr val="808080"/>
                </a:outerShdw>
              </a:effectLst>
              <a:latin typeface="Copper Black"/>
              <a:ea typeface="Copper Black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457200" y="2362320"/>
            <a:ext cx="800280" cy="761400"/>
            <a:chOff x="457200" y="2362320"/>
            <a:chExt cx="800280" cy="761400"/>
          </a:xfrm>
        </p:grpSpPr>
        <p:pic>
          <p:nvPicPr>
            <p:cNvPr id="112" name="" descr=""/>
            <p:cNvPicPr/>
            <p:nvPr/>
          </p:nvPicPr>
          <p:blipFill>
            <a:blip r:embed="rId3"/>
            <a:srcRect l="0" t="7684" r="4868" b="13458"/>
            <a:stretch/>
          </p:blipFill>
          <p:spPr>
            <a:xfrm>
              <a:off x="457200" y="2362320"/>
              <a:ext cx="800280" cy="76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533520" y="2387880"/>
              <a:ext cx="64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457200" y="3733920"/>
            <a:ext cx="799920" cy="761400"/>
            <a:chOff x="457200" y="3733920"/>
            <a:chExt cx="799920" cy="761400"/>
          </a:xfrm>
        </p:grpSpPr>
        <p:pic>
          <p:nvPicPr>
            <p:cNvPr id="115" name="" descr=""/>
            <p:cNvPicPr/>
            <p:nvPr/>
          </p:nvPicPr>
          <p:blipFill>
            <a:blip r:embed="rId4"/>
            <a:srcRect l="0" t="7684" r="4868" b="13458"/>
            <a:stretch/>
          </p:blipFill>
          <p:spPr>
            <a:xfrm>
              <a:off x="457200" y="3733920"/>
              <a:ext cx="799920" cy="76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533160" y="3795480"/>
              <a:ext cx="723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6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228600" y="152280"/>
            <a:ext cx="914400" cy="712800"/>
          </a:xfrm>
          <a:prstGeom prst="rect">
            <a:avLst/>
          </a:prstGeom>
          <a:ln w="0">
            <a:noFill/>
          </a:ln>
          <a:effectLst>
            <a:outerShdw dist="81185" dir="8478030" blurRad="0" rotWithShape="0">
              <a:srgbClr val="808080"/>
            </a:outerShdw>
          </a:effectLst>
        </p:spPr>
      </p:pic>
      <p:sp>
        <p:nvSpPr>
          <p:cNvPr id="118" name=""/>
          <p:cNvSpPr txBox="1"/>
          <p:nvPr/>
        </p:nvSpPr>
        <p:spPr>
          <a:xfrm>
            <a:off x="457200" y="255600"/>
            <a:ext cx="304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52300" dir="9963564" blurRad="0" rotWithShape="0">
                    <a:srgbClr val="000000"/>
                  </a:outerShdw>
                </a:effectLst>
                <a:latin typeface="Arial Black"/>
              </a:rPr>
              <a:t>14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52300" dir="9963564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9" name=""/>
          <p:cNvSpPr/>
          <p:nvPr/>
        </p:nvSpPr>
        <p:spPr>
          <a:xfrm>
            <a:off x="1295280" y="3687840"/>
            <a:ext cx="71629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Appl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ome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dvanced diagnostic checks and remedi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ultiple regression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19320" y="2408400"/>
            <a:ext cx="77724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Use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alitative variables, as well as their interaction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th other independent variables through a joi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st of hypoth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685800" y="6019920"/>
            <a:ext cx="7772040" cy="304560"/>
            <a:chOff x="685800" y="6019920"/>
            <a:chExt cx="7772040" cy="304560"/>
          </a:xfrm>
        </p:grpSpPr>
        <p:sp>
          <p:nvSpPr>
            <p:cNvPr id="122" name=""/>
            <p:cNvSpPr/>
            <p:nvPr/>
          </p:nvSpPr>
          <p:spPr>
            <a:xfrm flipV="1">
              <a:off x="685800" y="6091560"/>
              <a:ext cx="7772040" cy="1443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3" name="" descr=""/>
            <p:cNvPicPr/>
            <p:nvPr/>
          </p:nvPicPr>
          <p:blipFill>
            <a:blip r:embed="rId7"/>
            <a:stretch/>
          </p:blipFill>
          <p:spPr>
            <a:xfrm>
              <a:off x="4442040" y="6019920"/>
              <a:ext cx="56412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4" name=""/>
          <p:cNvGrpSpPr/>
          <p:nvPr/>
        </p:nvGrpSpPr>
        <p:grpSpPr>
          <a:xfrm>
            <a:off x="457200" y="1417680"/>
            <a:ext cx="799920" cy="761760"/>
            <a:chOff x="457200" y="1417680"/>
            <a:chExt cx="799920" cy="761760"/>
          </a:xfrm>
        </p:grpSpPr>
        <p:pic>
          <p:nvPicPr>
            <p:cNvPr id="125" name="" descr=""/>
            <p:cNvPicPr/>
            <p:nvPr/>
          </p:nvPicPr>
          <p:blipFill>
            <a:blip r:embed="rId8"/>
            <a:srcRect l="0" t="7684" r="4868" b="13458"/>
            <a:stretch/>
          </p:blipFill>
          <p:spPr>
            <a:xfrm>
              <a:off x="457200" y="1417680"/>
              <a:ext cx="79992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533160" y="1479240"/>
              <a:ext cx="723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4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1295280" y="1371600"/>
            <a:ext cx="74678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Draw inferenc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out the importance of a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ubs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importance in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ultiple regression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09480" y="3809880"/>
            <a:ext cx="7848720" cy="2362320"/>
          </a:xfrm>
          <a:prstGeom prst="rect">
            <a:avLst/>
          </a:prstGeom>
          <a:gradFill rotWithShape="0">
            <a:gsLst>
              <a:gs pos="0">
                <a:srgbClr val="fbe7db"/>
              </a:gs>
              <a:gs pos="50000">
                <a:srgbClr val="fefefe"/>
              </a:gs>
              <a:gs pos="100000">
                <a:srgbClr val="fbe7db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5880" y="1066680"/>
            <a:ext cx="8170920" cy="19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two independent variables, the general form of the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multiple regression equat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7280" y="2743200"/>
            <a:ext cx="802944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re the independent vari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intercep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02000" y="252360"/>
            <a:ext cx="5869800" cy="642600"/>
          </a:xfrm>
          <a:prstGeom prst="rect">
            <a:avLst/>
          </a:prstGeom>
          <a:solidFill>
            <a:srgbClr val="ffff00">
              <a:alpha val="60000"/>
            </a:srgbClr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Multiple Regression Analy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23960" y="3809880"/>
            <a:ext cx="7657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is the net change i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for each unit change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holding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 constant. It is called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partial regression coefficient,                                           …a net regression coefficient, or                                             …just a regression coefficien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685800" y="6248520"/>
            <a:ext cx="7772040" cy="304560"/>
            <a:chOff x="685800" y="6248520"/>
            <a:chExt cx="7772040" cy="304560"/>
          </a:xfrm>
        </p:grpSpPr>
        <p:sp>
          <p:nvSpPr>
            <p:cNvPr id="134" name=""/>
            <p:cNvSpPr/>
            <p:nvPr/>
          </p:nvSpPr>
          <p:spPr>
            <a:xfrm flipV="1">
              <a:off x="685800" y="6320160"/>
              <a:ext cx="7772040" cy="144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5" name="" descr=""/>
            <p:cNvPicPr/>
            <p:nvPr/>
          </p:nvPicPr>
          <p:blipFill>
            <a:blip r:embed="rId2"/>
            <a:stretch/>
          </p:blipFill>
          <p:spPr>
            <a:xfrm>
              <a:off x="4442040" y="6248520"/>
              <a:ext cx="56412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6" name=""/>
          <p:cNvGrpSpPr/>
          <p:nvPr/>
        </p:nvGrpSpPr>
        <p:grpSpPr>
          <a:xfrm>
            <a:off x="2195280" y="1905120"/>
            <a:ext cx="4627800" cy="1067760"/>
            <a:chOff x="2195280" y="1905120"/>
            <a:chExt cx="4627800" cy="1067760"/>
          </a:xfrm>
        </p:grpSpPr>
        <p:grpSp>
          <p:nvGrpSpPr>
            <p:cNvPr id="137" name=""/>
            <p:cNvGrpSpPr/>
            <p:nvPr/>
          </p:nvGrpSpPr>
          <p:grpSpPr>
            <a:xfrm>
              <a:off x="2195280" y="1905120"/>
              <a:ext cx="4627800" cy="1067760"/>
              <a:chOff x="2195280" y="1905120"/>
              <a:chExt cx="4627800" cy="1067760"/>
            </a:xfrm>
          </p:grpSpPr>
          <p:sp>
            <p:nvSpPr>
              <p:cNvPr id="138" name=""/>
              <p:cNvSpPr/>
              <p:nvPr/>
            </p:nvSpPr>
            <p:spPr>
              <a:xfrm>
                <a:off x="2195280" y="1983960"/>
                <a:ext cx="355680" cy="9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63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6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215520" y="1983960"/>
                <a:ext cx="401400" cy="9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63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6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044240" y="1983960"/>
                <a:ext cx="401400" cy="9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63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6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527360" y="1983960"/>
                <a:ext cx="355680" cy="9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63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6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637960" y="1983960"/>
                <a:ext cx="401400" cy="9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63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6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175080" y="1983960"/>
                <a:ext cx="355680" cy="9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63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6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598480" y="1983960"/>
                <a:ext cx="360" cy="36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652840" y="1905120"/>
                <a:ext cx="636120" cy="9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6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620520" y="1905120"/>
                <a:ext cx="468720" cy="9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</a:t>
                </a:r>
                <a:endParaRPr b="0" lang="en-US" sz="6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214600" y="1905120"/>
                <a:ext cx="468720" cy="9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</a:t>
                </a:r>
                <a:endParaRPr b="0" lang="en-US" sz="6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287240" y="2407680"/>
                <a:ext cx="235440" cy="56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7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919040" y="2407680"/>
                <a:ext cx="235440" cy="56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7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902200" y="2407680"/>
                <a:ext cx="234720" cy="56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7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587640" y="2408760"/>
                <a:ext cx="235440" cy="56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7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2216160" y="2154240"/>
              <a:ext cx="380520" cy="76320"/>
              <a:chOff x="2216160" y="2154240"/>
              <a:chExt cx="380520" cy="76320"/>
            </a:xfrm>
          </p:grpSpPr>
          <p:sp>
            <p:nvSpPr>
              <p:cNvPr id="153" name=""/>
              <p:cNvSpPr/>
              <p:nvPr/>
            </p:nvSpPr>
            <p:spPr>
              <a:xfrm flipV="1">
                <a:off x="2216160" y="2154240"/>
                <a:ext cx="190440" cy="76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 flipV="1">
                <a:off x="2406600" y="2154240"/>
                <a:ext cx="190080" cy="76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blinds dir="vert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85800" y="3276720"/>
            <a:ext cx="7772400" cy="2361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efefe"/>
              </a:gs>
              <a:gs pos="100000">
                <a:srgbClr val="ffff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1066680"/>
            <a:ext cx="777240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general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multiple regressi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ndependent variables is given b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5040" y="3276720"/>
            <a:ext cx="787248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least squares criterion is used to develop this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cause determining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t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is very tedious, a software package such as Excel or MINITAB is recommend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602000" y="252360"/>
            <a:ext cx="5869800" cy="642600"/>
          </a:xfrm>
          <a:prstGeom prst="rect">
            <a:avLst/>
          </a:prstGeom>
          <a:solidFill>
            <a:srgbClr val="ffff00">
              <a:alpha val="60000"/>
            </a:srgbClr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Multiple Regression Analy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685800" y="6095880"/>
            <a:ext cx="7772040" cy="304920"/>
            <a:chOff x="685800" y="6095880"/>
            <a:chExt cx="7772040" cy="304920"/>
          </a:xfrm>
        </p:grpSpPr>
        <p:sp>
          <p:nvSpPr>
            <p:cNvPr id="160" name=""/>
            <p:cNvSpPr/>
            <p:nvPr/>
          </p:nvSpPr>
          <p:spPr>
            <a:xfrm flipV="1">
              <a:off x="685800" y="6168240"/>
              <a:ext cx="7772040" cy="1447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1" name="" descr=""/>
            <p:cNvPicPr/>
            <p:nvPr/>
          </p:nvPicPr>
          <p:blipFill>
            <a:blip r:embed="rId2"/>
            <a:stretch/>
          </p:blipFill>
          <p:spPr>
            <a:xfrm>
              <a:off x="4442040" y="6095880"/>
              <a:ext cx="564120" cy="3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2" name=""/>
          <p:cNvSpPr/>
          <p:nvPr/>
        </p:nvSpPr>
        <p:spPr>
          <a:xfrm>
            <a:off x="1303200" y="213660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900000" y="2057400"/>
            <a:ext cx="6998760" cy="1068840"/>
            <a:chOff x="900000" y="2057400"/>
            <a:chExt cx="6998760" cy="1068840"/>
          </a:xfrm>
        </p:grpSpPr>
        <p:sp>
          <p:nvSpPr>
            <p:cNvPr id="164" name=""/>
            <p:cNvSpPr/>
            <p:nvPr/>
          </p:nvSpPr>
          <p:spPr>
            <a:xfrm>
              <a:off x="900000" y="2136600"/>
              <a:ext cx="35568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3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6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920240" y="2136600"/>
              <a:ext cx="40140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3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6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748960" y="2136600"/>
              <a:ext cx="40140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3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6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232080" y="2136600"/>
              <a:ext cx="35568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3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6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342680" y="2136600"/>
              <a:ext cx="40140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3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6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879800" y="2136600"/>
              <a:ext cx="35568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3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6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357560" y="2057400"/>
              <a:ext cx="63612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6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325600" y="2057400"/>
              <a:ext cx="46872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6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919320" y="2057400"/>
              <a:ext cx="46872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6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992320" y="2560680"/>
              <a:ext cx="23544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624120" y="2560680"/>
              <a:ext cx="23544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606920" y="2560680"/>
              <a:ext cx="23508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92720" y="2562120"/>
              <a:ext cx="23544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" name=""/>
            <p:cNvGrpSpPr/>
            <p:nvPr/>
          </p:nvGrpSpPr>
          <p:grpSpPr>
            <a:xfrm>
              <a:off x="920880" y="2306520"/>
              <a:ext cx="380520" cy="76320"/>
              <a:chOff x="920880" y="2306520"/>
              <a:chExt cx="380520" cy="76320"/>
            </a:xfrm>
          </p:grpSpPr>
          <p:sp>
            <p:nvSpPr>
              <p:cNvPr id="178" name=""/>
              <p:cNvSpPr/>
              <p:nvPr/>
            </p:nvSpPr>
            <p:spPr>
              <a:xfrm flipV="1">
                <a:off x="920880" y="2306520"/>
                <a:ext cx="190440" cy="76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H="1" flipV="1">
                <a:off x="1111320" y="2306520"/>
                <a:ext cx="190080" cy="76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>
              <a:off x="6739920" y="2136600"/>
              <a:ext cx="40140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3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6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277040" y="2136600"/>
              <a:ext cx="35568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3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6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316560" y="2057400"/>
              <a:ext cx="46872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6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004160" y="2560680"/>
              <a:ext cx="23472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7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689240" y="2562120"/>
              <a:ext cx="20952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7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13320" y="2057400"/>
              <a:ext cx="46872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6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794200" y="2505240"/>
              <a:ext cx="62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. . 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horz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523880" y="2057400"/>
            <a:ext cx="617220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measured in the same units as the              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ependent vari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81120" y="304920"/>
            <a:ext cx="6343560" cy="58140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ultiple Standard Error of Estim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714680" y="1143000"/>
            <a:ext cx="5752800" cy="11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easure of the effectivenes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of the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regression eq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3520" y="3048120"/>
            <a:ext cx="8153280" cy="9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 is difficult to determine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what is a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large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valu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what is a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small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value of the standard erro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457200" y="6111720"/>
            <a:ext cx="8305920" cy="474840"/>
            <a:chOff x="457200" y="6111720"/>
            <a:chExt cx="8305920" cy="474840"/>
          </a:xfrm>
        </p:grpSpPr>
        <p:sp>
          <p:nvSpPr>
            <p:cNvPr id="192" name=""/>
            <p:cNvSpPr/>
            <p:nvPr/>
          </p:nvSpPr>
          <p:spPr>
            <a:xfrm>
              <a:off x="457200" y="6281640"/>
              <a:ext cx="8305920" cy="763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ff9999"/>
                </a:gs>
                <a:gs pos="100000">
                  <a:srgbClr val="fefefe"/>
                </a:gs>
              </a:gsLst>
              <a:lin ang="8100000"/>
            </a:gra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267080" y="6111720"/>
              <a:ext cx="533520" cy="474840"/>
            </a:xfrm>
            <a:prstGeom prst="sun">
              <a:avLst>
                <a:gd name="adj" fmla="val 25000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9dbc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2743200" y="4054320"/>
            <a:ext cx="3657600" cy="19814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be7d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2747880" y="3979800"/>
          <a:ext cx="3643560" cy="217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7880" y="3979800"/>
                    <a:ext cx="3643560" cy="21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Bar dir="vert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368000" y="152280"/>
            <a:ext cx="6551280" cy="10688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bf00"/>
              </a:gs>
            </a:gsLst>
            <a:lin ang="5400000"/>
          </a:gradFill>
          <a:ln w="0">
            <a:noFill/>
          </a:ln>
          <a:effectLst>
            <a:outerShdw dist="137587" dir="74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Multiple Regression and Correl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ssum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457200" y="6307200"/>
            <a:ext cx="8305920" cy="474480"/>
            <a:chOff x="457200" y="6307200"/>
            <a:chExt cx="8305920" cy="474480"/>
          </a:xfrm>
        </p:grpSpPr>
        <p:sp>
          <p:nvSpPr>
            <p:cNvPr id="199" name=""/>
            <p:cNvSpPr/>
            <p:nvPr/>
          </p:nvSpPr>
          <p:spPr>
            <a:xfrm>
              <a:off x="457200" y="6476760"/>
              <a:ext cx="8305920" cy="759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ff9999"/>
                </a:gs>
                <a:gs pos="100000">
                  <a:srgbClr val="fefefe"/>
                </a:gs>
              </a:gsLst>
              <a:lin ang="8100000"/>
            </a:gra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267080" y="6307200"/>
              <a:ext cx="533520" cy="474480"/>
            </a:xfrm>
            <a:prstGeom prst="sun">
              <a:avLst>
                <a:gd name="adj" fmla="val 25000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9dbc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1981080" y="1457280"/>
            <a:ext cx="5019840" cy="4714920"/>
            <a:chOff x="1981080" y="1457280"/>
            <a:chExt cx="5019840" cy="4714920"/>
          </a:xfrm>
        </p:grpSpPr>
        <p:sp>
          <p:nvSpPr>
            <p:cNvPr id="202" name=""/>
            <p:cNvSpPr/>
            <p:nvPr/>
          </p:nvSpPr>
          <p:spPr>
            <a:xfrm>
              <a:off x="1981080" y="1457280"/>
              <a:ext cx="5019840" cy="47149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be7d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616120" y="1476360"/>
              <a:ext cx="1811520" cy="466920"/>
            </a:xfrm>
            <a:custGeom>
              <a:avLst/>
              <a:gdLst/>
              <a:ahLst/>
              <a:rect l="l" t="t" r="r" b="b"/>
              <a:pathLst>
                <a:path w="1141" h="294">
                  <a:moveTo>
                    <a:pt x="799" y="0"/>
                  </a:moveTo>
                  <a:lnTo>
                    <a:pt x="799" y="0"/>
                  </a:lnTo>
                  <a:lnTo>
                    <a:pt x="804" y="0"/>
                  </a:lnTo>
                  <a:lnTo>
                    <a:pt x="804" y="0"/>
                  </a:lnTo>
                  <a:lnTo>
                    <a:pt x="808" y="0"/>
                  </a:lnTo>
                  <a:lnTo>
                    <a:pt x="808" y="0"/>
                  </a:lnTo>
                  <a:lnTo>
                    <a:pt x="812" y="4"/>
                  </a:lnTo>
                  <a:lnTo>
                    <a:pt x="812" y="4"/>
                  </a:lnTo>
                  <a:lnTo>
                    <a:pt x="812" y="4"/>
                  </a:lnTo>
                  <a:lnTo>
                    <a:pt x="852" y="151"/>
                  </a:lnTo>
                  <a:lnTo>
                    <a:pt x="1119" y="81"/>
                  </a:lnTo>
                  <a:lnTo>
                    <a:pt x="1141" y="248"/>
                  </a:lnTo>
                  <a:lnTo>
                    <a:pt x="1061" y="294"/>
                  </a:lnTo>
                  <a:lnTo>
                    <a:pt x="0" y="294"/>
                  </a:lnTo>
                  <a:lnTo>
                    <a:pt x="13" y="283"/>
                  </a:lnTo>
                  <a:lnTo>
                    <a:pt x="26" y="271"/>
                  </a:lnTo>
                  <a:lnTo>
                    <a:pt x="35" y="259"/>
                  </a:lnTo>
                  <a:lnTo>
                    <a:pt x="49" y="252"/>
                  </a:lnTo>
                  <a:lnTo>
                    <a:pt x="62" y="240"/>
                  </a:lnTo>
                  <a:lnTo>
                    <a:pt x="75" y="232"/>
                  </a:lnTo>
                  <a:lnTo>
                    <a:pt x="89" y="221"/>
                  </a:lnTo>
                  <a:lnTo>
                    <a:pt x="106" y="213"/>
                  </a:lnTo>
                  <a:lnTo>
                    <a:pt x="111" y="217"/>
                  </a:lnTo>
                  <a:lnTo>
                    <a:pt x="115" y="221"/>
                  </a:lnTo>
                  <a:lnTo>
                    <a:pt x="115" y="228"/>
                  </a:lnTo>
                  <a:lnTo>
                    <a:pt x="120" y="232"/>
                  </a:lnTo>
                  <a:lnTo>
                    <a:pt x="124" y="240"/>
                  </a:lnTo>
                  <a:lnTo>
                    <a:pt x="124" y="248"/>
                  </a:lnTo>
                  <a:lnTo>
                    <a:pt x="128" y="252"/>
                  </a:lnTo>
                  <a:lnTo>
                    <a:pt x="133" y="259"/>
                  </a:lnTo>
                  <a:lnTo>
                    <a:pt x="133" y="259"/>
                  </a:lnTo>
                  <a:lnTo>
                    <a:pt x="133" y="263"/>
                  </a:lnTo>
                  <a:lnTo>
                    <a:pt x="133" y="267"/>
                  </a:lnTo>
                  <a:lnTo>
                    <a:pt x="133" y="271"/>
                  </a:lnTo>
                  <a:lnTo>
                    <a:pt x="133" y="275"/>
                  </a:lnTo>
                  <a:lnTo>
                    <a:pt x="133" y="279"/>
                  </a:lnTo>
                  <a:lnTo>
                    <a:pt x="133" y="283"/>
                  </a:lnTo>
                  <a:lnTo>
                    <a:pt x="137" y="283"/>
                  </a:lnTo>
                  <a:lnTo>
                    <a:pt x="799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be7d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505400" y="1733400"/>
              <a:ext cx="761760" cy="209880"/>
            </a:xfrm>
            <a:custGeom>
              <a:avLst/>
              <a:gdLst/>
              <a:ahLst/>
              <a:rect l="l" t="t" r="r" b="b"/>
              <a:pathLst>
                <a:path w="480" h="132">
                  <a:moveTo>
                    <a:pt x="0" y="132"/>
                  </a:moveTo>
                  <a:lnTo>
                    <a:pt x="31" y="121"/>
                  </a:lnTo>
                  <a:lnTo>
                    <a:pt x="62" y="109"/>
                  </a:lnTo>
                  <a:lnTo>
                    <a:pt x="93" y="101"/>
                  </a:lnTo>
                  <a:lnTo>
                    <a:pt x="124" y="90"/>
                  </a:lnTo>
                  <a:lnTo>
                    <a:pt x="155" y="78"/>
                  </a:lnTo>
                  <a:lnTo>
                    <a:pt x="182" y="70"/>
                  </a:lnTo>
                  <a:lnTo>
                    <a:pt x="213" y="63"/>
                  </a:lnTo>
                  <a:lnTo>
                    <a:pt x="240" y="55"/>
                  </a:lnTo>
                  <a:lnTo>
                    <a:pt x="271" y="51"/>
                  </a:lnTo>
                  <a:lnTo>
                    <a:pt x="302" y="43"/>
                  </a:lnTo>
                  <a:lnTo>
                    <a:pt x="329" y="35"/>
                  </a:lnTo>
                  <a:lnTo>
                    <a:pt x="360" y="28"/>
                  </a:lnTo>
                  <a:lnTo>
                    <a:pt x="386" y="20"/>
                  </a:lnTo>
                  <a:lnTo>
                    <a:pt x="413" y="16"/>
                  </a:lnTo>
                  <a:lnTo>
                    <a:pt x="444" y="8"/>
                  </a:lnTo>
                  <a:lnTo>
                    <a:pt x="471" y="0"/>
                  </a:lnTo>
                  <a:lnTo>
                    <a:pt x="480" y="132"/>
                  </a:lnTo>
                  <a:lnTo>
                    <a:pt x="0" y="132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be7d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181480" y="2041560"/>
              <a:ext cx="585720" cy="136440"/>
            </a:xfrm>
            <a:custGeom>
              <a:avLst/>
              <a:gdLst/>
              <a:ahLst/>
              <a:rect l="l" t="t" r="r" b="b"/>
              <a:pathLst>
                <a:path w="369" h="86">
                  <a:moveTo>
                    <a:pt x="0" y="70"/>
                  </a:moveTo>
                  <a:lnTo>
                    <a:pt x="0" y="86"/>
                  </a:lnTo>
                  <a:lnTo>
                    <a:pt x="369" y="86"/>
                  </a:lnTo>
                  <a:lnTo>
                    <a:pt x="369" y="74"/>
                  </a:lnTo>
                  <a:lnTo>
                    <a:pt x="369" y="62"/>
                  </a:lnTo>
                  <a:lnTo>
                    <a:pt x="369" y="51"/>
                  </a:lnTo>
                  <a:lnTo>
                    <a:pt x="369" y="39"/>
                  </a:lnTo>
                  <a:lnTo>
                    <a:pt x="369" y="31"/>
                  </a:lnTo>
                  <a:lnTo>
                    <a:pt x="364" y="20"/>
                  </a:lnTo>
                  <a:lnTo>
                    <a:pt x="364" y="8"/>
                  </a:lnTo>
                  <a:lnTo>
                    <a:pt x="360" y="0"/>
                  </a:lnTo>
                  <a:lnTo>
                    <a:pt x="316" y="4"/>
                  </a:lnTo>
                  <a:lnTo>
                    <a:pt x="271" y="12"/>
                  </a:lnTo>
                  <a:lnTo>
                    <a:pt x="227" y="20"/>
                  </a:lnTo>
                  <a:lnTo>
                    <a:pt x="182" y="27"/>
                  </a:lnTo>
                  <a:lnTo>
                    <a:pt x="138" y="35"/>
                  </a:lnTo>
                  <a:lnTo>
                    <a:pt x="93" y="47"/>
                  </a:lnTo>
                  <a:lnTo>
                    <a:pt x="45" y="59"/>
                  </a:lnTo>
                  <a:lnTo>
                    <a:pt x="0" y="70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be7d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181480" y="1733400"/>
              <a:ext cx="92160" cy="308160"/>
            </a:xfrm>
            <a:custGeom>
              <a:avLst/>
              <a:gdLst/>
              <a:ahLst/>
              <a:rect l="l" t="t" r="r" b="b"/>
              <a:pathLst>
                <a:path w="58" h="194">
                  <a:moveTo>
                    <a:pt x="0" y="12"/>
                  </a:moveTo>
                  <a:lnTo>
                    <a:pt x="0" y="194"/>
                  </a:lnTo>
                  <a:lnTo>
                    <a:pt x="58" y="171"/>
                  </a:lnTo>
                  <a:lnTo>
                    <a:pt x="45" y="0"/>
                  </a:lnTo>
                  <a:lnTo>
                    <a:pt x="40" y="4"/>
                  </a:lnTo>
                  <a:lnTo>
                    <a:pt x="36" y="4"/>
                  </a:lnTo>
                  <a:lnTo>
                    <a:pt x="27" y="4"/>
                  </a:lnTo>
                  <a:lnTo>
                    <a:pt x="22" y="8"/>
                  </a:lnTo>
                  <a:lnTo>
                    <a:pt x="18" y="8"/>
                  </a:lnTo>
                  <a:lnTo>
                    <a:pt x="14" y="8"/>
                  </a:lnTo>
                  <a:lnTo>
                    <a:pt x="9" y="8"/>
                  </a:lnTo>
                  <a:lnTo>
                    <a:pt x="0" y="12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be7d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985000" y="2139840"/>
              <a:ext cx="317160" cy="38160"/>
            </a:xfrm>
            <a:custGeom>
              <a:avLst/>
              <a:gdLst/>
              <a:ahLst/>
              <a:rect l="l" t="t" r="r" b="b"/>
              <a:pathLst>
                <a:path w="200" h="24">
                  <a:moveTo>
                    <a:pt x="0" y="24"/>
                  </a:moveTo>
                  <a:lnTo>
                    <a:pt x="191" y="0"/>
                  </a:lnTo>
                  <a:lnTo>
                    <a:pt x="196" y="4"/>
                  </a:lnTo>
                  <a:lnTo>
                    <a:pt x="196" y="4"/>
                  </a:lnTo>
                  <a:lnTo>
                    <a:pt x="200" y="8"/>
                  </a:lnTo>
                  <a:lnTo>
                    <a:pt x="200" y="8"/>
                  </a:lnTo>
                  <a:lnTo>
                    <a:pt x="200" y="12"/>
                  </a:lnTo>
                  <a:lnTo>
                    <a:pt x="200" y="16"/>
                  </a:lnTo>
                  <a:lnTo>
                    <a:pt x="200" y="20"/>
                  </a:lnTo>
                  <a:lnTo>
                    <a:pt x="200" y="24"/>
                  </a:lnTo>
                  <a:lnTo>
                    <a:pt x="0" y="24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be7d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403360" y="1709640"/>
              <a:ext cx="2778120" cy="468360"/>
            </a:xfrm>
            <a:custGeom>
              <a:avLst/>
              <a:gdLst/>
              <a:ahLst/>
              <a:rect l="l" t="t" r="r" b="b"/>
              <a:pathLst>
                <a:path w="1750" h="295">
                  <a:moveTo>
                    <a:pt x="1750" y="209"/>
                  </a:moveTo>
                  <a:lnTo>
                    <a:pt x="1750" y="27"/>
                  </a:lnTo>
                  <a:lnTo>
                    <a:pt x="1728" y="31"/>
                  </a:lnTo>
                  <a:lnTo>
                    <a:pt x="1706" y="39"/>
                  </a:lnTo>
                  <a:lnTo>
                    <a:pt x="1684" y="43"/>
                  </a:lnTo>
                  <a:lnTo>
                    <a:pt x="1661" y="50"/>
                  </a:lnTo>
                  <a:lnTo>
                    <a:pt x="1639" y="54"/>
                  </a:lnTo>
                  <a:lnTo>
                    <a:pt x="1613" y="62"/>
                  </a:lnTo>
                  <a:lnTo>
                    <a:pt x="1590" y="66"/>
                  </a:lnTo>
                  <a:lnTo>
                    <a:pt x="1564" y="70"/>
                  </a:lnTo>
                  <a:lnTo>
                    <a:pt x="1493" y="89"/>
                  </a:lnTo>
                  <a:lnTo>
                    <a:pt x="1417" y="112"/>
                  </a:lnTo>
                  <a:lnTo>
                    <a:pt x="1342" y="143"/>
                  </a:lnTo>
                  <a:lnTo>
                    <a:pt x="1266" y="171"/>
                  </a:lnTo>
                  <a:lnTo>
                    <a:pt x="1191" y="202"/>
                  </a:lnTo>
                  <a:lnTo>
                    <a:pt x="1115" y="233"/>
                  </a:lnTo>
                  <a:lnTo>
                    <a:pt x="1040" y="256"/>
                  </a:lnTo>
                  <a:lnTo>
                    <a:pt x="969" y="279"/>
                  </a:lnTo>
                  <a:lnTo>
                    <a:pt x="1275" y="101"/>
                  </a:lnTo>
                  <a:lnTo>
                    <a:pt x="1262" y="0"/>
                  </a:lnTo>
                  <a:lnTo>
                    <a:pt x="1004" y="0"/>
                  </a:lnTo>
                  <a:lnTo>
                    <a:pt x="986" y="4"/>
                  </a:lnTo>
                  <a:lnTo>
                    <a:pt x="986" y="0"/>
                  </a:lnTo>
                  <a:lnTo>
                    <a:pt x="591" y="0"/>
                  </a:lnTo>
                  <a:lnTo>
                    <a:pt x="271" y="136"/>
                  </a:lnTo>
                  <a:lnTo>
                    <a:pt x="267" y="136"/>
                  </a:lnTo>
                  <a:lnTo>
                    <a:pt x="267" y="132"/>
                  </a:lnTo>
                  <a:lnTo>
                    <a:pt x="267" y="128"/>
                  </a:lnTo>
                  <a:lnTo>
                    <a:pt x="267" y="124"/>
                  </a:lnTo>
                  <a:lnTo>
                    <a:pt x="267" y="120"/>
                  </a:lnTo>
                  <a:lnTo>
                    <a:pt x="267" y="116"/>
                  </a:lnTo>
                  <a:lnTo>
                    <a:pt x="267" y="112"/>
                  </a:lnTo>
                  <a:lnTo>
                    <a:pt x="267" y="112"/>
                  </a:lnTo>
                  <a:lnTo>
                    <a:pt x="262" y="105"/>
                  </a:lnTo>
                  <a:lnTo>
                    <a:pt x="258" y="101"/>
                  </a:lnTo>
                  <a:lnTo>
                    <a:pt x="258" y="93"/>
                  </a:lnTo>
                  <a:lnTo>
                    <a:pt x="254" y="85"/>
                  </a:lnTo>
                  <a:lnTo>
                    <a:pt x="249" y="81"/>
                  </a:lnTo>
                  <a:lnTo>
                    <a:pt x="249" y="74"/>
                  </a:lnTo>
                  <a:lnTo>
                    <a:pt x="245" y="70"/>
                  </a:lnTo>
                  <a:lnTo>
                    <a:pt x="240" y="66"/>
                  </a:lnTo>
                  <a:lnTo>
                    <a:pt x="205" y="89"/>
                  </a:lnTo>
                  <a:lnTo>
                    <a:pt x="174" y="112"/>
                  </a:lnTo>
                  <a:lnTo>
                    <a:pt x="143" y="140"/>
                  </a:lnTo>
                  <a:lnTo>
                    <a:pt x="111" y="171"/>
                  </a:lnTo>
                  <a:lnTo>
                    <a:pt x="85" y="202"/>
                  </a:lnTo>
                  <a:lnTo>
                    <a:pt x="58" y="233"/>
                  </a:lnTo>
                  <a:lnTo>
                    <a:pt x="32" y="264"/>
                  </a:lnTo>
                  <a:lnTo>
                    <a:pt x="0" y="295"/>
                  </a:lnTo>
                  <a:lnTo>
                    <a:pt x="1546" y="295"/>
                  </a:lnTo>
                  <a:lnTo>
                    <a:pt x="1750" y="20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be7d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097600" y="2152800"/>
              <a:ext cx="83880" cy="25200"/>
            </a:xfrm>
            <a:custGeom>
              <a:avLst/>
              <a:gdLst/>
              <a:ahLst/>
              <a:rect l="l" t="t" r="r" b="b"/>
              <a:pathLst>
                <a:path w="53" h="16">
                  <a:moveTo>
                    <a:pt x="53" y="16"/>
                  </a:moveTo>
                  <a:lnTo>
                    <a:pt x="53" y="0"/>
                  </a:lnTo>
                  <a:lnTo>
                    <a:pt x="49" y="4"/>
                  </a:lnTo>
                  <a:lnTo>
                    <a:pt x="40" y="4"/>
                  </a:lnTo>
                  <a:lnTo>
                    <a:pt x="35" y="8"/>
                  </a:lnTo>
                  <a:lnTo>
                    <a:pt x="27" y="8"/>
                  </a:lnTo>
                  <a:lnTo>
                    <a:pt x="22" y="12"/>
                  </a:lnTo>
                  <a:lnTo>
                    <a:pt x="13" y="12"/>
                  </a:lnTo>
                  <a:lnTo>
                    <a:pt x="4" y="16"/>
                  </a:lnTo>
                  <a:lnTo>
                    <a:pt x="0" y="16"/>
                  </a:lnTo>
                  <a:lnTo>
                    <a:pt x="53" y="16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be7d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808520" y="2041560"/>
              <a:ext cx="2058840" cy="376200"/>
            </a:xfrm>
            <a:custGeom>
              <a:avLst/>
              <a:gdLst/>
              <a:ahLst/>
              <a:rect l="l" t="t" r="r" b="b"/>
              <a:pathLst>
                <a:path w="1297" h="237">
                  <a:moveTo>
                    <a:pt x="0" y="144"/>
                  </a:moveTo>
                  <a:lnTo>
                    <a:pt x="0" y="237"/>
                  </a:lnTo>
                  <a:lnTo>
                    <a:pt x="1292" y="237"/>
                  </a:lnTo>
                  <a:lnTo>
                    <a:pt x="1297" y="132"/>
                  </a:lnTo>
                  <a:lnTo>
                    <a:pt x="1252" y="128"/>
                  </a:lnTo>
                  <a:lnTo>
                    <a:pt x="1203" y="132"/>
                  </a:lnTo>
                  <a:lnTo>
                    <a:pt x="1159" y="140"/>
                  </a:lnTo>
                  <a:lnTo>
                    <a:pt x="1110" y="148"/>
                  </a:lnTo>
                  <a:lnTo>
                    <a:pt x="1066" y="152"/>
                  </a:lnTo>
                  <a:lnTo>
                    <a:pt x="1021" y="155"/>
                  </a:lnTo>
                  <a:lnTo>
                    <a:pt x="981" y="152"/>
                  </a:lnTo>
                  <a:lnTo>
                    <a:pt x="941" y="136"/>
                  </a:lnTo>
                  <a:lnTo>
                    <a:pt x="941" y="128"/>
                  </a:lnTo>
                  <a:lnTo>
                    <a:pt x="941" y="117"/>
                  </a:lnTo>
                  <a:lnTo>
                    <a:pt x="941" y="105"/>
                  </a:lnTo>
                  <a:lnTo>
                    <a:pt x="941" y="93"/>
                  </a:lnTo>
                  <a:lnTo>
                    <a:pt x="941" y="82"/>
                  </a:lnTo>
                  <a:lnTo>
                    <a:pt x="941" y="74"/>
                  </a:lnTo>
                  <a:lnTo>
                    <a:pt x="937" y="66"/>
                  </a:lnTo>
                  <a:lnTo>
                    <a:pt x="932" y="62"/>
                  </a:lnTo>
                  <a:lnTo>
                    <a:pt x="604" y="105"/>
                  </a:lnTo>
                  <a:lnTo>
                    <a:pt x="604" y="90"/>
                  </a:lnTo>
                  <a:lnTo>
                    <a:pt x="604" y="78"/>
                  </a:lnTo>
                  <a:lnTo>
                    <a:pt x="604" y="62"/>
                  </a:lnTo>
                  <a:lnTo>
                    <a:pt x="604" y="51"/>
                  </a:lnTo>
                  <a:lnTo>
                    <a:pt x="604" y="35"/>
                  </a:lnTo>
                  <a:lnTo>
                    <a:pt x="604" y="24"/>
                  </a:lnTo>
                  <a:lnTo>
                    <a:pt x="599" y="12"/>
                  </a:lnTo>
                  <a:lnTo>
                    <a:pt x="595" y="0"/>
                  </a:lnTo>
                  <a:lnTo>
                    <a:pt x="519" y="8"/>
                  </a:lnTo>
                  <a:lnTo>
                    <a:pt x="444" y="20"/>
                  </a:lnTo>
                  <a:lnTo>
                    <a:pt x="368" y="35"/>
                  </a:lnTo>
                  <a:lnTo>
                    <a:pt x="297" y="55"/>
                  </a:lnTo>
                  <a:lnTo>
                    <a:pt x="222" y="74"/>
                  </a:lnTo>
                  <a:lnTo>
                    <a:pt x="146" y="97"/>
                  </a:lnTo>
                  <a:lnTo>
                    <a:pt x="71" y="121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be7d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808520" y="1943280"/>
              <a:ext cx="465120" cy="258480"/>
            </a:xfrm>
            <a:custGeom>
              <a:avLst/>
              <a:gdLst/>
              <a:ahLst/>
              <a:rect l="l" t="t" r="r" b="b"/>
              <a:pathLst>
                <a:path w="293" h="163">
                  <a:moveTo>
                    <a:pt x="0" y="0"/>
                  </a:moveTo>
                  <a:lnTo>
                    <a:pt x="0" y="163"/>
                  </a:lnTo>
                  <a:lnTo>
                    <a:pt x="293" y="39"/>
                  </a:lnTo>
                  <a:lnTo>
                    <a:pt x="289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be7d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284200" y="1943280"/>
              <a:ext cx="2524320" cy="474480"/>
            </a:xfrm>
            <a:custGeom>
              <a:avLst/>
              <a:gdLst/>
              <a:ahLst/>
              <a:rect l="l" t="t" r="r" b="b"/>
              <a:pathLst>
                <a:path w="1590" h="299">
                  <a:moveTo>
                    <a:pt x="1590" y="163"/>
                  </a:moveTo>
                  <a:lnTo>
                    <a:pt x="1590" y="0"/>
                  </a:lnTo>
                  <a:lnTo>
                    <a:pt x="1399" y="0"/>
                  </a:lnTo>
                  <a:lnTo>
                    <a:pt x="1354" y="20"/>
                  </a:lnTo>
                  <a:lnTo>
                    <a:pt x="1310" y="35"/>
                  </a:lnTo>
                  <a:lnTo>
                    <a:pt x="1266" y="55"/>
                  </a:lnTo>
                  <a:lnTo>
                    <a:pt x="1217" y="74"/>
                  </a:lnTo>
                  <a:lnTo>
                    <a:pt x="1172" y="89"/>
                  </a:lnTo>
                  <a:lnTo>
                    <a:pt x="1132" y="105"/>
                  </a:lnTo>
                  <a:lnTo>
                    <a:pt x="1088" y="121"/>
                  </a:lnTo>
                  <a:lnTo>
                    <a:pt x="1044" y="132"/>
                  </a:lnTo>
                  <a:lnTo>
                    <a:pt x="1270" y="0"/>
                  </a:lnTo>
                  <a:lnTo>
                    <a:pt x="209" y="0"/>
                  </a:lnTo>
                  <a:lnTo>
                    <a:pt x="182" y="27"/>
                  </a:lnTo>
                  <a:lnTo>
                    <a:pt x="160" y="58"/>
                  </a:lnTo>
                  <a:lnTo>
                    <a:pt x="133" y="86"/>
                  </a:lnTo>
                  <a:lnTo>
                    <a:pt x="107" y="113"/>
                  </a:lnTo>
                  <a:lnTo>
                    <a:pt x="84" y="144"/>
                  </a:lnTo>
                  <a:lnTo>
                    <a:pt x="58" y="171"/>
                  </a:lnTo>
                  <a:lnTo>
                    <a:pt x="31" y="198"/>
                  </a:lnTo>
                  <a:lnTo>
                    <a:pt x="0" y="221"/>
                  </a:lnTo>
                  <a:lnTo>
                    <a:pt x="18" y="299"/>
                  </a:lnTo>
                  <a:lnTo>
                    <a:pt x="186" y="299"/>
                  </a:lnTo>
                  <a:lnTo>
                    <a:pt x="333" y="221"/>
                  </a:lnTo>
                  <a:lnTo>
                    <a:pt x="249" y="299"/>
                  </a:lnTo>
                  <a:lnTo>
                    <a:pt x="1266" y="299"/>
                  </a:lnTo>
                  <a:lnTo>
                    <a:pt x="1590" y="163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be7d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335480" y="2270160"/>
              <a:ext cx="473040" cy="147600"/>
            </a:xfrm>
            <a:custGeom>
              <a:avLst/>
              <a:gdLst/>
              <a:ahLst/>
              <a:rect l="l" t="t" r="r" b="b"/>
              <a:pathLst>
                <a:path w="298" h="93">
                  <a:moveTo>
                    <a:pt x="298" y="93"/>
                  </a:moveTo>
                  <a:lnTo>
                    <a:pt x="298" y="0"/>
                  </a:lnTo>
                  <a:lnTo>
                    <a:pt x="258" y="11"/>
                  </a:lnTo>
                  <a:lnTo>
                    <a:pt x="222" y="23"/>
                  </a:lnTo>
                  <a:lnTo>
                    <a:pt x="182" y="35"/>
                  </a:lnTo>
                  <a:lnTo>
                    <a:pt x="147" y="46"/>
                  </a:lnTo>
                  <a:lnTo>
                    <a:pt x="111" y="58"/>
                  </a:lnTo>
                  <a:lnTo>
                    <a:pt x="76" y="70"/>
                  </a:lnTo>
                  <a:lnTo>
                    <a:pt x="36" y="81"/>
                  </a:lnTo>
                  <a:lnTo>
                    <a:pt x="0" y="93"/>
                  </a:lnTo>
                  <a:lnTo>
                    <a:pt x="298" y="93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be7d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284200" y="2178000"/>
              <a:ext cx="4695840" cy="473040"/>
            </a:xfrm>
            <a:custGeom>
              <a:avLst/>
              <a:gdLst/>
              <a:ahLst/>
              <a:rect l="l" t="t" r="r" b="b"/>
              <a:pathLst>
                <a:path w="2958" h="298">
                  <a:moveTo>
                    <a:pt x="1621" y="0"/>
                  </a:moveTo>
                  <a:lnTo>
                    <a:pt x="1221" y="166"/>
                  </a:lnTo>
                  <a:lnTo>
                    <a:pt x="1288" y="151"/>
                  </a:lnTo>
                  <a:lnTo>
                    <a:pt x="1359" y="131"/>
                  </a:lnTo>
                  <a:lnTo>
                    <a:pt x="1426" y="112"/>
                  </a:lnTo>
                  <a:lnTo>
                    <a:pt x="1492" y="89"/>
                  </a:lnTo>
                  <a:lnTo>
                    <a:pt x="1563" y="66"/>
                  </a:lnTo>
                  <a:lnTo>
                    <a:pt x="1634" y="46"/>
                  </a:lnTo>
                  <a:lnTo>
                    <a:pt x="1701" y="23"/>
                  </a:lnTo>
                  <a:lnTo>
                    <a:pt x="1772" y="0"/>
                  </a:lnTo>
                  <a:lnTo>
                    <a:pt x="2194" y="0"/>
                  </a:lnTo>
                  <a:lnTo>
                    <a:pt x="2194" y="4"/>
                  </a:lnTo>
                  <a:lnTo>
                    <a:pt x="2194" y="7"/>
                  </a:lnTo>
                  <a:lnTo>
                    <a:pt x="2194" y="7"/>
                  </a:lnTo>
                  <a:lnTo>
                    <a:pt x="2194" y="11"/>
                  </a:lnTo>
                  <a:lnTo>
                    <a:pt x="2194" y="11"/>
                  </a:lnTo>
                  <a:lnTo>
                    <a:pt x="2194" y="15"/>
                  </a:lnTo>
                  <a:lnTo>
                    <a:pt x="2194" y="15"/>
                  </a:lnTo>
                  <a:lnTo>
                    <a:pt x="2194" y="19"/>
                  </a:lnTo>
                  <a:lnTo>
                    <a:pt x="2331" y="0"/>
                  </a:lnTo>
                  <a:lnTo>
                    <a:pt x="2531" y="0"/>
                  </a:lnTo>
                  <a:lnTo>
                    <a:pt x="2531" y="7"/>
                  </a:lnTo>
                  <a:lnTo>
                    <a:pt x="2531" y="15"/>
                  </a:lnTo>
                  <a:lnTo>
                    <a:pt x="2531" y="19"/>
                  </a:lnTo>
                  <a:lnTo>
                    <a:pt x="2531" y="27"/>
                  </a:lnTo>
                  <a:lnTo>
                    <a:pt x="2531" y="35"/>
                  </a:lnTo>
                  <a:lnTo>
                    <a:pt x="2531" y="38"/>
                  </a:lnTo>
                  <a:lnTo>
                    <a:pt x="2531" y="46"/>
                  </a:lnTo>
                  <a:lnTo>
                    <a:pt x="2531" y="50"/>
                  </a:lnTo>
                  <a:lnTo>
                    <a:pt x="2571" y="66"/>
                  </a:lnTo>
                  <a:lnTo>
                    <a:pt x="2611" y="69"/>
                  </a:lnTo>
                  <a:lnTo>
                    <a:pt x="2656" y="66"/>
                  </a:lnTo>
                  <a:lnTo>
                    <a:pt x="2700" y="62"/>
                  </a:lnTo>
                  <a:lnTo>
                    <a:pt x="2749" y="54"/>
                  </a:lnTo>
                  <a:lnTo>
                    <a:pt x="2793" y="46"/>
                  </a:lnTo>
                  <a:lnTo>
                    <a:pt x="2842" y="42"/>
                  </a:lnTo>
                  <a:lnTo>
                    <a:pt x="2887" y="46"/>
                  </a:lnTo>
                  <a:lnTo>
                    <a:pt x="2882" y="201"/>
                  </a:lnTo>
                  <a:lnTo>
                    <a:pt x="2856" y="225"/>
                  </a:lnTo>
                  <a:lnTo>
                    <a:pt x="2824" y="236"/>
                  </a:lnTo>
                  <a:lnTo>
                    <a:pt x="2793" y="248"/>
                  </a:lnTo>
                  <a:lnTo>
                    <a:pt x="2758" y="252"/>
                  </a:lnTo>
                  <a:lnTo>
                    <a:pt x="2718" y="252"/>
                  </a:lnTo>
                  <a:lnTo>
                    <a:pt x="2682" y="252"/>
                  </a:lnTo>
                  <a:lnTo>
                    <a:pt x="2647" y="256"/>
                  </a:lnTo>
                  <a:lnTo>
                    <a:pt x="2611" y="263"/>
                  </a:lnTo>
                  <a:lnTo>
                    <a:pt x="2611" y="267"/>
                  </a:lnTo>
                  <a:lnTo>
                    <a:pt x="2607" y="267"/>
                  </a:lnTo>
                  <a:lnTo>
                    <a:pt x="2602" y="271"/>
                  </a:lnTo>
                  <a:lnTo>
                    <a:pt x="2602" y="271"/>
                  </a:lnTo>
                  <a:lnTo>
                    <a:pt x="2598" y="275"/>
                  </a:lnTo>
                  <a:lnTo>
                    <a:pt x="2598" y="279"/>
                  </a:lnTo>
                  <a:lnTo>
                    <a:pt x="2598" y="283"/>
                  </a:lnTo>
                  <a:lnTo>
                    <a:pt x="2598" y="287"/>
                  </a:lnTo>
                  <a:lnTo>
                    <a:pt x="2940" y="267"/>
                  </a:lnTo>
                  <a:lnTo>
                    <a:pt x="2944" y="271"/>
                  </a:lnTo>
                  <a:lnTo>
                    <a:pt x="2944" y="275"/>
                  </a:lnTo>
                  <a:lnTo>
                    <a:pt x="2949" y="279"/>
                  </a:lnTo>
                  <a:lnTo>
                    <a:pt x="2949" y="283"/>
                  </a:lnTo>
                  <a:lnTo>
                    <a:pt x="2953" y="287"/>
                  </a:lnTo>
                  <a:lnTo>
                    <a:pt x="2953" y="290"/>
                  </a:lnTo>
                  <a:lnTo>
                    <a:pt x="2953" y="294"/>
                  </a:lnTo>
                  <a:lnTo>
                    <a:pt x="2958" y="298"/>
                  </a:lnTo>
                  <a:lnTo>
                    <a:pt x="89" y="298"/>
                  </a:lnTo>
                  <a:lnTo>
                    <a:pt x="333" y="73"/>
                  </a:lnTo>
                  <a:lnTo>
                    <a:pt x="44" y="225"/>
                  </a:lnTo>
                  <a:lnTo>
                    <a:pt x="44" y="225"/>
                  </a:lnTo>
                  <a:lnTo>
                    <a:pt x="44" y="225"/>
                  </a:lnTo>
                  <a:lnTo>
                    <a:pt x="40" y="221"/>
                  </a:lnTo>
                  <a:lnTo>
                    <a:pt x="40" y="221"/>
                  </a:lnTo>
                  <a:lnTo>
                    <a:pt x="40" y="217"/>
                  </a:lnTo>
                  <a:lnTo>
                    <a:pt x="35" y="217"/>
                  </a:lnTo>
                  <a:lnTo>
                    <a:pt x="35" y="213"/>
                  </a:lnTo>
                  <a:lnTo>
                    <a:pt x="31" y="213"/>
                  </a:lnTo>
                  <a:lnTo>
                    <a:pt x="0" y="73"/>
                  </a:lnTo>
                  <a:lnTo>
                    <a:pt x="13" y="66"/>
                  </a:lnTo>
                  <a:lnTo>
                    <a:pt x="22" y="54"/>
                  </a:lnTo>
                  <a:lnTo>
                    <a:pt x="31" y="46"/>
                  </a:lnTo>
                  <a:lnTo>
                    <a:pt x="40" y="38"/>
                  </a:lnTo>
                  <a:lnTo>
                    <a:pt x="49" y="31"/>
                  </a:lnTo>
                  <a:lnTo>
                    <a:pt x="58" y="19"/>
                  </a:lnTo>
                  <a:lnTo>
                    <a:pt x="67" y="11"/>
                  </a:lnTo>
                  <a:lnTo>
                    <a:pt x="75" y="0"/>
                  </a:lnTo>
                  <a:lnTo>
                    <a:pt x="1621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be7d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446200" y="2417760"/>
              <a:ext cx="4533840" cy="468360"/>
            </a:xfrm>
            <a:custGeom>
              <a:avLst/>
              <a:gdLst/>
              <a:ahLst/>
              <a:rect l="l" t="t" r="r" b="b"/>
              <a:pathLst>
                <a:path w="2856" h="295">
                  <a:moveTo>
                    <a:pt x="0" y="132"/>
                  </a:moveTo>
                  <a:lnTo>
                    <a:pt x="0" y="295"/>
                  </a:lnTo>
                  <a:lnTo>
                    <a:pt x="2776" y="295"/>
                  </a:lnTo>
                  <a:lnTo>
                    <a:pt x="2838" y="283"/>
                  </a:lnTo>
                  <a:lnTo>
                    <a:pt x="2842" y="264"/>
                  </a:lnTo>
                  <a:lnTo>
                    <a:pt x="2847" y="244"/>
                  </a:lnTo>
                  <a:lnTo>
                    <a:pt x="2851" y="221"/>
                  </a:lnTo>
                  <a:lnTo>
                    <a:pt x="2856" y="198"/>
                  </a:lnTo>
                  <a:lnTo>
                    <a:pt x="2856" y="174"/>
                  </a:lnTo>
                  <a:lnTo>
                    <a:pt x="2856" y="151"/>
                  </a:lnTo>
                  <a:lnTo>
                    <a:pt x="2851" y="136"/>
                  </a:lnTo>
                  <a:lnTo>
                    <a:pt x="2838" y="116"/>
                  </a:lnTo>
                  <a:lnTo>
                    <a:pt x="2496" y="136"/>
                  </a:lnTo>
                  <a:lnTo>
                    <a:pt x="2496" y="132"/>
                  </a:lnTo>
                  <a:lnTo>
                    <a:pt x="2496" y="128"/>
                  </a:lnTo>
                  <a:lnTo>
                    <a:pt x="2496" y="124"/>
                  </a:lnTo>
                  <a:lnTo>
                    <a:pt x="2500" y="120"/>
                  </a:lnTo>
                  <a:lnTo>
                    <a:pt x="2500" y="120"/>
                  </a:lnTo>
                  <a:lnTo>
                    <a:pt x="2505" y="116"/>
                  </a:lnTo>
                  <a:lnTo>
                    <a:pt x="2509" y="116"/>
                  </a:lnTo>
                  <a:lnTo>
                    <a:pt x="2509" y="112"/>
                  </a:lnTo>
                  <a:lnTo>
                    <a:pt x="2545" y="105"/>
                  </a:lnTo>
                  <a:lnTo>
                    <a:pt x="2580" y="101"/>
                  </a:lnTo>
                  <a:lnTo>
                    <a:pt x="2616" y="101"/>
                  </a:lnTo>
                  <a:lnTo>
                    <a:pt x="2656" y="101"/>
                  </a:lnTo>
                  <a:lnTo>
                    <a:pt x="2691" y="97"/>
                  </a:lnTo>
                  <a:lnTo>
                    <a:pt x="2722" y="85"/>
                  </a:lnTo>
                  <a:lnTo>
                    <a:pt x="2754" y="74"/>
                  </a:lnTo>
                  <a:lnTo>
                    <a:pt x="2780" y="50"/>
                  </a:lnTo>
                  <a:lnTo>
                    <a:pt x="2780" y="0"/>
                  </a:lnTo>
                  <a:lnTo>
                    <a:pt x="1190" y="0"/>
                  </a:lnTo>
                  <a:lnTo>
                    <a:pt x="1181" y="0"/>
                  </a:lnTo>
                  <a:lnTo>
                    <a:pt x="1173" y="4"/>
                  </a:lnTo>
                  <a:lnTo>
                    <a:pt x="1164" y="4"/>
                  </a:lnTo>
                  <a:lnTo>
                    <a:pt x="1155" y="8"/>
                  </a:lnTo>
                  <a:lnTo>
                    <a:pt x="1146" y="11"/>
                  </a:lnTo>
                  <a:lnTo>
                    <a:pt x="1137" y="11"/>
                  </a:lnTo>
                  <a:lnTo>
                    <a:pt x="1128" y="15"/>
                  </a:lnTo>
                  <a:lnTo>
                    <a:pt x="1119" y="15"/>
                  </a:lnTo>
                  <a:lnTo>
                    <a:pt x="1164" y="0"/>
                  </a:lnTo>
                  <a:lnTo>
                    <a:pt x="147" y="0"/>
                  </a:lnTo>
                  <a:lnTo>
                    <a:pt x="0" y="132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be7d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446200" y="2417760"/>
              <a:ext cx="133560" cy="68400"/>
            </a:xfrm>
            <a:custGeom>
              <a:avLst/>
              <a:gdLst/>
              <a:ahLst/>
              <a:rect l="l" t="t" r="r" b="b"/>
              <a:pathLst>
                <a:path w="84" h="43">
                  <a:moveTo>
                    <a:pt x="0" y="0"/>
                  </a:moveTo>
                  <a:lnTo>
                    <a:pt x="0" y="43"/>
                  </a:lnTo>
                  <a:lnTo>
                    <a:pt x="84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be7d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313000" y="2417760"/>
              <a:ext cx="133200" cy="117360"/>
            </a:xfrm>
            <a:custGeom>
              <a:avLst/>
              <a:gdLst/>
              <a:ahLst/>
              <a:rect l="l" t="t" r="r" b="b"/>
              <a:pathLst>
                <a:path w="84" h="74">
                  <a:moveTo>
                    <a:pt x="84" y="43"/>
                  </a:moveTo>
                  <a:lnTo>
                    <a:pt x="84" y="0"/>
                  </a:lnTo>
                  <a:lnTo>
                    <a:pt x="0" y="0"/>
                  </a:lnTo>
                  <a:lnTo>
                    <a:pt x="13" y="62"/>
                  </a:lnTo>
                  <a:lnTo>
                    <a:pt x="17" y="62"/>
                  </a:lnTo>
                  <a:lnTo>
                    <a:pt x="17" y="66"/>
                  </a:lnTo>
                  <a:lnTo>
                    <a:pt x="22" y="66"/>
                  </a:lnTo>
                  <a:lnTo>
                    <a:pt x="22" y="70"/>
                  </a:lnTo>
                  <a:lnTo>
                    <a:pt x="22" y="70"/>
                  </a:lnTo>
                  <a:lnTo>
                    <a:pt x="26" y="74"/>
                  </a:lnTo>
                  <a:lnTo>
                    <a:pt x="26" y="74"/>
                  </a:lnTo>
                  <a:lnTo>
                    <a:pt x="26" y="74"/>
                  </a:lnTo>
                  <a:lnTo>
                    <a:pt x="84" y="43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be7d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227320" y="2627280"/>
              <a:ext cx="218880" cy="258840"/>
            </a:xfrm>
            <a:custGeom>
              <a:avLst/>
              <a:gdLst/>
              <a:ahLst/>
              <a:rect l="l" t="t" r="r" b="b"/>
              <a:pathLst>
                <a:path w="138" h="163">
                  <a:moveTo>
                    <a:pt x="138" y="163"/>
                  </a:moveTo>
                  <a:lnTo>
                    <a:pt x="138" y="0"/>
                  </a:lnTo>
                  <a:lnTo>
                    <a:pt x="0" y="132"/>
                  </a:lnTo>
                  <a:lnTo>
                    <a:pt x="14" y="163"/>
                  </a:lnTo>
                  <a:lnTo>
                    <a:pt x="138" y="163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be7d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227320" y="2651040"/>
              <a:ext cx="4752720" cy="468360"/>
            </a:xfrm>
            <a:custGeom>
              <a:avLst/>
              <a:gdLst/>
              <a:ahLst/>
              <a:rect l="l" t="t" r="r" b="b"/>
              <a:pathLst>
                <a:path w="2994" h="295">
                  <a:moveTo>
                    <a:pt x="2994" y="0"/>
                  </a:moveTo>
                  <a:lnTo>
                    <a:pt x="2994" y="16"/>
                  </a:lnTo>
                  <a:lnTo>
                    <a:pt x="2994" y="31"/>
                  </a:lnTo>
                  <a:lnTo>
                    <a:pt x="2994" y="51"/>
                  </a:lnTo>
                  <a:lnTo>
                    <a:pt x="2989" y="70"/>
                  </a:lnTo>
                  <a:lnTo>
                    <a:pt x="2985" y="89"/>
                  </a:lnTo>
                  <a:lnTo>
                    <a:pt x="2985" y="105"/>
                  </a:lnTo>
                  <a:lnTo>
                    <a:pt x="2980" y="124"/>
                  </a:lnTo>
                  <a:lnTo>
                    <a:pt x="2976" y="136"/>
                  </a:lnTo>
                  <a:lnTo>
                    <a:pt x="2567" y="202"/>
                  </a:lnTo>
                  <a:lnTo>
                    <a:pt x="2563" y="202"/>
                  </a:lnTo>
                  <a:lnTo>
                    <a:pt x="2558" y="202"/>
                  </a:lnTo>
                  <a:lnTo>
                    <a:pt x="2558" y="206"/>
                  </a:lnTo>
                  <a:lnTo>
                    <a:pt x="2558" y="206"/>
                  </a:lnTo>
                  <a:lnTo>
                    <a:pt x="2558" y="210"/>
                  </a:lnTo>
                  <a:lnTo>
                    <a:pt x="2558" y="213"/>
                  </a:lnTo>
                  <a:lnTo>
                    <a:pt x="2558" y="217"/>
                  </a:lnTo>
                  <a:lnTo>
                    <a:pt x="2558" y="221"/>
                  </a:lnTo>
                  <a:lnTo>
                    <a:pt x="2736" y="221"/>
                  </a:lnTo>
                  <a:lnTo>
                    <a:pt x="2732" y="295"/>
                  </a:lnTo>
                  <a:lnTo>
                    <a:pt x="5" y="295"/>
                  </a:lnTo>
                  <a:lnTo>
                    <a:pt x="14" y="291"/>
                  </a:lnTo>
                  <a:lnTo>
                    <a:pt x="18" y="283"/>
                  </a:lnTo>
                  <a:lnTo>
                    <a:pt x="27" y="279"/>
                  </a:lnTo>
                  <a:lnTo>
                    <a:pt x="32" y="272"/>
                  </a:lnTo>
                  <a:lnTo>
                    <a:pt x="36" y="264"/>
                  </a:lnTo>
                  <a:lnTo>
                    <a:pt x="45" y="256"/>
                  </a:lnTo>
                  <a:lnTo>
                    <a:pt x="49" y="244"/>
                  </a:lnTo>
                  <a:lnTo>
                    <a:pt x="49" y="233"/>
                  </a:lnTo>
                  <a:lnTo>
                    <a:pt x="0" y="117"/>
                  </a:lnTo>
                  <a:lnTo>
                    <a:pt x="125" y="0"/>
                  </a:lnTo>
                  <a:lnTo>
                    <a:pt x="299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be7d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192400" y="2886120"/>
              <a:ext cx="4660920" cy="473040"/>
            </a:xfrm>
            <a:custGeom>
              <a:avLst/>
              <a:gdLst/>
              <a:ahLst/>
              <a:rect l="l" t="t" r="r" b="b"/>
              <a:pathLst>
                <a:path w="2936" h="298">
                  <a:moveTo>
                    <a:pt x="2936" y="0"/>
                  </a:moveTo>
                  <a:lnTo>
                    <a:pt x="2589" y="54"/>
                  </a:lnTo>
                  <a:lnTo>
                    <a:pt x="2585" y="54"/>
                  </a:lnTo>
                  <a:lnTo>
                    <a:pt x="2580" y="54"/>
                  </a:lnTo>
                  <a:lnTo>
                    <a:pt x="2580" y="58"/>
                  </a:lnTo>
                  <a:lnTo>
                    <a:pt x="2580" y="58"/>
                  </a:lnTo>
                  <a:lnTo>
                    <a:pt x="2580" y="62"/>
                  </a:lnTo>
                  <a:lnTo>
                    <a:pt x="2580" y="65"/>
                  </a:lnTo>
                  <a:lnTo>
                    <a:pt x="2580" y="69"/>
                  </a:lnTo>
                  <a:lnTo>
                    <a:pt x="2580" y="73"/>
                  </a:lnTo>
                  <a:lnTo>
                    <a:pt x="2758" y="73"/>
                  </a:lnTo>
                  <a:lnTo>
                    <a:pt x="2749" y="248"/>
                  </a:lnTo>
                  <a:lnTo>
                    <a:pt x="2745" y="252"/>
                  </a:lnTo>
                  <a:lnTo>
                    <a:pt x="2740" y="255"/>
                  </a:lnTo>
                  <a:lnTo>
                    <a:pt x="2731" y="255"/>
                  </a:lnTo>
                  <a:lnTo>
                    <a:pt x="2727" y="255"/>
                  </a:lnTo>
                  <a:lnTo>
                    <a:pt x="2723" y="255"/>
                  </a:lnTo>
                  <a:lnTo>
                    <a:pt x="2714" y="255"/>
                  </a:lnTo>
                  <a:lnTo>
                    <a:pt x="2709" y="255"/>
                  </a:lnTo>
                  <a:lnTo>
                    <a:pt x="2700" y="259"/>
                  </a:lnTo>
                  <a:lnTo>
                    <a:pt x="2696" y="259"/>
                  </a:lnTo>
                  <a:lnTo>
                    <a:pt x="2696" y="259"/>
                  </a:lnTo>
                  <a:lnTo>
                    <a:pt x="2691" y="259"/>
                  </a:lnTo>
                  <a:lnTo>
                    <a:pt x="2691" y="263"/>
                  </a:lnTo>
                  <a:lnTo>
                    <a:pt x="2691" y="263"/>
                  </a:lnTo>
                  <a:lnTo>
                    <a:pt x="2691" y="267"/>
                  </a:lnTo>
                  <a:lnTo>
                    <a:pt x="2691" y="271"/>
                  </a:lnTo>
                  <a:lnTo>
                    <a:pt x="2691" y="275"/>
                  </a:lnTo>
                  <a:lnTo>
                    <a:pt x="2851" y="283"/>
                  </a:lnTo>
                  <a:lnTo>
                    <a:pt x="2851" y="298"/>
                  </a:lnTo>
                  <a:lnTo>
                    <a:pt x="31" y="298"/>
                  </a:lnTo>
                  <a:lnTo>
                    <a:pt x="0" y="174"/>
                  </a:lnTo>
                  <a:lnTo>
                    <a:pt x="9" y="162"/>
                  </a:lnTo>
                  <a:lnTo>
                    <a:pt x="18" y="155"/>
                  </a:lnTo>
                  <a:lnTo>
                    <a:pt x="31" y="147"/>
                  </a:lnTo>
                  <a:lnTo>
                    <a:pt x="40" y="135"/>
                  </a:lnTo>
                  <a:lnTo>
                    <a:pt x="49" y="127"/>
                  </a:lnTo>
                  <a:lnTo>
                    <a:pt x="58" y="116"/>
                  </a:lnTo>
                  <a:lnTo>
                    <a:pt x="67" y="100"/>
                  </a:lnTo>
                  <a:lnTo>
                    <a:pt x="71" y="85"/>
                  </a:lnTo>
                  <a:lnTo>
                    <a:pt x="36" y="0"/>
                  </a:lnTo>
                  <a:lnTo>
                    <a:pt x="2936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be7d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009880" y="3119400"/>
              <a:ext cx="4708440" cy="473040"/>
            </a:xfrm>
            <a:custGeom>
              <a:avLst/>
              <a:gdLst/>
              <a:ahLst/>
              <a:rect l="l" t="t" r="r" b="b"/>
              <a:pathLst>
                <a:path w="2966" h="298">
                  <a:moveTo>
                    <a:pt x="2869" y="0"/>
                  </a:moveTo>
                  <a:lnTo>
                    <a:pt x="2864" y="101"/>
                  </a:lnTo>
                  <a:lnTo>
                    <a:pt x="2860" y="105"/>
                  </a:lnTo>
                  <a:lnTo>
                    <a:pt x="2855" y="108"/>
                  </a:lnTo>
                  <a:lnTo>
                    <a:pt x="2846" y="108"/>
                  </a:lnTo>
                  <a:lnTo>
                    <a:pt x="2842" y="108"/>
                  </a:lnTo>
                  <a:lnTo>
                    <a:pt x="2838" y="108"/>
                  </a:lnTo>
                  <a:lnTo>
                    <a:pt x="2829" y="108"/>
                  </a:lnTo>
                  <a:lnTo>
                    <a:pt x="2824" y="108"/>
                  </a:lnTo>
                  <a:lnTo>
                    <a:pt x="2815" y="112"/>
                  </a:lnTo>
                  <a:lnTo>
                    <a:pt x="2811" y="112"/>
                  </a:lnTo>
                  <a:lnTo>
                    <a:pt x="2811" y="112"/>
                  </a:lnTo>
                  <a:lnTo>
                    <a:pt x="2806" y="112"/>
                  </a:lnTo>
                  <a:lnTo>
                    <a:pt x="2806" y="116"/>
                  </a:lnTo>
                  <a:lnTo>
                    <a:pt x="2806" y="116"/>
                  </a:lnTo>
                  <a:lnTo>
                    <a:pt x="2806" y="120"/>
                  </a:lnTo>
                  <a:lnTo>
                    <a:pt x="2806" y="124"/>
                  </a:lnTo>
                  <a:lnTo>
                    <a:pt x="2806" y="128"/>
                  </a:lnTo>
                  <a:lnTo>
                    <a:pt x="2966" y="136"/>
                  </a:lnTo>
                  <a:lnTo>
                    <a:pt x="2953" y="291"/>
                  </a:lnTo>
                  <a:lnTo>
                    <a:pt x="2922" y="298"/>
                  </a:lnTo>
                  <a:lnTo>
                    <a:pt x="0" y="298"/>
                  </a:lnTo>
                  <a:lnTo>
                    <a:pt x="146" y="151"/>
                  </a:lnTo>
                  <a:lnTo>
                    <a:pt x="115" y="27"/>
                  </a:lnTo>
                  <a:lnTo>
                    <a:pt x="120" y="23"/>
                  </a:lnTo>
                  <a:lnTo>
                    <a:pt x="124" y="19"/>
                  </a:lnTo>
                  <a:lnTo>
                    <a:pt x="124" y="15"/>
                  </a:lnTo>
                  <a:lnTo>
                    <a:pt x="129" y="11"/>
                  </a:lnTo>
                  <a:lnTo>
                    <a:pt x="133" y="11"/>
                  </a:lnTo>
                  <a:lnTo>
                    <a:pt x="133" y="8"/>
                  </a:lnTo>
                  <a:lnTo>
                    <a:pt x="137" y="4"/>
                  </a:lnTo>
                  <a:lnTo>
                    <a:pt x="142" y="0"/>
                  </a:lnTo>
                  <a:lnTo>
                    <a:pt x="2869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be7d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001960" y="3359160"/>
              <a:ext cx="4724280" cy="468360"/>
            </a:xfrm>
            <a:custGeom>
              <a:avLst/>
              <a:gdLst/>
              <a:ahLst/>
              <a:rect l="l" t="t" r="r" b="b"/>
              <a:pathLst>
                <a:path w="2976" h="295">
                  <a:moveTo>
                    <a:pt x="2971" y="0"/>
                  </a:moveTo>
                  <a:lnTo>
                    <a:pt x="2958" y="140"/>
                  </a:lnTo>
                  <a:lnTo>
                    <a:pt x="2847" y="163"/>
                  </a:lnTo>
                  <a:lnTo>
                    <a:pt x="2838" y="167"/>
                  </a:lnTo>
                  <a:lnTo>
                    <a:pt x="2834" y="175"/>
                  </a:lnTo>
                  <a:lnTo>
                    <a:pt x="2829" y="182"/>
                  </a:lnTo>
                  <a:lnTo>
                    <a:pt x="2825" y="194"/>
                  </a:lnTo>
                  <a:lnTo>
                    <a:pt x="2825" y="209"/>
                  </a:lnTo>
                  <a:lnTo>
                    <a:pt x="2820" y="221"/>
                  </a:lnTo>
                  <a:lnTo>
                    <a:pt x="2820" y="237"/>
                  </a:lnTo>
                  <a:lnTo>
                    <a:pt x="2820" y="248"/>
                  </a:lnTo>
                  <a:lnTo>
                    <a:pt x="2838" y="264"/>
                  </a:lnTo>
                  <a:lnTo>
                    <a:pt x="2851" y="271"/>
                  </a:lnTo>
                  <a:lnTo>
                    <a:pt x="2874" y="271"/>
                  </a:lnTo>
                  <a:lnTo>
                    <a:pt x="2891" y="268"/>
                  </a:lnTo>
                  <a:lnTo>
                    <a:pt x="2914" y="260"/>
                  </a:lnTo>
                  <a:lnTo>
                    <a:pt x="2936" y="256"/>
                  </a:lnTo>
                  <a:lnTo>
                    <a:pt x="2954" y="260"/>
                  </a:lnTo>
                  <a:lnTo>
                    <a:pt x="2976" y="268"/>
                  </a:lnTo>
                  <a:lnTo>
                    <a:pt x="2976" y="295"/>
                  </a:lnTo>
                  <a:lnTo>
                    <a:pt x="187" y="295"/>
                  </a:lnTo>
                  <a:lnTo>
                    <a:pt x="218" y="275"/>
                  </a:lnTo>
                  <a:lnTo>
                    <a:pt x="213" y="237"/>
                  </a:lnTo>
                  <a:lnTo>
                    <a:pt x="129" y="295"/>
                  </a:lnTo>
                  <a:lnTo>
                    <a:pt x="31" y="295"/>
                  </a:lnTo>
                  <a:lnTo>
                    <a:pt x="27" y="287"/>
                  </a:lnTo>
                  <a:lnTo>
                    <a:pt x="23" y="275"/>
                  </a:lnTo>
                  <a:lnTo>
                    <a:pt x="23" y="268"/>
                  </a:lnTo>
                  <a:lnTo>
                    <a:pt x="18" y="256"/>
                  </a:lnTo>
                  <a:lnTo>
                    <a:pt x="14" y="244"/>
                  </a:lnTo>
                  <a:lnTo>
                    <a:pt x="9" y="237"/>
                  </a:lnTo>
                  <a:lnTo>
                    <a:pt x="5" y="225"/>
                  </a:lnTo>
                  <a:lnTo>
                    <a:pt x="0" y="213"/>
                  </a:lnTo>
                  <a:lnTo>
                    <a:pt x="0" y="206"/>
                  </a:lnTo>
                  <a:lnTo>
                    <a:pt x="0" y="198"/>
                  </a:lnTo>
                  <a:lnTo>
                    <a:pt x="0" y="190"/>
                  </a:lnTo>
                  <a:lnTo>
                    <a:pt x="0" y="178"/>
                  </a:lnTo>
                  <a:lnTo>
                    <a:pt x="0" y="171"/>
                  </a:lnTo>
                  <a:lnTo>
                    <a:pt x="0" y="167"/>
                  </a:lnTo>
                  <a:lnTo>
                    <a:pt x="0" y="159"/>
                  </a:lnTo>
                  <a:lnTo>
                    <a:pt x="0" y="151"/>
                  </a:lnTo>
                  <a:lnTo>
                    <a:pt x="151" y="0"/>
                  </a:lnTo>
                  <a:lnTo>
                    <a:pt x="151" y="0"/>
                  </a:lnTo>
                  <a:lnTo>
                    <a:pt x="2971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be7d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001960" y="3592440"/>
              <a:ext cx="4724280" cy="468360"/>
            </a:xfrm>
            <a:custGeom>
              <a:avLst/>
              <a:gdLst/>
              <a:ahLst/>
              <a:rect l="l" t="t" r="r" b="b"/>
              <a:pathLst>
                <a:path w="2976" h="295">
                  <a:moveTo>
                    <a:pt x="2927" y="0"/>
                  </a:moveTo>
                  <a:lnTo>
                    <a:pt x="2847" y="16"/>
                  </a:lnTo>
                  <a:lnTo>
                    <a:pt x="2838" y="20"/>
                  </a:lnTo>
                  <a:lnTo>
                    <a:pt x="2834" y="28"/>
                  </a:lnTo>
                  <a:lnTo>
                    <a:pt x="2829" y="35"/>
                  </a:lnTo>
                  <a:lnTo>
                    <a:pt x="2825" y="47"/>
                  </a:lnTo>
                  <a:lnTo>
                    <a:pt x="2825" y="62"/>
                  </a:lnTo>
                  <a:lnTo>
                    <a:pt x="2820" y="74"/>
                  </a:lnTo>
                  <a:lnTo>
                    <a:pt x="2820" y="90"/>
                  </a:lnTo>
                  <a:lnTo>
                    <a:pt x="2820" y="101"/>
                  </a:lnTo>
                  <a:lnTo>
                    <a:pt x="2838" y="117"/>
                  </a:lnTo>
                  <a:lnTo>
                    <a:pt x="2851" y="124"/>
                  </a:lnTo>
                  <a:lnTo>
                    <a:pt x="2874" y="124"/>
                  </a:lnTo>
                  <a:lnTo>
                    <a:pt x="2891" y="121"/>
                  </a:lnTo>
                  <a:lnTo>
                    <a:pt x="2914" y="113"/>
                  </a:lnTo>
                  <a:lnTo>
                    <a:pt x="2936" y="109"/>
                  </a:lnTo>
                  <a:lnTo>
                    <a:pt x="2954" y="113"/>
                  </a:lnTo>
                  <a:lnTo>
                    <a:pt x="2976" y="121"/>
                  </a:lnTo>
                  <a:lnTo>
                    <a:pt x="2971" y="283"/>
                  </a:lnTo>
                  <a:lnTo>
                    <a:pt x="2967" y="283"/>
                  </a:lnTo>
                  <a:lnTo>
                    <a:pt x="2967" y="287"/>
                  </a:lnTo>
                  <a:lnTo>
                    <a:pt x="2962" y="287"/>
                  </a:lnTo>
                  <a:lnTo>
                    <a:pt x="2962" y="291"/>
                  </a:lnTo>
                  <a:lnTo>
                    <a:pt x="2958" y="291"/>
                  </a:lnTo>
                  <a:lnTo>
                    <a:pt x="2954" y="291"/>
                  </a:lnTo>
                  <a:lnTo>
                    <a:pt x="2954" y="295"/>
                  </a:lnTo>
                  <a:lnTo>
                    <a:pt x="2949" y="295"/>
                  </a:lnTo>
                  <a:lnTo>
                    <a:pt x="98" y="295"/>
                  </a:lnTo>
                  <a:lnTo>
                    <a:pt x="80" y="260"/>
                  </a:lnTo>
                  <a:lnTo>
                    <a:pt x="102" y="202"/>
                  </a:lnTo>
                  <a:lnTo>
                    <a:pt x="218" y="128"/>
                  </a:lnTo>
                  <a:lnTo>
                    <a:pt x="213" y="90"/>
                  </a:lnTo>
                  <a:lnTo>
                    <a:pt x="71" y="187"/>
                  </a:lnTo>
                  <a:lnTo>
                    <a:pt x="58" y="179"/>
                  </a:lnTo>
                  <a:lnTo>
                    <a:pt x="45" y="171"/>
                  </a:lnTo>
                  <a:lnTo>
                    <a:pt x="36" y="159"/>
                  </a:lnTo>
                  <a:lnTo>
                    <a:pt x="31" y="140"/>
                  </a:lnTo>
                  <a:lnTo>
                    <a:pt x="23" y="124"/>
                  </a:lnTo>
                  <a:lnTo>
                    <a:pt x="14" y="105"/>
                  </a:lnTo>
                  <a:lnTo>
                    <a:pt x="9" y="86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0" y="51"/>
                  </a:lnTo>
                  <a:lnTo>
                    <a:pt x="0" y="43"/>
                  </a:lnTo>
                  <a:lnTo>
                    <a:pt x="0" y="31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0" y="12"/>
                  </a:lnTo>
                  <a:lnTo>
                    <a:pt x="0" y="4"/>
                  </a:lnTo>
                  <a:lnTo>
                    <a:pt x="5" y="0"/>
                  </a:lnTo>
                  <a:lnTo>
                    <a:pt x="2927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be7d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163600" y="3827520"/>
              <a:ext cx="4562640" cy="473040"/>
            </a:xfrm>
            <a:custGeom>
              <a:avLst/>
              <a:gdLst/>
              <a:ahLst/>
              <a:rect l="l" t="t" r="r" b="b"/>
              <a:pathLst>
                <a:path w="2874" h="298">
                  <a:moveTo>
                    <a:pt x="0" y="54"/>
                  </a:moveTo>
                  <a:lnTo>
                    <a:pt x="0" y="159"/>
                  </a:lnTo>
                  <a:lnTo>
                    <a:pt x="49" y="256"/>
                  </a:lnTo>
                  <a:lnTo>
                    <a:pt x="54" y="256"/>
                  </a:lnTo>
                  <a:lnTo>
                    <a:pt x="54" y="256"/>
                  </a:lnTo>
                  <a:lnTo>
                    <a:pt x="58" y="260"/>
                  </a:lnTo>
                  <a:lnTo>
                    <a:pt x="58" y="260"/>
                  </a:lnTo>
                  <a:lnTo>
                    <a:pt x="63" y="260"/>
                  </a:lnTo>
                  <a:lnTo>
                    <a:pt x="63" y="260"/>
                  </a:lnTo>
                  <a:lnTo>
                    <a:pt x="63" y="263"/>
                  </a:lnTo>
                  <a:lnTo>
                    <a:pt x="67" y="263"/>
                  </a:lnTo>
                  <a:lnTo>
                    <a:pt x="116" y="221"/>
                  </a:lnTo>
                  <a:lnTo>
                    <a:pt x="116" y="225"/>
                  </a:lnTo>
                  <a:lnTo>
                    <a:pt x="120" y="225"/>
                  </a:lnTo>
                  <a:lnTo>
                    <a:pt x="120" y="229"/>
                  </a:lnTo>
                  <a:lnTo>
                    <a:pt x="120" y="229"/>
                  </a:lnTo>
                  <a:lnTo>
                    <a:pt x="120" y="232"/>
                  </a:lnTo>
                  <a:lnTo>
                    <a:pt x="120" y="236"/>
                  </a:lnTo>
                  <a:lnTo>
                    <a:pt x="120" y="236"/>
                  </a:lnTo>
                  <a:lnTo>
                    <a:pt x="120" y="240"/>
                  </a:lnTo>
                  <a:lnTo>
                    <a:pt x="67" y="298"/>
                  </a:lnTo>
                  <a:lnTo>
                    <a:pt x="516" y="298"/>
                  </a:lnTo>
                  <a:lnTo>
                    <a:pt x="738" y="190"/>
                  </a:lnTo>
                  <a:lnTo>
                    <a:pt x="738" y="194"/>
                  </a:lnTo>
                  <a:lnTo>
                    <a:pt x="738" y="197"/>
                  </a:lnTo>
                  <a:lnTo>
                    <a:pt x="738" y="201"/>
                  </a:lnTo>
                  <a:lnTo>
                    <a:pt x="738" y="201"/>
                  </a:lnTo>
                  <a:lnTo>
                    <a:pt x="738" y="205"/>
                  </a:lnTo>
                  <a:lnTo>
                    <a:pt x="738" y="205"/>
                  </a:lnTo>
                  <a:lnTo>
                    <a:pt x="738" y="209"/>
                  </a:lnTo>
                  <a:lnTo>
                    <a:pt x="738" y="209"/>
                  </a:lnTo>
                  <a:lnTo>
                    <a:pt x="609" y="298"/>
                  </a:lnTo>
                  <a:lnTo>
                    <a:pt x="2550" y="298"/>
                  </a:lnTo>
                  <a:lnTo>
                    <a:pt x="2550" y="263"/>
                  </a:lnTo>
                  <a:lnTo>
                    <a:pt x="2590" y="252"/>
                  </a:lnTo>
                  <a:lnTo>
                    <a:pt x="2634" y="236"/>
                  </a:lnTo>
                  <a:lnTo>
                    <a:pt x="2674" y="225"/>
                  </a:lnTo>
                  <a:lnTo>
                    <a:pt x="2718" y="209"/>
                  </a:lnTo>
                  <a:lnTo>
                    <a:pt x="2758" y="194"/>
                  </a:lnTo>
                  <a:lnTo>
                    <a:pt x="2798" y="178"/>
                  </a:lnTo>
                  <a:lnTo>
                    <a:pt x="2834" y="159"/>
                  </a:lnTo>
                  <a:lnTo>
                    <a:pt x="2869" y="135"/>
                  </a:lnTo>
                  <a:lnTo>
                    <a:pt x="2874" y="0"/>
                  </a:lnTo>
                  <a:lnTo>
                    <a:pt x="85" y="0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be7d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163600" y="3827520"/>
              <a:ext cx="42840" cy="23760"/>
            </a:xfrm>
            <a:custGeom>
              <a:avLst/>
              <a:gdLst/>
              <a:ahLst/>
              <a:rect l="l" t="t" r="r" b="b"/>
              <a:pathLst>
                <a:path w="27" h="15">
                  <a:moveTo>
                    <a:pt x="0" y="0"/>
                  </a:moveTo>
                  <a:lnTo>
                    <a:pt x="0" y="15"/>
                  </a:lnTo>
                  <a:lnTo>
                    <a:pt x="27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be7d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050920" y="3827520"/>
              <a:ext cx="112680" cy="61920"/>
            </a:xfrm>
            <a:custGeom>
              <a:avLst/>
              <a:gdLst/>
              <a:ahLst/>
              <a:rect l="l" t="t" r="r" b="b"/>
              <a:pathLst>
                <a:path w="71" h="39">
                  <a:moveTo>
                    <a:pt x="71" y="15"/>
                  </a:moveTo>
                  <a:lnTo>
                    <a:pt x="71" y="0"/>
                  </a:lnTo>
                  <a:lnTo>
                    <a:pt x="0" y="0"/>
                  </a:lnTo>
                  <a:lnTo>
                    <a:pt x="5" y="8"/>
                  </a:lnTo>
                  <a:lnTo>
                    <a:pt x="9" y="15"/>
                  </a:lnTo>
                  <a:lnTo>
                    <a:pt x="14" y="19"/>
                  </a:lnTo>
                  <a:lnTo>
                    <a:pt x="18" y="27"/>
                  </a:lnTo>
                  <a:lnTo>
                    <a:pt x="23" y="31"/>
                  </a:lnTo>
                  <a:lnTo>
                    <a:pt x="27" y="35"/>
                  </a:lnTo>
                  <a:lnTo>
                    <a:pt x="36" y="35"/>
                  </a:lnTo>
                  <a:lnTo>
                    <a:pt x="40" y="39"/>
                  </a:lnTo>
                  <a:lnTo>
                    <a:pt x="71" y="15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be7d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128680" y="3913200"/>
              <a:ext cx="34920" cy="166680"/>
            </a:xfrm>
            <a:custGeom>
              <a:avLst/>
              <a:gdLst/>
              <a:ahLst/>
              <a:rect l="l" t="t" r="r" b="b"/>
              <a:pathLst>
                <a:path w="22" h="105">
                  <a:moveTo>
                    <a:pt x="22" y="105"/>
                  </a:moveTo>
                  <a:lnTo>
                    <a:pt x="22" y="0"/>
                  </a:lnTo>
                  <a:lnTo>
                    <a:pt x="22" y="0"/>
                  </a:lnTo>
                  <a:lnTo>
                    <a:pt x="0" y="58"/>
                  </a:lnTo>
                  <a:lnTo>
                    <a:pt x="22" y="105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be7d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058840" y="4060800"/>
              <a:ext cx="4624560" cy="474840"/>
            </a:xfrm>
            <a:custGeom>
              <a:avLst/>
              <a:gdLst/>
              <a:ahLst/>
              <a:rect l="l" t="t" r="r" b="b"/>
              <a:pathLst>
                <a:path w="2913" h="299">
                  <a:moveTo>
                    <a:pt x="2913" y="0"/>
                  </a:moveTo>
                  <a:lnTo>
                    <a:pt x="2882" y="23"/>
                  </a:lnTo>
                  <a:lnTo>
                    <a:pt x="2847" y="39"/>
                  </a:lnTo>
                  <a:lnTo>
                    <a:pt x="2811" y="54"/>
                  </a:lnTo>
                  <a:lnTo>
                    <a:pt x="2771" y="66"/>
                  </a:lnTo>
                  <a:lnTo>
                    <a:pt x="2731" y="78"/>
                  </a:lnTo>
                  <a:lnTo>
                    <a:pt x="2691" y="89"/>
                  </a:lnTo>
                  <a:lnTo>
                    <a:pt x="2656" y="105"/>
                  </a:lnTo>
                  <a:lnTo>
                    <a:pt x="2616" y="116"/>
                  </a:lnTo>
                  <a:lnTo>
                    <a:pt x="2616" y="287"/>
                  </a:lnTo>
                  <a:lnTo>
                    <a:pt x="2616" y="287"/>
                  </a:lnTo>
                  <a:lnTo>
                    <a:pt x="2611" y="291"/>
                  </a:lnTo>
                  <a:lnTo>
                    <a:pt x="2611" y="291"/>
                  </a:lnTo>
                  <a:lnTo>
                    <a:pt x="2607" y="291"/>
                  </a:lnTo>
                  <a:lnTo>
                    <a:pt x="2607" y="295"/>
                  </a:lnTo>
                  <a:lnTo>
                    <a:pt x="2602" y="295"/>
                  </a:lnTo>
                  <a:lnTo>
                    <a:pt x="2602" y="299"/>
                  </a:lnTo>
                  <a:lnTo>
                    <a:pt x="2598" y="299"/>
                  </a:lnTo>
                  <a:lnTo>
                    <a:pt x="1705" y="299"/>
                  </a:lnTo>
                  <a:lnTo>
                    <a:pt x="1830" y="221"/>
                  </a:lnTo>
                  <a:lnTo>
                    <a:pt x="1825" y="213"/>
                  </a:lnTo>
                  <a:lnTo>
                    <a:pt x="1825" y="213"/>
                  </a:lnTo>
                  <a:lnTo>
                    <a:pt x="1825" y="217"/>
                  </a:lnTo>
                  <a:lnTo>
                    <a:pt x="1830" y="221"/>
                  </a:lnTo>
                  <a:lnTo>
                    <a:pt x="1830" y="225"/>
                  </a:lnTo>
                  <a:lnTo>
                    <a:pt x="1830" y="229"/>
                  </a:lnTo>
                  <a:lnTo>
                    <a:pt x="1825" y="225"/>
                  </a:lnTo>
                  <a:lnTo>
                    <a:pt x="1816" y="209"/>
                  </a:lnTo>
                  <a:lnTo>
                    <a:pt x="1794" y="225"/>
                  </a:lnTo>
                  <a:lnTo>
                    <a:pt x="1767" y="237"/>
                  </a:lnTo>
                  <a:lnTo>
                    <a:pt x="1745" y="244"/>
                  </a:lnTo>
                  <a:lnTo>
                    <a:pt x="1719" y="256"/>
                  </a:lnTo>
                  <a:lnTo>
                    <a:pt x="1692" y="264"/>
                  </a:lnTo>
                  <a:lnTo>
                    <a:pt x="1665" y="272"/>
                  </a:lnTo>
                  <a:lnTo>
                    <a:pt x="1643" y="283"/>
                  </a:lnTo>
                  <a:lnTo>
                    <a:pt x="1616" y="299"/>
                  </a:lnTo>
                  <a:lnTo>
                    <a:pt x="462" y="299"/>
                  </a:lnTo>
                  <a:lnTo>
                    <a:pt x="804" y="62"/>
                  </a:lnTo>
                  <a:lnTo>
                    <a:pt x="804" y="62"/>
                  </a:lnTo>
                  <a:lnTo>
                    <a:pt x="804" y="58"/>
                  </a:lnTo>
                  <a:lnTo>
                    <a:pt x="804" y="58"/>
                  </a:lnTo>
                  <a:lnTo>
                    <a:pt x="804" y="54"/>
                  </a:lnTo>
                  <a:lnTo>
                    <a:pt x="804" y="54"/>
                  </a:lnTo>
                  <a:lnTo>
                    <a:pt x="804" y="50"/>
                  </a:lnTo>
                  <a:lnTo>
                    <a:pt x="804" y="47"/>
                  </a:lnTo>
                  <a:lnTo>
                    <a:pt x="804" y="43"/>
                  </a:lnTo>
                  <a:lnTo>
                    <a:pt x="408" y="233"/>
                  </a:lnTo>
                  <a:lnTo>
                    <a:pt x="311" y="299"/>
                  </a:lnTo>
                  <a:lnTo>
                    <a:pt x="9" y="299"/>
                  </a:lnTo>
                  <a:lnTo>
                    <a:pt x="0" y="287"/>
                  </a:lnTo>
                  <a:lnTo>
                    <a:pt x="186" y="93"/>
                  </a:lnTo>
                  <a:lnTo>
                    <a:pt x="186" y="89"/>
                  </a:lnTo>
                  <a:lnTo>
                    <a:pt x="186" y="89"/>
                  </a:lnTo>
                  <a:lnTo>
                    <a:pt x="186" y="85"/>
                  </a:lnTo>
                  <a:lnTo>
                    <a:pt x="186" y="82"/>
                  </a:lnTo>
                  <a:lnTo>
                    <a:pt x="186" y="82"/>
                  </a:lnTo>
                  <a:lnTo>
                    <a:pt x="186" y="78"/>
                  </a:lnTo>
                  <a:lnTo>
                    <a:pt x="182" y="78"/>
                  </a:lnTo>
                  <a:lnTo>
                    <a:pt x="182" y="74"/>
                  </a:lnTo>
                  <a:lnTo>
                    <a:pt x="133" y="116"/>
                  </a:lnTo>
                  <a:lnTo>
                    <a:pt x="129" y="116"/>
                  </a:lnTo>
                  <a:lnTo>
                    <a:pt x="129" y="113"/>
                  </a:lnTo>
                  <a:lnTo>
                    <a:pt x="129" y="113"/>
                  </a:lnTo>
                  <a:lnTo>
                    <a:pt x="124" y="113"/>
                  </a:lnTo>
                  <a:lnTo>
                    <a:pt x="124" y="113"/>
                  </a:lnTo>
                  <a:lnTo>
                    <a:pt x="120" y="109"/>
                  </a:lnTo>
                  <a:lnTo>
                    <a:pt x="120" y="109"/>
                  </a:lnTo>
                  <a:lnTo>
                    <a:pt x="115" y="109"/>
                  </a:lnTo>
                  <a:lnTo>
                    <a:pt x="62" y="0"/>
                  </a:lnTo>
                  <a:lnTo>
                    <a:pt x="291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be7d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770200" y="4300560"/>
              <a:ext cx="3681360" cy="468360"/>
            </a:xfrm>
            <a:custGeom>
              <a:avLst/>
              <a:gdLst/>
              <a:ahLst/>
              <a:rect l="l" t="t" r="r" b="b"/>
              <a:pathLst>
                <a:path w="2319" h="295">
                  <a:moveTo>
                    <a:pt x="0" y="155"/>
                  </a:moveTo>
                  <a:lnTo>
                    <a:pt x="0" y="295"/>
                  </a:lnTo>
                  <a:lnTo>
                    <a:pt x="826" y="295"/>
                  </a:lnTo>
                  <a:lnTo>
                    <a:pt x="844" y="287"/>
                  </a:lnTo>
                  <a:lnTo>
                    <a:pt x="858" y="279"/>
                  </a:lnTo>
                  <a:lnTo>
                    <a:pt x="875" y="272"/>
                  </a:lnTo>
                  <a:lnTo>
                    <a:pt x="889" y="264"/>
                  </a:lnTo>
                  <a:lnTo>
                    <a:pt x="906" y="256"/>
                  </a:lnTo>
                  <a:lnTo>
                    <a:pt x="920" y="248"/>
                  </a:lnTo>
                  <a:lnTo>
                    <a:pt x="937" y="241"/>
                  </a:lnTo>
                  <a:lnTo>
                    <a:pt x="951" y="233"/>
                  </a:lnTo>
                  <a:lnTo>
                    <a:pt x="977" y="221"/>
                  </a:lnTo>
                  <a:lnTo>
                    <a:pt x="1004" y="210"/>
                  </a:lnTo>
                  <a:lnTo>
                    <a:pt x="1031" y="202"/>
                  </a:lnTo>
                  <a:lnTo>
                    <a:pt x="1057" y="194"/>
                  </a:lnTo>
                  <a:lnTo>
                    <a:pt x="1084" y="186"/>
                  </a:lnTo>
                  <a:lnTo>
                    <a:pt x="1111" y="175"/>
                  </a:lnTo>
                  <a:lnTo>
                    <a:pt x="1137" y="167"/>
                  </a:lnTo>
                  <a:lnTo>
                    <a:pt x="1159" y="152"/>
                  </a:lnTo>
                  <a:lnTo>
                    <a:pt x="1186" y="136"/>
                  </a:lnTo>
                  <a:lnTo>
                    <a:pt x="1213" y="124"/>
                  </a:lnTo>
                  <a:lnTo>
                    <a:pt x="1239" y="113"/>
                  </a:lnTo>
                  <a:lnTo>
                    <a:pt x="1266" y="105"/>
                  </a:lnTo>
                  <a:lnTo>
                    <a:pt x="1293" y="97"/>
                  </a:lnTo>
                  <a:lnTo>
                    <a:pt x="1319" y="86"/>
                  </a:lnTo>
                  <a:lnTo>
                    <a:pt x="1346" y="74"/>
                  </a:lnTo>
                  <a:lnTo>
                    <a:pt x="1368" y="58"/>
                  </a:lnTo>
                  <a:lnTo>
                    <a:pt x="1377" y="74"/>
                  </a:lnTo>
                  <a:lnTo>
                    <a:pt x="1382" y="78"/>
                  </a:lnTo>
                  <a:lnTo>
                    <a:pt x="1382" y="74"/>
                  </a:lnTo>
                  <a:lnTo>
                    <a:pt x="1382" y="70"/>
                  </a:lnTo>
                  <a:lnTo>
                    <a:pt x="1377" y="66"/>
                  </a:lnTo>
                  <a:lnTo>
                    <a:pt x="1377" y="62"/>
                  </a:lnTo>
                  <a:lnTo>
                    <a:pt x="1377" y="62"/>
                  </a:lnTo>
                  <a:lnTo>
                    <a:pt x="1382" y="70"/>
                  </a:lnTo>
                  <a:lnTo>
                    <a:pt x="1017" y="295"/>
                  </a:lnTo>
                  <a:lnTo>
                    <a:pt x="2319" y="295"/>
                  </a:lnTo>
                  <a:lnTo>
                    <a:pt x="2314" y="210"/>
                  </a:lnTo>
                  <a:lnTo>
                    <a:pt x="1821" y="291"/>
                  </a:lnTo>
                  <a:lnTo>
                    <a:pt x="1821" y="287"/>
                  </a:lnTo>
                  <a:lnTo>
                    <a:pt x="1821" y="287"/>
                  </a:lnTo>
                  <a:lnTo>
                    <a:pt x="1821" y="283"/>
                  </a:lnTo>
                  <a:lnTo>
                    <a:pt x="1821" y="283"/>
                  </a:lnTo>
                  <a:lnTo>
                    <a:pt x="1821" y="283"/>
                  </a:lnTo>
                  <a:lnTo>
                    <a:pt x="1821" y="279"/>
                  </a:lnTo>
                  <a:lnTo>
                    <a:pt x="1821" y="279"/>
                  </a:lnTo>
                  <a:lnTo>
                    <a:pt x="1821" y="279"/>
                  </a:lnTo>
                  <a:lnTo>
                    <a:pt x="1826" y="276"/>
                  </a:lnTo>
                  <a:lnTo>
                    <a:pt x="1826" y="276"/>
                  </a:lnTo>
                  <a:lnTo>
                    <a:pt x="1830" y="276"/>
                  </a:lnTo>
                  <a:lnTo>
                    <a:pt x="1830" y="272"/>
                  </a:lnTo>
                  <a:lnTo>
                    <a:pt x="1835" y="272"/>
                  </a:lnTo>
                  <a:lnTo>
                    <a:pt x="1835" y="272"/>
                  </a:lnTo>
                  <a:lnTo>
                    <a:pt x="1839" y="272"/>
                  </a:lnTo>
                  <a:lnTo>
                    <a:pt x="1843" y="268"/>
                  </a:lnTo>
                  <a:lnTo>
                    <a:pt x="1883" y="252"/>
                  </a:lnTo>
                  <a:lnTo>
                    <a:pt x="1928" y="237"/>
                  </a:lnTo>
                  <a:lnTo>
                    <a:pt x="1972" y="225"/>
                  </a:lnTo>
                  <a:lnTo>
                    <a:pt x="2012" y="210"/>
                  </a:lnTo>
                  <a:lnTo>
                    <a:pt x="2057" y="194"/>
                  </a:lnTo>
                  <a:lnTo>
                    <a:pt x="2097" y="175"/>
                  </a:lnTo>
                  <a:lnTo>
                    <a:pt x="2132" y="155"/>
                  </a:lnTo>
                  <a:lnTo>
                    <a:pt x="2168" y="136"/>
                  </a:lnTo>
                  <a:lnTo>
                    <a:pt x="2168" y="0"/>
                  </a:lnTo>
                  <a:lnTo>
                    <a:pt x="227" y="0"/>
                  </a:lnTo>
                  <a:lnTo>
                    <a:pt x="0" y="155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be7d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770200" y="4300560"/>
              <a:ext cx="212760" cy="98280"/>
            </a:xfrm>
            <a:custGeom>
              <a:avLst/>
              <a:gdLst/>
              <a:ahLst/>
              <a:rect l="l" t="t" r="r" b="b"/>
              <a:pathLst>
                <a:path w="134" h="62">
                  <a:moveTo>
                    <a:pt x="0" y="0"/>
                  </a:moveTo>
                  <a:lnTo>
                    <a:pt x="0" y="62"/>
                  </a:lnTo>
                  <a:lnTo>
                    <a:pt x="134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be7d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058840" y="4300560"/>
              <a:ext cx="711360" cy="449280"/>
            </a:xfrm>
            <a:custGeom>
              <a:avLst/>
              <a:gdLst/>
              <a:ahLst/>
              <a:rect l="l" t="t" r="r" b="b"/>
              <a:pathLst>
                <a:path w="448" h="283">
                  <a:moveTo>
                    <a:pt x="448" y="62"/>
                  </a:moveTo>
                  <a:lnTo>
                    <a:pt x="448" y="0"/>
                  </a:lnTo>
                  <a:lnTo>
                    <a:pt x="133" y="0"/>
                  </a:lnTo>
                  <a:lnTo>
                    <a:pt x="0" y="136"/>
                  </a:lnTo>
                  <a:lnTo>
                    <a:pt x="58" y="268"/>
                  </a:lnTo>
                  <a:lnTo>
                    <a:pt x="98" y="283"/>
                  </a:lnTo>
                  <a:lnTo>
                    <a:pt x="408" y="82"/>
                  </a:lnTo>
                  <a:lnTo>
                    <a:pt x="448" y="62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be7d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558880" y="4546440"/>
              <a:ext cx="211320" cy="222480"/>
            </a:xfrm>
            <a:custGeom>
              <a:avLst/>
              <a:gdLst/>
              <a:ahLst/>
              <a:rect l="l" t="t" r="r" b="b"/>
              <a:pathLst>
                <a:path w="133" h="140">
                  <a:moveTo>
                    <a:pt x="133" y="140"/>
                  </a:moveTo>
                  <a:lnTo>
                    <a:pt x="133" y="0"/>
                  </a:lnTo>
                  <a:lnTo>
                    <a:pt x="0" y="93"/>
                  </a:lnTo>
                  <a:lnTo>
                    <a:pt x="13" y="140"/>
                  </a:lnTo>
                  <a:lnTo>
                    <a:pt x="133" y="140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be7d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308480" y="4535640"/>
              <a:ext cx="2262240" cy="466560"/>
            </a:xfrm>
            <a:custGeom>
              <a:avLst/>
              <a:gdLst/>
              <a:ahLst/>
              <a:rect l="l" t="t" r="r" b="b"/>
              <a:pathLst>
                <a:path w="1425" h="294">
                  <a:moveTo>
                    <a:pt x="0" y="174"/>
                  </a:moveTo>
                  <a:lnTo>
                    <a:pt x="0" y="294"/>
                  </a:lnTo>
                  <a:lnTo>
                    <a:pt x="1425" y="294"/>
                  </a:lnTo>
                  <a:lnTo>
                    <a:pt x="1416" y="232"/>
                  </a:lnTo>
                  <a:lnTo>
                    <a:pt x="1407" y="232"/>
                  </a:lnTo>
                  <a:lnTo>
                    <a:pt x="1398" y="232"/>
                  </a:lnTo>
                  <a:lnTo>
                    <a:pt x="1390" y="236"/>
                  </a:lnTo>
                  <a:lnTo>
                    <a:pt x="1381" y="240"/>
                  </a:lnTo>
                  <a:lnTo>
                    <a:pt x="1372" y="240"/>
                  </a:lnTo>
                  <a:lnTo>
                    <a:pt x="1363" y="240"/>
                  </a:lnTo>
                  <a:lnTo>
                    <a:pt x="1354" y="232"/>
                  </a:lnTo>
                  <a:lnTo>
                    <a:pt x="1350" y="221"/>
                  </a:lnTo>
                  <a:lnTo>
                    <a:pt x="1345" y="62"/>
                  </a:lnTo>
                  <a:lnTo>
                    <a:pt x="852" y="143"/>
                  </a:lnTo>
                  <a:lnTo>
                    <a:pt x="852" y="139"/>
                  </a:lnTo>
                  <a:lnTo>
                    <a:pt x="852" y="139"/>
                  </a:lnTo>
                  <a:lnTo>
                    <a:pt x="852" y="135"/>
                  </a:lnTo>
                  <a:lnTo>
                    <a:pt x="852" y="135"/>
                  </a:lnTo>
                  <a:lnTo>
                    <a:pt x="852" y="135"/>
                  </a:lnTo>
                  <a:lnTo>
                    <a:pt x="852" y="131"/>
                  </a:lnTo>
                  <a:lnTo>
                    <a:pt x="852" y="131"/>
                  </a:lnTo>
                  <a:lnTo>
                    <a:pt x="852" y="131"/>
                  </a:lnTo>
                  <a:lnTo>
                    <a:pt x="857" y="128"/>
                  </a:lnTo>
                  <a:lnTo>
                    <a:pt x="857" y="128"/>
                  </a:lnTo>
                  <a:lnTo>
                    <a:pt x="861" y="128"/>
                  </a:lnTo>
                  <a:lnTo>
                    <a:pt x="861" y="124"/>
                  </a:lnTo>
                  <a:lnTo>
                    <a:pt x="866" y="124"/>
                  </a:lnTo>
                  <a:lnTo>
                    <a:pt x="866" y="124"/>
                  </a:lnTo>
                  <a:lnTo>
                    <a:pt x="870" y="124"/>
                  </a:lnTo>
                  <a:lnTo>
                    <a:pt x="874" y="120"/>
                  </a:lnTo>
                  <a:lnTo>
                    <a:pt x="914" y="104"/>
                  </a:lnTo>
                  <a:lnTo>
                    <a:pt x="954" y="93"/>
                  </a:lnTo>
                  <a:lnTo>
                    <a:pt x="994" y="77"/>
                  </a:lnTo>
                  <a:lnTo>
                    <a:pt x="1034" y="66"/>
                  </a:lnTo>
                  <a:lnTo>
                    <a:pt x="1074" y="50"/>
                  </a:lnTo>
                  <a:lnTo>
                    <a:pt x="1110" y="35"/>
                  </a:lnTo>
                  <a:lnTo>
                    <a:pt x="1145" y="19"/>
                  </a:lnTo>
                  <a:lnTo>
                    <a:pt x="1181" y="0"/>
                  </a:lnTo>
                  <a:lnTo>
                    <a:pt x="288" y="0"/>
                  </a:lnTo>
                  <a:lnTo>
                    <a:pt x="31" y="159"/>
                  </a:lnTo>
                  <a:lnTo>
                    <a:pt x="0" y="174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be7d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308480" y="4535640"/>
              <a:ext cx="315720" cy="122040"/>
            </a:xfrm>
            <a:custGeom>
              <a:avLst/>
              <a:gdLst/>
              <a:ahLst/>
              <a:rect l="l" t="t" r="r" b="b"/>
              <a:pathLst>
                <a:path w="199" h="77">
                  <a:moveTo>
                    <a:pt x="0" y="0"/>
                  </a:moveTo>
                  <a:lnTo>
                    <a:pt x="0" y="77"/>
                  </a:lnTo>
                  <a:lnTo>
                    <a:pt x="26" y="66"/>
                  </a:lnTo>
                  <a:lnTo>
                    <a:pt x="48" y="58"/>
                  </a:lnTo>
                  <a:lnTo>
                    <a:pt x="75" y="50"/>
                  </a:lnTo>
                  <a:lnTo>
                    <a:pt x="97" y="42"/>
                  </a:lnTo>
                  <a:lnTo>
                    <a:pt x="119" y="35"/>
                  </a:lnTo>
                  <a:lnTo>
                    <a:pt x="146" y="27"/>
                  </a:lnTo>
                  <a:lnTo>
                    <a:pt x="168" y="15"/>
                  </a:lnTo>
                  <a:lnTo>
                    <a:pt x="190" y="4"/>
                  </a:lnTo>
                  <a:lnTo>
                    <a:pt x="195" y="4"/>
                  </a:lnTo>
                  <a:lnTo>
                    <a:pt x="195" y="4"/>
                  </a:lnTo>
                  <a:lnTo>
                    <a:pt x="195" y="4"/>
                  </a:lnTo>
                  <a:lnTo>
                    <a:pt x="195" y="4"/>
                  </a:lnTo>
                  <a:lnTo>
                    <a:pt x="195" y="0"/>
                  </a:lnTo>
                  <a:lnTo>
                    <a:pt x="199" y="0"/>
                  </a:lnTo>
                  <a:lnTo>
                    <a:pt x="199" y="0"/>
                  </a:lnTo>
                  <a:lnTo>
                    <a:pt x="199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be7d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558880" y="4535640"/>
              <a:ext cx="1749600" cy="466560"/>
            </a:xfrm>
            <a:custGeom>
              <a:avLst/>
              <a:gdLst/>
              <a:ahLst/>
              <a:rect l="l" t="t" r="r" b="b"/>
              <a:pathLst>
                <a:path w="1102" h="294">
                  <a:moveTo>
                    <a:pt x="1102" y="77"/>
                  </a:moveTo>
                  <a:lnTo>
                    <a:pt x="1102" y="0"/>
                  </a:lnTo>
                  <a:lnTo>
                    <a:pt x="147" y="0"/>
                  </a:lnTo>
                  <a:lnTo>
                    <a:pt x="0" y="100"/>
                  </a:lnTo>
                  <a:lnTo>
                    <a:pt x="53" y="275"/>
                  </a:lnTo>
                  <a:lnTo>
                    <a:pt x="49" y="279"/>
                  </a:lnTo>
                  <a:lnTo>
                    <a:pt x="45" y="279"/>
                  </a:lnTo>
                  <a:lnTo>
                    <a:pt x="40" y="283"/>
                  </a:lnTo>
                  <a:lnTo>
                    <a:pt x="40" y="287"/>
                  </a:lnTo>
                  <a:lnTo>
                    <a:pt x="36" y="290"/>
                  </a:lnTo>
                  <a:lnTo>
                    <a:pt x="31" y="290"/>
                  </a:lnTo>
                  <a:lnTo>
                    <a:pt x="27" y="294"/>
                  </a:lnTo>
                  <a:lnTo>
                    <a:pt x="27" y="294"/>
                  </a:lnTo>
                  <a:lnTo>
                    <a:pt x="395" y="294"/>
                  </a:lnTo>
                  <a:lnTo>
                    <a:pt x="413" y="287"/>
                  </a:lnTo>
                  <a:lnTo>
                    <a:pt x="418" y="294"/>
                  </a:lnTo>
                  <a:lnTo>
                    <a:pt x="680" y="294"/>
                  </a:lnTo>
                  <a:lnTo>
                    <a:pt x="724" y="267"/>
                  </a:lnTo>
                  <a:lnTo>
                    <a:pt x="777" y="240"/>
                  </a:lnTo>
                  <a:lnTo>
                    <a:pt x="826" y="217"/>
                  </a:lnTo>
                  <a:lnTo>
                    <a:pt x="879" y="190"/>
                  </a:lnTo>
                  <a:lnTo>
                    <a:pt x="928" y="162"/>
                  </a:lnTo>
                  <a:lnTo>
                    <a:pt x="982" y="135"/>
                  </a:lnTo>
                  <a:lnTo>
                    <a:pt x="1035" y="112"/>
                  </a:lnTo>
                  <a:lnTo>
                    <a:pt x="1084" y="85"/>
                  </a:lnTo>
                  <a:lnTo>
                    <a:pt x="1084" y="85"/>
                  </a:lnTo>
                  <a:lnTo>
                    <a:pt x="1088" y="81"/>
                  </a:lnTo>
                  <a:lnTo>
                    <a:pt x="1093" y="81"/>
                  </a:lnTo>
                  <a:lnTo>
                    <a:pt x="1093" y="81"/>
                  </a:lnTo>
                  <a:lnTo>
                    <a:pt x="1097" y="81"/>
                  </a:lnTo>
                  <a:lnTo>
                    <a:pt x="1097" y="77"/>
                  </a:lnTo>
                  <a:lnTo>
                    <a:pt x="1102" y="77"/>
                  </a:lnTo>
                  <a:lnTo>
                    <a:pt x="1102" y="77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be7d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997440" y="4811760"/>
              <a:ext cx="311040" cy="190440"/>
            </a:xfrm>
            <a:custGeom>
              <a:avLst/>
              <a:gdLst/>
              <a:ahLst/>
              <a:rect l="l" t="t" r="r" b="b"/>
              <a:pathLst>
                <a:path w="196" h="120">
                  <a:moveTo>
                    <a:pt x="196" y="120"/>
                  </a:moveTo>
                  <a:lnTo>
                    <a:pt x="196" y="0"/>
                  </a:lnTo>
                  <a:lnTo>
                    <a:pt x="0" y="120"/>
                  </a:lnTo>
                  <a:lnTo>
                    <a:pt x="196" y="120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be7d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073240" y="4535640"/>
              <a:ext cx="479520" cy="214200"/>
            </a:xfrm>
            <a:custGeom>
              <a:avLst/>
              <a:gdLst/>
              <a:ahLst/>
              <a:rect l="l" t="t" r="r" b="b"/>
              <a:pathLst>
                <a:path w="302" h="135">
                  <a:moveTo>
                    <a:pt x="302" y="0"/>
                  </a:moveTo>
                  <a:lnTo>
                    <a:pt x="89" y="135"/>
                  </a:lnTo>
                  <a:lnTo>
                    <a:pt x="49" y="120"/>
                  </a:lnTo>
                  <a:lnTo>
                    <a:pt x="0" y="0"/>
                  </a:lnTo>
                  <a:lnTo>
                    <a:pt x="302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be7d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05280" y="4768920"/>
              <a:ext cx="2679480" cy="474480"/>
            </a:xfrm>
            <a:custGeom>
              <a:avLst/>
              <a:gdLst/>
              <a:ahLst/>
              <a:rect l="l" t="t" r="r" b="b"/>
              <a:pathLst>
                <a:path w="1688" h="299">
                  <a:moveTo>
                    <a:pt x="0" y="182"/>
                  </a:moveTo>
                  <a:lnTo>
                    <a:pt x="0" y="299"/>
                  </a:lnTo>
                  <a:lnTo>
                    <a:pt x="1599" y="299"/>
                  </a:lnTo>
                  <a:lnTo>
                    <a:pt x="1688" y="236"/>
                  </a:lnTo>
                  <a:lnTo>
                    <a:pt x="1670" y="85"/>
                  </a:lnTo>
                  <a:lnTo>
                    <a:pt x="1661" y="85"/>
                  </a:lnTo>
                  <a:lnTo>
                    <a:pt x="1652" y="85"/>
                  </a:lnTo>
                  <a:lnTo>
                    <a:pt x="1644" y="89"/>
                  </a:lnTo>
                  <a:lnTo>
                    <a:pt x="1635" y="93"/>
                  </a:lnTo>
                  <a:lnTo>
                    <a:pt x="1626" y="93"/>
                  </a:lnTo>
                  <a:lnTo>
                    <a:pt x="1617" y="93"/>
                  </a:lnTo>
                  <a:lnTo>
                    <a:pt x="1608" y="85"/>
                  </a:lnTo>
                  <a:lnTo>
                    <a:pt x="1604" y="74"/>
                  </a:lnTo>
                  <a:lnTo>
                    <a:pt x="1604" y="0"/>
                  </a:lnTo>
                  <a:lnTo>
                    <a:pt x="302" y="0"/>
                  </a:lnTo>
                  <a:lnTo>
                    <a:pt x="285" y="12"/>
                  </a:lnTo>
                  <a:lnTo>
                    <a:pt x="0" y="182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be7d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905280" y="4768920"/>
              <a:ext cx="176040" cy="92160"/>
            </a:xfrm>
            <a:custGeom>
              <a:avLst/>
              <a:gdLst/>
              <a:ahLst/>
              <a:rect l="l" t="t" r="r" b="b"/>
              <a:pathLst>
                <a:path w="111" h="58">
                  <a:moveTo>
                    <a:pt x="0" y="0"/>
                  </a:moveTo>
                  <a:lnTo>
                    <a:pt x="0" y="58"/>
                  </a:lnTo>
                  <a:lnTo>
                    <a:pt x="14" y="50"/>
                  </a:lnTo>
                  <a:lnTo>
                    <a:pt x="27" y="43"/>
                  </a:lnTo>
                  <a:lnTo>
                    <a:pt x="40" y="35"/>
                  </a:lnTo>
                  <a:lnTo>
                    <a:pt x="54" y="31"/>
                  </a:lnTo>
                  <a:lnTo>
                    <a:pt x="71" y="23"/>
                  </a:lnTo>
                  <a:lnTo>
                    <a:pt x="85" y="15"/>
                  </a:lnTo>
                  <a:lnTo>
                    <a:pt x="98" y="8"/>
                  </a:lnTo>
                  <a:lnTo>
                    <a:pt x="11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be7d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23960" y="4768920"/>
              <a:ext cx="1381320" cy="474480"/>
            </a:xfrm>
            <a:custGeom>
              <a:avLst/>
              <a:gdLst/>
              <a:ahLst/>
              <a:rect l="l" t="t" r="r" b="b"/>
              <a:pathLst>
                <a:path w="870" h="299">
                  <a:moveTo>
                    <a:pt x="870" y="58"/>
                  </a:moveTo>
                  <a:lnTo>
                    <a:pt x="870" y="0"/>
                  </a:lnTo>
                  <a:lnTo>
                    <a:pt x="35" y="0"/>
                  </a:lnTo>
                  <a:lnTo>
                    <a:pt x="75" y="128"/>
                  </a:lnTo>
                  <a:lnTo>
                    <a:pt x="62" y="136"/>
                  </a:lnTo>
                  <a:lnTo>
                    <a:pt x="53" y="143"/>
                  </a:lnTo>
                  <a:lnTo>
                    <a:pt x="44" y="151"/>
                  </a:lnTo>
                  <a:lnTo>
                    <a:pt x="31" y="159"/>
                  </a:lnTo>
                  <a:lnTo>
                    <a:pt x="22" y="167"/>
                  </a:lnTo>
                  <a:lnTo>
                    <a:pt x="13" y="174"/>
                  </a:lnTo>
                  <a:lnTo>
                    <a:pt x="4" y="182"/>
                  </a:lnTo>
                  <a:lnTo>
                    <a:pt x="0" y="194"/>
                  </a:lnTo>
                  <a:lnTo>
                    <a:pt x="0" y="198"/>
                  </a:lnTo>
                  <a:lnTo>
                    <a:pt x="4" y="202"/>
                  </a:lnTo>
                  <a:lnTo>
                    <a:pt x="4" y="202"/>
                  </a:lnTo>
                  <a:lnTo>
                    <a:pt x="9" y="205"/>
                  </a:lnTo>
                  <a:lnTo>
                    <a:pt x="9" y="209"/>
                  </a:lnTo>
                  <a:lnTo>
                    <a:pt x="13" y="209"/>
                  </a:lnTo>
                  <a:lnTo>
                    <a:pt x="13" y="213"/>
                  </a:lnTo>
                  <a:lnTo>
                    <a:pt x="13" y="213"/>
                  </a:lnTo>
                  <a:lnTo>
                    <a:pt x="18" y="225"/>
                  </a:lnTo>
                  <a:lnTo>
                    <a:pt x="18" y="236"/>
                  </a:lnTo>
                  <a:lnTo>
                    <a:pt x="18" y="244"/>
                  </a:lnTo>
                  <a:lnTo>
                    <a:pt x="22" y="256"/>
                  </a:lnTo>
                  <a:lnTo>
                    <a:pt x="22" y="268"/>
                  </a:lnTo>
                  <a:lnTo>
                    <a:pt x="27" y="279"/>
                  </a:lnTo>
                  <a:lnTo>
                    <a:pt x="27" y="287"/>
                  </a:lnTo>
                  <a:lnTo>
                    <a:pt x="31" y="299"/>
                  </a:lnTo>
                  <a:lnTo>
                    <a:pt x="147" y="299"/>
                  </a:lnTo>
                  <a:lnTo>
                    <a:pt x="435" y="140"/>
                  </a:lnTo>
                  <a:lnTo>
                    <a:pt x="488" y="256"/>
                  </a:lnTo>
                  <a:lnTo>
                    <a:pt x="573" y="209"/>
                  </a:lnTo>
                  <a:lnTo>
                    <a:pt x="577" y="213"/>
                  </a:lnTo>
                  <a:lnTo>
                    <a:pt x="582" y="213"/>
                  </a:lnTo>
                  <a:lnTo>
                    <a:pt x="582" y="213"/>
                  </a:lnTo>
                  <a:lnTo>
                    <a:pt x="586" y="213"/>
                  </a:lnTo>
                  <a:lnTo>
                    <a:pt x="591" y="213"/>
                  </a:lnTo>
                  <a:lnTo>
                    <a:pt x="595" y="213"/>
                  </a:lnTo>
                  <a:lnTo>
                    <a:pt x="595" y="213"/>
                  </a:lnTo>
                  <a:lnTo>
                    <a:pt x="599" y="213"/>
                  </a:lnTo>
                  <a:lnTo>
                    <a:pt x="604" y="209"/>
                  </a:lnTo>
                  <a:lnTo>
                    <a:pt x="608" y="209"/>
                  </a:lnTo>
                  <a:lnTo>
                    <a:pt x="613" y="205"/>
                  </a:lnTo>
                  <a:lnTo>
                    <a:pt x="617" y="202"/>
                  </a:lnTo>
                  <a:lnTo>
                    <a:pt x="622" y="198"/>
                  </a:lnTo>
                  <a:lnTo>
                    <a:pt x="626" y="194"/>
                  </a:lnTo>
                  <a:lnTo>
                    <a:pt x="631" y="190"/>
                  </a:lnTo>
                  <a:lnTo>
                    <a:pt x="639" y="186"/>
                  </a:lnTo>
                  <a:lnTo>
                    <a:pt x="666" y="171"/>
                  </a:lnTo>
                  <a:lnTo>
                    <a:pt x="693" y="151"/>
                  </a:lnTo>
                  <a:lnTo>
                    <a:pt x="724" y="136"/>
                  </a:lnTo>
                  <a:lnTo>
                    <a:pt x="750" y="120"/>
                  </a:lnTo>
                  <a:lnTo>
                    <a:pt x="782" y="105"/>
                  </a:lnTo>
                  <a:lnTo>
                    <a:pt x="808" y="89"/>
                  </a:lnTo>
                  <a:lnTo>
                    <a:pt x="839" y="74"/>
                  </a:lnTo>
                  <a:lnTo>
                    <a:pt x="870" y="5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be7d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22760" y="5057640"/>
              <a:ext cx="182520" cy="185760"/>
            </a:xfrm>
            <a:custGeom>
              <a:avLst/>
              <a:gdLst/>
              <a:ahLst/>
              <a:rect l="l" t="t" r="r" b="b"/>
              <a:pathLst>
                <a:path w="115" h="117">
                  <a:moveTo>
                    <a:pt x="115" y="117"/>
                  </a:moveTo>
                  <a:lnTo>
                    <a:pt x="115" y="0"/>
                  </a:lnTo>
                  <a:lnTo>
                    <a:pt x="0" y="70"/>
                  </a:lnTo>
                  <a:lnTo>
                    <a:pt x="27" y="105"/>
                  </a:lnTo>
                  <a:lnTo>
                    <a:pt x="27" y="109"/>
                  </a:lnTo>
                  <a:lnTo>
                    <a:pt x="27" y="109"/>
                  </a:lnTo>
                  <a:lnTo>
                    <a:pt x="27" y="109"/>
                  </a:lnTo>
                  <a:lnTo>
                    <a:pt x="27" y="109"/>
                  </a:lnTo>
                  <a:lnTo>
                    <a:pt x="27" y="113"/>
                  </a:lnTo>
                  <a:lnTo>
                    <a:pt x="27" y="113"/>
                  </a:lnTo>
                  <a:lnTo>
                    <a:pt x="27" y="113"/>
                  </a:lnTo>
                  <a:lnTo>
                    <a:pt x="27" y="117"/>
                  </a:lnTo>
                  <a:lnTo>
                    <a:pt x="115" y="117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be7d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722760" y="5002200"/>
              <a:ext cx="3108240" cy="474840"/>
            </a:xfrm>
            <a:custGeom>
              <a:avLst/>
              <a:gdLst/>
              <a:ahLst/>
              <a:rect l="l" t="t" r="r" b="b"/>
              <a:pathLst>
                <a:path w="1958" h="299">
                  <a:moveTo>
                    <a:pt x="1794" y="0"/>
                  </a:moveTo>
                  <a:lnTo>
                    <a:pt x="1803" y="89"/>
                  </a:lnTo>
                  <a:lnTo>
                    <a:pt x="1674" y="183"/>
                  </a:lnTo>
                  <a:lnTo>
                    <a:pt x="1625" y="210"/>
                  </a:lnTo>
                  <a:lnTo>
                    <a:pt x="1625" y="210"/>
                  </a:lnTo>
                  <a:lnTo>
                    <a:pt x="1625" y="214"/>
                  </a:lnTo>
                  <a:lnTo>
                    <a:pt x="1625" y="214"/>
                  </a:lnTo>
                  <a:lnTo>
                    <a:pt x="1625" y="214"/>
                  </a:lnTo>
                  <a:lnTo>
                    <a:pt x="1625" y="217"/>
                  </a:lnTo>
                  <a:lnTo>
                    <a:pt x="1625" y="217"/>
                  </a:lnTo>
                  <a:lnTo>
                    <a:pt x="1625" y="221"/>
                  </a:lnTo>
                  <a:lnTo>
                    <a:pt x="1625" y="225"/>
                  </a:lnTo>
                  <a:lnTo>
                    <a:pt x="1656" y="221"/>
                  </a:lnTo>
                  <a:lnTo>
                    <a:pt x="1688" y="217"/>
                  </a:lnTo>
                  <a:lnTo>
                    <a:pt x="1714" y="210"/>
                  </a:lnTo>
                  <a:lnTo>
                    <a:pt x="1745" y="206"/>
                  </a:lnTo>
                  <a:lnTo>
                    <a:pt x="1776" y="198"/>
                  </a:lnTo>
                  <a:lnTo>
                    <a:pt x="1807" y="194"/>
                  </a:lnTo>
                  <a:lnTo>
                    <a:pt x="1834" y="194"/>
                  </a:lnTo>
                  <a:lnTo>
                    <a:pt x="1865" y="202"/>
                  </a:lnTo>
                  <a:lnTo>
                    <a:pt x="1878" y="198"/>
                  </a:lnTo>
                  <a:lnTo>
                    <a:pt x="1892" y="198"/>
                  </a:lnTo>
                  <a:lnTo>
                    <a:pt x="1901" y="198"/>
                  </a:lnTo>
                  <a:lnTo>
                    <a:pt x="1914" y="198"/>
                  </a:lnTo>
                  <a:lnTo>
                    <a:pt x="1923" y="202"/>
                  </a:lnTo>
                  <a:lnTo>
                    <a:pt x="1936" y="202"/>
                  </a:lnTo>
                  <a:lnTo>
                    <a:pt x="1945" y="206"/>
                  </a:lnTo>
                  <a:lnTo>
                    <a:pt x="1958" y="206"/>
                  </a:lnTo>
                  <a:lnTo>
                    <a:pt x="1958" y="214"/>
                  </a:lnTo>
                  <a:lnTo>
                    <a:pt x="1958" y="221"/>
                  </a:lnTo>
                  <a:lnTo>
                    <a:pt x="1954" y="225"/>
                  </a:lnTo>
                  <a:lnTo>
                    <a:pt x="1954" y="233"/>
                  </a:lnTo>
                  <a:lnTo>
                    <a:pt x="1950" y="237"/>
                  </a:lnTo>
                  <a:lnTo>
                    <a:pt x="1945" y="241"/>
                  </a:lnTo>
                  <a:lnTo>
                    <a:pt x="1945" y="248"/>
                  </a:lnTo>
                  <a:lnTo>
                    <a:pt x="1941" y="252"/>
                  </a:lnTo>
                  <a:lnTo>
                    <a:pt x="1887" y="299"/>
                  </a:lnTo>
                  <a:lnTo>
                    <a:pt x="599" y="299"/>
                  </a:lnTo>
                  <a:lnTo>
                    <a:pt x="626" y="283"/>
                  </a:lnTo>
                  <a:lnTo>
                    <a:pt x="586" y="299"/>
                  </a:lnTo>
                  <a:lnTo>
                    <a:pt x="102" y="299"/>
                  </a:lnTo>
                  <a:lnTo>
                    <a:pt x="266" y="175"/>
                  </a:lnTo>
                  <a:lnTo>
                    <a:pt x="75" y="248"/>
                  </a:lnTo>
                  <a:lnTo>
                    <a:pt x="67" y="248"/>
                  </a:lnTo>
                  <a:lnTo>
                    <a:pt x="58" y="241"/>
                  </a:lnTo>
                  <a:lnTo>
                    <a:pt x="49" y="233"/>
                  </a:lnTo>
                  <a:lnTo>
                    <a:pt x="44" y="225"/>
                  </a:lnTo>
                  <a:lnTo>
                    <a:pt x="40" y="214"/>
                  </a:lnTo>
                  <a:lnTo>
                    <a:pt x="35" y="198"/>
                  </a:lnTo>
                  <a:lnTo>
                    <a:pt x="27" y="186"/>
                  </a:lnTo>
                  <a:lnTo>
                    <a:pt x="22" y="175"/>
                  </a:lnTo>
                  <a:lnTo>
                    <a:pt x="22" y="171"/>
                  </a:lnTo>
                  <a:lnTo>
                    <a:pt x="22" y="167"/>
                  </a:lnTo>
                  <a:lnTo>
                    <a:pt x="22" y="163"/>
                  </a:lnTo>
                  <a:lnTo>
                    <a:pt x="22" y="159"/>
                  </a:lnTo>
                  <a:lnTo>
                    <a:pt x="27" y="155"/>
                  </a:lnTo>
                  <a:lnTo>
                    <a:pt x="27" y="152"/>
                  </a:lnTo>
                  <a:lnTo>
                    <a:pt x="27" y="144"/>
                  </a:lnTo>
                  <a:lnTo>
                    <a:pt x="27" y="140"/>
                  </a:lnTo>
                  <a:lnTo>
                    <a:pt x="0" y="105"/>
                  </a:lnTo>
                  <a:lnTo>
                    <a:pt x="173" y="0"/>
                  </a:lnTo>
                  <a:lnTo>
                    <a:pt x="179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be7d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22720" y="5002200"/>
              <a:ext cx="415800" cy="173160"/>
            </a:xfrm>
            <a:custGeom>
              <a:avLst/>
              <a:gdLst/>
              <a:ahLst/>
              <a:rect l="l" t="t" r="r" b="b"/>
              <a:pathLst>
                <a:path w="262" h="109">
                  <a:moveTo>
                    <a:pt x="262" y="0"/>
                  </a:moveTo>
                  <a:lnTo>
                    <a:pt x="253" y="8"/>
                  </a:lnTo>
                  <a:lnTo>
                    <a:pt x="244" y="12"/>
                  </a:lnTo>
                  <a:lnTo>
                    <a:pt x="235" y="16"/>
                  </a:lnTo>
                  <a:lnTo>
                    <a:pt x="231" y="20"/>
                  </a:lnTo>
                  <a:lnTo>
                    <a:pt x="222" y="24"/>
                  </a:lnTo>
                  <a:lnTo>
                    <a:pt x="213" y="27"/>
                  </a:lnTo>
                  <a:lnTo>
                    <a:pt x="204" y="35"/>
                  </a:lnTo>
                  <a:lnTo>
                    <a:pt x="199" y="39"/>
                  </a:lnTo>
                  <a:lnTo>
                    <a:pt x="191" y="43"/>
                  </a:lnTo>
                  <a:lnTo>
                    <a:pt x="186" y="47"/>
                  </a:lnTo>
                  <a:lnTo>
                    <a:pt x="182" y="51"/>
                  </a:lnTo>
                  <a:lnTo>
                    <a:pt x="177" y="55"/>
                  </a:lnTo>
                  <a:lnTo>
                    <a:pt x="173" y="58"/>
                  </a:lnTo>
                  <a:lnTo>
                    <a:pt x="168" y="62"/>
                  </a:lnTo>
                  <a:lnTo>
                    <a:pt x="164" y="62"/>
                  </a:lnTo>
                  <a:lnTo>
                    <a:pt x="159" y="66"/>
                  </a:lnTo>
                  <a:lnTo>
                    <a:pt x="155" y="66"/>
                  </a:lnTo>
                  <a:lnTo>
                    <a:pt x="155" y="66"/>
                  </a:lnTo>
                  <a:lnTo>
                    <a:pt x="151" y="66"/>
                  </a:lnTo>
                  <a:lnTo>
                    <a:pt x="146" y="66"/>
                  </a:lnTo>
                  <a:lnTo>
                    <a:pt x="142" y="66"/>
                  </a:lnTo>
                  <a:lnTo>
                    <a:pt x="142" y="66"/>
                  </a:lnTo>
                  <a:lnTo>
                    <a:pt x="137" y="66"/>
                  </a:lnTo>
                  <a:lnTo>
                    <a:pt x="133" y="62"/>
                  </a:lnTo>
                  <a:lnTo>
                    <a:pt x="48" y="109"/>
                  </a:lnTo>
                  <a:lnTo>
                    <a:pt x="0" y="0"/>
                  </a:lnTo>
                  <a:lnTo>
                    <a:pt x="262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be7d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23960" y="5002200"/>
              <a:ext cx="662040" cy="308160"/>
            </a:xfrm>
            <a:custGeom>
              <a:avLst/>
              <a:gdLst/>
              <a:ahLst/>
              <a:rect l="l" t="t" r="r" b="b"/>
              <a:pathLst>
                <a:path w="417" h="194">
                  <a:moveTo>
                    <a:pt x="417" y="0"/>
                  </a:moveTo>
                  <a:lnTo>
                    <a:pt x="67" y="194"/>
                  </a:lnTo>
                  <a:lnTo>
                    <a:pt x="53" y="186"/>
                  </a:lnTo>
                  <a:lnTo>
                    <a:pt x="44" y="175"/>
                  </a:lnTo>
                  <a:lnTo>
                    <a:pt x="35" y="163"/>
                  </a:lnTo>
                  <a:lnTo>
                    <a:pt x="31" y="144"/>
                  </a:lnTo>
                  <a:lnTo>
                    <a:pt x="22" y="124"/>
                  </a:lnTo>
                  <a:lnTo>
                    <a:pt x="22" y="105"/>
                  </a:lnTo>
                  <a:lnTo>
                    <a:pt x="18" y="86"/>
                  </a:lnTo>
                  <a:lnTo>
                    <a:pt x="13" y="66"/>
                  </a:lnTo>
                  <a:lnTo>
                    <a:pt x="13" y="66"/>
                  </a:lnTo>
                  <a:lnTo>
                    <a:pt x="13" y="62"/>
                  </a:lnTo>
                  <a:lnTo>
                    <a:pt x="9" y="62"/>
                  </a:lnTo>
                  <a:lnTo>
                    <a:pt x="9" y="58"/>
                  </a:lnTo>
                  <a:lnTo>
                    <a:pt x="4" y="55"/>
                  </a:lnTo>
                  <a:lnTo>
                    <a:pt x="4" y="55"/>
                  </a:lnTo>
                  <a:lnTo>
                    <a:pt x="0" y="51"/>
                  </a:lnTo>
                  <a:lnTo>
                    <a:pt x="0" y="47"/>
                  </a:lnTo>
                  <a:lnTo>
                    <a:pt x="4" y="39"/>
                  </a:lnTo>
                  <a:lnTo>
                    <a:pt x="9" y="31"/>
                  </a:lnTo>
                  <a:lnTo>
                    <a:pt x="13" y="27"/>
                  </a:lnTo>
                  <a:lnTo>
                    <a:pt x="18" y="20"/>
                  </a:lnTo>
                  <a:lnTo>
                    <a:pt x="27" y="16"/>
                  </a:lnTo>
                  <a:lnTo>
                    <a:pt x="31" y="12"/>
                  </a:lnTo>
                  <a:lnTo>
                    <a:pt x="40" y="8"/>
                  </a:lnTo>
                  <a:lnTo>
                    <a:pt x="49" y="0"/>
                  </a:lnTo>
                  <a:lnTo>
                    <a:pt x="417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be7d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722760" y="5243400"/>
              <a:ext cx="3108240" cy="466920"/>
            </a:xfrm>
            <a:custGeom>
              <a:avLst/>
              <a:gdLst/>
              <a:ahLst/>
              <a:rect l="l" t="t" r="r" b="b"/>
              <a:pathLst>
                <a:path w="1958" h="294">
                  <a:moveTo>
                    <a:pt x="1714" y="0"/>
                  </a:moveTo>
                  <a:lnTo>
                    <a:pt x="1674" y="31"/>
                  </a:lnTo>
                  <a:lnTo>
                    <a:pt x="1625" y="58"/>
                  </a:lnTo>
                  <a:lnTo>
                    <a:pt x="1625" y="58"/>
                  </a:lnTo>
                  <a:lnTo>
                    <a:pt x="1625" y="62"/>
                  </a:lnTo>
                  <a:lnTo>
                    <a:pt x="1625" y="62"/>
                  </a:lnTo>
                  <a:lnTo>
                    <a:pt x="1625" y="62"/>
                  </a:lnTo>
                  <a:lnTo>
                    <a:pt x="1625" y="65"/>
                  </a:lnTo>
                  <a:lnTo>
                    <a:pt x="1625" y="65"/>
                  </a:lnTo>
                  <a:lnTo>
                    <a:pt x="1625" y="69"/>
                  </a:lnTo>
                  <a:lnTo>
                    <a:pt x="1625" y="73"/>
                  </a:lnTo>
                  <a:lnTo>
                    <a:pt x="1656" y="69"/>
                  </a:lnTo>
                  <a:lnTo>
                    <a:pt x="1688" y="65"/>
                  </a:lnTo>
                  <a:lnTo>
                    <a:pt x="1714" y="58"/>
                  </a:lnTo>
                  <a:lnTo>
                    <a:pt x="1745" y="54"/>
                  </a:lnTo>
                  <a:lnTo>
                    <a:pt x="1776" y="46"/>
                  </a:lnTo>
                  <a:lnTo>
                    <a:pt x="1807" y="42"/>
                  </a:lnTo>
                  <a:lnTo>
                    <a:pt x="1834" y="42"/>
                  </a:lnTo>
                  <a:lnTo>
                    <a:pt x="1865" y="50"/>
                  </a:lnTo>
                  <a:lnTo>
                    <a:pt x="1878" y="46"/>
                  </a:lnTo>
                  <a:lnTo>
                    <a:pt x="1892" y="46"/>
                  </a:lnTo>
                  <a:lnTo>
                    <a:pt x="1901" y="46"/>
                  </a:lnTo>
                  <a:lnTo>
                    <a:pt x="1914" y="46"/>
                  </a:lnTo>
                  <a:lnTo>
                    <a:pt x="1923" y="50"/>
                  </a:lnTo>
                  <a:lnTo>
                    <a:pt x="1936" y="50"/>
                  </a:lnTo>
                  <a:lnTo>
                    <a:pt x="1945" y="54"/>
                  </a:lnTo>
                  <a:lnTo>
                    <a:pt x="1958" y="54"/>
                  </a:lnTo>
                  <a:lnTo>
                    <a:pt x="1958" y="62"/>
                  </a:lnTo>
                  <a:lnTo>
                    <a:pt x="1958" y="69"/>
                  </a:lnTo>
                  <a:lnTo>
                    <a:pt x="1954" y="73"/>
                  </a:lnTo>
                  <a:lnTo>
                    <a:pt x="1954" y="81"/>
                  </a:lnTo>
                  <a:lnTo>
                    <a:pt x="1950" y="85"/>
                  </a:lnTo>
                  <a:lnTo>
                    <a:pt x="1945" y="89"/>
                  </a:lnTo>
                  <a:lnTo>
                    <a:pt x="1945" y="96"/>
                  </a:lnTo>
                  <a:lnTo>
                    <a:pt x="1941" y="100"/>
                  </a:lnTo>
                  <a:lnTo>
                    <a:pt x="1843" y="186"/>
                  </a:lnTo>
                  <a:lnTo>
                    <a:pt x="1839" y="190"/>
                  </a:lnTo>
                  <a:lnTo>
                    <a:pt x="1839" y="190"/>
                  </a:lnTo>
                  <a:lnTo>
                    <a:pt x="1839" y="193"/>
                  </a:lnTo>
                  <a:lnTo>
                    <a:pt x="1839" y="197"/>
                  </a:lnTo>
                  <a:lnTo>
                    <a:pt x="1843" y="201"/>
                  </a:lnTo>
                  <a:lnTo>
                    <a:pt x="1843" y="205"/>
                  </a:lnTo>
                  <a:lnTo>
                    <a:pt x="1843" y="205"/>
                  </a:lnTo>
                  <a:lnTo>
                    <a:pt x="1847" y="209"/>
                  </a:lnTo>
                  <a:lnTo>
                    <a:pt x="1803" y="221"/>
                  </a:lnTo>
                  <a:lnTo>
                    <a:pt x="1763" y="232"/>
                  </a:lnTo>
                  <a:lnTo>
                    <a:pt x="1723" y="244"/>
                  </a:lnTo>
                  <a:lnTo>
                    <a:pt x="1679" y="252"/>
                  </a:lnTo>
                  <a:lnTo>
                    <a:pt x="1639" y="263"/>
                  </a:lnTo>
                  <a:lnTo>
                    <a:pt x="1599" y="275"/>
                  </a:lnTo>
                  <a:lnTo>
                    <a:pt x="1559" y="283"/>
                  </a:lnTo>
                  <a:lnTo>
                    <a:pt x="1514" y="294"/>
                  </a:lnTo>
                  <a:lnTo>
                    <a:pt x="826" y="294"/>
                  </a:lnTo>
                  <a:lnTo>
                    <a:pt x="973" y="205"/>
                  </a:lnTo>
                  <a:lnTo>
                    <a:pt x="941" y="209"/>
                  </a:lnTo>
                  <a:lnTo>
                    <a:pt x="910" y="213"/>
                  </a:lnTo>
                  <a:lnTo>
                    <a:pt x="879" y="224"/>
                  </a:lnTo>
                  <a:lnTo>
                    <a:pt x="848" y="236"/>
                  </a:lnTo>
                  <a:lnTo>
                    <a:pt x="813" y="248"/>
                  </a:lnTo>
                  <a:lnTo>
                    <a:pt x="782" y="263"/>
                  </a:lnTo>
                  <a:lnTo>
                    <a:pt x="746" y="279"/>
                  </a:lnTo>
                  <a:lnTo>
                    <a:pt x="715" y="294"/>
                  </a:lnTo>
                  <a:lnTo>
                    <a:pt x="360" y="294"/>
                  </a:lnTo>
                  <a:lnTo>
                    <a:pt x="626" y="131"/>
                  </a:lnTo>
                  <a:lnTo>
                    <a:pt x="231" y="294"/>
                  </a:lnTo>
                  <a:lnTo>
                    <a:pt x="35" y="294"/>
                  </a:lnTo>
                  <a:lnTo>
                    <a:pt x="13" y="236"/>
                  </a:lnTo>
                  <a:lnTo>
                    <a:pt x="9" y="236"/>
                  </a:lnTo>
                  <a:lnTo>
                    <a:pt x="9" y="236"/>
                  </a:lnTo>
                  <a:lnTo>
                    <a:pt x="4" y="232"/>
                  </a:lnTo>
                  <a:lnTo>
                    <a:pt x="4" y="232"/>
                  </a:lnTo>
                  <a:lnTo>
                    <a:pt x="4" y="228"/>
                  </a:lnTo>
                  <a:lnTo>
                    <a:pt x="4" y="228"/>
                  </a:lnTo>
                  <a:lnTo>
                    <a:pt x="4" y="224"/>
                  </a:lnTo>
                  <a:lnTo>
                    <a:pt x="0" y="221"/>
                  </a:lnTo>
                  <a:lnTo>
                    <a:pt x="266" y="23"/>
                  </a:lnTo>
                  <a:lnTo>
                    <a:pt x="75" y="96"/>
                  </a:lnTo>
                  <a:lnTo>
                    <a:pt x="67" y="96"/>
                  </a:lnTo>
                  <a:lnTo>
                    <a:pt x="58" y="89"/>
                  </a:lnTo>
                  <a:lnTo>
                    <a:pt x="49" y="81"/>
                  </a:lnTo>
                  <a:lnTo>
                    <a:pt x="44" y="73"/>
                  </a:lnTo>
                  <a:lnTo>
                    <a:pt x="40" y="62"/>
                  </a:lnTo>
                  <a:lnTo>
                    <a:pt x="35" y="46"/>
                  </a:lnTo>
                  <a:lnTo>
                    <a:pt x="27" y="34"/>
                  </a:lnTo>
                  <a:lnTo>
                    <a:pt x="22" y="23"/>
                  </a:lnTo>
                  <a:lnTo>
                    <a:pt x="22" y="19"/>
                  </a:lnTo>
                  <a:lnTo>
                    <a:pt x="22" y="19"/>
                  </a:lnTo>
                  <a:lnTo>
                    <a:pt x="22" y="15"/>
                  </a:lnTo>
                  <a:lnTo>
                    <a:pt x="22" y="11"/>
                  </a:lnTo>
                  <a:lnTo>
                    <a:pt x="22" y="7"/>
                  </a:lnTo>
                  <a:lnTo>
                    <a:pt x="22" y="3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171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be7d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573280" y="5243400"/>
              <a:ext cx="184320" cy="66960"/>
            </a:xfrm>
            <a:custGeom>
              <a:avLst/>
              <a:gdLst/>
              <a:ahLst/>
              <a:rect l="l" t="t" r="r" b="b"/>
              <a:pathLst>
                <a:path w="116" h="42">
                  <a:moveTo>
                    <a:pt x="116" y="0"/>
                  </a:moveTo>
                  <a:lnTo>
                    <a:pt x="36" y="42"/>
                  </a:lnTo>
                  <a:lnTo>
                    <a:pt x="27" y="42"/>
                  </a:lnTo>
                  <a:lnTo>
                    <a:pt x="22" y="38"/>
                  </a:lnTo>
                  <a:lnTo>
                    <a:pt x="18" y="31"/>
                  </a:lnTo>
                  <a:lnTo>
                    <a:pt x="13" y="27"/>
                  </a:lnTo>
                  <a:lnTo>
                    <a:pt x="9" y="19"/>
                  </a:lnTo>
                  <a:lnTo>
                    <a:pt x="4" y="15"/>
                  </a:lnTo>
                  <a:lnTo>
                    <a:pt x="4" y="7"/>
                  </a:lnTo>
                  <a:lnTo>
                    <a:pt x="0" y="0"/>
                  </a:lnTo>
                  <a:lnTo>
                    <a:pt x="116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be7d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456080" y="5477040"/>
              <a:ext cx="2262240" cy="468000"/>
            </a:xfrm>
            <a:custGeom>
              <a:avLst/>
              <a:gdLst/>
              <a:ahLst/>
              <a:rect l="l" t="t" r="r" b="b"/>
              <a:pathLst>
                <a:path w="1425" h="295">
                  <a:moveTo>
                    <a:pt x="0" y="85"/>
                  </a:moveTo>
                  <a:lnTo>
                    <a:pt x="0" y="275"/>
                  </a:lnTo>
                  <a:lnTo>
                    <a:pt x="18" y="267"/>
                  </a:lnTo>
                  <a:lnTo>
                    <a:pt x="40" y="256"/>
                  </a:lnTo>
                  <a:lnTo>
                    <a:pt x="58" y="248"/>
                  </a:lnTo>
                  <a:lnTo>
                    <a:pt x="75" y="236"/>
                  </a:lnTo>
                  <a:lnTo>
                    <a:pt x="93" y="225"/>
                  </a:lnTo>
                  <a:lnTo>
                    <a:pt x="111" y="213"/>
                  </a:lnTo>
                  <a:lnTo>
                    <a:pt x="129" y="201"/>
                  </a:lnTo>
                  <a:lnTo>
                    <a:pt x="146" y="190"/>
                  </a:lnTo>
                  <a:lnTo>
                    <a:pt x="191" y="174"/>
                  </a:lnTo>
                  <a:lnTo>
                    <a:pt x="235" y="155"/>
                  </a:lnTo>
                  <a:lnTo>
                    <a:pt x="284" y="136"/>
                  </a:lnTo>
                  <a:lnTo>
                    <a:pt x="328" y="112"/>
                  </a:lnTo>
                  <a:lnTo>
                    <a:pt x="377" y="93"/>
                  </a:lnTo>
                  <a:lnTo>
                    <a:pt x="422" y="74"/>
                  </a:lnTo>
                  <a:lnTo>
                    <a:pt x="466" y="62"/>
                  </a:lnTo>
                  <a:lnTo>
                    <a:pt x="511" y="58"/>
                  </a:lnTo>
                  <a:lnTo>
                    <a:pt x="133" y="287"/>
                  </a:lnTo>
                  <a:lnTo>
                    <a:pt x="133" y="291"/>
                  </a:lnTo>
                  <a:lnTo>
                    <a:pt x="133" y="291"/>
                  </a:lnTo>
                  <a:lnTo>
                    <a:pt x="137" y="291"/>
                  </a:lnTo>
                  <a:lnTo>
                    <a:pt x="137" y="291"/>
                  </a:lnTo>
                  <a:lnTo>
                    <a:pt x="137" y="295"/>
                  </a:lnTo>
                  <a:lnTo>
                    <a:pt x="137" y="295"/>
                  </a:lnTo>
                  <a:lnTo>
                    <a:pt x="137" y="295"/>
                  </a:lnTo>
                  <a:lnTo>
                    <a:pt x="137" y="295"/>
                  </a:lnTo>
                  <a:lnTo>
                    <a:pt x="573" y="295"/>
                  </a:lnTo>
                  <a:lnTo>
                    <a:pt x="675" y="260"/>
                  </a:lnTo>
                  <a:lnTo>
                    <a:pt x="777" y="225"/>
                  </a:lnTo>
                  <a:lnTo>
                    <a:pt x="875" y="194"/>
                  </a:lnTo>
                  <a:lnTo>
                    <a:pt x="977" y="167"/>
                  </a:lnTo>
                  <a:lnTo>
                    <a:pt x="1079" y="139"/>
                  </a:lnTo>
                  <a:lnTo>
                    <a:pt x="1181" y="116"/>
                  </a:lnTo>
                  <a:lnTo>
                    <a:pt x="1283" y="89"/>
                  </a:lnTo>
                  <a:lnTo>
                    <a:pt x="1385" y="62"/>
                  </a:lnTo>
                  <a:lnTo>
                    <a:pt x="1381" y="58"/>
                  </a:lnTo>
                  <a:lnTo>
                    <a:pt x="1381" y="58"/>
                  </a:lnTo>
                  <a:lnTo>
                    <a:pt x="1381" y="54"/>
                  </a:lnTo>
                  <a:lnTo>
                    <a:pt x="1377" y="50"/>
                  </a:lnTo>
                  <a:lnTo>
                    <a:pt x="1377" y="46"/>
                  </a:lnTo>
                  <a:lnTo>
                    <a:pt x="1377" y="43"/>
                  </a:lnTo>
                  <a:lnTo>
                    <a:pt x="1377" y="43"/>
                  </a:lnTo>
                  <a:lnTo>
                    <a:pt x="1381" y="39"/>
                  </a:lnTo>
                  <a:lnTo>
                    <a:pt x="1425" y="0"/>
                  </a:lnTo>
                  <a:lnTo>
                    <a:pt x="137" y="0"/>
                  </a:lnTo>
                  <a:lnTo>
                    <a:pt x="0" y="85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be7d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456080" y="5477040"/>
              <a:ext cx="196920" cy="79200"/>
            </a:xfrm>
            <a:custGeom>
              <a:avLst/>
              <a:gdLst/>
              <a:ahLst/>
              <a:rect l="l" t="t" r="r" b="b"/>
              <a:pathLst>
                <a:path w="124" h="50">
                  <a:moveTo>
                    <a:pt x="0" y="0"/>
                  </a:moveTo>
                  <a:lnTo>
                    <a:pt x="0" y="50"/>
                  </a:lnTo>
                  <a:lnTo>
                    <a:pt x="124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be7d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722760" y="5477040"/>
              <a:ext cx="733320" cy="344160"/>
            </a:xfrm>
            <a:custGeom>
              <a:avLst/>
              <a:gdLst/>
              <a:ahLst/>
              <a:rect l="l" t="t" r="r" b="b"/>
              <a:pathLst>
                <a:path w="462" h="217">
                  <a:moveTo>
                    <a:pt x="462" y="50"/>
                  </a:moveTo>
                  <a:lnTo>
                    <a:pt x="462" y="0"/>
                  </a:lnTo>
                  <a:lnTo>
                    <a:pt x="102" y="0"/>
                  </a:lnTo>
                  <a:lnTo>
                    <a:pt x="0" y="74"/>
                  </a:lnTo>
                  <a:lnTo>
                    <a:pt x="4" y="77"/>
                  </a:lnTo>
                  <a:lnTo>
                    <a:pt x="4" y="81"/>
                  </a:lnTo>
                  <a:lnTo>
                    <a:pt x="4" y="81"/>
                  </a:lnTo>
                  <a:lnTo>
                    <a:pt x="4" y="85"/>
                  </a:lnTo>
                  <a:lnTo>
                    <a:pt x="4" y="85"/>
                  </a:lnTo>
                  <a:lnTo>
                    <a:pt x="9" y="89"/>
                  </a:lnTo>
                  <a:lnTo>
                    <a:pt x="9" y="89"/>
                  </a:lnTo>
                  <a:lnTo>
                    <a:pt x="13" y="89"/>
                  </a:lnTo>
                  <a:lnTo>
                    <a:pt x="62" y="217"/>
                  </a:lnTo>
                  <a:lnTo>
                    <a:pt x="462" y="50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be7d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257720" y="5611680"/>
              <a:ext cx="198360" cy="333360"/>
            </a:xfrm>
            <a:custGeom>
              <a:avLst/>
              <a:gdLst/>
              <a:ahLst/>
              <a:rect l="l" t="t" r="r" b="b"/>
              <a:pathLst>
                <a:path w="125" h="210">
                  <a:moveTo>
                    <a:pt x="125" y="190"/>
                  </a:moveTo>
                  <a:lnTo>
                    <a:pt x="125" y="0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0" y="85"/>
                  </a:lnTo>
                  <a:lnTo>
                    <a:pt x="5" y="89"/>
                  </a:lnTo>
                  <a:lnTo>
                    <a:pt x="5" y="89"/>
                  </a:lnTo>
                  <a:lnTo>
                    <a:pt x="5" y="93"/>
                  </a:lnTo>
                  <a:lnTo>
                    <a:pt x="9" y="93"/>
                  </a:lnTo>
                  <a:lnTo>
                    <a:pt x="9" y="97"/>
                  </a:lnTo>
                  <a:lnTo>
                    <a:pt x="9" y="101"/>
                  </a:lnTo>
                  <a:lnTo>
                    <a:pt x="9" y="109"/>
                  </a:lnTo>
                  <a:lnTo>
                    <a:pt x="9" y="116"/>
                  </a:lnTo>
                  <a:lnTo>
                    <a:pt x="9" y="120"/>
                  </a:lnTo>
                  <a:lnTo>
                    <a:pt x="14" y="128"/>
                  </a:lnTo>
                  <a:lnTo>
                    <a:pt x="18" y="132"/>
                  </a:lnTo>
                  <a:lnTo>
                    <a:pt x="23" y="140"/>
                  </a:lnTo>
                  <a:lnTo>
                    <a:pt x="23" y="144"/>
                  </a:lnTo>
                  <a:lnTo>
                    <a:pt x="23" y="151"/>
                  </a:lnTo>
                  <a:lnTo>
                    <a:pt x="58" y="210"/>
                  </a:lnTo>
                  <a:lnTo>
                    <a:pt x="85" y="210"/>
                  </a:lnTo>
                  <a:lnTo>
                    <a:pt x="89" y="210"/>
                  </a:lnTo>
                  <a:lnTo>
                    <a:pt x="94" y="206"/>
                  </a:lnTo>
                  <a:lnTo>
                    <a:pt x="98" y="206"/>
                  </a:lnTo>
                  <a:lnTo>
                    <a:pt x="103" y="202"/>
                  </a:lnTo>
                  <a:lnTo>
                    <a:pt x="111" y="198"/>
                  </a:lnTo>
                  <a:lnTo>
                    <a:pt x="116" y="198"/>
                  </a:lnTo>
                  <a:lnTo>
                    <a:pt x="120" y="194"/>
                  </a:lnTo>
                  <a:lnTo>
                    <a:pt x="125" y="190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be7d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765680" y="5710320"/>
              <a:ext cx="1360440" cy="442800"/>
            </a:xfrm>
            <a:custGeom>
              <a:avLst/>
              <a:gdLst/>
              <a:ahLst/>
              <a:rect l="l" t="t" r="r" b="b"/>
              <a:pathLst>
                <a:path w="857" h="279">
                  <a:moveTo>
                    <a:pt x="0" y="105"/>
                  </a:moveTo>
                  <a:lnTo>
                    <a:pt x="0" y="275"/>
                  </a:lnTo>
                  <a:lnTo>
                    <a:pt x="27" y="279"/>
                  </a:lnTo>
                  <a:lnTo>
                    <a:pt x="49" y="279"/>
                  </a:lnTo>
                  <a:lnTo>
                    <a:pt x="76" y="275"/>
                  </a:lnTo>
                  <a:lnTo>
                    <a:pt x="102" y="268"/>
                  </a:lnTo>
                  <a:lnTo>
                    <a:pt x="129" y="256"/>
                  </a:lnTo>
                  <a:lnTo>
                    <a:pt x="156" y="244"/>
                  </a:lnTo>
                  <a:lnTo>
                    <a:pt x="182" y="233"/>
                  </a:lnTo>
                  <a:lnTo>
                    <a:pt x="209" y="221"/>
                  </a:lnTo>
                  <a:lnTo>
                    <a:pt x="289" y="182"/>
                  </a:lnTo>
                  <a:lnTo>
                    <a:pt x="373" y="151"/>
                  </a:lnTo>
                  <a:lnTo>
                    <a:pt x="453" y="120"/>
                  </a:lnTo>
                  <a:lnTo>
                    <a:pt x="533" y="93"/>
                  </a:lnTo>
                  <a:lnTo>
                    <a:pt x="618" y="66"/>
                  </a:lnTo>
                  <a:lnTo>
                    <a:pt x="697" y="43"/>
                  </a:lnTo>
                  <a:lnTo>
                    <a:pt x="777" y="23"/>
                  </a:lnTo>
                  <a:lnTo>
                    <a:pt x="857" y="0"/>
                  </a:lnTo>
                  <a:lnTo>
                    <a:pt x="169" y="0"/>
                  </a:lnTo>
                  <a:lnTo>
                    <a:pt x="0" y="105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be7d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765680" y="5710320"/>
              <a:ext cx="92160" cy="42840"/>
            </a:xfrm>
            <a:custGeom>
              <a:avLst/>
              <a:gdLst/>
              <a:ahLst/>
              <a:rect l="l" t="t" r="r" b="b"/>
              <a:pathLst>
                <a:path w="58" h="27">
                  <a:moveTo>
                    <a:pt x="0" y="0"/>
                  </a:moveTo>
                  <a:lnTo>
                    <a:pt x="0" y="27"/>
                  </a:lnTo>
                  <a:lnTo>
                    <a:pt x="5" y="23"/>
                  </a:lnTo>
                  <a:lnTo>
                    <a:pt x="14" y="20"/>
                  </a:lnTo>
                  <a:lnTo>
                    <a:pt x="22" y="16"/>
                  </a:lnTo>
                  <a:lnTo>
                    <a:pt x="27" y="16"/>
                  </a:lnTo>
                  <a:lnTo>
                    <a:pt x="36" y="12"/>
                  </a:lnTo>
                  <a:lnTo>
                    <a:pt x="45" y="8"/>
                  </a:lnTo>
                  <a:lnTo>
                    <a:pt x="49" y="4"/>
                  </a:lnTo>
                  <a:lnTo>
                    <a:pt x="58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be7d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257720" y="5710320"/>
              <a:ext cx="507960" cy="245880"/>
            </a:xfrm>
            <a:custGeom>
              <a:avLst/>
              <a:gdLst/>
              <a:ahLst/>
              <a:rect l="l" t="t" r="r" b="b"/>
              <a:pathLst>
                <a:path w="320" h="155">
                  <a:moveTo>
                    <a:pt x="320" y="27"/>
                  </a:moveTo>
                  <a:lnTo>
                    <a:pt x="320" y="0"/>
                  </a:lnTo>
                  <a:lnTo>
                    <a:pt x="23" y="0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5" y="27"/>
                  </a:lnTo>
                  <a:lnTo>
                    <a:pt x="5" y="27"/>
                  </a:lnTo>
                  <a:lnTo>
                    <a:pt x="5" y="31"/>
                  </a:lnTo>
                  <a:lnTo>
                    <a:pt x="9" y="31"/>
                  </a:lnTo>
                  <a:lnTo>
                    <a:pt x="9" y="35"/>
                  </a:lnTo>
                  <a:lnTo>
                    <a:pt x="9" y="39"/>
                  </a:lnTo>
                  <a:lnTo>
                    <a:pt x="9" y="47"/>
                  </a:lnTo>
                  <a:lnTo>
                    <a:pt x="9" y="54"/>
                  </a:lnTo>
                  <a:lnTo>
                    <a:pt x="9" y="58"/>
                  </a:lnTo>
                  <a:lnTo>
                    <a:pt x="14" y="66"/>
                  </a:lnTo>
                  <a:lnTo>
                    <a:pt x="18" y="70"/>
                  </a:lnTo>
                  <a:lnTo>
                    <a:pt x="23" y="78"/>
                  </a:lnTo>
                  <a:lnTo>
                    <a:pt x="23" y="82"/>
                  </a:lnTo>
                  <a:lnTo>
                    <a:pt x="23" y="89"/>
                  </a:lnTo>
                  <a:lnTo>
                    <a:pt x="63" y="155"/>
                  </a:lnTo>
                  <a:lnTo>
                    <a:pt x="89" y="148"/>
                  </a:lnTo>
                  <a:lnTo>
                    <a:pt x="116" y="132"/>
                  </a:lnTo>
                  <a:lnTo>
                    <a:pt x="143" y="120"/>
                  </a:lnTo>
                  <a:lnTo>
                    <a:pt x="169" y="105"/>
                  </a:lnTo>
                  <a:lnTo>
                    <a:pt x="196" y="89"/>
                  </a:lnTo>
                  <a:lnTo>
                    <a:pt x="222" y="74"/>
                  </a:lnTo>
                  <a:lnTo>
                    <a:pt x="245" y="58"/>
                  </a:lnTo>
                  <a:lnTo>
                    <a:pt x="271" y="43"/>
                  </a:lnTo>
                  <a:lnTo>
                    <a:pt x="276" y="39"/>
                  </a:lnTo>
                  <a:lnTo>
                    <a:pt x="285" y="39"/>
                  </a:lnTo>
                  <a:lnTo>
                    <a:pt x="289" y="35"/>
                  </a:lnTo>
                  <a:lnTo>
                    <a:pt x="294" y="35"/>
                  </a:lnTo>
                  <a:lnTo>
                    <a:pt x="302" y="31"/>
                  </a:lnTo>
                  <a:lnTo>
                    <a:pt x="307" y="31"/>
                  </a:lnTo>
                  <a:lnTo>
                    <a:pt x="311" y="27"/>
                  </a:lnTo>
                  <a:lnTo>
                    <a:pt x="320" y="27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be7d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667040" y="5877000"/>
              <a:ext cx="98640" cy="269640"/>
            </a:xfrm>
            <a:custGeom>
              <a:avLst/>
              <a:gdLst/>
              <a:ahLst/>
              <a:rect l="l" t="t" r="r" b="b"/>
              <a:pathLst>
                <a:path w="62" h="170">
                  <a:moveTo>
                    <a:pt x="62" y="170"/>
                  </a:moveTo>
                  <a:lnTo>
                    <a:pt x="62" y="0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4" y="39"/>
                  </a:lnTo>
                  <a:lnTo>
                    <a:pt x="4" y="43"/>
                  </a:lnTo>
                  <a:lnTo>
                    <a:pt x="4" y="46"/>
                  </a:lnTo>
                  <a:lnTo>
                    <a:pt x="9" y="46"/>
                  </a:lnTo>
                  <a:lnTo>
                    <a:pt x="9" y="50"/>
                  </a:lnTo>
                  <a:lnTo>
                    <a:pt x="9" y="50"/>
                  </a:lnTo>
                  <a:lnTo>
                    <a:pt x="9" y="50"/>
                  </a:lnTo>
                  <a:lnTo>
                    <a:pt x="49" y="167"/>
                  </a:lnTo>
                  <a:lnTo>
                    <a:pt x="49" y="167"/>
                  </a:lnTo>
                  <a:lnTo>
                    <a:pt x="53" y="170"/>
                  </a:lnTo>
                  <a:lnTo>
                    <a:pt x="53" y="170"/>
                  </a:lnTo>
                  <a:lnTo>
                    <a:pt x="53" y="170"/>
                  </a:lnTo>
                  <a:lnTo>
                    <a:pt x="58" y="170"/>
                  </a:lnTo>
                  <a:lnTo>
                    <a:pt x="58" y="170"/>
                  </a:lnTo>
                  <a:lnTo>
                    <a:pt x="58" y="170"/>
                  </a:lnTo>
                  <a:lnTo>
                    <a:pt x="62" y="170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be7d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778200" y="5710320"/>
              <a:ext cx="311040" cy="110880"/>
            </a:xfrm>
            <a:custGeom>
              <a:avLst/>
              <a:gdLst/>
              <a:ahLst/>
              <a:rect l="l" t="t" r="r" b="b"/>
              <a:pathLst>
                <a:path w="196" h="70">
                  <a:moveTo>
                    <a:pt x="196" y="0"/>
                  </a:moveTo>
                  <a:lnTo>
                    <a:pt x="27" y="70"/>
                  </a:lnTo>
                  <a:lnTo>
                    <a:pt x="0" y="0"/>
                  </a:lnTo>
                  <a:lnTo>
                    <a:pt x="196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be7d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73520" y="5945040"/>
              <a:ext cx="692280" cy="208080"/>
            </a:xfrm>
            <a:custGeom>
              <a:avLst/>
              <a:gdLst/>
              <a:ahLst/>
              <a:rect l="l" t="t" r="r" b="b"/>
              <a:pathLst>
                <a:path w="436" h="131">
                  <a:moveTo>
                    <a:pt x="436" y="0"/>
                  </a:moveTo>
                  <a:lnTo>
                    <a:pt x="413" y="7"/>
                  </a:lnTo>
                  <a:lnTo>
                    <a:pt x="391" y="19"/>
                  </a:lnTo>
                  <a:lnTo>
                    <a:pt x="369" y="27"/>
                  </a:lnTo>
                  <a:lnTo>
                    <a:pt x="351" y="34"/>
                  </a:lnTo>
                  <a:lnTo>
                    <a:pt x="329" y="42"/>
                  </a:lnTo>
                  <a:lnTo>
                    <a:pt x="307" y="54"/>
                  </a:lnTo>
                  <a:lnTo>
                    <a:pt x="289" y="62"/>
                  </a:lnTo>
                  <a:lnTo>
                    <a:pt x="267" y="73"/>
                  </a:lnTo>
                  <a:lnTo>
                    <a:pt x="236" y="85"/>
                  </a:lnTo>
                  <a:lnTo>
                    <a:pt x="209" y="96"/>
                  </a:lnTo>
                  <a:lnTo>
                    <a:pt x="183" y="108"/>
                  </a:lnTo>
                  <a:lnTo>
                    <a:pt x="156" y="120"/>
                  </a:lnTo>
                  <a:lnTo>
                    <a:pt x="129" y="127"/>
                  </a:lnTo>
                  <a:lnTo>
                    <a:pt x="103" y="131"/>
                  </a:lnTo>
                  <a:lnTo>
                    <a:pt x="72" y="131"/>
                  </a:lnTo>
                  <a:lnTo>
                    <a:pt x="45" y="124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0" y="0"/>
                  </a:lnTo>
                  <a:lnTo>
                    <a:pt x="436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be7d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349880" y="5945040"/>
              <a:ext cx="42840" cy="11160"/>
            </a:xfrm>
            <a:custGeom>
              <a:avLst/>
              <a:gdLst/>
              <a:ahLst/>
              <a:rect l="l" t="t" r="r" b="b"/>
              <a:pathLst>
                <a:path w="27" h="7">
                  <a:moveTo>
                    <a:pt x="27" y="0"/>
                  </a:moveTo>
                  <a:lnTo>
                    <a:pt x="22" y="3"/>
                  </a:lnTo>
                  <a:lnTo>
                    <a:pt x="22" y="3"/>
                  </a:lnTo>
                  <a:lnTo>
                    <a:pt x="18" y="3"/>
                  </a:lnTo>
                  <a:lnTo>
                    <a:pt x="14" y="3"/>
                  </a:lnTo>
                  <a:lnTo>
                    <a:pt x="14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5" y="7"/>
                  </a:lnTo>
                  <a:lnTo>
                    <a:pt x="0" y="0"/>
                  </a:lnTo>
                  <a:lnTo>
                    <a:pt x="27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be7d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083200" y="4343400"/>
              <a:ext cx="14400" cy="64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0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be7d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076720" y="4343400"/>
              <a:ext cx="20880" cy="6480"/>
            </a:xfrm>
            <a:custGeom>
              <a:avLst/>
              <a:gdLst/>
              <a:ahLst/>
              <a:rect l="l" t="t" r="r" b="b"/>
              <a:pathLst>
                <a:path w="13" h="4">
                  <a:moveTo>
                    <a:pt x="4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4" y="4"/>
                  </a:lnTo>
                  <a:lnTo>
                    <a:pt x="0" y="4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be7d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068800" y="4349880"/>
              <a:ext cx="20520" cy="144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5" y="0"/>
                  </a:moveTo>
                  <a:lnTo>
                    <a:pt x="13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5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be7d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068800" y="4349880"/>
              <a:ext cx="14400" cy="612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5" y="4"/>
                  </a:move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4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be7d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062680" y="4349880"/>
              <a:ext cx="14040" cy="612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4" y="4"/>
                  </a:move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4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be7d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054400" y="4356000"/>
              <a:ext cx="22320" cy="648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5" y="4"/>
                  </a:moveTo>
                  <a:lnTo>
                    <a:pt x="14" y="0"/>
                  </a:lnTo>
                  <a:lnTo>
                    <a:pt x="9" y="0"/>
                  </a:lnTo>
                  <a:lnTo>
                    <a:pt x="0" y="4"/>
                  </a:lnTo>
                  <a:lnTo>
                    <a:pt x="5" y="4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be7d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048280" y="4356000"/>
              <a:ext cx="20520" cy="6480"/>
            </a:xfrm>
            <a:custGeom>
              <a:avLst/>
              <a:gdLst/>
              <a:ahLst/>
              <a:rect l="l" t="t" r="r" b="b"/>
              <a:pathLst>
                <a:path w="13" h="4">
                  <a:moveTo>
                    <a:pt x="4" y="4"/>
                  </a:moveTo>
                  <a:lnTo>
                    <a:pt x="13" y="0"/>
                  </a:lnTo>
                  <a:lnTo>
                    <a:pt x="9" y="0"/>
                  </a:lnTo>
                  <a:lnTo>
                    <a:pt x="0" y="4"/>
                  </a:lnTo>
                  <a:lnTo>
                    <a:pt x="4" y="4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be7d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048280" y="4362480"/>
              <a:ext cx="14400" cy="64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0" y="4"/>
                  </a:move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be7d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040360" y="4362480"/>
              <a:ext cx="14040" cy="64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5" y="4"/>
                  </a:moveTo>
                  <a:lnTo>
                    <a:pt x="9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4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be7d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033880" y="4368960"/>
              <a:ext cx="14400" cy="612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4" y="4"/>
                  </a:moveTo>
                  <a:lnTo>
                    <a:pt x="9" y="0"/>
                  </a:lnTo>
                  <a:lnTo>
                    <a:pt x="9" y="0"/>
                  </a:lnTo>
                  <a:lnTo>
                    <a:pt x="0" y="4"/>
                  </a:lnTo>
                  <a:lnTo>
                    <a:pt x="4" y="4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be7d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033880" y="4368960"/>
              <a:ext cx="14400" cy="612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0" y="4"/>
                  </a:move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be7d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027400" y="4375080"/>
              <a:ext cx="1296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8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be7d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019480" y="4375080"/>
              <a:ext cx="14400" cy="64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0" y="4"/>
                  </a:moveTo>
                  <a:lnTo>
                    <a:pt x="9" y="0"/>
                  </a:lnTo>
                  <a:lnTo>
                    <a:pt x="9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be7d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013360" y="4381560"/>
              <a:ext cx="14040" cy="612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4" y="4"/>
                  </a:moveTo>
                  <a:lnTo>
                    <a:pt x="9" y="0"/>
                  </a:lnTo>
                  <a:lnTo>
                    <a:pt x="9" y="0"/>
                  </a:lnTo>
                  <a:lnTo>
                    <a:pt x="0" y="4"/>
                  </a:lnTo>
                  <a:lnTo>
                    <a:pt x="4" y="4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be7d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013360" y="438156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be7d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005440" y="4387680"/>
              <a:ext cx="14040" cy="504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3"/>
                  </a:moveTo>
                  <a:lnTo>
                    <a:pt x="9" y="0"/>
                  </a:lnTo>
                  <a:lnTo>
                    <a:pt x="5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be7d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998960" y="4387680"/>
              <a:ext cx="14400" cy="504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3"/>
                  </a:moveTo>
                  <a:lnTo>
                    <a:pt x="9" y="0"/>
                  </a:lnTo>
                  <a:lnTo>
                    <a:pt x="9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be7d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998960" y="4392720"/>
              <a:ext cx="6480" cy="144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4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be7d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998960" y="4392720"/>
              <a:ext cx="1800" cy="144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be7d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343080" y="1371600"/>
            <a:ext cx="8343720" cy="4648320"/>
            <a:chOff x="343080" y="1371600"/>
            <a:chExt cx="8343720" cy="4648320"/>
          </a:xfrm>
        </p:grpSpPr>
        <p:sp>
          <p:nvSpPr>
            <p:cNvPr id="278" name=""/>
            <p:cNvSpPr/>
            <p:nvPr/>
          </p:nvSpPr>
          <p:spPr>
            <a:xfrm>
              <a:off x="343080" y="1371600"/>
              <a:ext cx="8343720" cy="464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457200" indent="-457200" algn="ctr">
                <a:lnSpc>
                  <a:spcPct val="9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…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1" lang="en-GB" sz="2400" spc="-1" strike="noStrike">
                  <a:solidFill>
                    <a:srgbClr val="009900"/>
                  </a:solidFill>
                  <a:latin typeface="Times New Roman"/>
                </a:rPr>
                <a:t>independent variables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and the </a:t>
              </a:r>
              <a:r>
                <a:rPr b="1" lang="en-GB" sz="2400" spc="-1" strike="noStrike">
                  <a:solidFill>
                    <a:srgbClr val="ff3300"/>
                  </a:solidFill>
                  <a:latin typeface="Times New Roman"/>
                </a:rPr>
                <a:t>dependent variables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have a</a:t>
              </a:r>
              <a:r>
                <a:rPr b="1" lang="en-GB" sz="2400" spc="-1" strike="noStrike">
                  <a:solidFill>
                    <a:srgbClr val="009900"/>
                  </a:solidFill>
                  <a:latin typeface="Times New Roman"/>
                </a:rPr>
                <a:t> linear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400" spc="-1" strike="noStrike">
                  <a:solidFill>
                    <a:srgbClr val="ff3300"/>
                  </a:solidFill>
                  <a:latin typeface="Times New Roman"/>
                </a:rPr>
                <a:t>relationsh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9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dependent variabl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must be continuous and                                          at least interval-sca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9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…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variation in 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or 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residua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must be the same for all values of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                                                                                       When this is the case, we say the difference exhibits </a:t>
              </a:r>
              <a:r>
                <a:rPr b="1" lang="en-US" sz="2400" spc="-1" strike="noStrike">
                  <a:solidFill>
                    <a:srgbClr val="ff33cc"/>
                  </a:solidFill>
                  <a:latin typeface="Times New Roman"/>
                </a:rPr>
                <a:t>homoscedasti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9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…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residual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should follow the normal distribution                 with mean of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9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…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uccessive values of the 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dependent variable must b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uncorrelat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581280" y="3308400"/>
              <a:ext cx="109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Bar dir="horz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6T18:11:41Z</dcterms:created>
  <dc:creator>Colleen Quinn &amp; Ron Thornbury</dc:creator>
  <dc:description/>
  <dc:language>en-US</dc:language>
  <cp:lastModifiedBy>jeff_skinner</cp:lastModifiedBy>
  <dcterms:modified xsi:type="dcterms:W3CDTF">2003-04-28T14:10:35Z</dcterms:modified>
  <cp:revision>81</cp:revision>
  <dc:subject/>
  <dc:title>PowerPoint Presentation</dc:title>
</cp:coreProperties>
</file>