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E993-5063-429C-80AD-55D4023F6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D745-6DA0-48C8-B698-8E512A44C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2064-371C-45B7-A644-AAB73FE91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6722-06E9-4301-896A-B5DC7F870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9704-B1D7-44F0-B126-D62BF40C9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D7B8-4E50-4001-8DF4-BA6232C23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45A9-741D-4B3E-9059-FB6AA3666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3B47-DDEA-476F-A9F5-5E9302728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1CD3-A217-440B-A709-734EDDF74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3DF0-F0D8-485D-B2AE-B3760013B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EDD2-A1B2-4998-8AC8-30E8B3236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103F-E6BD-4ED9-A7B0-8BE3DA02D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9616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 - </a:t>
            </a:r>
            <a:fld id="{32885D3F-5AAF-4C06-8007-2C0DDEEDE9C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000000"/>
            </a:outerShdw>
          </a:effectLst>
        </p:spPr>
      </p:pic>
      <p:sp>
        <p:nvSpPr>
          <p:cNvPr id="2" name=""/>
          <p:cNvSpPr txBox="1"/>
          <p:nvPr/>
        </p:nvSpPr>
        <p:spPr>
          <a:xfrm>
            <a:off x="457200" y="2556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6613560"/>
            <a:ext cx="48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4 McGraw-Hill Ryerson Limite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7935840" y="0"/>
            <a:ext cx="95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53360" y="343080"/>
            <a:ext cx="13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43040" y="2662200"/>
            <a:ext cx="7705440" cy="3471840"/>
            <a:chOff x="743040" y="2662200"/>
            <a:chExt cx="7705440" cy="3471840"/>
          </a:xfrm>
        </p:grpSpPr>
        <p:sp>
          <p:nvSpPr>
            <p:cNvPr id="44" name=""/>
            <p:cNvSpPr txBox="1"/>
            <p:nvPr/>
          </p:nvSpPr>
          <p:spPr>
            <a:xfrm>
              <a:off x="743040" y="2662200"/>
              <a:ext cx="7705440" cy="1552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ff99ff">
                        <a:alpha val="50000"/>
                      </a:srgbClr>
                    </a:outerShdw>
                  </a:effectLst>
                  <a:latin typeface="AmerType Md BT"/>
                </a:rPr>
                <a:t>Chi-Square Distributio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99ff">
                      <a:alpha val="50000"/>
                    </a:srgbClr>
                  </a:outerShdw>
                </a:effectLst>
                <a:latin typeface="AmerType Md BT"/>
                <a:ea typeface="AmerType Md BT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1690560" y="5424480"/>
              <a:ext cx="5674680" cy="70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45929" dir="7428877" blurRad="0" rotWithShape="0">
                      <a:srgbClr val="ffffcc"/>
                    </a:outerShdw>
                  </a:effectLst>
                  <a:latin typeface="Copper Black"/>
                </a:rPr>
                <a:t>Chapter 15</a:t>
              </a:r>
              <a:endPara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  <a:ea typeface="Copper Black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A051-5477-4CEA-97FC-2380591FA849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114480"/>
            <a:ext cx="9144000" cy="6538680"/>
            <a:chOff x="0" y="114480"/>
            <a:chExt cx="9144000" cy="65386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rcRect l="33239" t="23104" r="51453" b="62800"/>
            <a:stretch/>
          </p:blipFill>
          <p:spPr>
            <a:xfrm>
              <a:off x="0" y="2308320"/>
              <a:ext cx="2941560" cy="25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rcRect l="20510" t="11980" r="55037" b="84535"/>
            <a:stretch/>
          </p:blipFill>
          <p:spPr>
            <a:xfrm>
              <a:off x="1752480" y="114480"/>
              <a:ext cx="5607000" cy="9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3"/>
            <a:srcRect l="18004" t="17488" r="22267" b="77822"/>
            <a:stretch/>
          </p:blipFill>
          <p:spPr>
            <a:xfrm>
              <a:off x="0" y="85104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44110" t="38603" r="34398" b="7294"/>
            <a:stretch/>
          </p:blipFill>
          <p:spPr>
            <a:xfrm>
              <a:off x="2860560" y="1535040"/>
              <a:ext cx="6197760" cy="511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5"/>
            <a:srcRect l="49297" t="27160" r="35882" b="66181"/>
            <a:stretch/>
          </p:blipFill>
          <p:spPr>
            <a:xfrm>
              <a:off x="0" y="4889520"/>
              <a:ext cx="2970360" cy="16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2996-7574-459C-9742-4DCE3B0B3496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42504" t="39238" r="33501" b="40104"/>
          <a:stretch/>
        </p:blipFill>
        <p:spPr>
          <a:xfrm>
            <a:off x="2187720" y="1914480"/>
            <a:ext cx="6956280" cy="437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00240" y="3924360"/>
            <a:ext cx="587520" cy="460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0280" y="4094280"/>
            <a:ext cx="1942920" cy="159588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50000">
                <a:srgbClr val="fefefe"/>
              </a:gs>
              <a:gs pos="100000">
                <a:srgbClr val="ffcec9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-Tai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440" y="2603520"/>
            <a:ext cx="1958760" cy="180036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50000">
                <a:srgbClr val="fefefe"/>
              </a:gs>
              <a:gs pos="100000">
                <a:srgbClr val="ffcec9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grees of  Freedo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5 – 1 =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14840" y="3943440"/>
            <a:ext cx="885960" cy="3715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06640" y="272880"/>
            <a:ext cx="50990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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.48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43520" y="1042920"/>
            <a:ext cx="4502880" cy="76428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50000">
                <a:srgbClr val="fefefe"/>
              </a:gs>
              <a:gs pos="100000">
                <a:srgbClr val="ffcec9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the Tabl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rcRect l="4929" t="0" r="7427" b="5786"/>
          <a:stretch/>
        </p:blipFill>
        <p:spPr>
          <a:xfrm>
            <a:off x="539640" y="1322280"/>
            <a:ext cx="844560" cy="83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4CB0-E143-465A-8443-3562A8874953}" type="slidenum">
              <a:t>11</a:t>
            </a:fld>
          </a:p>
        </p:txBody>
      </p:sp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751040" y="858960"/>
            <a:ext cx="5327640" cy="4165560"/>
            <a:chOff x="1751040" y="858960"/>
            <a:chExt cx="5327640" cy="4165560"/>
          </a:xfrm>
        </p:grpSpPr>
        <p:sp>
          <p:nvSpPr>
            <p:cNvPr id="171" name=""/>
            <p:cNvSpPr/>
            <p:nvPr/>
          </p:nvSpPr>
          <p:spPr>
            <a:xfrm>
              <a:off x="5643000" y="3430440"/>
              <a:ext cx="1042920" cy="442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56832" dir="70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= 1.98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1040" y="1998720"/>
              <a:ext cx="5327640" cy="30258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  Frequency   Expected  (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–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Monday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 89             10.8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uesday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45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 89             21.7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Wednesday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60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 89               9.4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hursday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90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 89                0.0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Friday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130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89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18.8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otal            </a:t>
              </a: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445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445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60.9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3017880" y="858960"/>
                  <a:ext cx="3155760" cy="96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o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f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e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e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74" name=""/>
            <p:cNvSpPr/>
            <p:nvPr/>
          </p:nvSpPr>
          <p:spPr>
            <a:xfrm>
              <a:off x="1914480" y="2517840"/>
              <a:ext cx="497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956200" y="4502160"/>
            <a:ext cx="806400" cy="368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19960" y="43624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45040" y="4711680"/>
            <a:ext cx="59364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5708520"/>
            <a:ext cx="77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eject the null hypothesis.                                                         Absentee rates are not the same for each day of the week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860480" y="5705640"/>
            <a:ext cx="1847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180" name=""/>
          <p:cNvSpPr/>
          <p:nvPr/>
        </p:nvSpPr>
        <p:spPr>
          <a:xfrm>
            <a:off x="7267680" y="274644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20-89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724440" y="2974680"/>
            <a:ext cx="546120" cy="12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4929" t="0" r="7427" b="5786"/>
          <a:stretch/>
        </p:blipFill>
        <p:spPr>
          <a:xfrm>
            <a:off x="797040" y="1122480"/>
            <a:ext cx="844560" cy="833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54960" y="307332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32200" y="177840"/>
            <a:ext cx="318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st 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5060880"/>
            <a:ext cx="50990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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4DFB-935E-445D-9E47-F4932DA5F957}" type="slidenum">
              <a:t>12</a:t>
            </a:fld>
          </a:p>
        </p:txBody>
      </p:sp>
    </p:spTree>
  </p:cSld>
  <p:transition>
    <p:cover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rot="121200">
            <a:off x="368280" y="1855800"/>
            <a:ext cx="8375760" cy="428292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ffebe9"/>
              </a:gs>
              <a:gs pos="50000">
                <a:srgbClr val="fef9f9"/>
              </a:gs>
              <a:gs pos="100000">
                <a:srgbClr val="ffebe9"/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886880" y="6210360"/>
            <a:ext cx="1104840" cy="514440"/>
            <a:chOff x="7886880" y="6210360"/>
            <a:chExt cx="1104840" cy="514440"/>
          </a:xfrm>
        </p:grpSpPr>
        <p:sp>
          <p:nvSpPr>
            <p:cNvPr id="188" name=""/>
            <p:cNvSpPr/>
            <p:nvPr/>
          </p:nvSpPr>
          <p:spPr>
            <a:xfrm>
              <a:off x="7886880" y="6275160"/>
              <a:ext cx="1091520" cy="44928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86880" y="6210360"/>
              <a:ext cx="1091520" cy="5144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385680"/>
              <a:ext cx="1033560" cy="21600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8065080" y="6275160"/>
              <a:ext cx="627840" cy="35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14480" y="5018040"/>
            <a:ext cx="87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05 significanc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can we conclude that the Philadelphia area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is differ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ro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.S. as a wh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4929" t="0" r="7427" b="5786"/>
          <a:stretch/>
        </p:blipFill>
        <p:spPr>
          <a:xfrm>
            <a:off x="4048200" y="114480"/>
            <a:ext cx="1015920" cy="100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2920" y="1743120"/>
          <a:ext cx="8775720" cy="1431720"/>
        </p:xfrm>
        <a:graphic>
          <a:graphicData uri="http://schemas.openxmlformats.org/drawingml/2006/table">
            <a:tbl>
              <a:tblPr/>
              <a:tblGrid>
                <a:gridCol w="2193840"/>
                <a:gridCol w="2193840"/>
                <a:gridCol w="2194200"/>
                <a:gridCol w="2193840"/>
              </a:tblGrid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rri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e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dow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e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vor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ec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ing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ec9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1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006560" y="1214280"/>
            <a:ext cx="70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U.S. Bureau of the Census indicated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36720" y="31464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re-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6760" y="3156120"/>
            <a:ext cx="21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ver 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000" y="3728880"/>
            <a:ext cx="91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ample of 5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dults from the Philadelphia area show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2280" y="4254480"/>
          <a:ext cx="8762760" cy="720720"/>
        </p:xfrm>
        <a:graphic>
          <a:graphicData uri="http://schemas.openxmlformats.org/drawingml/2006/table">
            <a:tbl>
              <a:tblPr/>
              <a:tblGrid>
                <a:gridCol w="2190960"/>
                <a:gridCol w="2190240"/>
                <a:gridCol w="2190600"/>
                <a:gridCol w="219096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E97E-50CB-4BCD-AFDC-F9380A9E86FD}" type="slidenum">
              <a:t>13</a:t>
            </a:fld>
          </a:p>
        </p:txBody>
      </p:sp>
    </p:spTree>
  </p:cSld>
  <p:transition>
    <p:push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409680" y="2571840"/>
          <a:ext cx="8324640" cy="2890800"/>
        </p:xfrm>
        <a:graphic>
          <a:graphicData uri="http://schemas.openxmlformats.org/drawingml/2006/table">
            <a:tbl>
              <a:tblPr/>
              <a:tblGrid>
                <a:gridCol w="2081160"/>
                <a:gridCol w="2081160"/>
                <a:gridCol w="1914480"/>
                <a:gridCol w="22478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rri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0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*3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** .2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dow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Divor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.5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Sing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0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.45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8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 txBox="1"/>
          <p:nvPr/>
        </p:nvSpPr>
        <p:spPr>
          <a:xfrm>
            <a:off x="3341520" y="1219320"/>
            <a:ext cx="242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Stat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048200" y="114480"/>
            <a:ext cx="2961000" cy="1101240"/>
            <a:chOff x="4048200" y="114480"/>
            <a:chExt cx="2961000" cy="11012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4929" t="0" r="7427" b="5786"/>
            <a:stretch/>
          </p:blipFill>
          <p:spPr>
            <a:xfrm>
              <a:off x="4048200" y="114480"/>
              <a:ext cx="101592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882320" y="69516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017480" y="4871880"/>
            <a:ext cx="2183760" cy="558360"/>
            <a:chOff x="7017480" y="4871880"/>
            <a:chExt cx="2183760" cy="558360"/>
          </a:xfrm>
        </p:grpSpPr>
        <p:sp>
          <p:nvSpPr>
            <p:cNvPr id="206" name=""/>
            <p:cNvSpPr/>
            <p:nvPr/>
          </p:nvSpPr>
          <p:spPr>
            <a:xfrm>
              <a:off x="8620200" y="4871880"/>
              <a:ext cx="58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17480" y="4909680"/>
              <a:ext cx="116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.38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924280" y="1968480"/>
            <a:ext cx="19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3440" y="5514840"/>
            <a:ext cx="8313840" cy="1058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Census figures would predict: i.e.   639*500 =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319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*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r sample: (310-319.5)2/319.5 =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.2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17080" y="1909800"/>
            <a:ext cx="2151720" cy="58140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50000">
                <a:srgbClr val="fefefe"/>
              </a:gs>
              <a:gs pos="100000">
                <a:srgbClr val="00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)2/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900080"/>
            <a:ext cx="1886040" cy="60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C3E6-476F-4E30-8F98-5BD92354BAA7}" type="slidenum">
              <a:t>14</a:t>
            </a:fld>
          </a:p>
        </p:txBody>
      </p:sp>
    </p:spTree>
  </p:cSld>
  <p:transition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68520" y="141912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8320" y="246060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8320" y="319392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8320" y="410832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63160" y="1330200"/>
            <a:ext cx="574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The distribu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48200" y="114480"/>
            <a:ext cx="2961000" cy="1101240"/>
            <a:chOff x="4048200" y="114480"/>
            <a:chExt cx="2961000" cy="110124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rcRect l="4929" t="0" r="7427" b="5786"/>
            <a:stretch/>
          </p:blipFill>
          <p:spPr>
            <a:xfrm>
              <a:off x="4048200" y="114480"/>
              <a:ext cx="101592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882320" y="69516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066760" y="1787400"/>
            <a:ext cx="527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The distribu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as chang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36880" y="3043080"/>
            <a:ext cx="27558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rejected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7.815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f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5960" y="24447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4800" y="4060800"/>
            <a:ext cx="23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.38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9000" y="4870440"/>
            <a:ext cx="801072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ject the null hypoth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istribution regarding marital status in Philadelphia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s different fro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rest of the United States.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89280" y="4844880"/>
            <a:ext cx="1847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71480" y="6200640"/>
            <a:ext cx="7543800" cy="457200"/>
            <a:chOff x="771480" y="6200640"/>
            <a:chExt cx="7543800" cy="457200"/>
          </a:xfrm>
        </p:grpSpPr>
        <p:sp>
          <p:nvSpPr>
            <p:cNvPr id="227" name=""/>
            <p:cNvSpPr/>
            <p:nvPr/>
          </p:nvSpPr>
          <p:spPr>
            <a:xfrm>
              <a:off x="771480" y="6458040"/>
              <a:ext cx="754380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fb5b5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29080" y="6200640"/>
              <a:ext cx="28584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b5b5"/>
                </a:gs>
                <a:gs pos="100000">
                  <a:srgbClr val="75535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2"/>
          <a:srcRect l="44036" t="39238" r="42482" b="50608"/>
          <a:stretch/>
        </p:blipFill>
        <p:spPr>
          <a:xfrm>
            <a:off x="5083200" y="2384280"/>
            <a:ext cx="3908520" cy="214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438880" y="4076640"/>
            <a:ext cx="587160" cy="460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66080" y="4133880"/>
            <a:ext cx="885960" cy="3715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1A78-AC73-41BA-9A38-A88A39BD0BF3}" type="slidenum">
              <a:t>15</a:t>
            </a:fld>
          </a:p>
        </p:txBody>
      </p:sp>
    </p:spTree>
  </p:cSld>
  <p:transition>
    <p:randomBar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657440" y="171360"/>
            <a:ext cx="5676840" cy="952560"/>
          </a:xfrm>
          <a:prstGeom prst="rect">
            <a:avLst/>
          </a:prstGeom>
          <a:gradFill rotWithShape="0">
            <a:gsLst>
              <a:gs pos="0">
                <a:srgbClr val="ffb5b5"/>
              </a:gs>
              <a:gs pos="50000">
                <a:srgbClr val="fefefe"/>
              </a:gs>
              <a:gs pos="100000">
                <a:srgbClr val="ffb5b5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369884" dir="95580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ness-of-Fit Test:                          Norm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480" y="1285920"/>
            <a:ext cx="8800920" cy="135720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50000">
                <a:srgbClr val="fefefe"/>
              </a:gs>
              <a:gs pos="100000">
                <a:srgbClr val="ffcec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st investigates                               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observed frequencies in a frequency distribu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match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 theoretical normal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5480" y="4040280"/>
            <a:ext cx="79153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mpu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value for the lower class lim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upper class limit for each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ter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Use the chi-squ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oodness-of-fit t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deter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incides with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3560" y="2709720"/>
            <a:ext cx="7583400" cy="1348920"/>
            <a:chOff x="763560" y="2709720"/>
            <a:chExt cx="7583400" cy="1348920"/>
          </a:xfrm>
        </p:grpSpPr>
        <p:sp>
          <p:nvSpPr>
            <p:cNvPr id="236" name=""/>
            <p:cNvSpPr/>
            <p:nvPr/>
          </p:nvSpPr>
          <p:spPr>
            <a:xfrm>
              <a:off x="763560" y="3111480"/>
              <a:ext cx="7583400" cy="947160"/>
            </a:xfrm>
            <a:prstGeom prst="rect">
              <a:avLst/>
            </a:prstGeom>
            <a:gradFill rotWithShape="0">
              <a:gsLst>
                <a:gs pos="0">
                  <a:srgbClr val="ffcec9"/>
                </a:gs>
                <a:gs pos="50000">
                  <a:srgbClr val="fefefe"/>
                </a:gs>
                <a:gs pos="100000">
                  <a:srgbClr val="ffce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 determine the mean and standard deviation of the frequency distrib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3336840" y="2709720"/>
              <a:ext cx="2438640" cy="470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Procedur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71480" y="6200640"/>
            <a:ext cx="7543800" cy="457200"/>
            <a:chOff x="771480" y="6200640"/>
            <a:chExt cx="7543800" cy="457200"/>
          </a:xfrm>
        </p:grpSpPr>
        <p:sp>
          <p:nvSpPr>
            <p:cNvPr id="239" name=""/>
            <p:cNvSpPr/>
            <p:nvPr/>
          </p:nvSpPr>
          <p:spPr>
            <a:xfrm>
              <a:off x="771480" y="6458040"/>
              <a:ext cx="754380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fb5b5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29080" y="6200640"/>
              <a:ext cx="28584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b5b5"/>
                </a:gs>
                <a:gs pos="100000">
                  <a:srgbClr val="75535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25F2-B375-47E5-82AF-F46CEF19407A}" type="slidenum">
              <a:t>16</a:t>
            </a:fld>
          </a:p>
        </p:txBody>
      </p:sp>
    </p:spTree>
  </p:cSld>
  <p:transition>
    <p:split dir="in" orient="horz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79760" y="1581120"/>
            <a:ext cx="5153040" cy="45817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5440" y="2179800"/>
            <a:ext cx="8445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ample of 500 donations to the Arthritis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ndation is reported in the                                  following frequenc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it reasonable to conclude that the distribution is normally distributed with a mean of $10 and a standard deviation of $2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.05 significanc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57440" y="171360"/>
            <a:ext cx="5676840" cy="952560"/>
          </a:xfrm>
          <a:prstGeom prst="rect">
            <a:avLst/>
          </a:prstGeom>
          <a:gradFill rotWithShape="0">
            <a:gsLst>
              <a:gs pos="0">
                <a:srgbClr val="ffb5b5"/>
              </a:gs>
              <a:gs pos="50000">
                <a:srgbClr val="fefefe"/>
              </a:gs>
              <a:gs pos="100000">
                <a:srgbClr val="ffb5b5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369884" dir="95580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ness-of-Fit Test:                          Norm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71480" y="6200640"/>
            <a:ext cx="7543800" cy="457200"/>
            <a:chOff x="771480" y="6200640"/>
            <a:chExt cx="7543800" cy="457200"/>
          </a:xfrm>
        </p:grpSpPr>
        <p:sp>
          <p:nvSpPr>
            <p:cNvPr id="245" name=""/>
            <p:cNvSpPr/>
            <p:nvPr/>
          </p:nvSpPr>
          <p:spPr>
            <a:xfrm>
              <a:off x="771480" y="6458040"/>
              <a:ext cx="754380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fb5b5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29080" y="6200640"/>
              <a:ext cx="28584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b5b5"/>
                </a:gs>
                <a:gs pos="100000">
                  <a:srgbClr val="75535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987560" y="3586320"/>
            <a:ext cx="4984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rcRect l="4929" t="0" r="7427" b="5786"/>
          <a:stretch/>
        </p:blipFill>
        <p:spPr>
          <a:xfrm>
            <a:off x="4019400" y="1228680"/>
            <a:ext cx="1016280" cy="100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7F5B-CB32-4CDF-9AAB-1AC68BF455BA}" type="slidenum">
              <a:t>17</a:t>
            </a:fld>
          </a:p>
        </p:txBody>
      </p:sp>
    </p:spTree>
  </p:cSld>
  <p:transition>
    <p:split dir="out" orient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450720" y="1371600"/>
          <a:ext cx="8210520" cy="5205240"/>
        </p:xfrm>
        <a:graphic>
          <a:graphicData uri="http://schemas.openxmlformats.org/drawingml/2006/table">
            <a:tbl>
              <a:tblPr/>
              <a:tblGrid>
                <a:gridCol w="2133720"/>
                <a:gridCol w="1150920"/>
                <a:gridCol w="1641600"/>
                <a:gridCol w="1643040"/>
                <a:gridCol w="1641240"/>
              </a:tblGrid>
              <a:tr h="17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unt Spen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)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$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6 up to $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8 up to $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up to $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2 up to $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$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4048200" y="114480"/>
            <a:ext cx="2961000" cy="1101240"/>
            <a:chOff x="4048200" y="114480"/>
            <a:chExt cx="2961000" cy="1101240"/>
          </a:xfrm>
        </p:grpSpPr>
        <p:pic>
          <p:nvPicPr>
            <p:cNvPr id="251" name="" descr=""/>
            <p:cNvPicPr/>
            <p:nvPr/>
          </p:nvPicPr>
          <p:blipFill>
            <a:blip r:embed="rId1"/>
            <a:srcRect l="4929" t="0" r="7427" b="5786"/>
            <a:stretch/>
          </p:blipFill>
          <p:spPr>
            <a:xfrm>
              <a:off x="4048200" y="114480"/>
              <a:ext cx="101592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882320" y="69516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171880" y="419040"/>
            <a:ext cx="1917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0FF2-34A2-4359-B334-3A8EC36B8BAF}" type="slidenum">
              <a:t>18</a:t>
            </a:fld>
          </a:p>
        </p:txBody>
      </p:sp>
    </p:spTree>
  </p:cSld>
  <p:transition>
    <p:zoom dir="ou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319040" y="1486080"/>
            <a:ext cx="6417000" cy="952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ec9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comput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e first class,                                         first determine 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z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048200" y="114480"/>
            <a:ext cx="2961000" cy="1101240"/>
            <a:chOff x="4048200" y="114480"/>
            <a:chExt cx="2961000" cy="110124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rcRect l="4929" t="0" r="7427" b="5786"/>
            <a:stretch/>
          </p:blipFill>
          <p:spPr>
            <a:xfrm>
              <a:off x="4048200" y="114480"/>
              <a:ext cx="101592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882320" y="69516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91280" y="3745080"/>
            <a:ext cx="7529400" cy="113004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50000">
                <a:srgbClr val="fefefe"/>
              </a:gs>
              <a:gs pos="100000">
                <a:srgbClr val="ffcec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 of a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valu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2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25520" y="2625840"/>
            <a:ext cx="6516360" cy="1088640"/>
            <a:chOff x="1325520" y="2625840"/>
            <a:chExt cx="6516360" cy="1088640"/>
          </a:xfrm>
        </p:grpSpPr>
        <p:sp>
          <p:nvSpPr>
            <p:cNvPr id="260" name=""/>
            <p:cNvSpPr/>
            <p:nvPr/>
          </p:nvSpPr>
          <p:spPr>
            <a:xfrm>
              <a:off x="2371680" y="3210840"/>
              <a:ext cx="15415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8120" y="3210840"/>
              <a:ext cx="1445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60280" y="2945160"/>
              <a:ext cx="381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10160" y="294516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08120" y="2945160"/>
              <a:ext cx="164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58440" y="32724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88480" y="268092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18800" y="26809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17960" y="289764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51320" y="289764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58360" y="263340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40640" y="289764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79440" y="262584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3840" y="289764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98000" y="3225240"/>
              <a:ext cx="223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86240" y="2625840"/>
              <a:ext cx="212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69960" y="267264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25520" y="2650320"/>
              <a:ext cx="2430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9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4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247760" y="5197320"/>
            <a:ext cx="6793560" cy="601560"/>
            <a:chOff x="1247760" y="5197320"/>
            <a:chExt cx="6793560" cy="601560"/>
          </a:xfrm>
        </p:grpSpPr>
        <p:sp>
          <p:nvSpPr>
            <p:cNvPr id="279" name=""/>
            <p:cNvSpPr/>
            <p:nvPr/>
          </p:nvSpPr>
          <p:spPr>
            <a:xfrm>
              <a:off x="7011720" y="5249880"/>
              <a:ext cx="1029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022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05200" y="5249880"/>
              <a:ext cx="915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77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7200" y="524988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65280" y="5249880"/>
              <a:ext cx="915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0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55840" y="524988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38400" y="524988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42960" y="52498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06280" y="524988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6840" y="524988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79400" y="524988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6760" y="52498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5360" y="519732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440" y="519732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39520" y="519732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90400" y="519732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3960" y="5197320"/>
              <a:ext cx="26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04600" y="524988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47760" y="5249880"/>
              <a:ext cx="279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7E47-54D2-4C57-BC43-174689C69A91}" type="slidenum">
              <a:t>19</a:t>
            </a:fld>
          </a:p>
        </p:txBody>
      </p:sp>
    </p:spTree>
  </p:cSld>
  <p:transition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457280" y="2340000"/>
            <a:ext cx="56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derstand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atur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ol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f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hi-squar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7480" y="3340080"/>
            <a:ext cx="55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dentify a wide variety of uses of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hi-squar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4421160"/>
            <a:ext cx="697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duct a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test of hypothes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paring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an observed frequency distributio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 an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expected frequenc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040" y="14479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3520" y="240984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409840"/>
                    <a:ext cx="45720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99192" dir="13818056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25600" y="3443400"/>
          <a:ext cx="46512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600" y="3443400"/>
                    <a:ext cx="465120" cy="442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1185" dir="1387803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33520" y="4492800"/>
          <a:ext cx="457200" cy="47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492800"/>
                    <a:ext cx="457200" cy="475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1185" dir="1387803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505640" y="6172200"/>
            <a:ext cx="125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53360" y="343080"/>
            <a:ext cx="13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EE86-5A39-4C80-AC3B-C725AC279474}" type="slidenum">
              <a:t>2</a:t>
            </a:fld>
          </a:p>
        </p:txBody>
      </p:sp>
    </p:spTree>
  </p:cSld>
  <p:transition spd="med"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450720" y="1371600"/>
          <a:ext cx="8210520" cy="5205240"/>
        </p:xfrm>
        <a:graphic>
          <a:graphicData uri="http://schemas.openxmlformats.org/drawingml/2006/table">
            <a:tbl>
              <a:tblPr/>
              <a:tblGrid>
                <a:gridCol w="2133720"/>
                <a:gridCol w="1150920"/>
                <a:gridCol w="1641600"/>
                <a:gridCol w="1643040"/>
                <a:gridCol w="1641240"/>
              </a:tblGrid>
              <a:tr h="17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unt Spen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)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$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6 up to $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8 up to $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up to $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2 up to $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$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grpSp>
        <p:nvGrpSpPr>
          <p:cNvPr id="298" name=""/>
          <p:cNvGrpSpPr/>
          <p:nvPr/>
        </p:nvGrpSpPr>
        <p:grpSpPr>
          <a:xfrm>
            <a:off x="4048200" y="114480"/>
            <a:ext cx="2961000" cy="1101240"/>
            <a:chOff x="4048200" y="114480"/>
            <a:chExt cx="2961000" cy="1101240"/>
          </a:xfrm>
        </p:grpSpPr>
        <p:pic>
          <p:nvPicPr>
            <p:cNvPr id="299" name="" descr=""/>
            <p:cNvPicPr/>
            <p:nvPr/>
          </p:nvPicPr>
          <p:blipFill>
            <a:blip r:embed="rId1"/>
            <a:srcRect l="4929" t="0" r="7427" b="5786"/>
            <a:stretch/>
          </p:blipFill>
          <p:spPr>
            <a:xfrm>
              <a:off x="4048200" y="114480"/>
              <a:ext cx="101592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882320" y="69516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171880" y="419040"/>
            <a:ext cx="1917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13B8-DB89-452B-944A-58421A5A4D76}" type="slidenum">
              <a:t>20</a:t>
            </a:fld>
          </a:p>
        </p:txBody>
      </p:sp>
    </p:spTree>
  </p:cSld>
  <p:transition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44440" y="1608120"/>
            <a:ext cx="85885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xpected frequency is the probability of a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valu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2.00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imes the samp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48200" y="114480"/>
            <a:ext cx="2961000" cy="1101240"/>
            <a:chOff x="4048200" y="114480"/>
            <a:chExt cx="2961000" cy="110124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rcRect l="4929" t="0" r="7427" b="5786"/>
            <a:stretch/>
          </p:blipFill>
          <p:spPr>
            <a:xfrm>
              <a:off x="4048200" y="114480"/>
              <a:ext cx="101592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882320" y="69516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1614600" y="4424400"/>
            <a:ext cx="588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other expected frequencies are computed simi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28160" y="2981160"/>
            <a:ext cx="7437960" cy="938880"/>
            <a:chOff x="1028160" y="2981160"/>
            <a:chExt cx="7437960" cy="938880"/>
          </a:xfrm>
        </p:grpSpPr>
        <p:sp>
          <p:nvSpPr>
            <p:cNvPr id="308" name=""/>
            <p:cNvSpPr/>
            <p:nvPr/>
          </p:nvSpPr>
          <p:spPr>
            <a:xfrm>
              <a:off x="7828200" y="3056040"/>
              <a:ext cx="637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40640" y="3056040"/>
              <a:ext cx="159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88240" y="3056040"/>
              <a:ext cx="637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33520" y="305604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806720" y="3056040"/>
              <a:ext cx="956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13880" y="3056040"/>
              <a:ext cx="424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22040" y="3056040"/>
              <a:ext cx="1274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022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90400" y="3056040"/>
              <a:ext cx="3711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92800" y="2981160"/>
              <a:ext cx="505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22600" y="2981160"/>
              <a:ext cx="505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8440" y="3386160"/>
              <a:ext cx="198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28160" y="3056040"/>
              <a:ext cx="177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55D2-8B85-417A-BEBC-2B5F59103F4F}" type="slidenum">
              <a:t>21</a:t>
            </a:fld>
          </a:p>
        </p:txBody>
      </p:sp>
    </p:spTree>
  </p:cSld>
  <p:transition>
    <p:zoom dir="in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450720" y="1371600"/>
          <a:ext cx="8210520" cy="5205240"/>
        </p:xfrm>
        <a:graphic>
          <a:graphicData uri="http://schemas.openxmlformats.org/drawingml/2006/table">
            <a:tbl>
              <a:tblPr/>
              <a:tblGrid>
                <a:gridCol w="2133720"/>
                <a:gridCol w="1150920"/>
                <a:gridCol w="1641600"/>
                <a:gridCol w="1643040"/>
                <a:gridCol w="1641240"/>
              </a:tblGrid>
              <a:tr h="17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unt Spent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)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54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$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6 up to $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8 up to $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up to $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.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2 up to $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$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1.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ec9"/>
                        </a:gs>
                        <a:gs pos="50000">
                          <a:srgbClr val="fefefe"/>
                        </a:gs>
                        <a:gs pos="100000">
                          <a:srgbClr val="ffcec9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grpSp>
        <p:nvGrpSpPr>
          <p:cNvPr id="321" name=""/>
          <p:cNvGrpSpPr/>
          <p:nvPr/>
        </p:nvGrpSpPr>
        <p:grpSpPr>
          <a:xfrm>
            <a:off x="4048200" y="114480"/>
            <a:ext cx="2961000" cy="1101240"/>
            <a:chOff x="4048200" y="114480"/>
            <a:chExt cx="2961000" cy="110124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rcRect l="4929" t="0" r="7427" b="5786"/>
            <a:stretch/>
          </p:blipFill>
          <p:spPr>
            <a:xfrm>
              <a:off x="4048200" y="114480"/>
              <a:ext cx="101592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882320" y="69516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171880" y="419040"/>
            <a:ext cx="1917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2B83-8B72-48EA-A680-E793FB453D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4048200" y="114480"/>
            <a:ext cx="2961000" cy="1101240"/>
            <a:chOff x="4048200" y="114480"/>
            <a:chExt cx="2961000" cy="110124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rcRect l="4929" t="0" r="7427" b="5786"/>
            <a:stretch/>
          </p:blipFill>
          <p:spPr>
            <a:xfrm>
              <a:off x="4048200" y="114480"/>
              <a:ext cx="101592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882320" y="69516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68520" y="141912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8320" y="246060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8320" y="319392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8320" y="404496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39760" y="1380960"/>
            <a:ext cx="679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The observations follow 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 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27320" y="3157560"/>
            <a:ext cx="5371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rejected if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7.815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f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5760" y="24955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73400" y="3921120"/>
            <a:ext cx="23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36.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3480" y="5041800"/>
            <a:ext cx="8010360" cy="14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: i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j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bservations do NOT follow the normal distribution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832040" y="5016600"/>
            <a:ext cx="1847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338" name=""/>
          <p:cNvSpPr/>
          <p:nvPr/>
        </p:nvSpPr>
        <p:spPr>
          <a:xfrm>
            <a:off x="2017800" y="1762200"/>
            <a:ext cx="6567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The observations do NOT follow 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 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1480" y="6114960"/>
            <a:ext cx="7543800" cy="457200"/>
            <a:chOff x="771480" y="6114960"/>
            <a:chExt cx="7543800" cy="457200"/>
          </a:xfrm>
        </p:grpSpPr>
        <p:sp>
          <p:nvSpPr>
            <p:cNvPr id="340" name=""/>
            <p:cNvSpPr/>
            <p:nvPr/>
          </p:nvSpPr>
          <p:spPr>
            <a:xfrm>
              <a:off x="771480" y="6372360"/>
              <a:ext cx="754380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fb5b5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9080" y="6114960"/>
              <a:ext cx="28584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b5b5"/>
                </a:gs>
                <a:gs pos="100000">
                  <a:srgbClr val="75535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B02B-0198-4C60-B07E-B9FA966BBFA2}" type="slidenum">
              <a:t>23</a:t>
            </a:fld>
          </a:p>
        </p:txBody>
      </p:sp>
    </p:spTree>
  </p:cSld>
  <p:transition>
    <p:cover dir="ru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42960" y="1420920"/>
            <a:ext cx="7939080" cy="1452600"/>
          </a:xfrm>
          <a:prstGeom prst="rect">
            <a:avLst/>
          </a:prstGeom>
          <a:gradFill rotWithShape="0">
            <a:gsLst>
              <a:gs pos="0">
                <a:srgbClr val="00ff99"/>
              </a:gs>
              <a:gs pos="50000">
                <a:srgbClr val="fefefe"/>
              </a:gs>
              <a:gs pos="100000">
                <a:srgbClr val="00ff99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ntingency table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used to investigate whether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wo trai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re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7640" y="5143680"/>
            <a:ext cx="792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expected frequenc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omputed as:                           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Expected Frequenc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tal)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tal)/grand 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141640" y="200160"/>
            <a:ext cx="4914720" cy="11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ingency T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943360" y="495360"/>
            <a:ext cx="3286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nalys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6" name=""/>
          <p:cNvSpPr/>
          <p:nvPr/>
        </p:nvSpPr>
        <p:spPr>
          <a:xfrm>
            <a:off x="878400" y="2979720"/>
            <a:ext cx="75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observation is classified according to two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57280" y="352260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sual hypothesis testing procedure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65440" y="4122720"/>
            <a:ext cx="618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egrees of freedo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equal to: (numbe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)(number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4048200"/>
            <a:ext cx="139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Not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1480" y="6114960"/>
            <a:ext cx="7543800" cy="457200"/>
            <a:chOff x="771480" y="6114960"/>
            <a:chExt cx="7543800" cy="457200"/>
          </a:xfrm>
        </p:grpSpPr>
        <p:sp>
          <p:nvSpPr>
            <p:cNvPr id="351" name=""/>
            <p:cNvSpPr/>
            <p:nvPr/>
          </p:nvSpPr>
          <p:spPr>
            <a:xfrm>
              <a:off x="771480" y="6372360"/>
              <a:ext cx="754380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fb5b5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29080" y="6114960"/>
              <a:ext cx="28584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b5b5"/>
                </a:gs>
                <a:gs pos="100000">
                  <a:srgbClr val="75535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8F2F-C193-4893-A9B5-8F5A266A245E}" type="slidenum">
              <a:t>24</a:t>
            </a:fld>
          </a:p>
        </p:txBody>
      </p:sp>
    </p:spTree>
  </p:cSld>
  <p:transition>
    <p:zoom dir="in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440080" y="1362240"/>
            <a:ext cx="4346640" cy="51908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63640" y="1400040"/>
            <a:ext cx="7499160" cy="1600200"/>
          </a:xfrm>
          <a:prstGeom prst="rect">
            <a:avLst/>
          </a:prstGeom>
          <a:solidFill>
            <a:srgbClr val="cc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re a relationship between the location of an accident and the gender of the person involved in the acciden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rcRect l="4929" t="0" r="7427" b="5786"/>
          <a:stretch/>
        </p:blipFill>
        <p:spPr>
          <a:xfrm>
            <a:off x="4105440" y="171360"/>
            <a:ext cx="1015920" cy="10018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851040" y="3286080"/>
            <a:ext cx="752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mple of 150 accidents reported to the police were classified by type and gend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0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evel of significance, can we conclude that gender and the location of the accident are rel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057320" y="3028680"/>
            <a:ext cx="7086600" cy="28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71480" y="6114960"/>
            <a:ext cx="7543800" cy="457200"/>
            <a:chOff x="771480" y="6114960"/>
            <a:chExt cx="7543800" cy="457200"/>
          </a:xfrm>
        </p:grpSpPr>
        <p:sp>
          <p:nvSpPr>
            <p:cNvPr id="359" name=""/>
            <p:cNvSpPr/>
            <p:nvPr/>
          </p:nvSpPr>
          <p:spPr>
            <a:xfrm>
              <a:off x="771480" y="6372360"/>
              <a:ext cx="754380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fb5b5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29080" y="6114960"/>
              <a:ext cx="28584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b5b5"/>
                </a:gs>
                <a:gs pos="100000">
                  <a:srgbClr val="75535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4C94-E5EA-4917-A47F-F990B6B84C5A}" type="slidenum">
              <a:t>25</a:t>
            </a:fld>
          </a:p>
        </p:txBody>
      </p:sp>
    </p:spTree>
  </p:cSld>
  <p:transition>
    <p:checker dir="horz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4048200" y="114480"/>
            <a:ext cx="2961000" cy="1101240"/>
            <a:chOff x="4048200" y="114480"/>
            <a:chExt cx="2961000" cy="110124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rcRect l="4929" t="0" r="7427" b="5786"/>
            <a:stretch/>
          </p:blipFill>
          <p:spPr>
            <a:xfrm>
              <a:off x="4048200" y="114480"/>
              <a:ext cx="101592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882320" y="69516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4" name=""/>
          <p:cNvGraphicFramePr/>
          <p:nvPr/>
        </p:nvGraphicFramePr>
        <p:xfrm>
          <a:off x="507960" y="1200240"/>
          <a:ext cx="8210520" cy="3228840"/>
        </p:xfrm>
        <a:graphic>
          <a:graphicData uri="http://schemas.openxmlformats.org/drawingml/2006/table">
            <a:tbl>
              <a:tblPr/>
              <a:tblGrid>
                <a:gridCol w="1641600"/>
                <a:gridCol w="1643040"/>
                <a:gridCol w="1636560"/>
                <a:gridCol w="1648080"/>
                <a:gridCol w="164124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10800000"/>
                    </a:gra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fefefe"/>
                        </a:gs>
                        <a:gs pos="100000">
                          <a:srgbClr val="cc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2189160" y="1235160"/>
            <a:ext cx="4846680" cy="58140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50000">
                <a:srgbClr val="fefefe"/>
              </a:gs>
              <a:gs pos="100000">
                <a:srgbClr val="ffc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4486320"/>
            <a:ext cx="8334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pected frequency for the work-male intersection is computed as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/150 =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ilarly, you can compute the                                          expected frequencies for the other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771480" y="6114960"/>
            <a:ext cx="7543800" cy="457200"/>
            <a:chOff x="771480" y="6114960"/>
            <a:chExt cx="7543800" cy="457200"/>
          </a:xfrm>
        </p:grpSpPr>
        <p:sp>
          <p:nvSpPr>
            <p:cNvPr id="368" name=""/>
            <p:cNvSpPr/>
            <p:nvPr/>
          </p:nvSpPr>
          <p:spPr>
            <a:xfrm>
              <a:off x="771480" y="6372360"/>
              <a:ext cx="754380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fb5b5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29080" y="6114960"/>
              <a:ext cx="28584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b5b5"/>
                </a:gs>
                <a:gs pos="100000">
                  <a:srgbClr val="75535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D35C-4AD3-4AE2-9FD7-B6B488F2B89B}" type="slidenum">
              <a:t>26</a:t>
            </a:fld>
          </a:p>
        </p:txBody>
      </p:sp>
    </p:spTree>
  </p:cSld>
  <p:transition>
    <p:zoom dir="out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"/>
                            </p:stCondLst>
                            <p:childTnLst>
                              <p:par>
                                <p:cTn id="7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68520" y="110484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8320" y="193356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8320" y="256536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8320" y="354348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41560" y="1066680"/>
            <a:ext cx="627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The Gender and Location are NOT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27320" y="2471760"/>
            <a:ext cx="5371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rejected if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5.991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f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5760" y="196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933480" y="5489640"/>
            <a:ext cx="8010360" cy="983520"/>
            <a:chOff x="933480" y="5489640"/>
            <a:chExt cx="8010360" cy="983520"/>
          </a:xfrm>
        </p:grpSpPr>
        <p:sp>
          <p:nvSpPr>
            <p:cNvPr id="378" name=""/>
            <p:cNvSpPr/>
            <p:nvPr/>
          </p:nvSpPr>
          <p:spPr>
            <a:xfrm>
              <a:off x="933480" y="5489640"/>
              <a:ext cx="8010360" cy="9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is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reject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der and Location are related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1832040" y="5578560"/>
              <a:ext cx="1847880" cy="27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merType Md BT"/>
                </a:rPr>
                <a:t>Conclusion: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  <a:ea typeface="AmerType Md BT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017800" y="1447920"/>
            <a:ext cx="6567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The Gender and Location ar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71480" y="6305400"/>
            <a:ext cx="7543800" cy="457200"/>
            <a:chOff x="771480" y="6305400"/>
            <a:chExt cx="7543800" cy="457200"/>
          </a:xfrm>
        </p:grpSpPr>
        <p:sp>
          <p:nvSpPr>
            <p:cNvPr id="382" name=""/>
            <p:cNvSpPr/>
            <p:nvPr/>
          </p:nvSpPr>
          <p:spPr>
            <a:xfrm>
              <a:off x="771480" y="6562800"/>
              <a:ext cx="754380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fb5b5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29080" y="6305400"/>
              <a:ext cx="28584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b5b5"/>
                </a:gs>
                <a:gs pos="100000">
                  <a:srgbClr val="75535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20840" y="2895480"/>
            <a:ext cx="63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…there are  (3- 1)(2-1) = 2 degrees of freed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41720" y="3603600"/>
            <a:ext cx="29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value of  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43800" y="4106880"/>
            <a:ext cx="4833000" cy="940680"/>
            <a:chOff x="343800" y="4106880"/>
            <a:chExt cx="4833000" cy="940680"/>
          </a:xfrm>
        </p:grpSpPr>
        <p:sp>
          <p:nvSpPr>
            <p:cNvPr id="387" name=""/>
            <p:cNvSpPr/>
            <p:nvPr/>
          </p:nvSpPr>
          <p:spPr>
            <a:xfrm>
              <a:off x="1251720" y="410688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83640" y="410688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38400" y="4636800"/>
              <a:ext cx="1608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28240" y="410688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12480" y="410688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14920" y="4636800"/>
              <a:ext cx="1361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98840" y="46814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25640" y="42494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16080" y="424944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88880" y="44431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58680" y="468144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03120" y="424944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74480" y="424944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57560" y="4181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628720" y="4181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4680" y="43876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95960" y="42145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16480" y="440820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21400" y="440820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55800" y="42145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85960" y="44082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3800" y="4408200"/>
              <a:ext cx="168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254240" y="0"/>
            <a:ext cx="2961000" cy="1101240"/>
            <a:chOff x="1254240" y="0"/>
            <a:chExt cx="2961000" cy="1101240"/>
          </a:xfrm>
        </p:grpSpPr>
        <p:pic>
          <p:nvPicPr>
            <p:cNvPr id="410" name="" descr=""/>
            <p:cNvPicPr/>
            <p:nvPr/>
          </p:nvPicPr>
          <p:blipFill>
            <a:blip r:embed="rId1"/>
            <a:srcRect l="4929" t="0" r="7427" b="5786"/>
            <a:stretch/>
          </p:blipFill>
          <p:spPr>
            <a:xfrm>
              <a:off x="1254240" y="0"/>
              <a:ext cx="101592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2088360" y="5806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" name="" descr=""/>
          <p:cNvPicPr/>
          <p:nvPr/>
        </p:nvPicPr>
        <p:blipFill>
          <a:blip r:embed="rId2"/>
          <a:srcRect l="43907" t="40168" r="42656" b="50849"/>
          <a:stretch/>
        </p:blipFill>
        <p:spPr>
          <a:xfrm>
            <a:off x="5248440" y="3292560"/>
            <a:ext cx="3895560" cy="19018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629320" y="4521240"/>
            <a:ext cx="587160" cy="3841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143920" y="4527720"/>
            <a:ext cx="885960" cy="3711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853920" y="5094360"/>
            <a:ext cx="1243440" cy="401040"/>
            <a:chOff x="853920" y="5094360"/>
            <a:chExt cx="1243440" cy="401040"/>
          </a:xfrm>
        </p:grpSpPr>
        <p:sp>
          <p:nvSpPr>
            <p:cNvPr id="416" name=""/>
            <p:cNvSpPr/>
            <p:nvPr/>
          </p:nvSpPr>
          <p:spPr>
            <a:xfrm>
              <a:off x="1639440" y="512928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44040" y="51292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58480" y="51292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3920" y="50943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90D5-5282-4DB5-89D6-8010580D6CB8}" type="slidenum">
              <a:t>27</a:t>
            </a:fld>
          </a:p>
        </p:txBody>
      </p:sp>
    </p:spTree>
  </p:cSld>
  <p:transition>
    <p:cover dir="r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fefee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422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426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7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430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38C7-74F3-420D-8999-A35F042601CC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600200" y="3092400"/>
            <a:ext cx="594360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completes Chapter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6454-1F37-4A0D-AC8A-DAF9F61172A1}" type="slidenum">
              <a:t>29</a:t>
            </a:fld>
          </a:p>
        </p:txBody>
      </p:sp>
    </p:spTree>
  </p:cSld>
  <p:transition>
    <p:strips dir="rd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5640" y="3778200"/>
          <a:ext cx="51444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3778200"/>
                    <a:ext cx="514440" cy="466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91658" dir="1281766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71440" y="3730680"/>
            <a:ext cx="695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duc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hypothesis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est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to determine                       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whether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wo attributes are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571760" y="6048360"/>
            <a:ext cx="6029280" cy="276120"/>
            <a:chOff x="1571760" y="6048360"/>
            <a:chExt cx="6029280" cy="276120"/>
          </a:xfrm>
        </p:grpSpPr>
        <p:sp>
          <p:nvSpPr>
            <p:cNvPr id="64" name=""/>
            <p:cNvSpPr/>
            <p:nvPr/>
          </p:nvSpPr>
          <p:spPr>
            <a:xfrm>
              <a:off x="1571760" y="6162480"/>
              <a:ext cx="602928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33760" y="6048360"/>
              <a:ext cx="27648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 txBox="1"/>
          <p:nvPr/>
        </p:nvSpPr>
        <p:spPr>
          <a:xfrm>
            <a:off x="457200" y="2556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368440"/>
            <a:ext cx="646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duct a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test of hypothesis for normalit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ing the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chi-squar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3520" y="2441520"/>
          <a:ext cx="444240" cy="47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2441520"/>
                    <a:ext cx="444240" cy="474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9604" dir="135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6634-16A6-4509-968D-FE978D8B7692}" type="slidenum">
              <a:t>3</a:t>
            </a:fld>
          </a:p>
        </p:txBody>
      </p:sp>
    </p:spTree>
  </p:cSld>
  <p:transition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12720" y="47520"/>
            <a:ext cx="60278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racteristics of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       Chi-Square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83880" y="1539720"/>
            <a:ext cx="7131240" cy="4565160"/>
            <a:chOff x="983880" y="1539720"/>
            <a:chExt cx="7131240" cy="4565160"/>
          </a:xfrm>
        </p:grpSpPr>
        <p:sp>
          <p:nvSpPr>
            <p:cNvPr id="72" name=""/>
            <p:cNvSpPr/>
            <p:nvPr/>
          </p:nvSpPr>
          <p:spPr>
            <a:xfrm>
              <a:off x="1000080" y="1539720"/>
              <a:ext cx="7089840" cy="4546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efce2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1261800" y="5895720"/>
              <a:ext cx="6820560" cy="38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86000">
              <a:off x="1094040" y="1742400"/>
              <a:ext cx="5317200" cy="4221360"/>
            </a:xfrm>
            <a:custGeom>
              <a:avLst/>
              <a:gdLst/>
              <a:ahLst/>
              <a:rect l="l" t="t" r="r" b="b"/>
              <a:pathLst>
                <a:path w="2262" h="1977">
                  <a:moveTo>
                    <a:pt x="102" y="1977"/>
                  </a:moveTo>
                  <a:cubicBezTo>
                    <a:pt x="51" y="1039"/>
                    <a:pt x="0" y="102"/>
                    <a:pt x="174" y="51"/>
                  </a:cubicBezTo>
                  <a:cubicBezTo>
                    <a:pt x="348" y="0"/>
                    <a:pt x="798" y="1365"/>
                    <a:pt x="1146" y="1671"/>
                  </a:cubicBezTo>
                  <a:cubicBezTo>
                    <a:pt x="1494" y="1977"/>
                    <a:pt x="2079" y="1848"/>
                    <a:pt x="2262" y="18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77560" y="4419360"/>
              <a:ext cx="5788080" cy="1428840"/>
            </a:xfrm>
            <a:custGeom>
              <a:avLst/>
              <a:gdLst/>
              <a:ahLst/>
              <a:rect l="l" t="t" r="r" b="b"/>
              <a:pathLst>
                <a:path w="2322" h="864">
                  <a:moveTo>
                    <a:pt x="0" y="864"/>
                  </a:moveTo>
                  <a:cubicBezTo>
                    <a:pt x="274" y="432"/>
                    <a:pt x="549" y="0"/>
                    <a:pt x="936" y="0"/>
                  </a:cubicBezTo>
                  <a:cubicBezTo>
                    <a:pt x="1323" y="0"/>
                    <a:pt x="2091" y="714"/>
                    <a:pt x="2322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7520" y="3504960"/>
              <a:ext cx="6627600" cy="2352600"/>
            </a:xfrm>
            <a:custGeom>
              <a:avLst/>
              <a:gdLst/>
              <a:ahLst/>
              <a:rect l="l" t="t" r="r" b="b"/>
              <a:pathLst>
                <a:path w="2808" h="2022">
                  <a:moveTo>
                    <a:pt x="0" y="2022"/>
                  </a:moveTo>
                  <a:cubicBezTo>
                    <a:pt x="40" y="1089"/>
                    <a:pt x="81" y="156"/>
                    <a:pt x="342" y="78"/>
                  </a:cubicBezTo>
                  <a:cubicBezTo>
                    <a:pt x="603" y="0"/>
                    <a:pt x="1263" y="1248"/>
                    <a:pt x="1566" y="1554"/>
                  </a:cubicBezTo>
                  <a:cubicBezTo>
                    <a:pt x="1869" y="1860"/>
                    <a:pt x="1953" y="1839"/>
                    <a:pt x="2160" y="1914"/>
                  </a:cubicBezTo>
                  <a:cubicBezTo>
                    <a:pt x="2367" y="1989"/>
                    <a:pt x="2700" y="1989"/>
                    <a:pt x="2808" y="20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914400" y="2082960"/>
            <a:ext cx="723888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ositivel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based on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degrees of freedo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degrees of freedom change             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cc"/>
                </a:solidFill>
                <a:latin typeface="Times New Roman"/>
              </a:rPr>
              <a:t> new distribution is create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82240" y="605484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24D0-C7AD-4577-935B-EB673F877D97}" type="slidenum">
              <a:t>4</a:t>
            </a:fld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2187" t="5003" r="12502" b="2496"/>
          <a:stretch/>
        </p:blipFill>
        <p:spPr>
          <a:xfrm>
            <a:off x="542880" y="1511280"/>
            <a:ext cx="7801200" cy="5114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01160" y="1563840"/>
            <a:ext cx="1164960" cy="579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df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1676520"/>
            <a:ext cx="381240" cy="0"/>
          </a:xfrm>
          <a:prstGeom prst="line">
            <a:avLst/>
          </a:prstGeom>
          <a:ln w="12600">
            <a:solidFill>
              <a:srgbClr val="cccc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7840" y="2782800"/>
            <a:ext cx="1164960" cy="579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4ffb"/>
                </a:solidFill>
                <a:latin typeface="Times New Roman"/>
              </a:rPr>
              <a:t>df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3480" y="3468600"/>
            <a:ext cx="1369080" cy="5799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95ab7"/>
                </a:solidFill>
                <a:latin typeface="Times New Roman"/>
              </a:rPr>
              <a:t>df</a:t>
            </a:r>
            <a:r>
              <a:rPr b="1" lang="en-US" sz="3200" spc="-1" strike="noStrike">
                <a:solidFill>
                  <a:srgbClr val="f95ab7"/>
                </a:solidFill>
                <a:latin typeface="Times New Roman"/>
              </a:rPr>
              <a:t> =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3048120"/>
            <a:ext cx="380880" cy="0"/>
          </a:xfrm>
          <a:prstGeom prst="line">
            <a:avLst/>
          </a:prstGeom>
          <a:ln w="12600">
            <a:solidFill>
              <a:srgbClr val="114ffb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3886200"/>
            <a:ext cx="380880" cy="0"/>
          </a:xfrm>
          <a:prstGeom prst="line">
            <a:avLst/>
          </a:prstGeom>
          <a:ln w="12600">
            <a:solidFill>
              <a:srgbClr val="f95ab7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99440" y="5541840"/>
            <a:ext cx="77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720" y="47520"/>
            <a:ext cx="60278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racteristics of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       Chi-Square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FB4B-0FE2-44D8-82F0-FD381CB743C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657440" y="171360"/>
            <a:ext cx="5676840" cy="952560"/>
          </a:xfrm>
          <a:prstGeom prst="rect">
            <a:avLst/>
          </a:prstGeom>
          <a:gradFill rotWithShape="0">
            <a:gsLst>
              <a:gs pos="0">
                <a:srgbClr val="ffb5b5"/>
              </a:gs>
              <a:gs pos="50000">
                <a:srgbClr val="fefefe"/>
              </a:gs>
              <a:gs pos="100000">
                <a:srgbClr val="ffb5b5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369884" dir="95580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ness-of-Fit Test:                          Equal Expected Frequ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21200">
            <a:off x="279000" y="1566720"/>
            <a:ext cx="8375760" cy="423396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ffcec9"/>
              </a:gs>
              <a:gs pos="50000">
                <a:srgbClr val="fefefe"/>
              </a:gs>
              <a:gs pos="100000">
                <a:srgbClr val="ffcec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0600" y="1936800"/>
            <a:ext cx="83725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served an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pec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frequencies respective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There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 differe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served an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pected frequ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The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a difference betw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served and 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pected frequ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71480" y="5886360"/>
            <a:ext cx="7543800" cy="457200"/>
            <a:chOff x="771480" y="5886360"/>
            <a:chExt cx="7543800" cy="457200"/>
          </a:xfrm>
        </p:grpSpPr>
        <p:sp>
          <p:nvSpPr>
            <p:cNvPr id="92" name=""/>
            <p:cNvSpPr/>
            <p:nvPr/>
          </p:nvSpPr>
          <p:spPr>
            <a:xfrm>
              <a:off x="771480" y="6143760"/>
              <a:ext cx="754380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fb5b5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29080" y="5886360"/>
              <a:ext cx="28584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b5b5"/>
                </a:gs>
                <a:gs pos="100000">
                  <a:srgbClr val="75535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4BA0-1C95-46F6-939F-25B533762AB6}" type="slidenum">
              <a:t>6</a:t>
            </a:fld>
          </a:p>
        </p:txBody>
      </p:sp>
    </p:spTree>
  </p:cSld>
  <p:transition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121200">
            <a:off x="279000" y="1566720"/>
            <a:ext cx="8375760" cy="423396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ffcec9"/>
              </a:gs>
              <a:gs pos="50000">
                <a:srgbClr val="fefefe"/>
              </a:gs>
              <a:gs pos="100000">
                <a:srgbClr val="ffcec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360" y="3463920"/>
            <a:ext cx="82296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critical value is a chi-square value with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k-1) degrees of freedo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wher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k is the number of categorie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57440" y="171360"/>
            <a:ext cx="5676840" cy="952560"/>
          </a:xfrm>
          <a:prstGeom prst="rect">
            <a:avLst/>
          </a:prstGeom>
          <a:gradFill rotWithShape="0">
            <a:gsLst>
              <a:gs pos="0">
                <a:srgbClr val="ffb5b5"/>
              </a:gs>
              <a:gs pos="50000">
                <a:srgbClr val="fefefe"/>
              </a:gs>
              <a:gs pos="100000">
                <a:srgbClr val="ffb5b5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369884" dir="95580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ness-of-Fit Test:                          Equal Expected Frequ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4256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95160" y="2095560"/>
            <a:ext cx="3933360" cy="1093680"/>
            <a:chOff x="4295160" y="2095560"/>
            <a:chExt cx="3933360" cy="1093680"/>
          </a:xfrm>
        </p:grpSpPr>
        <p:sp>
          <p:nvSpPr>
            <p:cNvPr id="99" name=""/>
            <p:cNvSpPr/>
            <p:nvPr/>
          </p:nvSpPr>
          <p:spPr>
            <a:xfrm>
              <a:off x="6179400" y="2095560"/>
              <a:ext cx="163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89240" y="2095560"/>
              <a:ext cx="163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61040" y="2651040"/>
              <a:ext cx="1947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22600" y="2271960"/>
              <a:ext cx="389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989320" y="2143080"/>
              <a:ext cx="86040" cy="1023480"/>
              <a:chOff x="5989320" y="2143080"/>
              <a:chExt cx="86040" cy="1023480"/>
            </a:xfrm>
          </p:grpSpPr>
          <p:sp>
            <p:nvSpPr>
              <p:cNvPr id="104" name=""/>
              <p:cNvSpPr/>
              <p:nvPr/>
            </p:nvSpPr>
            <p:spPr>
              <a:xfrm>
                <a:off x="5989320" y="272592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89320" y="24336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989320" y="28004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989320" y="214308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6923160" y="22050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7680" y="24195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2200" y="285264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71800" y="239724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82960" y="23972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0840" y="26956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98640" y="22399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11240" y="22399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56280" y="21700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30320" y="23972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95160" y="2419560"/>
              <a:ext cx="168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8142480" y="2165760"/>
              <a:ext cx="86040" cy="1023480"/>
              <a:chOff x="8142480" y="2165760"/>
              <a:chExt cx="86040" cy="1023480"/>
            </a:xfrm>
          </p:grpSpPr>
          <p:sp>
            <p:nvSpPr>
              <p:cNvPr id="120" name=""/>
              <p:cNvSpPr/>
              <p:nvPr/>
            </p:nvSpPr>
            <p:spPr>
              <a:xfrm flipH="1" flipV="1">
                <a:off x="8142120" y="223992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 flipV="1">
                <a:off x="8142120" y="25322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8142120" y="216540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8142120" y="282276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771480" y="5200560"/>
            <a:ext cx="7543800" cy="457200"/>
            <a:chOff x="771480" y="5200560"/>
            <a:chExt cx="7543800" cy="457200"/>
          </a:xfrm>
        </p:grpSpPr>
        <p:sp>
          <p:nvSpPr>
            <p:cNvPr id="125" name=""/>
            <p:cNvSpPr/>
            <p:nvPr/>
          </p:nvSpPr>
          <p:spPr>
            <a:xfrm>
              <a:off x="771480" y="5457960"/>
              <a:ext cx="7543800" cy="8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fefe"/>
                </a:gs>
                <a:gs pos="50000">
                  <a:srgbClr val="ffb5b5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29080" y="5200560"/>
              <a:ext cx="285840" cy="457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b5b5"/>
                </a:gs>
                <a:gs pos="100000">
                  <a:srgbClr val="75535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16200" y="2357280"/>
            <a:ext cx="34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est statist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4929" t="0" r="7427" b="5786"/>
          <a:stretch/>
        </p:blipFill>
        <p:spPr>
          <a:xfrm>
            <a:off x="7797960" y="5742000"/>
            <a:ext cx="844560" cy="83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4D53-98D2-4414-9E57-27C9034E961F}" type="slidenum">
              <a:t>7</a:t>
            </a:fld>
          </a:p>
        </p:txBody>
      </p:sp>
    </p:spTree>
  </p:cSld>
  <p:transition>
    <p:pull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76240" y="1314360"/>
            <a:ext cx="724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information shows the number of employees absent by day of the week                                                            at a large a manufacturing pla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743960" y="6238800"/>
            <a:ext cx="1247400" cy="542880"/>
            <a:chOff x="7743960" y="6238800"/>
            <a:chExt cx="1247400" cy="542880"/>
          </a:xfrm>
        </p:grpSpPr>
        <p:sp>
          <p:nvSpPr>
            <p:cNvPr id="131" name=""/>
            <p:cNvSpPr/>
            <p:nvPr/>
          </p:nvSpPr>
          <p:spPr>
            <a:xfrm>
              <a:off x="7743960" y="6307200"/>
              <a:ext cx="1232640" cy="47412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43960" y="6238800"/>
              <a:ext cx="1232640" cy="54288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24240" y="6423840"/>
              <a:ext cx="1167120" cy="228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7945200" y="6307200"/>
              <a:ext cx="709200" cy="37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76520" y="2496960"/>
            <a:ext cx="3959280" cy="274176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50000">
                <a:srgbClr val="fefefe"/>
              </a:gs>
              <a:gs pos="100000">
                <a:srgbClr val="ffcec9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7440" y="171360"/>
            <a:ext cx="5676840" cy="952560"/>
          </a:xfrm>
          <a:prstGeom prst="rect">
            <a:avLst/>
          </a:prstGeom>
          <a:gradFill rotWithShape="0">
            <a:gsLst>
              <a:gs pos="0">
                <a:srgbClr val="ffb5b5"/>
              </a:gs>
              <a:gs pos="50000">
                <a:srgbClr val="fefefe"/>
              </a:gs>
              <a:gs pos="100000">
                <a:srgbClr val="ffb5b5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369884" dir="95580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ness-of-Fit Test:                          Equal Expected Frequ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4929" t="0" r="7427" b="5786"/>
          <a:stretch/>
        </p:blipFill>
        <p:spPr>
          <a:xfrm>
            <a:off x="539640" y="1322280"/>
            <a:ext cx="844560" cy="833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57200" y="528804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.05 level of significance, is there a difference in the absence rate by day of the wee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0E0C-038E-4ACA-B52F-FD4711DFC16D}" type="slidenum">
              <a:t>8</a:t>
            </a:fld>
          </a:p>
        </p:txBody>
      </p:sp>
    </p:spTree>
  </p:cSld>
  <p:transition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81200" y="1486080"/>
            <a:ext cx="3810240" cy="561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ec9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4240" y="230508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4040" y="414648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4040" y="485136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2480" y="5559480"/>
            <a:ext cx="1107360" cy="459720"/>
          </a:xfrm>
          <a:prstGeom prst="rect">
            <a:avLst/>
          </a:prstGeom>
          <a:gradFill rotWithShape="0">
            <a:gsLst>
              <a:gs pos="0">
                <a:srgbClr val="ffcec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95600" y="2273400"/>
            <a:ext cx="7216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difference in absence rate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of the wee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82640" y="3595680"/>
            <a:ext cx="691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ence rates by day  are not all eq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8960" y="4094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08200" y="4842000"/>
            <a:ext cx="3162240" cy="404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se Chi-Squar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01720" y="558792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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15360" y="475308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-1) 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0440" y="48038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grees of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8640" y="554508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488. (see Appendix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6280" y="3164040"/>
            <a:ext cx="53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20+45+60+90+130)/5 = 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57440" y="171360"/>
            <a:ext cx="5676840" cy="952560"/>
          </a:xfrm>
          <a:prstGeom prst="rect">
            <a:avLst/>
          </a:prstGeom>
          <a:gradFill rotWithShape="0">
            <a:gsLst>
              <a:gs pos="0">
                <a:srgbClr val="ffb5b5"/>
              </a:gs>
              <a:gs pos="50000">
                <a:srgbClr val="fefefe"/>
              </a:gs>
              <a:gs pos="100000">
                <a:srgbClr val="ffb5b5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369884" dir="95580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ness-of-Fit Test:                          Equal Expected Frequ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7160" y="6111720"/>
            <a:ext cx="2125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i-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4929" t="0" r="7427" b="5786"/>
          <a:stretch/>
        </p:blipFill>
        <p:spPr>
          <a:xfrm>
            <a:off x="539640" y="1322280"/>
            <a:ext cx="844560" cy="83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F5C3-C7B2-426F-A2B2-0C36C0748944}" type="slidenum">
              <a:t>9</a:t>
            </a:fld>
          </a:p>
        </p:txBody>
      </p:sp>
    </p:spTree>
  </p:cSld>
  <p:transition>
    <p:checke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20:28:44Z</dcterms:created>
  <dc:creator>Colleen Quinn &amp; Ron Thornbury</dc:creator>
  <dc:description/>
  <dc:language>en-US</dc:language>
  <cp:lastModifiedBy>jeff_skinner</cp:lastModifiedBy>
  <dcterms:modified xsi:type="dcterms:W3CDTF">2003-04-28T14:10:45Z</dcterms:modified>
  <cp:revision>173</cp:revision>
  <dc:subject/>
  <dc:title>PowerPoint Presentation</dc:title>
</cp:coreProperties>
</file>