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8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7.png" ContentType="image/png"/>
  <Override PartName="/ppt/media/image10.wmf" ContentType="image/x-wm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" name=""/>
          <p:cNvSpPr txBox="1"/>
          <p:nvPr/>
        </p:nvSpPr>
        <p:spPr>
          <a:xfrm>
            <a:off x="533520" y="228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0102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- </a:t>
            </a:r>
            <a:fld id="{429D8E26-C565-4685-824A-0AEB2644303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357280" y="5424480"/>
            <a:ext cx="4391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6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24382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Analysis of Ranked 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192888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5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.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83000"/>
            <a:ext cx="76201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is rejected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f the number         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f negative sig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There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e negative 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re was an increase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percent for one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is rej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&amp;D expense as a percent of inc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declined from 2000 to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52560" y="282600"/>
            <a:ext cx="5081760" cy="784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4128" dir="8365642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5ff"/>
                </a:solidFill>
                <a:latin typeface="Times New Roman"/>
              </a:rPr>
              <a:t>Normal Approx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276720" y="1295280"/>
            <a:ext cx="4578480" cy="524160"/>
            <a:chOff x="3276720" y="1295280"/>
            <a:chExt cx="4578480" cy="524160"/>
          </a:xfrm>
        </p:grpSpPr>
        <p:sp>
          <p:nvSpPr>
            <p:cNvPr id="181" name=""/>
            <p:cNvSpPr txBox="1"/>
            <p:nvPr/>
          </p:nvSpPr>
          <p:spPr>
            <a:xfrm>
              <a:off x="3276720" y="1295280"/>
              <a:ext cx="23619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17520" y="129528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17760" y="228600"/>
            <a:ext cx="4308480" cy="10476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279791" dir="8432054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sting a Hypothesi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bout a Med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33720"/>
            <a:ext cx="7467840" cy="2520720"/>
          </a:xfrm>
          <a:prstGeom prst="rect">
            <a:avLst/>
          </a:prstGeom>
          <a:gradFill rotWithShape="0">
            <a:gsLst>
              <a:gs pos="0">
                <a:srgbClr val="ffe5ff"/>
              </a:gs>
              <a:gs pos="50000">
                <a:srgbClr val="fefefe"/>
              </a:gs>
              <a:gs pos="100000">
                <a:srgbClr val="ffe5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esting the                             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alue of the 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           we use the                                         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rmal approximation to the binomial distribu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9240" y="4952880"/>
            <a:ext cx="78037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 is used as the test stat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33520" y="5562720"/>
            <a:ext cx="8076960" cy="457200"/>
            <a:chOff x="533520" y="5562720"/>
            <a:chExt cx="8076960" cy="457200"/>
          </a:xfrm>
        </p:grpSpPr>
        <p:sp>
          <p:nvSpPr>
            <p:cNvPr id="187" name=""/>
            <p:cNvSpPr/>
            <p:nvPr/>
          </p:nvSpPr>
          <p:spPr>
            <a:xfrm>
              <a:off x="533520" y="579132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556272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>
            <a:off x="7162920" y="617220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18688800">
            <a:off x="705240" y="1176840"/>
            <a:ext cx="6804000" cy="4557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9480" y="1447920"/>
            <a:ext cx="7925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ordon Travel Agency claims that thei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dian airf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ll their clients to all destination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$4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claim is being challenged by a competing agency, who believe the              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s different from $4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andom sample of 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ickets revealed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70 tickets were below $4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Use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05 level of signific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33520" y="6095880"/>
            <a:ext cx="8076960" cy="457200"/>
            <a:chOff x="533520" y="6095880"/>
            <a:chExt cx="8076960" cy="457200"/>
          </a:xfrm>
        </p:grpSpPr>
        <p:sp>
          <p:nvSpPr>
            <p:cNvPr id="193" name=""/>
            <p:cNvSpPr/>
            <p:nvPr/>
          </p:nvSpPr>
          <p:spPr>
            <a:xfrm>
              <a:off x="533520" y="63244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60958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505320" y="152280"/>
            <a:ext cx="2095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zoom dir="ou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18688800">
            <a:off x="705240" y="1176840"/>
            <a:ext cx="6804000" cy="4557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124080" y="152280"/>
            <a:ext cx="2095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5108040" y="3049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717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s rejected if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&gt; than  –1.96 or &lt; than 1.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2.2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0080" y="5302080"/>
            <a:ext cx="7143840" cy="1432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rejected.                                                                     We conclude that the media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s n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$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954360" y="958680"/>
            <a:ext cx="7125120" cy="561600"/>
            <a:chOff x="954360" y="958680"/>
            <a:chExt cx="7125120" cy="561600"/>
          </a:xfrm>
        </p:grpSpPr>
        <p:sp>
          <p:nvSpPr>
            <p:cNvPr id="202" name=""/>
            <p:cNvSpPr/>
            <p:nvPr/>
          </p:nvSpPr>
          <p:spPr>
            <a:xfrm>
              <a:off x="7507080" y="100296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45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8720" y="100296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6920" y="1002960"/>
              <a:ext cx="192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0560" y="1002960"/>
              <a:ext cx="139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median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6160" y="1002960"/>
              <a:ext cx="192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99200" y="10029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48400" y="100296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54200" y="1002960"/>
              <a:ext cx="38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78040" y="1002960"/>
              <a:ext cx="76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45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96240" y="1002960"/>
              <a:ext cx="192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79880" y="1002960"/>
              <a:ext cx="21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3400" y="1002960"/>
              <a:ext cx="1398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median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29360" y="1002960"/>
              <a:ext cx="192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62040" y="10029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52240" y="11998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4560" y="11998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69520" y="95868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54360" y="100296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316240" y="4002120"/>
            <a:ext cx="5303520" cy="983520"/>
            <a:chOff x="2316240" y="4002120"/>
            <a:chExt cx="5303520" cy="983520"/>
          </a:xfrm>
        </p:grpSpPr>
        <p:sp>
          <p:nvSpPr>
            <p:cNvPr id="221" name=""/>
            <p:cNvSpPr/>
            <p:nvPr/>
          </p:nvSpPr>
          <p:spPr>
            <a:xfrm flipV="1">
              <a:off x="4138560" y="4727880"/>
              <a:ext cx="5472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3280" y="4735800"/>
              <a:ext cx="74880" cy="10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279320" y="4511520"/>
              <a:ext cx="10764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87320" y="4511880"/>
              <a:ext cx="686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15120" y="4445280"/>
              <a:ext cx="3474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83640" y="4245120"/>
              <a:ext cx="6361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5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72400" y="424512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7480" y="42451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01000" y="454356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03120" y="45435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120" y="454356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15240" y="40388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67240" y="403884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23960" y="40388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90880" y="403884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82880" y="403884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7800" y="40388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8280" y="4038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59200" y="403884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3360" y="403884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7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45360" y="40388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65800" y="42087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38440" y="400212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11880" y="400212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16240" y="42087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1080" y="2933640"/>
            <a:ext cx="2936880" cy="981720"/>
            <a:chOff x="1981080" y="2933640"/>
            <a:chExt cx="2936880" cy="981720"/>
          </a:xfrm>
        </p:grpSpPr>
        <p:sp>
          <p:nvSpPr>
            <p:cNvPr id="247" name=""/>
            <p:cNvSpPr/>
            <p:nvPr/>
          </p:nvSpPr>
          <p:spPr>
            <a:xfrm flipV="1">
              <a:off x="3726000" y="3656880"/>
              <a:ext cx="4752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73520" y="3665160"/>
              <a:ext cx="65160" cy="1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48040" y="3442680"/>
              <a:ext cx="93600" cy="33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1640" y="3443040"/>
              <a:ext cx="238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19440" y="3376440"/>
              <a:ext cx="2198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22240" y="34732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8280" y="34732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22520" y="29700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28560" y="297000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8640" y="29700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06480" y="297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12520" y="297000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45360" y="29700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9040" y="293364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04800" y="293364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7360" y="313812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64680" y="347328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03040" y="29700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09520" y="2970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080" y="2943000"/>
              <a:ext cx="203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Signed-Rank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7560" y="3886200"/>
            <a:ext cx="8215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st requires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dinal scale of measur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bservations must be rela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lcoxon Signed-Ran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assumption of normality is violated for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ired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33520" y="2438280"/>
            <a:ext cx="8076960" cy="457200"/>
            <a:chOff x="533520" y="2438280"/>
            <a:chExt cx="8076960" cy="457200"/>
          </a:xfrm>
        </p:grpSpPr>
        <p:sp>
          <p:nvSpPr>
            <p:cNvPr id="271" name=""/>
            <p:cNvSpPr/>
            <p:nvPr/>
          </p:nvSpPr>
          <p:spPr>
            <a:xfrm>
              <a:off x="533520" y="26668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43400" y="24382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73880" y="2965320"/>
            <a:ext cx="2571480" cy="2327760"/>
            <a:chOff x="173880" y="2965320"/>
            <a:chExt cx="2571480" cy="2327760"/>
          </a:xfrm>
        </p:grpSpPr>
        <p:grpSp>
          <p:nvGrpSpPr>
            <p:cNvPr id="274" name=""/>
            <p:cNvGrpSpPr/>
            <p:nvPr/>
          </p:nvGrpSpPr>
          <p:grpSpPr>
            <a:xfrm>
              <a:off x="173880" y="2965320"/>
              <a:ext cx="2571480" cy="2327760"/>
              <a:chOff x="173880" y="2965320"/>
              <a:chExt cx="2571480" cy="2327760"/>
            </a:xfrm>
          </p:grpSpPr>
          <p:sp>
            <p:nvSpPr>
              <p:cNvPr id="275" name=""/>
              <p:cNvSpPr/>
              <p:nvPr/>
            </p:nvSpPr>
            <p:spPr>
              <a:xfrm rot="1911000">
                <a:off x="380520" y="3429000"/>
                <a:ext cx="2157480" cy="1400040"/>
              </a:xfrm>
              <a:custGeom>
                <a:avLst/>
                <a:gdLst/>
                <a:ahLst/>
                <a:rect l="l" t="t" r="r" b="b"/>
                <a:pathLst>
                  <a:path w="1359" h="882">
                    <a:moveTo>
                      <a:pt x="891" y="882"/>
                    </a:moveTo>
                    <a:lnTo>
                      <a:pt x="894" y="882"/>
                    </a:lnTo>
                    <a:lnTo>
                      <a:pt x="894" y="882"/>
                    </a:lnTo>
                    <a:lnTo>
                      <a:pt x="897" y="879"/>
                    </a:lnTo>
                    <a:lnTo>
                      <a:pt x="897" y="879"/>
                    </a:lnTo>
                    <a:lnTo>
                      <a:pt x="900" y="873"/>
                    </a:lnTo>
                    <a:lnTo>
                      <a:pt x="903" y="864"/>
                    </a:lnTo>
                    <a:lnTo>
                      <a:pt x="909" y="858"/>
                    </a:lnTo>
                    <a:lnTo>
                      <a:pt x="912" y="852"/>
                    </a:lnTo>
                    <a:lnTo>
                      <a:pt x="918" y="846"/>
                    </a:lnTo>
                    <a:lnTo>
                      <a:pt x="924" y="840"/>
                    </a:lnTo>
                    <a:lnTo>
                      <a:pt x="927" y="831"/>
                    </a:lnTo>
                    <a:lnTo>
                      <a:pt x="933" y="825"/>
                    </a:lnTo>
                    <a:lnTo>
                      <a:pt x="939" y="819"/>
                    </a:lnTo>
                    <a:lnTo>
                      <a:pt x="945" y="813"/>
                    </a:lnTo>
                    <a:lnTo>
                      <a:pt x="951" y="807"/>
                    </a:lnTo>
                    <a:lnTo>
                      <a:pt x="957" y="801"/>
                    </a:lnTo>
                    <a:lnTo>
                      <a:pt x="963" y="795"/>
                    </a:lnTo>
                    <a:lnTo>
                      <a:pt x="969" y="789"/>
                    </a:lnTo>
                    <a:lnTo>
                      <a:pt x="975" y="783"/>
                    </a:lnTo>
                    <a:lnTo>
                      <a:pt x="981" y="774"/>
                    </a:lnTo>
                    <a:lnTo>
                      <a:pt x="990" y="768"/>
                    </a:lnTo>
                    <a:lnTo>
                      <a:pt x="993" y="765"/>
                    </a:lnTo>
                    <a:lnTo>
                      <a:pt x="999" y="759"/>
                    </a:lnTo>
                    <a:lnTo>
                      <a:pt x="1002" y="753"/>
                    </a:lnTo>
                    <a:lnTo>
                      <a:pt x="1008" y="750"/>
                    </a:lnTo>
                    <a:lnTo>
                      <a:pt x="1011" y="744"/>
                    </a:lnTo>
                    <a:lnTo>
                      <a:pt x="1017" y="738"/>
                    </a:lnTo>
                    <a:lnTo>
                      <a:pt x="1020" y="735"/>
                    </a:lnTo>
                    <a:lnTo>
                      <a:pt x="1026" y="729"/>
                    </a:lnTo>
                    <a:lnTo>
                      <a:pt x="1029" y="726"/>
                    </a:lnTo>
                    <a:lnTo>
                      <a:pt x="1032" y="723"/>
                    </a:lnTo>
                    <a:lnTo>
                      <a:pt x="1035" y="720"/>
                    </a:lnTo>
                    <a:lnTo>
                      <a:pt x="1038" y="717"/>
                    </a:lnTo>
                    <a:lnTo>
                      <a:pt x="1041" y="717"/>
                    </a:lnTo>
                    <a:lnTo>
                      <a:pt x="1044" y="714"/>
                    </a:lnTo>
                    <a:lnTo>
                      <a:pt x="1044" y="711"/>
                    </a:lnTo>
                    <a:lnTo>
                      <a:pt x="1047" y="708"/>
                    </a:lnTo>
                    <a:lnTo>
                      <a:pt x="1053" y="702"/>
                    </a:lnTo>
                    <a:lnTo>
                      <a:pt x="1056" y="699"/>
                    </a:lnTo>
                    <a:lnTo>
                      <a:pt x="1062" y="693"/>
                    </a:lnTo>
                    <a:lnTo>
                      <a:pt x="1065" y="690"/>
                    </a:lnTo>
                    <a:lnTo>
                      <a:pt x="1068" y="684"/>
                    </a:lnTo>
                    <a:lnTo>
                      <a:pt x="1071" y="681"/>
                    </a:lnTo>
                    <a:lnTo>
                      <a:pt x="1077" y="678"/>
                    </a:lnTo>
                    <a:lnTo>
                      <a:pt x="1080" y="675"/>
                    </a:lnTo>
                    <a:lnTo>
                      <a:pt x="1083" y="669"/>
                    </a:lnTo>
                    <a:lnTo>
                      <a:pt x="1086" y="666"/>
                    </a:lnTo>
                    <a:lnTo>
                      <a:pt x="1089" y="660"/>
                    </a:lnTo>
                    <a:lnTo>
                      <a:pt x="1092" y="654"/>
                    </a:lnTo>
                    <a:lnTo>
                      <a:pt x="1095" y="651"/>
                    </a:lnTo>
                    <a:lnTo>
                      <a:pt x="1098" y="645"/>
                    </a:lnTo>
                    <a:lnTo>
                      <a:pt x="1101" y="642"/>
                    </a:lnTo>
                    <a:lnTo>
                      <a:pt x="1107" y="639"/>
                    </a:lnTo>
                    <a:lnTo>
                      <a:pt x="1110" y="636"/>
                    </a:lnTo>
                    <a:lnTo>
                      <a:pt x="1110" y="633"/>
                    </a:lnTo>
                    <a:lnTo>
                      <a:pt x="1113" y="630"/>
                    </a:lnTo>
                    <a:lnTo>
                      <a:pt x="1113" y="627"/>
                    </a:lnTo>
                    <a:lnTo>
                      <a:pt x="1116" y="624"/>
                    </a:lnTo>
                    <a:lnTo>
                      <a:pt x="1119" y="621"/>
                    </a:lnTo>
                    <a:lnTo>
                      <a:pt x="1122" y="618"/>
                    </a:lnTo>
                    <a:lnTo>
                      <a:pt x="1122" y="618"/>
                    </a:lnTo>
                    <a:lnTo>
                      <a:pt x="1125" y="612"/>
                    </a:lnTo>
                    <a:lnTo>
                      <a:pt x="1128" y="612"/>
                    </a:lnTo>
                    <a:lnTo>
                      <a:pt x="1131" y="609"/>
                    </a:lnTo>
                    <a:lnTo>
                      <a:pt x="1134" y="606"/>
                    </a:lnTo>
                    <a:lnTo>
                      <a:pt x="1137" y="603"/>
                    </a:lnTo>
                    <a:lnTo>
                      <a:pt x="1137" y="600"/>
                    </a:lnTo>
                    <a:lnTo>
                      <a:pt x="1140" y="597"/>
                    </a:lnTo>
                    <a:lnTo>
                      <a:pt x="1143" y="594"/>
                    </a:lnTo>
                    <a:lnTo>
                      <a:pt x="1191" y="546"/>
                    </a:lnTo>
                    <a:lnTo>
                      <a:pt x="1197" y="540"/>
                    </a:lnTo>
                    <a:lnTo>
                      <a:pt x="1203" y="534"/>
                    </a:lnTo>
                    <a:lnTo>
                      <a:pt x="1209" y="528"/>
                    </a:lnTo>
                    <a:lnTo>
                      <a:pt x="1215" y="522"/>
                    </a:lnTo>
                    <a:lnTo>
                      <a:pt x="1221" y="516"/>
                    </a:lnTo>
                    <a:lnTo>
                      <a:pt x="1230" y="510"/>
                    </a:lnTo>
                    <a:lnTo>
                      <a:pt x="1236" y="504"/>
                    </a:lnTo>
                    <a:lnTo>
                      <a:pt x="1242" y="495"/>
                    </a:lnTo>
                    <a:lnTo>
                      <a:pt x="1245" y="492"/>
                    </a:lnTo>
                    <a:lnTo>
                      <a:pt x="1248" y="492"/>
                    </a:lnTo>
                    <a:lnTo>
                      <a:pt x="1251" y="489"/>
                    </a:lnTo>
                    <a:lnTo>
                      <a:pt x="1254" y="486"/>
                    </a:lnTo>
                    <a:lnTo>
                      <a:pt x="1257" y="483"/>
                    </a:lnTo>
                    <a:lnTo>
                      <a:pt x="1260" y="480"/>
                    </a:lnTo>
                    <a:lnTo>
                      <a:pt x="1263" y="480"/>
                    </a:lnTo>
                    <a:lnTo>
                      <a:pt x="1266" y="477"/>
                    </a:lnTo>
                    <a:lnTo>
                      <a:pt x="1269" y="471"/>
                    </a:lnTo>
                    <a:lnTo>
                      <a:pt x="1275" y="465"/>
                    </a:lnTo>
                    <a:lnTo>
                      <a:pt x="1281" y="459"/>
                    </a:lnTo>
                    <a:lnTo>
                      <a:pt x="1287" y="456"/>
                    </a:lnTo>
                    <a:lnTo>
                      <a:pt x="1293" y="450"/>
                    </a:lnTo>
                    <a:lnTo>
                      <a:pt x="1296" y="444"/>
                    </a:lnTo>
                    <a:lnTo>
                      <a:pt x="1302" y="438"/>
                    </a:lnTo>
                    <a:lnTo>
                      <a:pt x="1308" y="432"/>
                    </a:lnTo>
                    <a:lnTo>
                      <a:pt x="1308" y="429"/>
                    </a:lnTo>
                    <a:lnTo>
                      <a:pt x="1311" y="426"/>
                    </a:lnTo>
                    <a:lnTo>
                      <a:pt x="1314" y="423"/>
                    </a:lnTo>
                    <a:lnTo>
                      <a:pt x="1317" y="420"/>
                    </a:lnTo>
                    <a:lnTo>
                      <a:pt x="1317" y="417"/>
                    </a:lnTo>
                    <a:lnTo>
                      <a:pt x="1320" y="414"/>
                    </a:lnTo>
                    <a:lnTo>
                      <a:pt x="1323" y="414"/>
                    </a:lnTo>
                    <a:lnTo>
                      <a:pt x="1326" y="411"/>
                    </a:lnTo>
                    <a:lnTo>
                      <a:pt x="1356" y="366"/>
                    </a:lnTo>
                    <a:lnTo>
                      <a:pt x="1359" y="348"/>
                    </a:lnTo>
                    <a:lnTo>
                      <a:pt x="1350" y="345"/>
                    </a:lnTo>
                    <a:lnTo>
                      <a:pt x="1347" y="345"/>
                    </a:lnTo>
                    <a:lnTo>
                      <a:pt x="1344" y="342"/>
                    </a:lnTo>
                    <a:lnTo>
                      <a:pt x="1344" y="342"/>
                    </a:lnTo>
                    <a:lnTo>
                      <a:pt x="1344" y="339"/>
                    </a:lnTo>
                    <a:lnTo>
                      <a:pt x="1344" y="339"/>
                    </a:lnTo>
                    <a:lnTo>
                      <a:pt x="1344" y="339"/>
                    </a:lnTo>
                    <a:lnTo>
                      <a:pt x="1344" y="336"/>
                    </a:lnTo>
                    <a:lnTo>
                      <a:pt x="1341" y="336"/>
                    </a:lnTo>
                    <a:lnTo>
                      <a:pt x="1332" y="342"/>
                    </a:lnTo>
                    <a:lnTo>
                      <a:pt x="1314" y="336"/>
                    </a:lnTo>
                    <a:lnTo>
                      <a:pt x="1314" y="336"/>
                    </a:lnTo>
                    <a:lnTo>
                      <a:pt x="1311" y="336"/>
                    </a:lnTo>
                    <a:lnTo>
                      <a:pt x="1311" y="336"/>
                    </a:lnTo>
                    <a:lnTo>
                      <a:pt x="1311" y="336"/>
                    </a:lnTo>
                    <a:lnTo>
                      <a:pt x="1308" y="336"/>
                    </a:lnTo>
                    <a:lnTo>
                      <a:pt x="1308" y="336"/>
                    </a:lnTo>
                    <a:lnTo>
                      <a:pt x="1308" y="333"/>
                    </a:lnTo>
                    <a:lnTo>
                      <a:pt x="1308" y="333"/>
                    </a:lnTo>
                    <a:lnTo>
                      <a:pt x="1299" y="333"/>
                    </a:lnTo>
                    <a:lnTo>
                      <a:pt x="1293" y="333"/>
                    </a:lnTo>
                    <a:lnTo>
                      <a:pt x="1287" y="330"/>
                    </a:lnTo>
                    <a:lnTo>
                      <a:pt x="1281" y="327"/>
                    </a:lnTo>
                    <a:lnTo>
                      <a:pt x="1275" y="327"/>
                    </a:lnTo>
                    <a:lnTo>
                      <a:pt x="1269" y="324"/>
                    </a:lnTo>
                    <a:lnTo>
                      <a:pt x="1260" y="321"/>
                    </a:lnTo>
                    <a:lnTo>
                      <a:pt x="1254" y="321"/>
                    </a:lnTo>
                    <a:lnTo>
                      <a:pt x="1251" y="318"/>
                    </a:lnTo>
                    <a:lnTo>
                      <a:pt x="1245" y="318"/>
                    </a:lnTo>
                    <a:lnTo>
                      <a:pt x="1239" y="315"/>
                    </a:lnTo>
                    <a:lnTo>
                      <a:pt x="1236" y="315"/>
                    </a:lnTo>
                    <a:lnTo>
                      <a:pt x="1230" y="315"/>
                    </a:lnTo>
                    <a:lnTo>
                      <a:pt x="1224" y="312"/>
                    </a:lnTo>
                    <a:lnTo>
                      <a:pt x="1221" y="312"/>
                    </a:lnTo>
                    <a:lnTo>
                      <a:pt x="1215" y="309"/>
                    </a:lnTo>
                    <a:lnTo>
                      <a:pt x="1212" y="309"/>
                    </a:lnTo>
                    <a:lnTo>
                      <a:pt x="1206" y="306"/>
                    </a:lnTo>
                    <a:lnTo>
                      <a:pt x="1203" y="306"/>
                    </a:lnTo>
                    <a:lnTo>
                      <a:pt x="1197" y="303"/>
                    </a:lnTo>
                    <a:lnTo>
                      <a:pt x="1194" y="303"/>
                    </a:lnTo>
                    <a:lnTo>
                      <a:pt x="1188" y="300"/>
                    </a:lnTo>
                    <a:lnTo>
                      <a:pt x="1185" y="300"/>
                    </a:lnTo>
                    <a:lnTo>
                      <a:pt x="1179" y="297"/>
                    </a:lnTo>
                    <a:lnTo>
                      <a:pt x="1176" y="297"/>
                    </a:lnTo>
                    <a:lnTo>
                      <a:pt x="1170" y="294"/>
                    </a:lnTo>
                    <a:lnTo>
                      <a:pt x="1167" y="291"/>
                    </a:lnTo>
                    <a:lnTo>
                      <a:pt x="1164" y="291"/>
                    </a:lnTo>
                    <a:lnTo>
                      <a:pt x="1161" y="288"/>
                    </a:lnTo>
                    <a:lnTo>
                      <a:pt x="1155" y="288"/>
                    </a:lnTo>
                    <a:lnTo>
                      <a:pt x="1152" y="285"/>
                    </a:lnTo>
                    <a:lnTo>
                      <a:pt x="1149" y="285"/>
                    </a:lnTo>
                    <a:lnTo>
                      <a:pt x="1053" y="252"/>
                    </a:lnTo>
                    <a:lnTo>
                      <a:pt x="1017" y="243"/>
                    </a:lnTo>
                    <a:lnTo>
                      <a:pt x="1014" y="240"/>
                    </a:lnTo>
                    <a:lnTo>
                      <a:pt x="1008" y="234"/>
                    </a:lnTo>
                    <a:lnTo>
                      <a:pt x="1002" y="234"/>
                    </a:lnTo>
                    <a:lnTo>
                      <a:pt x="996" y="231"/>
                    </a:lnTo>
                    <a:lnTo>
                      <a:pt x="990" y="228"/>
                    </a:lnTo>
                    <a:lnTo>
                      <a:pt x="984" y="225"/>
                    </a:lnTo>
                    <a:lnTo>
                      <a:pt x="978" y="222"/>
                    </a:lnTo>
                    <a:lnTo>
                      <a:pt x="972" y="219"/>
                    </a:lnTo>
                    <a:lnTo>
                      <a:pt x="966" y="216"/>
                    </a:lnTo>
                    <a:lnTo>
                      <a:pt x="960" y="210"/>
                    </a:lnTo>
                    <a:lnTo>
                      <a:pt x="951" y="207"/>
                    </a:lnTo>
                    <a:lnTo>
                      <a:pt x="945" y="204"/>
                    </a:lnTo>
                    <a:lnTo>
                      <a:pt x="936" y="201"/>
                    </a:lnTo>
                    <a:lnTo>
                      <a:pt x="930" y="198"/>
                    </a:lnTo>
                    <a:lnTo>
                      <a:pt x="924" y="195"/>
                    </a:lnTo>
                    <a:lnTo>
                      <a:pt x="915" y="192"/>
                    </a:lnTo>
                    <a:lnTo>
                      <a:pt x="909" y="189"/>
                    </a:lnTo>
                    <a:lnTo>
                      <a:pt x="900" y="186"/>
                    </a:lnTo>
                    <a:lnTo>
                      <a:pt x="894" y="183"/>
                    </a:lnTo>
                    <a:lnTo>
                      <a:pt x="885" y="180"/>
                    </a:lnTo>
                    <a:lnTo>
                      <a:pt x="879" y="177"/>
                    </a:lnTo>
                    <a:lnTo>
                      <a:pt x="870" y="174"/>
                    </a:lnTo>
                    <a:lnTo>
                      <a:pt x="864" y="171"/>
                    </a:lnTo>
                    <a:lnTo>
                      <a:pt x="855" y="168"/>
                    </a:lnTo>
                    <a:lnTo>
                      <a:pt x="849" y="168"/>
                    </a:lnTo>
                    <a:lnTo>
                      <a:pt x="846" y="165"/>
                    </a:lnTo>
                    <a:lnTo>
                      <a:pt x="840" y="165"/>
                    </a:lnTo>
                    <a:lnTo>
                      <a:pt x="837" y="162"/>
                    </a:lnTo>
                    <a:lnTo>
                      <a:pt x="834" y="162"/>
                    </a:lnTo>
                    <a:lnTo>
                      <a:pt x="828" y="159"/>
                    </a:lnTo>
                    <a:lnTo>
                      <a:pt x="825" y="159"/>
                    </a:lnTo>
                    <a:lnTo>
                      <a:pt x="819" y="156"/>
                    </a:lnTo>
                    <a:lnTo>
                      <a:pt x="816" y="156"/>
                    </a:lnTo>
                    <a:lnTo>
                      <a:pt x="813" y="153"/>
                    </a:lnTo>
                    <a:lnTo>
                      <a:pt x="807" y="153"/>
                    </a:lnTo>
                    <a:lnTo>
                      <a:pt x="804" y="153"/>
                    </a:lnTo>
                    <a:lnTo>
                      <a:pt x="798" y="150"/>
                    </a:lnTo>
                    <a:lnTo>
                      <a:pt x="795" y="150"/>
                    </a:lnTo>
                    <a:lnTo>
                      <a:pt x="792" y="147"/>
                    </a:lnTo>
                    <a:lnTo>
                      <a:pt x="786" y="147"/>
                    </a:lnTo>
                    <a:lnTo>
                      <a:pt x="777" y="144"/>
                    </a:lnTo>
                    <a:lnTo>
                      <a:pt x="771" y="141"/>
                    </a:lnTo>
                    <a:lnTo>
                      <a:pt x="765" y="138"/>
                    </a:lnTo>
                    <a:lnTo>
                      <a:pt x="756" y="135"/>
                    </a:lnTo>
                    <a:lnTo>
                      <a:pt x="750" y="132"/>
                    </a:lnTo>
                    <a:lnTo>
                      <a:pt x="744" y="129"/>
                    </a:lnTo>
                    <a:lnTo>
                      <a:pt x="735" y="126"/>
                    </a:lnTo>
                    <a:lnTo>
                      <a:pt x="729" y="123"/>
                    </a:lnTo>
                    <a:lnTo>
                      <a:pt x="723" y="120"/>
                    </a:lnTo>
                    <a:lnTo>
                      <a:pt x="720" y="120"/>
                    </a:lnTo>
                    <a:lnTo>
                      <a:pt x="714" y="117"/>
                    </a:lnTo>
                    <a:lnTo>
                      <a:pt x="711" y="114"/>
                    </a:lnTo>
                    <a:lnTo>
                      <a:pt x="708" y="114"/>
                    </a:lnTo>
                    <a:lnTo>
                      <a:pt x="702" y="111"/>
                    </a:lnTo>
                    <a:lnTo>
                      <a:pt x="699" y="108"/>
                    </a:lnTo>
                    <a:lnTo>
                      <a:pt x="693" y="108"/>
                    </a:lnTo>
                    <a:lnTo>
                      <a:pt x="687" y="105"/>
                    </a:lnTo>
                    <a:lnTo>
                      <a:pt x="681" y="99"/>
                    </a:lnTo>
                    <a:lnTo>
                      <a:pt x="675" y="96"/>
                    </a:lnTo>
                    <a:lnTo>
                      <a:pt x="669" y="93"/>
                    </a:lnTo>
                    <a:lnTo>
                      <a:pt x="663" y="90"/>
                    </a:lnTo>
                    <a:lnTo>
                      <a:pt x="654" y="87"/>
                    </a:lnTo>
                    <a:lnTo>
                      <a:pt x="648" y="84"/>
                    </a:lnTo>
                    <a:lnTo>
                      <a:pt x="642" y="81"/>
                    </a:lnTo>
                    <a:lnTo>
                      <a:pt x="639" y="78"/>
                    </a:lnTo>
                    <a:lnTo>
                      <a:pt x="633" y="75"/>
                    </a:lnTo>
                    <a:lnTo>
                      <a:pt x="630" y="72"/>
                    </a:lnTo>
                    <a:lnTo>
                      <a:pt x="627" y="72"/>
                    </a:lnTo>
                    <a:lnTo>
                      <a:pt x="621" y="69"/>
                    </a:lnTo>
                    <a:lnTo>
                      <a:pt x="618" y="66"/>
                    </a:lnTo>
                    <a:lnTo>
                      <a:pt x="615" y="63"/>
                    </a:lnTo>
                    <a:lnTo>
                      <a:pt x="612" y="63"/>
                    </a:lnTo>
                    <a:lnTo>
                      <a:pt x="606" y="60"/>
                    </a:lnTo>
                    <a:lnTo>
                      <a:pt x="600" y="57"/>
                    </a:lnTo>
                    <a:lnTo>
                      <a:pt x="597" y="54"/>
                    </a:lnTo>
                    <a:lnTo>
                      <a:pt x="591" y="51"/>
                    </a:lnTo>
                    <a:lnTo>
                      <a:pt x="585" y="48"/>
                    </a:lnTo>
                    <a:lnTo>
                      <a:pt x="582" y="45"/>
                    </a:lnTo>
                    <a:lnTo>
                      <a:pt x="576" y="45"/>
                    </a:lnTo>
                    <a:lnTo>
                      <a:pt x="573" y="42"/>
                    </a:lnTo>
                    <a:lnTo>
                      <a:pt x="567" y="39"/>
                    </a:lnTo>
                    <a:lnTo>
                      <a:pt x="561" y="36"/>
                    </a:lnTo>
                    <a:lnTo>
                      <a:pt x="558" y="33"/>
                    </a:lnTo>
                    <a:lnTo>
                      <a:pt x="552" y="30"/>
                    </a:lnTo>
                    <a:lnTo>
                      <a:pt x="549" y="27"/>
                    </a:lnTo>
                    <a:lnTo>
                      <a:pt x="543" y="24"/>
                    </a:lnTo>
                    <a:lnTo>
                      <a:pt x="537" y="21"/>
                    </a:lnTo>
                    <a:lnTo>
                      <a:pt x="534" y="18"/>
                    </a:lnTo>
                    <a:lnTo>
                      <a:pt x="531" y="18"/>
                    </a:lnTo>
                    <a:lnTo>
                      <a:pt x="528" y="15"/>
                    </a:lnTo>
                    <a:lnTo>
                      <a:pt x="528" y="15"/>
                    </a:lnTo>
                    <a:lnTo>
                      <a:pt x="525" y="12"/>
                    </a:lnTo>
                    <a:lnTo>
                      <a:pt x="522" y="12"/>
                    </a:lnTo>
                    <a:lnTo>
                      <a:pt x="522" y="12"/>
                    </a:lnTo>
                    <a:lnTo>
                      <a:pt x="519" y="9"/>
                    </a:lnTo>
                    <a:lnTo>
                      <a:pt x="516" y="6"/>
                    </a:lnTo>
                    <a:lnTo>
                      <a:pt x="513" y="6"/>
                    </a:lnTo>
                    <a:lnTo>
                      <a:pt x="507" y="3"/>
                    </a:lnTo>
                    <a:lnTo>
                      <a:pt x="504" y="3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89" y="0"/>
                    </a:lnTo>
                    <a:lnTo>
                      <a:pt x="486" y="0"/>
                    </a:lnTo>
                    <a:lnTo>
                      <a:pt x="480" y="0"/>
                    </a:lnTo>
                    <a:lnTo>
                      <a:pt x="477" y="0"/>
                    </a:lnTo>
                    <a:lnTo>
                      <a:pt x="471" y="0"/>
                    </a:lnTo>
                    <a:lnTo>
                      <a:pt x="465" y="0"/>
                    </a:lnTo>
                    <a:lnTo>
                      <a:pt x="462" y="0"/>
                    </a:lnTo>
                    <a:lnTo>
                      <a:pt x="456" y="0"/>
                    </a:lnTo>
                    <a:lnTo>
                      <a:pt x="450" y="0"/>
                    </a:lnTo>
                    <a:lnTo>
                      <a:pt x="447" y="0"/>
                    </a:lnTo>
                    <a:lnTo>
                      <a:pt x="441" y="0"/>
                    </a:lnTo>
                    <a:lnTo>
                      <a:pt x="414" y="33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5" y="57"/>
                    </a:lnTo>
                    <a:lnTo>
                      <a:pt x="375" y="5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48" y="21"/>
                    </a:lnTo>
                    <a:lnTo>
                      <a:pt x="342" y="18"/>
                    </a:lnTo>
                    <a:lnTo>
                      <a:pt x="339" y="18"/>
                    </a:lnTo>
                    <a:lnTo>
                      <a:pt x="336" y="18"/>
                    </a:lnTo>
                    <a:lnTo>
                      <a:pt x="333" y="18"/>
                    </a:lnTo>
                    <a:lnTo>
                      <a:pt x="330" y="21"/>
                    </a:lnTo>
                    <a:lnTo>
                      <a:pt x="327" y="21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1" y="30"/>
                    </a:lnTo>
                    <a:lnTo>
                      <a:pt x="318" y="36"/>
                    </a:lnTo>
                    <a:lnTo>
                      <a:pt x="318" y="45"/>
                    </a:lnTo>
                    <a:lnTo>
                      <a:pt x="318" y="54"/>
                    </a:lnTo>
                    <a:lnTo>
                      <a:pt x="318" y="60"/>
                    </a:lnTo>
                    <a:lnTo>
                      <a:pt x="321" y="69"/>
                    </a:lnTo>
                    <a:lnTo>
                      <a:pt x="321" y="78"/>
                    </a:lnTo>
                    <a:lnTo>
                      <a:pt x="321" y="84"/>
                    </a:lnTo>
                    <a:lnTo>
                      <a:pt x="324" y="93"/>
                    </a:lnTo>
                    <a:lnTo>
                      <a:pt x="324" y="99"/>
                    </a:lnTo>
                    <a:lnTo>
                      <a:pt x="327" y="108"/>
                    </a:lnTo>
                    <a:lnTo>
                      <a:pt x="327" y="117"/>
                    </a:lnTo>
                    <a:lnTo>
                      <a:pt x="330" y="126"/>
                    </a:lnTo>
                    <a:lnTo>
                      <a:pt x="333" y="138"/>
                    </a:lnTo>
                    <a:lnTo>
                      <a:pt x="336" y="150"/>
                    </a:lnTo>
                    <a:lnTo>
                      <a:pt x="339" y="159"/>
                    </a:lnTo>
                    <a:lnTo>
                      <a:pt x="339" y="165"/>
                    </a:lnTo>
                    <a:lnTo>
                      <a:pt x="342" y="168"/>
                    </a:lnTo>
                    <a:lnTo>
                      <a:pt x="345" y="174"/>
                    </a:lnTo>
                    <a:lnTo>
                      <a:pt x="345" y="177"/>
                    </a:lnTo>
                    <a:lnTo>
                      <a:pt x="348" y="183"/>
                    </a:lnTo>
                    <a:lnTo>
                      <a:pt x="351" y="186"/>
                    </a:lnTo>
                    <a:lnTo>
                      <a:pt x="351" y="192"/>
                    </a:lnTo>
                    <a:lnTo>
                      <a:pt x="354" y="198"/>
                    </a:lnTo>
                    <a:lnTo>
                      <a:pt x="357" y="201"/>
                    </a:lnTo>
                    <a:lnTo>
                      <a:pt x="360" y="207"/>
                    </a:lnTo>
                    <a:lnTo>
                      <a:pt x="366" y="213"/>
                    </a:lnTo>
                    <a:lnTo>
                      <a:pt x="369" y="216"/>
                    </a:lnTo>
                    <a:lnTo>
                      <a:pt x="375" y="219"/>
                    </a:lnTo>
                    <a:lnTo>
                      <a:pt x="381" y="222"/>
                    </a:lnTo>
                    <a:lnTo>
                      <a:pt x="387" y="222"/>
                    </a:lnTo>
                    <a:lnTo>
                      <a:pt x="393" y="222"/>
                    </a:lnTo>
                    <a:lnTo>
                      <a:pt x="396" y="222"/>
                    </a:lnTo>
                    <a:lnTo>
                      <a:pt x="399" y="219"/>
                    </a:lnTo>
                    <a:lnTo>
                      <a:pt x="402" y="219"/>
                    </a:lnTo>
                    <a:lnTo>
                      <a:pt x="405" y="216"/>
                    </a:lnTo>
                    <a:lnTo>
                      <a:pt x="408" y="210"/>
                    </a:lnTo>
                    <a:lnTo>
                      <a:pt x="411" y="204"/>
                    </a:lnTo>
                    <a:lnTo>
                      <a:pt x="411" y="195"/>
                    </a:lnTo>
                    <a:lnTo>
                      <a:pt x="411" y="186"/>
                    </a:lnTo>
                    <a:lnTo>
                      <a:pt x="411" y="177"/>
                    </a:lnTo>
                    <a:lnTo>
                      <a:pt x="408" y="171"/>
                    </a:lnTo>
                    <a:lnTo>
                      <a:pt x="405" y="162"/>
                    </a:lnTo>
                    <a:lnTo>
                      <a:pt x="402" y="153"/>
                    </a:lnTo>
                    <a:lnTo>
                      <a:pt x="402" y="153"/>
                    </a:lnTo>
                    <a:lnTo>
                      <a:pt x="402" y="153"/>
                    </a:lnTo>
                    <a:lnTo>
                      <a:pt x="399" y="153"/>
                    </a:lnTo>
                    <a:lnTo>
                      <a:pt x="399" y="150"/>
                    </a:lnTo>
                    <a:lnTo>
                      <a:pt x="393" y="138"/>
                    </a:lnTo>
                    <a:lnTo>
                      <a:pt x="375" y="117"/>
                    </a:lnTo>
                    <a:lnTo>
                      <a:pt x="375" y="123"/>
                    </a:lnTo>
                    <a:lnTo>
                      <a:pt x="375" y="129"/>
                    </a:lnTo>
                    <a:lnTo>
                      <a:pt x="375" y="138"/>
                    </a:lnTo>
                    <a:lnTo>
                      <a:pt x="375" y="144"/>
                    </a:lnTo>
                    <a:lnTo>
                      <a:pt x="378" y="150"/>
                    </a:lnTo>
                    <a:lnTo>
                      <a:pt x="381" y="156"/>
                    </a:lnTo>
                    <a:lnTo>
                      <a:pt x="384" y="162"/>
                    </a:lnTo>
                    <a:lnTo>
                      <a:pt x="384" y="168"/>
                    </a:lnTo>
                    <a:lnTo>
                      <a:pt x="384" y="174"/>
                    </a:lnTo>
                    <a:lnTo>
                      <a:pt x="387" y="180"/>
                    </a:lnTo>
                    <a:lnTo>
                      <a:pt x="387" y="189"/>
                    </a:lnTo>
                    <a:lnTo>
                      <a:pt x="390" y="195"/>
                    </a:lnTo>
                    <a:lnTo>
                      <a:pt x="390" y="198"/>
                    </a:lnTo>
                    <a:lnTo>
                      <a:pt x="390" y="204"/>
                    </a:lnTo>
                    <a:lnTo>
                      <a:pt x="387" y="207"/>
                    </a:lnTo>
                    <a:lnTo>
                      <a:pt x="384" y="210"/>
                    </a:lnTo>
                    <a:lnTo>
                      <a:pt x="375" y="198"/>
                    </a:lnTo>
                    <a:lnTo>
                      <a:pt x="369" y="189"/>
                    </a:lnTo>
                    <a:lnTo>
                      <a:pt x="363" y="177"/>
                    </a:lnTo>
                    <a:lnTo>
                      <a:pt x="360" y="165"/>
                    </a:lnTo>
                    <a:lnTo>
                      <a:pt x="357" y="153"/>
                    </a:lnTo>
                    <a:lnTo>
                      <a:pt x="354" y="141"/>
                    </a:lnTo>
                    <a:lnTo>
                      <a:pt x="351" y="126"/>
                    </a:lnTo>
                    <a:lnTo>
                      <a:pt x="348" y="114"/>
                    </a:lnTo>
                    <a:lnTo>
                      <a:pt x="345" y="111"/>
                    </a:lnTo>
                    <a:lnTo>
                      <a:pt x="345" y="108"/>
                    </a:lnTo>
                    <a:lnTo>
                      <a:pt x="345" y="105"/>
                    </a:lnTo>
                    <a:lnTo>
                      <a:pt x="345" y="105"/>
                    </a:lnTo>
                    <a:lnTo>
                      <a:pt x="345" y="102"/>
                    </a:lnTo>
                    <a:lnTo>
                      <a:pt x="345" y="102"/>
                    </a:lnTo>
                    <a:lnTo>
                      <a:pt x="345" y="102"/>
                    </a:lnTo>
                    <a:lnTo>
                      <a:pt x="348" y="102"/>
                    </a:lnTo>
                    <a:lnTo>
                      <a:pt x="348" y="105"/>
                    </a:lnTo>
                    <a:lnTo>
                      <a:pt x="351" y="105"/>
                    </a:lnTo>
                    <a:lnTo>
                      <a:pt x="354" y="108"/>
                    </a:lnTo>
                    <a:lnTo>
                      <a:pt x="357" y="108"/>
                    </a:lnTo>
                    <a:lnTo>
                      <a:pt x="360" y="108"/>
                    </a:lnTo>
                    <a:lnTo>
                      <a:pt x="363" y="108"/>
                    </a:lnTo>
                    <a:lnTo>
                      <a:pt x="366" y="108"/>
                    </a:lnTo>
                    <a:lnTo>
                      <a:pt x="369" y="108"/>
                    </a:lnTo>
                    <a:lnTo>
                      <a:pt x="375" y="102"/>
                    </a:lnTo>
                    <a:lnTo>
                      <a:pt x="378" y="96"/>
                    </a:lnTo>
                    <a:lnTo>
                      <a:pt x="384" y="90"/>
                    </a:lnTo>
                    <a:lnTo>
                      <a:pt x="387" y="84"/>
                    </a:lnTo>
                    <a:lnTo>
                      <a:pt x="393" y="75"/>
                    </a:lnTo>
                    <a:lnTo>
                      <a:pt x="396" y="69"/>
                    </a:lnTo>
                    <a:lnTo>
                      <a:pt x="402" y="63"/>
                    </a:lnTo>
                    <a:lnTo>
                      <a:pt x="405" y="57"/>
                    </a:lnTo>
                    <a:lnTo>
                      <a:pt x="408" y="57"/>
                    </a:lnTo>
                    <a:lnTo>
                      <a:pt x="411" y="54"/>
                    </a:lnTo>
                    <a:lnTo>
                      <a:pt x="414" y="54"/>
                    </a:lnTo>
                    <a:lnTo>
                      <a:pt x="417" y="54"/>
                    </a:lnTo>
                    <a:lnTo>
                      <a:pt x="420" y="51"/>
                    </a:lnTo>
                    <a:lnTo>
                      <a:pt x="423" y="51"/>
                    </a:lnTo>
                    <a:lnTo>
                      <a:pt x="426" y="48"/>
                    </a:lnTo>
                    <a:lnTo>
                      <a:pt x="429" y="48"/>
                    </a:lnTo>
                    <a:lnTo>
                      <a:pt x="432" y="48"/>
                    </a:lnTo>
                    <a:lnTo>
                      <a:pt x="435" y="45"/>
                    </a:lnTo>
                    <a:lnTo>
                      <a:pt x="438" y="42"/>
                    </a:lnTo>
                    <a:lnTo>
                      <a:pt x="441" y="39"/>
                    </a:lnTo>
                    <a:lnTo>
                      <a:pt x="441" y="36"/>
                    </a:lnTo>
                    <a:lnTo>
                      <a:pt x="444" y="33"/>
                    </a:lnTo>
                    <a:lnTo>
                      <a:pt x="447" y="27"/>
                    </a:lnTo>
                    <a:lnTo>
                      <a:pt x="450" y="27"/>
                    </a:lnTo>
                    <a:lnTo>
                      <a:pt x="450" y="24"/>
                    </a:lnTo>
                    <a:lnTo>
                      <a:pt x="453" y="21"/>
                    </a:lnTo>
                    <a:lnTo>
                      <a:pt x="453" y="18"/>
                    </a:lnTo>
                    <a:lnTo>
                      <a:pt x="453" y="18"/>
                    </a:lnTo>
                    <a:lnTo>
                      <a:pt x="456" y="15"/>
                    </a:lnTo>
                    <a:lnTo>
                      <a:pt x="456" y="15"/>
                    </a:lnTo>
                    <a:lnTo>
                      <a:pt x="459" y="15"/>
                    </a:lnTo>
                    <a:lnTo>
                      <a:pt x="462" y="12"/>
                    </a:lnTo>
                    <a:lnTo>
                      <a:pt x="468" y="18"/>
                    </a:lnTo>
                    <a:lnTo>
                      <a:pt x="477" y="24"/>
                    </a:lnTo>
                    <a:lnTo>
                      <a:pt x="483" y="27"/>
                    </a:lnTo>
                    <a:lnTo>
                      <a:pt x="492" y="33"/>
                    </a:lnTo>
                    <a:lnTo>
                      <a:pt x="501" y="36"/>
                    </a:lnTo>
                    <a:lnTo>
                      <a:pt x="507" y="39"/>
                    </a:lnTo>
                    <a:lnTo>
                      <a:pt x="516" y="45"/>
                    </a:lnTo>
                    <a:lnTo>
                      <a:pt x="525" y="48"/>
                    </a:lnTo>
                    <a:lnTo>
                      <a:pt x="534" y="51"/>
                    </a:lnTo>
                    <a:lnTo>
                      <a:pt x="543" y="54"/>
                    </a:lnTo>
                    <a:lnTo>
                      <a:pt x="549" y="57"/>
                    </a:lnTo>
                    <a:lnTo>
                      <a:pt x="558" y="63"/>
                    </a:lnTo>
                    <a:lnTo>
                      <a:pt x="567" y="66"/>
                    </a:lnTo>
                    <a:lnTo>
                      <a:pt x="573" y="69"/>
                    </a:lnTo>
                    <a:lnTo>
                      <a:pt x="582" y="75"/>
                    </a:lnTo>
                    <a:lnTo>
                      <a:pt x="588" y="81"/>
                    </a:lnTo>
                    <a:lnTo>
                      <a:pt x="594" y="84"/>
                    </a:lnTo>
                    <a:lnTo>
                      <a:pt x="603" y="87"/>
                    </a:lnTo>
                    <a:lnTo>
                      <a:pt x="609" y="90"/>
                    </a:lnTo>
                    <a:lnTo>
                      <a:pt x="618" y="96"/>
                    </a:lnTo>
                    <a:lnTo>
                      <a:pt x="624" y="99"/>
                    </a:lnTo>
                    <a:lnTo>
                      <a:pt x="630" y="102"/>
                    </a:lnTo>
                    <a:lnTo>
                      <a:pt x="636" y="108"/>
                    </a:lnTo>
                    <a:lnTo>
                      <a:pt x="645" y="111"/>
                    </a:lnTo>
                    <a:lnTo>
                      <a:pt x="654" y="117"/>
                    </a:lnTo>
                    <a:lnTo>
                      <a:pt x="666" y="123"/>
                    </a:lnTo>
                    <a:lnTo>
                      <a:pt x="675" y="129"/>
                    </a:lnTo>
                    <a:lnTo>
                      <a:pt x="687" y="135"/>
                    </a:lnTo>
                    <a:lnTo>
                      <a:pt x="699" y="141"/>
                    </a:lnTo>
                    <a:lnTo>
                      <a:pt x="711" y="147"/>
                    </a:lnTo>
                    <a:lnTo>
                      <a:pt x="720" y="153"/>
                    </a:lnTo>
                    <a:lnTo>
                      <a:pt x="732" y="159"/>
                    </a:lnTo>
                    <a:lnTo>
                      <a:pt x="744" y="162"/>
                    </a:lnTo>
                    <a:lnTo>
                      <a:pt x="756" y="168"/>
                    </a:lnTo>
                    <a:lnTo>
                      <a:pt x="768" y="171"/>
                    </a:lnTo>
                    <a:lnTo>
                      <a:pt x="780" y="177"/>
                    </a:lnTo>
                    <a:lnTo>
                      <a:pt x="792" y="180"/>
                    </a:lnTo>
                    <a:lnTo>
                      <a:pt x="807" y="186"/>
                    </a:lnTo>
                    <a:lnTo>
                      <a:pt x="819" y="189"/>
                    </a:lnTo>
                    <a:lnTo>
                      <a:pt x="831" y="192"/>
                    </a:lnTo>
                    <a:lnTo>
                      <a:pt x="837" y="192"/>
                    </a:lnTo>
                    <a:lnTo>
                      <a:pt x="843" y="195"/>
                    </a:lnTo>
                    <a:lnTo>
                      <a:pt x="846" y="195"/>
                    </a:lnTo>
                    <a:lnTo>
                      <a:pt x="852" y="195"/>
                    </a:lnTo>
                    <a:lnTo>
                      <a:pt x="855" y="198"/>
                    </a:lnTo>
                    <a:lnTo>
                      <a:pt x="861" y="198"/>
                    </a:lnTo>
                    <a:lnTo>
                      <a:pt x="867" y="201"/>
                    </a:lnTo>
                    <a:lnTo>
                      <a:pt x="870" y="204"/>
                    </a:lnTo>
                    <a:lnTo>
                      <a:pt x="873" y="204"/>
                    </a:lnTo>
                    <a:lnTo>
                      <a:pt x="879" y="207"/>
                    </a:lnTo>
                    <a:lnTo>
                      <a:pt x="882" y="210"/>
                    </a:lnTo>
                    <a:lnTo>
                      <a:pt x="885" y="210"/>
                    </a:lnTo>
                    <a:lnTo>
                      <a:pt x="891" y="213"/>
                    </a:lnTo>
                    <a:lnTo>
                      <a:pt x="894" y="213"/>
                    </a:lnTo>
                    <a:lnTo>
                      <a:pt x="897" y="216"/>
                    </a:lnTo>
                    <a:lnTo>
                      <a:pt x="900" y="216"/>
                    </a:lnTo>
                    <a:lnTo>
                      <a:pt x="906" y="219"/>
                    </a:lnTo>
                    <a:lnTo>
                      <a:pt x="909" y="219"/>
                    </a:lnTo>
                    <a:lnTo>
                      <a:pt x="915" y="222"/>
                    </a:lnTo>
                    <a:lnTo>
                      <a:pt x="921" y="225"/>
                    </a:lnTo>
                    <a:lnTo>
                      <a:pt x="924" y="225"/>
                    </a:lnTo>
                    <a:lnTo>
                      <a:pt x="930" y="228"/>
                    </a:lnTo>
                    <a:lnTo>
                      <a:pt x="933" y="231"/>
                    </a:lnTo>
                    <a:lnTo>
                      <a:pt x="939" y="234"/>
                    </a:lnTo>
                    <a:lnTo>
                      <a:pt x="942" y="234"/>
                    </a:lnTo>
                    <a:lnTo>
                      <a:pt x="948" y="237"/>
                    </a:lnTo>
                    <a:lnTo>
                      <a:pt x="951" y="240"/>
                    </a:lnTo>
                    <a:lnTo>
                      <a:pt x="957" y="240"/>
                    </a:lnTo>
                    <a:lnTo>
                      <a:pt x="963" y="243"/>
                    </a:lnTo>
                    <a:lnTo>
                      <a:pt x="966" y="246"/>
                    </a:lnTo>
                    <a:lnTo>
                      <a:pt x="972" y="246"/>
                    </a:lnTo>
                    <a:lnTo>
                      <a:pt x="975" y="249"/>
                    </a:lnTo>
                    <a:lnTo>
                      <a:pt x="981" y="252"/>
                    </a:lnTo>
                    <a:lnTo>
                      <a:pt x="984" y="255"/>
                    </a:lnTo>
                    <a:lnTo>
                      <a:pt x="987" y="258"/>
                    </a:lnTo>
                    <a:lnTo>
                      <a:pt x="993" y="261"/>
                    </a:lnTo>
                    <a:lnTo>
                      <a:pt x="996" y="264"/>
                    </a:lnTo>
                    <a:lnTo>
                      <a:pt x="999" y="267"/>
                    </a:lnTo>
                    <a:lnTo>
                      <a:pt x="1005" y="270"/>
                    </a:lnTo>
                    <a:lnTo>
                      <a:pt x="1008" y="270"/>
                    </a:lnTo>
                    <a:lnTo>
                      <a:pt x="1014" y="273"/>
                    </a:lnTo>
                    <a:lnTo>
                      <a:pt x="1020" y="276"/>
                    </a:lnTo>
                    <a:lnTo>
                      <a:pt x="1026" y="279"/>
                    </a:lnTo>
                    <a:lnTo>
                      <a:pt x="1032" y="279"/>
                    </a:lnTo>
                    <a:lnTo>
                      <a:pt x="1038" y="282"/>
                    </a:lnTo>
                    <a:lnTo>
                      <a:pt x="1044" y="285"/>
                    </a:lnTo>
                    <a:lnTo>
                      <a:pt x="1050" y="285"/>
                    </a:lnTo>
                    <a:lnTo>
                      <a:pt x="1056" y="288"/>
                    </a:lnTo>
                    <a:lnTo>
                      <a:pt x="1062" y="288"/>
                    </a:lnTo>
                    <a:lnTo>
                      <a:pt x="1068" y="291"/>
                    </a:lnTo>
                    <a:lnTo>
                      <a:pt x="1074" y="291"/>
                    </a:lnTo>
                    <a:lnTo>
                      <a:pt x="1080" y="294"/>
                    </a:lnTo>
                    <a:lnTo>
                      <a:pt x="1086" y="294"/>
                    </a:lnTo>
                    <a:lnTo>
                      <a:pt x="1092" y="297"/>
                    </a:lnTo>
                    <a:lnTo>
                      <a:pt x="1098" y="300"/>
                    </a:lnTo>
                    <a:lnTo>
                      <a:pt x="1104" y="300"/>
                    </a:lnTo>
                    <a:lnTo>
                      <a:pt x="1107" y="303"/>
                    </a:lnTo>
                    <a:lnTo>
                      <a:pt x="1110" y="303"/>
                    </a:lnTo>
                    <a:lnTo>
                      <a:pt x="1116" y="306"/>
                    </a:lnTo>
                    <a:lnTo>
                      <a:pt x="1119" y="306"/>
                    </a:lnTo>
                    <a:lnTo>
                      <a:pt x="1122" y="306"/>
                    </a:lnTo>
                    <a:lnTo>
                      <a:pt x="1125" y="306"/>
                    </a:lnTo>
                    <a:lnTo>
                      <a:pt x="1131" y="309"/>
                    </a:lnTo>
                    <a:lnTo>
                      <a:pt x="1134" y="309"/>
                    </a:lnTo>
                    <a:lnTo>
                      <a:pt x="1137" y="309"/>
                    </a:lnTo>
                    <a:lnTo>
                      <a:pt x="1143" y="309"/>
                    </a:lnTo>
                    <a:lnTo>
                      <a:pt x="1146" y="312"/>
                    </a:lnTo>
                    <a:lnTo>
                      <a:pt x="1149" y="312"/>
                    </a:lnTo>
                    <a:lnTo>
                      <a:pt x="1152" y="315"/>
                    </a:lnTo>
                    <a:lnTo>
                      <a:pt x="1155" y="315"/>
                    </a:lnTo>
                    <a:lnTo>
                      <a:pt x="1161" y="318"/>
                    </a:lnTo>
                    <a:lnTo>
                      <a:pt x="1164" y="321"/>
                    </a:lnTo>
                    <a:lnTo>
                      <a:pt x="1167" y="321"/>
                    </a:lnTo>
                    <a:lnTo>
                      <a:pt x="1170" y="324"/>
                    </a:lnTo>
                    <a:lnTo>
                      <a:pt x="1173" y="324"/>
                    </a:lnTo>
                    <a:lnTo>
                      <a:pt x="1176" y="327"/>
                    </a:lnTo>
                    <a:lnTo>
                      <a:pt x="1182" y="327"/>
                    </a:lnTo>
                    <a:lnTo>
                      <a:pt x="1185" y="327"/>
                    </a:lnTo>
                    <a:lnTo>
                      <a:pt x="1188" y="330"/>
                    </a:lnTo>
                    <a:lnTo>
                      <a:pt x="1194" y="330"/>
                    </a:lnTo>
                    <a:lnTo>
                      <a:pt x="1197" y="330"/>
                    </a:lnTo>
                    <a:lnTo>
                      <a:pt x="1200" y="330"/>
                    </a:lnTo>
                    <a:lnTo>
                      <a:pt x="1203" y="333"/>
                    </a:lnTo>
                    <a:lnTo>
                      <a:pt x="1209" y="333"/>
                    </a:lnTo>
                    <a:lnTo>
                      <a:pt x="1212" y="336"/>
                    </a:lnTo>
                    <a:lnTo>
                      <a:pt x="1215" y="336"/>
                    </a:lnTo>
                    <a:lnTo>
                      <a:pt x="1218" y="339"/>
                    </a:lnTo>
                    <a:lnTo>
                      <a:pt x="1221" y="339"/>
                    </a:lnTo>
                    <a:lnTo>
                      <a:pt x="1227" y="342"/>
                    </a:lnTo>
                    <a:lnTo>
                      <a:pt x="1233" y="342"/>
                    </a:lnTo>
                    <a:lnTo>
                      <a:pt x="1239" y="342"/>
                    </a:lnTo>
                    <a:lnTo>
                      <a:pt x="1245" y="345"/>
                    </a:lnTo>
                    <a:lnTo>
                      <a:pt x="1251" y="345"/>
                    </a:lnTo>
                    <a:lnTo>
                      <a:pt x="1257" y="348"/>
                    </a:lnTo>
                    <a:lnTo>
                      <a:pt x="1263" y="351"/>
                    </a:lnTo>
                    <a:lnTo>
                      <a:pt x="1269" y="354"/>
                    </a:lnTo>
                    <a:lnTo>
                      <a:pt x="1275" y="351"/>
                    </a:lnTo>
                    <a:lnTo>
                      <a:pt x="1278" y="351"/>
                    </a:lnTo>
                    <a:lnTo>
                      <a:pt x="1284" y="354"/>
                    </a:lnTo>
                    <a:lnTo>
                      <a:pt x="1287" y="354"/>
                    </a:lnTo>
                    <a:lnTo>
                      <a:pt x="1290" y="357"/>
                    </a:lnTo>
                    <a:lnTo>
                      <a:pt x="1296" y="357"/>
                    </a:lnTo>
                    <a:lnTo>
                      <a:pt x="1299" y="360"/>
                    </a:lnTo>
                    <a:lnTo>
                      <a:pt x="1305" y="360"/>
                    </a:lnTo>
                    <a:lnTo>
                      <a:pt x="1308" y="360"/>
                    </a:lnTo>
                    <a:lnTo>
                      <a:pt x="1311" y="360"/>
                    </a:lnTo>
                    <a:lnTo>
                      <a:pt x="1311" y="363"/>
                    </a:lnTo>
                    <a:lnTo>
                      <a:pt x="1314" y="363"/>
                    </a:lnTo>
                    <a:lnTo>
                      <a:pt x="1314" y="366"/>
                    </a:lnTo>
                    <a:lnTo>
                      <a:pt x="1314" y="369"/>
                    </a:lnTo>
                    <a:lnTo>
                      <a:pt x="1311" y="372"/>
                    </a:lnTo>
                    <a:lnTo>
                      <a:pt x="1311" y="375"/>
                    </a:lnTo>
                    <a:lnTo>
                      <a:pt x="1308" y="378"/>
                    </a:lnTo>
                    <a:lnTo>
                      <a:pt x="1308" y="378"/>
                    </a:lnTo>
                    <a:lnTo>
                      <a:pt x="1305" y="381"/>
                    </a:lnTo>
                    <a:lnTo>
                      <a:pt x="1305" y="384"/>
                    </a:lnTo>
                    <a:lnTo>
                      <a:pt x="1302" y="384"/>
                    </a:lnTo>
                    <a:lnTo>
                      <a:pt x="1299" y="387"/>
                    </a:lnTo>
                    <a:lnTo>
                      <a:pt x="1299" y="390"/>
                    </a:lnTo>
                    <a:lnTo>
                      <a:pt x="1296" y="393"/>
                    </a:lnTo>
                    <a:lnTo>
                      <a:pt x="1293" y="396"/>
                    </a:lnTo>
                    <a:lnTo>
                      <a:pt x="1290" y="402"/>
                    </a:lnTo>
                    <a:lnTo>
                      <a:pt x="1287" y="405"/>
                    </a:lnTo>
                    <a:lnTo>
                      <a:pt x="1284" y="411"/>
                    </a:lnTo>
                    <a:lnTo>
                      <a:pt x="1278" y="414"/>
                    </a:lnTo>
                    <a:lnTo>
                      <a:pt x="1275" y="417"/>
                    </a:lnTo>
                    <a:lnTo>
                      <a:pt x="1272" y="423"/>
                    </a:lnTo>
                    <a:lnTo>
                      <a:pt x="1269" y="426"/>
                    </a:lnTo>
                    <a:lnTo>
                      <a:pt x="1263" y="432"/>
                    </a:lnTo>
                    <a:lnTo>
                      <a:pt x="1260" y="435"/>
                    </a:lnTo>
                    <a:lnTo>
                      <a:pt x="1257" y="438"/>
                    </a:lnTo>
                    <a:lnTo>
                      <a:pt x="1254" y="444"/>
                    </a:lnTo>
                    <a:lnTo>
                      <a:pt x="1251" y="447"/>
                    </a:lnTo>
                    <a:lnTo>
                      <a:pt x="1245" y="450"/>
                    </a:lnTo>
                    <a:lnTo>
                      <a:pt x="1242" y="456"/>
                    </a:lnTo>
                    <a:lnTo>
                      <a:pt x="1239" y="459"/>
                    </a:lnTo>
                    <a:lnTo>
                      <a:pt x="1236" y="462"/>
                    </a:lnTo>
                    <a:lnTo>
                      <a:pt x="1236" y="462"/>
                    </a:lnTo>
                    <a:lnTo>
                      <a:pt x="1233" y="465"/>
                    </a:lnTo>
                    <a:lnTo>
                      <a:pt x="1233" y="468"/>
                    </a:lnTo>
                    <a:lnTo>
                      <a:pt x="1230" y="468"/>
                    </a:lnTo>
                    <a:lnTo>
                      <a:pt x="1227" y="471"/>
                    </a:lnTo>
                    <a:lnTo>
                      <a:pt x="1227" y="474"/>
                    </a:lnTo>
                    <a:lnTo>
                      <a:pt x="1224" y="474"/>
                    </a:lnTo>
                    <a:lnTo>
                      <a:pt x="1218" y="483"/>
                    </a:lnTo>
                    <a:lnTo>
                      <a:pt x="1215" y="486"/>
                    </a:lnTo>
                    <a:lnTo>
                      <a:pt x="1209" y="489"/>
                    </a:lnTo>
                    <a:lnTo>
                      <a:pt x="1206" y="492"/>
                    </a:lnTo>
                    <a:lnTo>
                      <a:pt x="1203" y="498"/>
                    </a:lnTo>
                    <a:lnTo>
                      <a:pt x="1200" y="501"/>
                    </a:lnTo>
                    <a:lnTo>
                      <a:pt x="1194" y="507"/>
                    </a:lnTo>
                    <a:lnTo>
                      <a:pt x="1191" y="513"/>
                    </a:lnTo>
                    <a:lnTo>
                      <a:pt x="1185" y="516"/>
                    </a:lnTo>
                    <a:lnTo>
                      <a:pt x="1182" y="522"/>
                    </a:lnTo>
                    <a:lnTo>
                      <a:pt x="1176" y="528"/>
                    </a:lnTo>
                    <a:lnTo>
                      <a:pt x="1170" y="534"/>
                    </a:lnTo>
                    <a:lnTo>
                      <a:pt x="1161" y="540"/>
                    </a:lnTo>
                    <a:lnTo>
                      <a:pt x="1155" y="546"/>
                    </a:lnTo>
                    <a:lnTo>
                      <a:pt x="1149" y="552"/>
                    </a:lnTo>
                    <a:lnTo>
                      <a:pt x="1143" y="558"/>
                    </a:lnTo>
                    <a:lnTo>
                      <a:pt x="1137" y="567"/>
                    </a:lnTo>
                    <a:lnTo>
                      <a:pt x="1131" y="573"/>
                    </a:lnTo>
                    <a:lnTo>
                      <a:pt x="1125" y="579"/>
                    </a:lnTo>
                    <a:lnTo>
                      <a:pt x="1119" y="585"/>
                    </a:lnTo>
                    <a:lnTo>
                      <a:pt x="1113" y="594"/>
                    </a:lnTo>
                    <a:lnTo>
                      <a:pt x="1107" y="600"/>
                    </a:lnTo>
                    <a:lnTo>
                      <a:pt x="1101" y="606"/>
                    </a:lnTo>
                    <a:lnTo>
                      <a:pt x="1095" y="612"/>
                    </a:lnTo>
                    <a:lnTo>
                      <a:pt x="1089" y="618"/>
                    </a:lnTo>
                    <a:lnTo>
                      <a:pt x="1083" y="624"/>
                    </a:lnTo>
                    <a:lnTo>
                      <a:pt x="1080" y="630"/>
                    </a:lnTo>
                    <a:lnTo>
                      <a:pt x="1074" y="639"/>
                    </a:lnTo>
                    <a:lnTo>
                      <a:pt x="1068" y="645"/>
                    </a:lnTo>
                    <a:lnTo>
                      <a:pt x="1062" y="651"/>
                    </a:lnTo>
                    <a:lnTo>
                      <a:pt x="1059" y="660"/>
                    </a:lnTo>
                    <a:lnTo>
                      <a:pt x="1053" y="666"/>
                    </a:lnTo>
                    <a:lnTo>
                      <a:pt x="1047" y="672"/>
                    </a:lnTo>
                    <a:lnTo>
                      <a:pt x="1041" y="678"/>
                    </a:lnTo>
                    <a:lnTo>
                      <a:pt x="1035" y="687"/>
                    </a:lnTo>
                    <a:lnTo>
                      <a:pt x="1032" y="693"/>
                    </a:lnTo>
                    <a:lnTo>
                      <a:pt x="1026" y="699"/>
                    </a:lnTo>
                    <a:lnTo>
                      <a:pt x="1020" y="705"/>
                    </a:lnTo>
                    <a:lnTo>
                      <a:pt x="1014" y="711"/>
                    </a:lnTo>
                    <a:lnTo>
                      <a:pt x="1008" y="720"/>
                    </a:lnTo>
                    <a:lnTo>
                      <a:pt x="1002" y="726"/>
                    </a:lnTo>
                    <a:lnTo>
                      <a:pt x="996" y="732"/>
                    </a:lnTo>
                    <a:lnTo>
                      <a:pt x="990" y="738"/>
                    </a:lnTo>
                    <a:lnTo>
                      <a:pt x="984" y="744"/>
                    </a:lnTo>
                    <a:lnTo>
                      <a:pt x="978" y="750"/>
                    </a:lnTo>
                    <a:lnTo>
                      <a:pt x="972" y="756"/>
                    </a:lnTo>
                    <a:lnTo>
                      <a:pt x="966" y="762"/>
                    </a:lnTo>
                    <a:lnTo>
                      <a:pt x="960" y="768"/>
                    </a:lnTo>
                    <a:lnTo>
                      <a:pt x="957" y="774"/>
                    </a:lnTo>
                    <a:lnTo>
                      <a:pt x="951" y="783"/>
                    </a:lnTo>
                    <a:lnTo>
                      <a:pt x="945" y="789"/>
                    </a:lnTo>
                    <a:lnTo>
                      <a:pt x="939" y="795"/>
                    </a:lnTo>
                    <a:lnTo>
                      <a:pt x="933" y="801"/>
                    </a:lnTo>
                    <a:lnTo>
                      <a:pt x="927" y="807"/>
                    </a:lnTo>
                    <a:lnTo>
                      <a:pt x="924" y="813"/>
                    </a:lnTo>
                    <a:lnTo>
                      <a:pt x="918" y="819"/>
                    </a:lnTo>
                    <a:lnTo>
                      <a:pt x="912" y="825"/>
                    </a:lnTo>
                    <a:lnTo>
                      <a:pt x="909" y="831"/>
                    </a:lnTo>
                    <a:lnTo>
                      <a:pt x="906" y="834"/>
                    </a:lnTo>
                    <a:lnTo>
                      <a:pt x="903" y="837"/>
                    </a:lnTo>
                    <a:lnTo>
                      <a:pt x="903" y="837"/>
                    </a:lnTo>
                    <a:lnTo>
                      <a:pt x="900" y="840"/>
                    </a:lnTo>
                    <a:lnTo>
                      <a:pt x="900" y="843"/>
                    </a:lnTo>
                    <a:lnTo>
                      <a:pt x="897" y="846"/>
                    </a:lnTo>
                    <a:lnTo>
                      <a:pt x="894" y="846"/>
                    </a:lnTo>
                    <a:lnTo>
                      <a:pt x="894" y="849"/>
                    </a:lnTo>
                    <a:lnTo>
                      <a:pt x="891" y="852"/>
                    </a:lnTo>
                    <a:lnTo>
                      <a:pt x="891" y="852"/>
                    </a:lnTo>
                    <a:lnTo>
                      <a:pt x="888" y="852"/>
                    </a:lnTo>
                    <a:lnTo>
                      <a:pt x="885" y="852"/>
                    </a:lnTo>
                    <a:lnTo>
                      <a:pt x="882" y="852"/>
                    </a:lnTo>
                    <a:lnTo>
                      <a:pt x="882" y="852"/>
                    </a:lnTo>
                    <a:lnTo>
                      <a:pt x="879" y="849"/>
                    </a:lnTo>
                    <a:lnTo>
                      <a:pt x="879" y="849"/>
                    </a:lnTo>
                    <a:lnTo>
                      <a:pt x="864" y="843"/>
                    </a:lnTo>
                    <a:lnTo>
                      <a:pt x="852" y="837"/>
                    </a:lnTo>
                    <a:lnTo>
                      <a:pt x="840" y="831"/>
                    </a:lnTo>
                    <a:lnTo>
                      <a:pt x="825" y="825"/>
                    </a:lnTo>
                    <a:lnTo>
                      <a:pt x="813" y="819"/>
                    </a:lnTo>
                    <a:lnTo>
                      <a:pt x="798" y="810"/>
                    </a:lnTo>
                    <a:lnTo>
                      <a:pt x="786" y="807"/>
                    </a:lnTo>
                    <a:lnTo>
                      <a:pt x="771" y="801"/>
                    </a:lnTo>
                    <a:lnTo>
                      <a:pt x="759" y="795"/>
                    </a:lnTo>
                    <a:lnTo>
                      <a:pt x="744" y="789"/>
                    </a:lnTo>
                    <a:lnTo>
                      <a:pt x="732" y="783"/>
                    </a:lnTo>
                    <a:lnTo>
                      <a:pt x="717" y="777"/>
                    </a:lnTo>
                    <a:lnTo>
                      <a:pt x="705" y="771"/>
                    </a:lnTo>
                    <a:lnTo>
                      <a:pt x="690" y="765"/>
                    </a:lnTo>
                    <a:lnTo>
                      <a:pt x="678" y="756"/>
                    </a:lnTo>
                    <a:lnTo>
                      <a:pt x="666" y="750"/>
                    </a:lnTo>
                    <a:lnTo>
                      <a:pt x="660" y="750"/>
                    </a:lnTo>
                    <a:lnTo>
                      <a:pt x="657" y="747"/>
                    </a:lnTo>
                    <a:lnTo>
                      <a:pt x="651" y="744"/>
                    </a:lnTo>
                    <a:lnTo>
                      <a:pt x="648" y="741"/>
                    </a:lnTo>
                    <a:lnTo>
                      <a:pt x="645" y="741"/>
                    </a:lnTo>
                    <a:lnTo>
                      <a:pt x="639" y="738"/>
                    </a:lnTo>
                    <a:lnTo>
                      <a:pt x="636" y="735"/>
                    </a:lnTo>
                    <a:lnTo>
                      <a:pt x="630" y="735"/>
                    </a:lnTo>
                    <a:lnTo>
                      <a:pt x="627" y="732"/>
                    </a:lnTo>
                    <a:lnTo>
                      <a:pt x="621" y="729"/>
                    </a:lnTo>
                    <a:lnTo>
                      <a:pt x="618" y="729"/>
                    </a:lnTo>
                    <a:lnTo>
                      <a:pt x="612" y="726"/>
                    </a:lnTo>
                    <a:lnTo>
                      <a:pt x="609" y="726"/>
                    </a:lnTo>
                    <a:lnTo>
                      <a:pt x="603" y="723"/>
                    </a:lnTo>
                    <a:lnTo>
                      <a:pt x="600" y="723"/>
                    </a:lnTo>
                    <a:lnTo>
                      <a:pt x="594" y="723"/>
                    </a:lnTo>
                    <a:lnTo>
                      <a:pt x="582" y="717"/>
                    </a:lnTo>
                    <a:lnTo>
                      <a:pt x="570" y="711"/>
                    </a:lnTo>
                    <a:lnTo>
                      <a:pt x="555" y="708"/>
                    </a:lnTo>
                    <a:lnTo>
                      <a:pt x="543" y="702"/>
                    </a:lnTo>
                    <a:lnTo>
                      <a:pt x="531" y="696"/>
                    </a:lnTo>
                    <a:lnTo>
                      <a:pt x="519" y="690"/>
                    </a:lnTo>
                    <a:lnTo>
                      <a:pt x="504" y="684"/>
                    </a:lnTo>
                    <a:lnTo>
                      <a:pt x="492" y="678"/>
                    </a:lnTo>
                    <a:lnTo>
                      <a:pt x="480" y="672"/>
                    </a:lnTo>
                    <a:lnTo>
                      <a:pt x="465" y="666"/>
                    </a:lnTo>
                    <a:lnTo>
                      <a:pt x="453" y="660"/>
                    </a:lnTo>
                    <a:lnTo>
                      <a:pt x="441" y="657"/>
                    </a:lnTo>
                    <a:lnTo>
                      <a:pt x="429" y="648"/>
                    </a:lnTo>
                    <a:lnTo>
                      <a:pt x="417" y="642"/>
                    </a:lnTo>
                    <a:lnTo>
                      <a:pt x="405" y="636"/>
                    </a:lnTo>
                    <a:lnTo>
                      <a:pt x="393" y="630"/>
                    </a:lnTo>
                    <a:lnTo>
                      <a:pt x="390" y="630"/>
                    </a:lnTo>
                    <a:lnTo>
                      <a:pt x="390" y="630"/>
                    </a:lnTo>
                    <a:lnTo>
                      <a:pt x="387" y="627"/>
                    </a:lnTo>
                    <a:lnTo>
                      <a:pt x="387" y="627"/>
                    </a:lnTo>
                    <a:lnTo>
                      <a:pt x="384" y="624"/>
                    </a:lnTo>
                    <a:lnTo>
                      <a:pt x="381" y="624"/>
                    </a:lnTo>
                    <a:lnTo>
                      <a:pt x="381" y="624"/>
                    </a:lnTo>
                    <a:lnTo>
                      <a:pt x="378" y="621"/>
                    </a:lnTo>
                    <a:lnTo>
                      <a:pt x="369" y="615"/>
                    </a:lnTo>
                    <a:lnTo>
                      <a:pt x="357" y="609"/>
                    </a:lnTo>
                    <a:lnTo>
                      <a:pt x="345" y="603"/>
                    </a:lnTo>
                    <a:lnTo>
                      <a:pt x="333" y="597"/>
                    </a:lnTo>
                    <a:lnTo>
                      <a:pt x="324" y="591"/>
                    </a:lnTo>
                    <a:lnTo>
                      <a:pt x="312" y="582"/>
                    </a:lnTo>
                    <a:lnTo>
                      <a:pt x="300" y="576"/>
                    </a:lnTo>
                    <a:lnTo>
                      <a:pt x="291" y="570"/>
                    </a:lnTo>
                    <a:lnTo>
                      <a:pt x="279" y="564"/>
                    </a:lnTo>
                    <a:lnTo>
                      <a:pt x="270" y="555"/>
                    </a:lnTo>
                    <a:lnTo>
                      <a:pt x="258" y="549"/>
                    </a:lnTo>
                    <a:lnTo>
                      <a:pt x="246" y="543"/>
                    </a:lnTo>
                    <a:lnTo>
                      <a:pt x="237" y="537"/>
                    </a:lnTo>
                    <a:lnTo>
                      <a:pt x="225" y="528"/>
                    </a:lnTo>
                    <a:lnTo>
                      <a:pt x="216" y="522"/>
                    </a:lnTo>
                    <a:lnTo>
                      <a:pt x="204" y="516"/>
                    </a:lnTo>
                    <a:lnTo>
                      <a:pt x="195" y="507"/>
                    </a:lnTo>
                    <a:lnTo>
                      <a:pt x="186" y="501"/>
                    </a:lnTo>
                    <a:lnTo>
                      <a:pt x="174" y="495"/>
                    </a:lnTo>
                    <a:lnTo>
                      <a:pt x="162" y="489"/>
                    </a:lnTo>
                    <a:lnTo>
                      <a:pt x="153" y="483"/>
                    </a:lnTo>
                    <a:lnTo>
                      <a:pt x="141" y="477"/>
                    </a:lnTo>
                    <a:lnTo>
                      <a:pt x="129" y="474"/>
                    </a:lnTo>
                    <a:lnTo>
                      <a:pt x="117" y="468"/>
                    </a:lnTo>
                    <a:lnTo>
                      <a:pt x="105" y="462"/>
                    </a:lnTo>
                    <a:lnTo>
                      <a:pt x="90" y="459"/>
                    </a:lnTo>
                    <a:lnTo>
                      <a:pt x="78" y="453"/>
                    </a:lnTo>
                    <a:lnTo>
                      <a:pt x="66" y="450"/>
                    </a:lnTo>
                    <a:lnTo>
                      <a:pt x="54" y="444"/>
                    </a:lnTo>
                    <a:lnTo>
                      <a:pt x="45" y="438"/>
                    </a:lnTo>
                    <a:lnTo>
                      <a:pt x="33" y="432"/>
                    </a:lnTo>
                    <a:lnTo>
                      <a:pt x="21" y="426"/>
                    </a:lnTo>
                    <a:lnTo>
                      <a:pt x="21" y="426"/>
                    </a:lnTo>
                    <a:lnTo>
                      <a:pt x="18" y="426"/>
                    </a:lnTo>
                    <a:lnTo>
                      <a:pt x="18" y="426"/>
                    </a:lnTo>
                    <a:lnTo>
                      <a:pt x="18" y="426"/>
                    </a:lnTo>
                    <a:lnTo>
                      <a:pt x="21" y="420"/>
                    </a:lnTo>
                    <a:lnTo>
                      <a:pt x="24" y="414"/>
                    </a:lnTo>
                    <a:lnTo>
                      <a:pt x="27" y="408"/>
                    </a:lnTo>
                    <a:lnTo>
                      <a:pt x="30" y="405"/>
                    </a:lnTo>
                    <a:lnTo>
                      <a:pt x="33" y="399"/>
                    </a:lnTo>
                    <a:lnTo>
                      <a:pt x="39" y="396"/>
                    </a:lnTo>
                    <a:lnTo>
                      <a:pt x="42" y="390"/>
                    </a:lnTo>
                    <a:lnTo>
                      <a:pt x="45" y="384"/>
                    </a:lnTo>
                    <a:lnTo>
                      <a:pt x="45" y="384"/>
                    </a:lnTo>
                    <a:lnTo>
                      <a:pt x="48" y="381"/>
                    </a:lnTo>
                    <a:lnTo>
                      <a:pt x="48" y="381"/>
                    </a:lnTo>
                    <a:lnTo>
                      <a:pt x="51" y="381"/>
                    </a:lnTo>
                    <a:lnTo>
                      <a:pt x="57" y="369"/>
                    </a:lnTo>
                    <a:lnTo>
                      <a:pt x="60" y="369"/>
                    </a:lnTo>
                    <a:lnTo>
                      <a:pt x="63" y="366"/>
                    </a:lnTo>
                    <a:lnTo>
                      <a:pt x="63" y="366"/>
                    </a:lnTo>
                    <a:lnTo>
                      <a:pt x="63" y="363"/>
                    </a:lnTo>
                    <a:lnTo>
                      <a:pt x="63" y="363"/>
                    </a:lnTo>
                    <a:lnTo>
                      <a:pt x="66" y="363"/>
                    </a:lnTo>
                    <a:lnTo>
                      <a:pt x="66" y="360"/>
                    </a:lnTo>
                    <a:lnTo>
                      <a:pt x="69" y="360"/>
                    </a:lnTo>
                    <a:lnTo>
                      <a:pt x="90" y="333"/>
                    </a:lnTo>
                    <a:lnTo>
                      <a:pt x="93" y="330"/>
                    </a:lnTo>
                    <a:lnTo>
                      <a:pt x="96" y="324"/>
                    </a:lnTo>
                    <a:lnTo>
                      <a:pt x="102" y="321"/>
                    </a:lnTo>
                    <a:lnTo>
                      <a:pt x="105" y="318"/>
                    </a:lnTo>
                    <a:lnTo>
                      <a:pt x="111" y="315"/>
                    </a:lnTo>
                    <a:lnTo>
                      <a:pt x="117" y="309"/>
                    </a:lnTo>
                    <a:lnTo>
                      <a:pt x="120" y="306"/>
                    </a:lnTo>
                    <a:lnTo>
                      <a:pt x="126" y="303"/>
                    </a:lnTo>
                    <a:lnTo>
                      <a:pt x="132" y="297"/>
                    </a:lnTo>
                    <a:lnTo>
                      <a:pt x="135" y="294"/>
                    </a:lnTo>
                    <a:lnTo>
                      <a:pt x="141" y="291"/>
                    </a:lnTo>
                    <a:lnTo>
                      <a:pt x="147" y="285"/>
                    </a:lnTo>
                    <a:lnTo>
                      <a:pt x="150" y="282"/>
                    </a:lnTo>
                    <a:lnTo>
                      <a:pt x="156" y="276"/>
                    </a:lnTo>
                    <a:lnTo>
                      <a:pt x="159" y="273"/>
                    </a:lnTo>
                    <a:lnTo>
                      <a:pt x="165" y="267"/>
                    </a:lnTo>
                    <a:lnTo>
                      <a:pt x="168" y="264"/>
                    </a:lnTo>
                    <a:lnTo>
                      <a:pt x="174" y="258"/>
                    </a:lnTo>
                    <a:lnTo>
                      <a:pt x="177" y="255"/>
                    </a:lnTo>
                    <a:lnTo>
                      <a:pt x="180" y="252"/>
                    </a:lnTo>
                    <a:lnTo>
                      <a:pt x="186" y="246"/>
                    </a:lnTo>
                    <a:lnTo>
                      <a:pt x="189" y="243"/>
                    </a:lnTo>
                    <a:lnTo>
                      <a:pt x="192" y="240"/>
                    </a:lnTo>
                    <a:lnTo>
                      <a:pt x="198" y="234"/>
                    </a:lnTo>
                    <a:lnTo>
                      <a:pt x="201" y="231"/>
                    </a:lnTo>
                    <a:lnTo>
                      <a:pt x="207" y="228"/>
                    </a:lnTo>
                    <a:lnTo>
                      <a:pt x="210" y="225"/>
                    </a:lnTo>
                    <a:lnTo>
                      <a:pt x="213" y="219"/>
                    </a:lnTo>
                    <a:lnTo>
                      <a:pt x="216" y="216"/>
                    </a:lnTo>
                    <a:lnTo>
                      <a:pt x="222" y="210"/>
                    </a:lnTo>
                    <a:lnTo>
                      <a:pt x="225" y="207"/>
                    </a:lnTo>
                    <a:lnTo>
                      <a:pt x="228" y="204"/>
                    </a:lnTo>
                    <a:lnTo>
                      <a:pt x="249" y="186"/>
                    </a:lnTo>
                    <a:lnTo>
                      <a:pt x="282" y="159"/>
                    </a:lnTo>
                    <a:lnTo>
                      <a:pt x="306" y="135"/>
                    </a:lnTo>
                    <a:lnTo>
                      <a:pt x="300" y="123"/>
                    </a:lnTo>
                    <a:lnTo>
                      <a:pt x="297" y="123"/>
                    </a:lnTo>
                    <a:lnTo>
                      <a:pt x="297" y="123"/>
                    </a:lnTo>
                    <a:lnTo>
                      <a:pt x="297" y="120"/>
                    </a:lnTo>
                    <a:lnTo>
                      <a:pt x="294" y="123"/>
                    </a:lnTo>
                    <a:lnTo>
                      <a:pt x="255" y="153"/>
                    </a:lnTo>
                    <a:lnTo>
                      <a:pt x="228" y="174"/>
                    </a:lnTo>
                    <a:lnTo>
                      <a:pt x="228" y="177"/>
                    </a:lnTo>
                    <a:lnTo>
                      <a:pt x="228" y="177"/>
                    </a:lnTo>
                    <a:lnTo>
                      <a:pt x="225" y="177"/>
                    </a:lnTo>
                    <a:lnTo>
                      <a:pt x="225" y="177"/>
                    </a:lnTo>
                    <a:lnTo>
                      <a:pt x="219" y="180"/>
                    </a:lnTo>
                    <a:lnTo>
                      <a:pt x="213" y="186"/>
                    </a:lnTo>
                    <a:lnTo>
                      <a:pt x="210" y="189"/>
                    </a:lnTo>
                    <a:lnTo>
                      <a:pt x="204" y="195"/>
                    </a:lnTo>
                    <a:lnTo>
                      <a:pt x="198" y="201"/>
                    </a:lnTo>
                    <a:lnTo>
                      <a:pt x="192" y="207"/>
                    </a:lnTo>
                    <a:lnTo>
                      <a:pt x="186" y="210"/>
                    </a:lnTo>
                    <a:lnTo>
                      <a:pt x="183" y="216"/>
                    </a:lnTo>
                    <a:lnTo>
                      <a:pt x="177" y="222"/>
                    </a:lnTo>
                    <a:lnTo>
                      <a:pt x="171" y="228"/>
                    </a:lnTo>
                    <a:lnTo>
                      <a:pt x="165" y="234"/>
                    </a:lnTo>
                    <a:lnTo>
                      <a:pt x="162" y="240"/>
                    </a:lnTo>
                    <a:lnTo>
                      <a:pt x="156" y="243"/>
                    </a:lnTo>
                    <a:lnTo>
                      <a:pt x="150" y="249"/>
                    </a:lnTo>
                    <a:lnTo>
                      <a:pt x="144" y="255"/>
                    </a:lnTo>
                    <a:lnTo>
                      <a:pt x="138" y="258"/>
                    </a:lnTo>
                    <a:lnTo>
                      <a:pt x="135" y="264"/>
                    </a:lnTo>
                    <a:lnTo>
                      <a:pt x="129" y="270"/>
                    </a:lnTo>
                    <a:lnTo>
                      <a:pt x="123" y="276"/>
                    </a:lnTo>
                    <a:lnTo>
                      <a:pt x="117" y="282"/>
                    </a:lnTo>
                    <a:lnTo>
                      <a:pt x="111" y="288"/>
                    </a:lnTo>
                    <a:lnTo>
                      <a:pt x="105" y="294"/>
                    </a:lnTo>
                    <a:lnTo>
                      <a:pt x="99" y="297"/>
                    </a:lnTo>
                    <a:lnTo>
                      <a:pt x="96" y="306"/>
                    </a:lnTo>
                    <a:lnTo>
                      <a:pt x="90" y="312"/>
                    </a:lnTo>
                    <a:lnTo>
                      <a:pt x="84" y="318"/>
                    </a:lnTo>
                    <a:lnTo>
                      <a:pt x="78" y="324"/>
                    </a:lnTo>
                    <a:lnTo>
                      <a:pt x="72" y="330"/>
                    </a:lnTo>
                    <a:lnTo>
                      <a:pt x="66" y="336"/>
                    </a:lnTo>
                    <a:lnTo>
                      <a:pt x="60" y="342"/>
                    </a:lnTo>
                    <a:lnTo>
                      <a:pt x="57" y="348"/>
                    </a:lnTo>
                    <a:lnTo>
                      <a:pt x="51" y="354"/>
                    </a:lnTo>
                    <a:lnTo>
                      <a:pt x="51" y="357"/>
                    </a:lnTo>
                    <a:lnTo>
                      <a:pt x="51" y="357"/>
                    </a:lnTo>
                    <a:lnTo>
                      <a:pt x="51" y="357"/>
                    </a:lnTo>
                    <a:lnTo>
                      <a:pt x="51" y="357"/>
                    </a:lnTo>
                    <a:lnTo>
                      <a:pt x="48" y="357"/>
                    </a:lnTo>
                    <a:lnTo>
                      <a:pt x="48" y="360"/>
                    </a:lnTo>
                    <a:lnTo>
                      <a:pt x="48" y="360"/>
                    </a:lnTo>
                    <a:lnTo>
                      <a:pt x="48" y="360"/>
                    </a:lnTo>
                    <a:lnTo>
                      <a:pt x="0" y="417"/>
                    </a:lnTo>
                    <a:lnTo>
                      <a:pt x="3" y="432"/>
                    </a:lnTo>
                    <a:lnTo>
                      <a:pt x="6" y="435"/>
                    </a:lnTo>
                    <a:lnTo>
                      <a:pt x="9" y="435"/>
                    </a:lnTo>
                    <a:lnTo>
                      <a:pt x="12" y="438"/>
                    </a:lnTo>
                    <a:lnTo>
                      <a:pt x="12" y="438"/>
                    </a:lnTo>
                    <a:lnTo>
                      <a:pt x="15" y="441"/>
                    </a:lnTo>
                    <a:lnTo>
                      <a:pt x="18" y="441"/>
                    </a:lnTo>
                    <a:lnTo>
                      <a:pt x="21" y="441"/>
                    </a:lnTo>
                    <a:lnTo>
                      <a:pt x="24" y="444"/>
                    </a:lnTo>
                    <a:lnTo>
                      <a:pt x="30" y="447"/>
                    </a:lnTo>
                    <a:lnTo>
                      <a:pt x="36" y="450"/>
                    </a:lnTo>
                    <a:lnTo>
                      <a:pt x="42" y="456"/>
                    </a:lnTo>
                    <a:lnTo>
                      <a:pt x="48" y="459"/>
                    </a:lnTo>
                    <a:lnTo>
                      <a:pt x="54" y="462"/>
                    </a:lnTo>
                    <a:lnTo>
                      <a:pt x="60" y="465"/>
                    </a:lnTo>
                    <a:lnTo>
                      <a:pt x="66" y="468"/>
                    </a:lnTo>
                    <a:lnTo>
                      <a:pt x="72" y="471"/>
                    </a:lnTo>
                    <a:lnTo>
                      <a:pt x="81" y="474"/>
                    </a:lnTo>
                    <a:lnTo>
                      <a:pt x="87" y="477"/>
                    </a:lnTo>
                    <a:lnTo>
                      <a:pt x="93" y="480"/>
                    </a:lnTo>
                    <a:lnTo>
                      <a:pt x="99" y="483"/>
                    </a:lnTo>
                    <a:lnTo>
                      <a:pt x="105" y="486"/>
                    </a:lnTo>
                    <a:lnTo>
                      <a:pt x="114" y="486"/>
                    </a:lnTo>
                    <a:lnTo>
                      <a:pt x="120" y="489"/>
                    </a:lnTo>
                    <a:lnTo>
                      <a:pt x="126" y="492"/>
                    </a:lnTo>
                    <a:lnTo>
                      <a:pt x="132" y="495"/>
                    </a:lnTo>
                    <a:lnTo>
                      <a:pt x="138" y="498"/>
                    </a:lnTo>
                    <a:lnTo>
                      <a:pt x="144" y="501"/>
                    </a:lnTo>
                    <a:lnTo>
                      <a:pt x="150" y="504"/>
                    </a:lnTo>
                    <a:lnTo>
                      <a:pt x="156" y="507"/>
                    </a:lnTo>
                    <a:lnTo>
                      <a:pt x="162" y="510"/>
                    </a:lnTo>
                    <a:lnTo>
                      <a:pt x="168" y="513"/>
                    </a:lnTo>
                    <a:lnTo>
                      <a:pt x="174" y="516"/>
                    </a:lnTo>
                    <a:lnTo>
                      <a:pt x="180" y="519"/>
                    </a:lnTo>
                    <a:lnTo>
                      <a:pt x="186" y="522"/>
                    </a:lnTo>
                    <a:lnTo>
                      <a:pt x="189" y="525"/>
                    </a:lnTo>
                    <a:lnTo>
                      <a:pt x="195" y="528"/>
                    </a:lnTo>
                    <a:lnTo>
                      <a:pt x="201" y="531"/>
                    </a:lnTo>
                    <a:lnTo>
                      <a:pt x="207" y="534"/>
                    </a:lnTo>
                    <a:lnTo>
                      <a:pt x="210" y="540"/>
                    </a:lnTo>
                    <a:lnTo>
                      <a:pt x="216" y="543"/>
                    </a:lnTo>
                    <a:lnTo>
                      <a:pt x="219" y="546"/>
                    </a:lnTo>
                    <a:lnTo>
                      <a:pt x="225" y="549"/>
                    </a:lnTo>
                    <a:lnTo>
                      <a:pt x="228" y="552"/>
                    </a:lnTo>
                    <a:lnTo>
                      <a:pt x="234" y="555"/>
                    </a:lnTo>
                    <a:lnTo>
                      <a:pt x="237" y="555"/>
                    </a:lnTo>
                    <a:lnTo>
                      <a:pt x="243" y="558"/>
                    </a:lnTo>
                    <a:lnTo>
                      <a:pt x="246" y="561"/>
                    </a:lnTo>
                    <a:lnTo>
                      <a:pt x="252" y="567"/>
                    </a:lnTo>
                    <a:lnTo>
                      <a:pt x="255" y="570"/>
                    </a:lnTo>
                    <a:lnTo>
                      <a:pt x="261" y="573"/>
                    </a:lnTo>
                    <a:lnTo>
                      <a:pt x="267" y="576"/>
                    </a:lnTo>
                    <a:lnTo>
                      <a:pt x="273" y="579"/>
                    </a:lnTo>
                    <a:lnTo>
                      <a:pt x="279" y="582"/>
                    </a:lnTo>
                    <a:lnTo>
                      <a:pt x="285" y="585"/>
                    </a:lnTo>
                    <a:lnTo>
                      <a:pt x="288" y="591"/>
                    </a:lnTo>
                    <a:lnTo>
                      <a:pt x="294" y="594"/>
                    </a:lnTo>
                    <a:lnTo>
                      <a:pt x="300" y="597"/>
                    </a:lnTo>
                    <a:lnTo>
                      <a:pt x="306" y="600"/>
                    </a:lnTo>
                    <a:lnTo>
                      <a:pt x="309" y="603"/>
                    </a:lnTo>
                    <a:lnTo>
                      <a:pt x="315" y="606"/>
                    </a:lnTo>
                    <a:lnTo>
                      <a:pt x="321" y="609"/>
                    </a:lnTo>
                    <a:lnTo>
                      <a:pt x="324" y="612"/>
                    </a:lnTo>
                    <a:lnTo>
                      <a:pt x="330" y="615"/>
                    </a:lnTo>
                    <a:lnTo>
                      <a:pt x="333" y="618"/>
                    </a:lnTo>
                    <a:lnTo>
                      <a:pt x="339" y="621"/>
                    </a:lnTo>
                    <a:lnTo>
                      <a:pt x="342" y="621"/>
                    </a:lnTo>
                    <a:lnTo>
                      <a:pt x="348" y="627"/>
                    </a:lnTo>
                    <a:lnTo>
                      <a:pt x="354" y="630"/>
                    </a:lnTo>
                    <a:lnTo>
                      <a:pt x="357" y="630"/>
                    </a:lnTo>
                    <a:lnTo>
                      <a:pt x="363" y="633"/>
                    </a:lnTo>
                    <a:lnTo>
                      <a:pt x="369" y="636"/>
                    </a:lnTo>
                    <a:lnTo>
                      <a:pt x="372" y="639"/>
                    </a:lnTo>
                    <a:lnTo>
                      <a:pt x="378" y="642"/>
                    </a:lnTo>
                    <a:lnTo>
                      <a:pt x="384" y="645"/>
                    </a:lnTo>
                    <a:lnTo>
                      <a:pt x="387" y="648"/>
                    </a:lnTo>
                    <a:lnTo>
                      <a:pt x="393" y="651"/>
                    </a:lnTo>
                    <a:lnTo>
                      <a:pt x="396" y="654"/>
                    </a:lnTo>
                    <a:lnTo>
                      <a:pt x="402" y="657"/>
                    </a:lnTo>
                    <a:lnTo>
                      <a:pt x="408" y="660"/>
                    </a:lnTo>
                    <a:lnTo>
                      <a:pt x="411" y="663"/>
                    </a:lnTo>
                    <a:lnTo>
                      <a:pt x="420" y="666"/>
                    </a:lnTo>
                    <a:lnTo>
                      <a:pt x="426" y="672"/>
                    </a:lnTo>
                    <a:lnTo>
                      <a:pt x="432" y="675"/>
                    </a:lnTo>
                    <a:lnTo>
                      <a:pt x="441" y="678"/>
                    </a:lnTo>
                    <a:lnTo>
                      <a:pt x="447" y="684"/>
                    </a:lnTo>
                    <a:lnTo>
                      <a:pt x="456" y="687"/>
                    </a:lnTo>
                    <a:lnTo>
                      <a:pt x="462" y="690"/>
                    </a:lnTo>
                    <a:lnTo>
                      <a:pt x="471" y="693"/>
                    </a:lnTo>
                    <a:lnTo>
                      <a:pt x="480" y="696"/>
                    </a:lnTo>
                    <a:lnTo>
                      <a:pt x="486" y="699"/>
                    </a:lnTo>
                    <a:lnTo>
                      <a:pt x="495" y="702"/>
                    </a:lnTo>
                    <a:lnTo>
                      <a:pt x="504" y="705"/>
                    </a:lnTo>
                    <a:lnTo>
                      <a:pt x="510" y="708"/>
                    </a:lnTo>
                    <a:lnTo>
                      <a:pt x="519" y="711"/>
                    </a:lnTo>
                    <a:lnTo>
                      <a:pt x="525" y="717"/>
                    </a:lnTo>
                    <a:lnTo>
                      <a:pt x="534" y="720"/>
                    </a:lnTo>
                    <a:lnTo>
                      <a:pt x="537" y="720"/>
                    </a:lnTo>
                    <a:lnTo>
                      <a:pt x="540" y="723"/>
                    </a:lnTo>
                    <a:lnTo>
                      <a:pt x="540" y="723"/>
                    </a:lnTo>
                    <a:lnTo>
                      <a:pt x="543" y="726"/>
                    </a:lnTo>
                    <a:lnTo>
                      <a:pt x="546" y="726"/>
                    </a:lnTo>
                    <a:lnTo>
                      <a:pt x="549" y="729"/>
                    </a:lnTo>
                    <a:lnTo>
                      <a:pt x="549" y="729"/>
                    </a:lnTo>
                    <a:lnTo>
                      <a:pt x="552" y="729"/>
                    </a:lnTo>
                    <a:lnTo>
                      <a:pt x="561" y="732"/>
                    </a:lnTo>
                    <a:lnTo>
                      <a:pt x="570" y="735"/>
                    </a:lnTo>
                    <a:lnTo>
                      <a:pt x="579" y="738"/>
                    </a:lnTo>
                    <a:lnTo>
                      <a:pt x="588" y="741"/>
                    </a:lnTo>
                    <a:lnTo>
                      <a:pt x="594" y="744"/>
                    </a:lnTo>
                    <a:lnTo>
                      <a:pt x="603" y="747"/>
                    </a:lnTo>
                    <a:lnTo>
                      <a:pt x="612" y="753"/>
                    </a:lnTo>
                    <a:lnTo>
                      <a:pt x="621" y="756"/>
                    </a:lnTo>
                    <a:lnTo>
                      <a:pt x="627" y="759"/>
                    </a:lnTo>
                    <a:lnTo>
                      <a:pt x="636" y="762"/>
                    </a:lnTo>
                    <a:lnTo>
                      <a:pt x="645" y="765"/>
                    </a:lnTo>
                    <a:lnTo>
                      <a:pt x="654" y="771"/>
                    </a:lnTo>
                    <a:lnTo>
                      <a:pt x="660" y="774"/>
                    </a:lnTo>
                    <a:lnTo>
                      <a:pt x="669" y="777"/>
                    </a:lnTo>
                    <a:lnTo>
                      <a:pt x="675" y="780"/>
                    </a:lnTo>
                    <a:lnTo>
                      <a:pt x="684" y="786"/>
                    </a:lnTo>
                    <a:lnTo>
                      <a:pt x="693" y="789"/>
                    </a:lnTo>
                    <a:lnTo>
                      <a:pt x="699" y="792"/>
                    </a:lnTo>
                    <a:lnTo>
                      <a:pt x="708" y="795"/>
                    </a:lnTo>
                    <a:lnTo>
                      <a:pt x="717" y="801"/>
                    </a:lnTo>
                    <a:lnTo>
                      <a:pt x="723" y="804"/>
                    </a:lnTo>
                    <a:lnTo>
                      <a:pt x="732" y="807"/>
                    </a:lnTo>
                    <a:lnTo>
                      <a:pt x="741" y="813"/>
                    </a:lnTo>
                    <a:lnTo>
                      <a:pt x="747" y="816"/>
                    </a:lnTo>
                    <a:lnTo>
                      <a:pt x="756" y="819"/>
                    </a:lnTo>
                    <a:lnTo>
                      <a:pt x="765" y="825"/>
                    </a:lnTo>
                    <a:lnTo>
                      <a:pt x="771" y="828"/>
                    </a:lnTo>
                    <a:lnTo>
                      <a:pt x="780" y="831"/>
                    </a:lnTo>
                    <a:lnTo>
                      <a:pt x="789" y="837"/>
                    </a:lnTo>
                    <a:lnTo>
                      <a:pt x="798" y="840"/>
                    </a:lnTo>
                    <a:lnTo>
                      <a:pt x="804" y="843"/>
                    </a:lnTo>
                    <a:lnTo>
                      <a:pt x="813" y="846"/>
                    </a:lnTo>
                    <a:lnTo>
                      <a:pt x="891" y="882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911000">
                <a:off x="1304280" y="3280680"/>
                <a:ext cx="56880" cy="10944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5" y="69"/>
                    </a:moveTo>
                    <a:lnTo>
                      <a:pt x="21" y="60"/>
                    </a:lnTo>
                    <a:lnTo>
                      <a:pt x="36" y="48"/>
                    </a:lnTo>
                    <a:lnTo>
                      <a:pt x="33" y="45"/>
                    </a:lnTo>
                    <a:lnTo>
                      <a:pt x="33" y="39"/>
                    </a:lnTo>
                    <a:lnTo>
                      <a:pt x="33" y="33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7" y="21"/>
                    </a:lnTo>
                    <a:lnTo>
                      <a:pt x="24" y="18"/>
                    </a:lnTo>
                    <a:lnTo>
                      <a:pt x="21" y="12"/>
                    </a:lnTo>
                    <a:lnTo>
                      <a:pt x="21" y="9"/>
                    </a:lnTo>
                    <a:lnTo>
                      <a:pt x="18" y="6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3" y="33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9" y="57"/>
                    </a:lnTo>
                    <a:lnTo>
                      <a:pt x="12" y="63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5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911000">
                <a:off x="1382760" y="330840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9" y="21"/>
                    </a:moveTo>
                    <a:lnTo>
                      <a:pt x="18" y="18"/>
                    </a:lnTo>
                    <a:lnTo>
                      <a:pt x="30" y="9"/>
                    </a:lnTo>
                    <a:lnTo>
                      <a:pt x="3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0d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 rot="20331000">
              <a:off x="783720" y="358092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705720" y="5867280"/>
            <a:ext cx="2035800" cy="533520"/>
            <a:chOff x="6705720" y="5867280"/>
            <a:chExt cx="2035800" cy="533520"/>
          </a:xfrm>
        </p:grpSpPr>
        <p:sp>
          <p:nvSpPr>
            <p:cNvPr id="280" name=""/>
            <p:cNvSpPr txBox="1"/>
            <p:nvPr/>
          </p:nvSpPr>
          <p:spPr>
            <a:xfrm>
              <a:off x="6705720" y="586728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60160" y="586728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Signed-Rank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0" y="1219320"/>
            <a:ext cx="1406520" cy="4342680"/>
            <a:chOff x="0" y="1219320"/>
            <a:chExt cx="1406520" cy="4342680"/>
          </a:xfrm>
        </p:grpSpPr>
        <p:grpSp>
          <p:nvGrpSpPr>
            <p:cNvPr id="284" name=""/>
            <p:cNvGrpSpPr/>
            <p:nvPr/>
          </p:nvGrpSpPr>
          <p:grpSpPr>
            <a:xfrm>
              <a:off x="0" y="1914120"/>
              <a:ext cx="1406520" cy="3647880"/>
              <a:chOff x="0" y="1914120"/>
              <a:chExt cx="1406520" cy="3647880"/>
            </a:xfrm>
          </p:grpSpPr>
          <p:sp>
            <p:nvSpPr>
              <p:cNvPr id="285" name=""/>
              <p:cNvSpPr/>
              <p:nvPr/>
            </p:nvSpPr>
            <p:spPr>
              <a:xfrm>
                <a:off x="274680" y="3568320"/>
                <a:ext cx="428760" cy="56160"/>
              </a:xfrm>
              <a:custGeom>
                <a:avLst/>
                <a:gdLst/>
                <a:ahLst/>
                <a:rect l="l" t="t" r="r" b="b"/>
                <a:pathLst>
                  <a:path w="384" h="48">
                    <a:moveTo>
                      <a:pt x="0" y="6"/>
                    </a:moveTo>
                    <a:lnTo>
                      <a:pt x="378" y="0"/>
                    </a:lnTo>
                    <a:lnTo>
                      <a:pt x="384" y="42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49440" y="3546360"/>
                <a:ext cx="455400" cy="70560"/>
              </a:xfrm>
              <a:custGeom>
                <a:avLst/>
                <a:gdLst/>
                <a:ahLst/>
                <a:rect l="l" t="t" r="r" b="b"/>
                <a:pathLst>
                  <a:path w="408" h="60">
                    <a:moveTo>
                      <a:pt x="0" y="24"/>
                    </a:moveTo>
                    <a:lnTo>
                      <a:pt x="402" y="0"/>
                    </a:lnTo>
                    <a:lnTo>
                      <a:pt x="408" y="36"/>
                    </a:lnTo>
                    <a:lnTo>
                      <a:pt x="0" y="6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7760" y="1914120"/>
                <a:ext cx="630000" cy="162720"/>
              </a:xfrm>
              <a:custGeom>
                <a:avLst/>
                <a:gdLst/>
                <a:ahLst/>
                <a:rect l="l" t="t" r="r" b="b"/>
                <a:pathLst>
                  <a:path w="564" h="138">
                    <a:moveTo>
                      <a:pt x="0" y="24"/>
                    </a:moveTo>
                    <a:lnTo>
                      <a:pt x="0" y="66"/>
                    </a:lnTo>
                    <a:lnTo>
                      <a:pt x="564" y="138"/>
                    </a:lnTo>
                    <a:lnTo>
                      <a:pt x="564" y="102"/>
                    </a:lnTo>
                    <a:lnTo>
                      <a:pt x="366" y="0"/>
                    </a:lnTo>
                    <a:lnTo>
                      <a:pt x="366" y="48"/>
                    </a:lnTo>
                    <a:lnTo>
                      <a:pt x="366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5680" y="1970280"/>
                <a:ext cx="622080" cy="106560"/>
              </a:xfrm>
              <a:custGeom>
                <a:avLst/>
                <a:gdLst/>
                <a:ahLst/>
                <a:rect l="l" t="t" r="r" b="b"/>
                <a:pathLst>
                  <a:path w="558" h="90">
                    <a:moveTo>
                      <a:pt x="0" y="18"/>
                    </a:moveTo>
                    <a:lnTo>
                      <a:pt x="246" y="90"/>
                    </a:lnTo>
                    <a:lnTo>
                      <a:pt x="558" y="90"/>
                    </a:lnTo>
                    <a:lnTo>
                      <a:pt x="36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70040" y="2134800"/>
                <a:ext cx="60120" cy="12600"/>
              </a:xfrm>
              <a:prstGeom prst="rect">
                <a:avLst/>
              </a:pr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080" y="2055240"/>
                <a:ext cx="93960" cy="9216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0" y="0"/>
                    </a:moveTo>
                    <a:lnTo>
                      <a:pt x="84" y="0"/>
                    </a:lnTo>
                    <a:lnTo>
                      <a:pt x="60" y="72"/>
                    </a:lnTo>
                    <a:lnTo>
                      <a:pt x="18" y="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0120" y="2049840"/>
                <a:ext cx="536400" cy="3242520"/>
              </a:xfrm>
              <a:custGeom>
                <a:avLst/>
                <a:gdLst/>
                <a:ahLst/>
                <a:rect l="l" t="t" r="r" b="b"/>
                <a:pathLst>
                  <a:path w="480" h="2742">
                    <a:moveTo>
                      <a:pt x="462" y="2742"/>
                    </a:moveTo>
                    <a:lnTo>
                      <a:pt x="480" y="2718"/>
                    </a:lnTo>
                    <a:lnTo>
                      <a:pt x="66" y="36"/>
                    </a:lnTo>
                    <a:lnTo>
                      <a:pt x="60" y="24"/>
                    </a:lnTo>
                    <a:lnTo>
                      <a:pt x="48" y="12"/>
                    </a:lnTo>
                    <a:lnTo>
                      <a:pt x="36" y="6"/>
                    </a:lnTo>
                    <a:lnTo>
                      <a:pt x="24" y="6"/>
                    </a:lnTo>
                    <a:lnTo>
                      <a:pt x="0" y="0"/>
                    </a:lnTo>
                    <a:lnTo>
                      <a:pt x="462" y="2742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09640" y="2049840"/>
                <a:ext cx="576360" cy="3242520"/>
              </a:xfrm>
              <a:custGeom>
                <a:avLst/>
                <a:gdLst/>
                <a:ahLst/>
                <a:rect l="l" t="t" r="r" b="b"/>
                <a:pathLst>
                  <a:path w="516" h="2742">
                    <a:moveTo>
                      <a:pt x="0" y="36"/>
                    </a:moveTo>
                    <a:lnTo>
                      <a:pt x="438" y="2742"/>
                    </a:lnTo>
                    <a:lnTo>
                      <a:pt x="516" y="2742"/>
                    </a:lnTo>
                    <a:lnTo>
                      <a:pt x="90" y="36"/>
                    </a:lnTo>
                    <a:lnTo>
                      <a:pt x="90" y="24"/>
                    </a:lnTo>
                    <a:lnTo>
                      <a:pt x="84" y="18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055240"/>
                <a:ext cx="790560" cy="2846520"/>
              </a:xfrm>
              <a:custGeom>
                <a:avLst/>
                <a:gdLst/>
                <a:ahLst/>
                <a:rect l="l" t="t" r="r" b="b"/>
                <a:pathLst>
                  <a:path w="708" h="2406">
                    <a:moveTo>
                      <a:pt x="708" y="36"/>
                    </a:moveTo>
                    <a:lnTo>
                      <a:pt x="708" y="30"/>
                    </a:lnTo>
                    <a:lnTo>
                      <a:pt x="708" y="18"/>
                    </a:lnTo>
                    <a:lnTo>
                      <a:pt x="702" y="18"/>
                    </a:lnTo>
                    <a:lnTo>
                      <a:pt x="696" y="12"/>
                    </a:lnTo>
                    <a:lnTo>
                      <a:pt x="684" y="0"/>
                    </a:lnTo>
                    <a:lnTo>
                      <a:pt x="0" y="2184"/>
                    </a:lnTo>
                    <a:lnTo>
                      <a:pt x="0" y="2406"/>
                    </a:lnTo>
                    <a:lnTo>
                      <a:pt x="708" y="36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2091240"/>
                <a:ext cx="770040" cy="2718000"/>
              </a:xfrm>
              <a:custGeom>
                <a:avLst/>
                <a:gdLst/>
                <a:ahLst/>
                <a:rect l="l" t="t" r="r" b="b"/>
                <a:pathLst>
                  <a:path w="690" h="2298">
                    <a:moveTo>
                      <a:pt x="690" y="0"/>
                    </a:moveTo>
                    <a:lnTo>
                      <a:pt x="576" y="6"/>
                    </a:lnTo>
                    <a:lnTo>
                      <a:pt x="552" y="96"/>
                    </a:lnTo>
                    <a:lnTo>
                      <a:pt x="0" y="2076"/>
                    </a:lnTo>
                    <a:lnTo>
                      <a:pt x="0" y="2298"/>
                    </a:lnTo>
                    <a:lnTo>
                      <a:pt x="69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70120" y="2885760"/>
                <a:ext cx="120600" cy="4320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0" y="0"/>
                    </a:moveTo>
                    <a:lnTo>
                      <a:pt x="12" y="36"/>
                    </a:lnTo>
                    <a:lnTo>
                      <a:pt x="96" y="36"/>
                    </a:lnTo>
                    <a:lnTo>
                      <a:pt x="108" y="18"/>
                    </a:lnTo>
                    <a:lnTo>
                      <a:pt x="102" y="6"/>
                    </a:lnTo>
                    <a:lnTo>
                      <a:pt x="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23760" y="3262320"/>
                <a:ext cx="133560" cy="70560"/>
              </a:xfrm>
              <a:custGeom>
                <a:avLst/>
                <a:gdLst/>
                <a:ahLst/>
                <a:rect l="l" t="t" r="r" b="b"/>
                <a:pathLst>
                  <a:path w="120" h="60">
                    <a:moveTo>
                      <a:pt x="0" y="12"/>
                    </a:moveTo>
                    <a:lnTo>
                      <a:pt x="6" y="60"/>
                    </a:lnTo>
                    <a:lnTo>
                      <a:pt x="108" y="42"/>
                    </a:lnTo>
                    <a:lnTo>
                      <a:pt x="120" y="30"/>
                    </a:lnTo>
                    <a:lnTo>
                      <a:pt x="120" y="18"/>
                    </a:lnTo>
                    <a:lnTo>
                      <a:pt x="120" y="6"/>
                    </a:lnTo>
                    <a:lnTo>
                      <a:pt x="108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11240" y="3823560"/>
                <a:ext cx="133200" cy="77400"/>
              </a:xfrm>
              <a:custGeom>
                <a:avLst/>
                <a:gdLst/>
                <a:ahLst/>
                <a:rect l="l" t="t" r="r" b="b"/>
                <a:pathLst>
                  <a:path w="120" h="66">
                    <a:moveTo>
                      <a:pt x="0" y="30"/>
                    </a:moveTo>
                    <a:lnTo>
                      <a:pt x="6" y="66"/>
                    </a:lnTo>
                    <a:lnTo>
                      <a:pt x="108" y="36"/>
                    </a:lnTo>
                    <a:lnTo>
                      <a:pt x="120" y="24"/>
                    </a:lnTo>
                    <a:lnTo>
                      <a:pt x="120" y="12"/>
                    </a:lnTo>
                    <a:lnTo>
                      <a:pt x="108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84320" y="4347720"/>
                <a:ext cx="127080" cy="92160"/>
              </a:xfrm>
              <a:custGeom>
                <a:avLst/>
                <a:gdLst/>
                <a:ahLst/>
                <a:rect l="l" t="t" r="r" b="b"/>
                <a:pathLst>
                  <a:path w="114" h="78">
                    <a:moveTo>
                      <a:pt x="0" y="78"/>
                    </a:moveTo>
                    <a:lnTo>
                      <a:pt x="102" y="36"/>
                    </a:lnTo>
                    <a:lnTo>
                      <a:pt x="114" y="30"/>
                    </a:lnTo>
                    <a:lnTo>
                      <a:pt x="114" y="18"/>
                    </a:lnTo>
                    <a:lnTo>
                      <a:pt x="108" y="6"/>
                    </a:lnTo>
                    <a:lnTo>
                      <a:pt x="96" y="0"/>
                    </a:lnTo>
                    <a:lnTo>
                      <a:pt x="0" y="4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8680" y="2885760"/>
                <a:ext cx="206280" cy="14760"/>
              </a:xfrm>
              <a:custGeom>
                <a:avLst/>
                <a:gdLst/>
                <a:ahLst/>
                <a:rect l="l" t="t" r="r" b="b"/>
                <a:pathLst>
                  <a:path w="186" h="12">
                    <a:moveTo>
                      <a:pt x="0" y="0"/>
                    </a:moveTo>
                    <a:lnTo>
                      <a:pt x="96" y="0"/>
                    </a:lnTo>
                    <a:lnTo>
                      <a:pt x="186" y="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0680" y="3276720"/>
                <a:ext cx="193680" cy="36000"/>
              </a:xfrm>
              <a:custGeom>
                <a:avLst/>
                <a:gdLst/>
                <a:ahLst/>
                <a:rect l="l" t="t" r="r" b="b"/>
                <a:pathLst>
                  <a:path w="174" h="30">
                    <a:moveTo>
                      <a:pt x="0" y="18"/>
                    </a:moveTo>
                    <a:lnTo>
                      <a:pt x="96" y="0"/>
                    </a:lnTo>
                    <a:lnTo>
                      <a:pt x="174" y="0"/>
                    </a:lnTo>
                    <a:lnTo>
                      <a:pt x="6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6200" y="3716280"/>
                <a:ext cx="189000" cy="77760"/>
              </a:xfrm>
              <a:custGeom>
                <a:avLst/>
                <a:gdLst/>
                <a:ahLst/>
                <a:rect l="l" t="t" r="r" b="b"/>
                <a:pathLst>
                  <a:path w="168" h="66">
                    <a:moveTo>
                      <a:pt x="18" y="24"/>
                    </a:moveTo>
                    <a:lnTo>
                      <a:pt x="96" y="0"/>
                    </a:lnTo>
                    <a:lnTo>
                      <a:pt x="168" y="0"/>
                    </a:lnTo>
                    <a:lnTo>
                      <a:pt x="0" y="66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4248360"/>
                <a:ext cx="133200" cy="99000"/>
              </a:xfrm>
              <a:custGeom>
                <a:avLst/>
                <a:gdLst/>
                <a:ahLst/>
                <a:rect l="l" t="t" r="r" b="b"/>
                <a:pathLst>
                  <a:path w="120" h="84">
                    <a:moveTo>
                      <a:pt x="0" y="30"/>
                    </a:moveTo>
                    <a:lnTo>
                      <a:pt x="66" y="0"/>
                    </a:lnTo>
                    <a:lnTo>
                      <a:pt x="120" y="6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8680" y="2885760"/>
                <a:ext cx="206280" cy="43200"/>
              </a:xfrm>
              <a:custGeom>
                <a:avLst/>
                <a:gdLst/>
                <a:ahLst/>
                <a:rect l="l" t="t" r="r" b="b"/>
                <a:pathLst>
                  <a:path w="186" h="36">
                    <a:moveTo>
                      <a:pt x="0" y="12"/>
                    </a:moveTo>
                    <a:lnTo>
                      <a:pt x="186" y="0"/>
                    </a:lnTo>
                    <a:lnTo>
                      <a:pt x="180" y="24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4200" y="3276720"/>
                <a:ext cx="200160" cy="84600"/>
              </a:xfrm>
              <a:custGeom>
                <a:avLst/>
                <a:gdLst/>
                <a:ahLst/>
                <a:rect l="l" t="t" r="r" b="b"/>
                <a:pathLst>
                  <a:path w="180" h="72">
                    <a:moveTo>
                      <a:pt x="180" y="0"/>
                    </a:moveTo>
                    <a:lnTo>
                      <a:pt x="180" y="30"/>
                    </a:lnTo>
                    <a:lnTo>
                      <a:pt x="0" y="72"/>
                    </a:lnTo>
                    <a:lnTo>
                      <a:pt x="12" y="3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0080" y="3716280"/>
                <a:ext cx="195120" cy="11376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74" y="0"/>
                    </a:moveTo>
                    <a:lnTo>
                      <a:pt x="174" y="36"/>
                    </a:lnTo>
                    <a:lnTo>
                      <a:pt x="0" y="96"/>
                    </a:lnTo>
                    <a:lnTo>
                      <a:pt x="6" y="6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4255920"/>
                <a:ext cx="133200" cy="120960"/>
              </a:xfrm>
              <a:custGeom>
                <a:avLst/>
                <a:gdLst/>
                <a:ahLst/>
                <a:rect l="l" t="t" r="r" b="b"/>
                <a:pathLst>
                  <a:path w="120" h="102">
                    <a:moveTo>
                      <a:pt x="120" y="0"/>
                    </a:moveTo>
                    <a:lnTo>
                      <a:pt x="120" y="24"/>
                    </a:lnTo>
                    <a:lnTo>
                      <a:pt x="0" y="102"/>
                    </a:lnTo>
                    <a:lnTo>
                      <a:pt x="0" y="6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6360" y="2475000"/>
                <a:ext cx="796680" cy="48600"/>
              </a:xfrm>
              <a:custGeom>
                <a:avLst/>
                <a:gdLst/>
                <a:ahLst/>
                <a:rect l="l" t="t" r="r" b="b"/>
                <a:pathLst>
                  <a:path w="714" h="42">
                    <a:moveTo>
                      <a:pt x="0" y="6"/>
                    </a:moveTo>
                    <a:lnTo>
                      <a:pt x="690" y="0"/>
                    </a:lnTo>
                    <a:lnTo>
                      <a:pt x="714" y="36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22280" y="2489760"/>
                <a:ext cx="903240" cy="19440"/>
              </a:xfrm>
              <a:custGeom>
                <a:avLst/>
                <a:gdLst/>
                <a:ahLst/>
                <a:rect l="l" t="t" r="r" b="b"/>
                <a:pathLst>
                  <a:path w="810" h="18">
                    <a:moveTo>
                      <a:pt x="774" y="0"/>
                    </a:moveTo>
                    <a:lnTo>
                      <a:pt x="810" y="12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774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4360" y="2438640"/>
                <a:ext cx="878040" cy="65160"/>
              </a:xfrm>
              <a:custGeom>
                <a:avLst/>
                <a:gdLst/>
                <a:ahLst/>
                <a:rect l="l" t="t" r="r" b="b"/>
                <a:pathLst>
                  <a:path w="786" h="54">
                    <a:moveTo>
                      <a:pt x="786" y="0"/>
                    </a:moveTo>
                    <a:lnTo>
                      <a:pt x="786" y="48"/>
                    </a:lnTo>
                    <a:lnTo>
                      <a:pt x="0" y="54"/>
                    </a:lnTo>
                    <a:lnTo>
                      <a:pt x="12" y="6"/>
                    </a:lnTo>
                    <a:lnTo>
                      <a:pt x="786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4880" y="2417040"/>
                <a:ext cx="220680" cy="28800"/>
              </a:xfrm>
              <a:prstGeom prst="rect">
                <a:avLst/>
              </a:pr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2021040"/>
                <a:ext cx="1258920" cy="3540960"/>
              </a:xfrm>
              <a:custGeom>
                <a:avLst/>
                <a:gdLst/>
                <a:ahLst/>
                <a:rect l="l" t="t" r="r" b="b"/>
                <a:pathLst>
                  <a:path w="1128" h="2994">
                    <a:moveTo>
                      <a:pt x="408" y="24"/>
                    </a:moveTo>
                    <a:lnTo>
                      <a:pt x="0" y="1626"/>
                    </a:lnTo>
                    <a:lnTo>
                      <a:pt x="0" y="1944"/>
                    </a:lnTo>
                    <a:lnTo>
                      <a:pt x="486" y="36"/>
                    </a:lnTo>
                    <a:lnTo>
                      <a:pt x="594" y="36"/>
                    </a:lnTo>
                    <a:lnTo>
                      <a:pt x="1026" y="2994"/>
                    </a:lnTo>
                    <a:lnTo>
                      <a:pt x="1128" y="2994"/>
                    </a:lnTo>
                    <a:lnTo>
                      <a:pt x="690" y="30"/>
                    </a:lnTo>
                    <a:lnTo>
                      <a:pt x="684" y="18"/>
                    </a:lnTo>
                    <a:lnTo>
                      <a:pt x="684" y="12"/>
                    </a:lnTo>
                    <a:lnTo>
                      <a:pt x="672" y="6"/>
                    </a:lnTo>
                    <a:lnTo>
                      <a:pt x="666" y="0"/>
                    </a:lnTo>
                    <a:lnTo>
                      <a:pt x="432" y="6"/>
                    </a:lnTo>
                    <a:lnTo>
                      <a:pt x="426" y="6"/>
                    </a:lnTo>
                    <a:lnTo>
                      <a:pt x="414" y="12"/>
                    </a:lnTo>
                    <a:lnTo>
                      <a:pt x="408" y="18"/>
                    </a:lnTo>
                    <a:lnTo>
                      <a:pt x="408" y="24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2021040"/>
                <a:ext cx="1238400" cy="3540960"/>
              </a:xfrm>
              <a:custGeom>
                <a:avLst/>
                <a:gdLst/>
                <a:ahLst/>
                <a:rect l="l" t="t" r="r" b="b"/>
                <a:pathLst>
                  <a:path w="1110" h="2994">
                    <a:moveTo>
                      <a:pt x="384" y="24"/>
                    </a:moveTo>
                    <a:lnTo>
                      <a:pt x="0" y="1590"/>
                    </a:lnTo>
                    <a:lnTo>
                      <a:pt x="0" y="1878"/>
                    </a:lnTo>
                    <a:lnTo>
                      <a:pt x="468" y="36"/>
                    </a:lnTo>
                    <a:lnTo>
                      <a:pt x="576" y="36"/>
                    </a:lnTo>
                    <a:lnTo>
                      <a:pt x="1008" y="2994"/>
                    </a:lnTo>
                    <a:lnTo>
                      <a:pt x="1110" y="2994"/>
                    </a:lnTo>
                    <a:lnTo>
                      <a:pt x="672" y="30"/>
                    </a:lnTo>
                    <a:lnTo>
                      <a:pt x="666" y="18"/>
                    </a:lnTo>
                    <a:lnTo>
                      <a:pt x="666" y="12"/>
                    </a:lnTo>
                    <a:lnTo>
                      <a:pt x="654" y="6"/>
                    </a:lnTo>
                    <a:lnTo>
                      <a:pt x="648" y="0"/>
                    </a:lnTo>
                    <a:lnTo>
                      <a:pt x="414" y="6"/>
                    </a:lnTo>
                    <a:lnTo>
                      <a:pt x="408" y="6"/>
                    </a:lnTo>
                    <a:lnTo>
                      <a:pt x="396" y="12"/>
                    </a:lnTo>
                    <a:lnTo>
                      <a:pt x="390" y="18"/>
                    </a:lnTo>
                    <a:lnTo>
                      <a:pt x="384" y="24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1880" y="1991880"/>
                <a:ext cx="281160" cy="120960"/>
              </a:xfrm>
              <a:custGeom>
                <a:avLst/>
                <a:gdLst/>
                <a:ahLst/>
                <a:rect l="l" t="t" r="r" b="b"/>
                <a:pathLst>
                  <a:path w="252" h="102">
                    <a:moveTo>
                      <a:pt x="240" y="0"/>
                    </a:moveTo>
                    <a:lnTo>
                      <a:pt x="252" y="12"/>
                    </a:lnTo>
                    <a:lnTo>
                      <a:pt x="252" y="24"/>
                    </a:lnTo>
                    <a:lnTo>
                      <a:pt x="252" y="36"/>
                    </a:lnTo>
                    <a:lnTo>
                      <a:pt x="252" y="54"/>
                    </a:lnTo>
                    <a:lnTo>
                      <a:pt x="246" y="66"/>
                    </a:lnTo>
                    <a:lnTo>
                      <a:pt x="240" y="78"/>
                    </a:lnTo>
                    <a:lnTo>
                      <a:pt x="234" y="90"/>
                    </a:lnTo>
                    <a:lnTo>
                      <a:pt x="228" y="96"/>
                    </a:lnTo>
                    <a:lnTo>
                      <a:pt x="216" y="102"/>
                    </a:lnTo>
                    <a:lnTo>
                      <a:pt x="36" y="102"/>
                    </a:lnTo>
                    <a:lnTo>
                      <a:pt x="18" y="96"/>
                    </a:lnTo>
                    <a:lnTo>
                      <a:pt x="12" y="96"/>
                    </a:lnTo>
                    <a:lnTo>
                      <a:pt x="0" y="84"/>
                    </a:lnTo>
                    <a:lnTo>
                      <a:pt x="240" y="0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9280" y="1991880"/>
                <a:ext cx="280800" cy="113760"/>
              </a:xfrm>
              <a:custGeom>
                <a:avLst/>
                <a:gdLst/>
                <a:ahLst/>
                <a:rect l="l" t="t" r="r" b="b"/>
                <a:pathLst>
                  <a:path w="252" h="96">
                    <a:moveTo>
                      <a:pt x="0" y="12"/>
                    </a:moveTo>
                    <a:lnTo>
                      <a:pt x="252" y="0"/>
                    </a:lnTo>
                    <a:lnTo>
                      <a:pt x="252" y="18"/>
                    </a:lnTo>
                    <a:lnTo>
                      <a:pt x="252" y="30"/>
                    </a:lnTo>
                    <a:lnTo>
                      <a:pt x="252" y="48"/>
                    </a:lnTo>
                    <a:lnTo>
                      <a:pt x="246" y="60"/>
                    </a:lnTo>
                    <a:lnTo>
                      <a:pt x="240" y="72"/>
                    </a:lnTo>
                    <a:lnTo>
                      <a:pt x="234" y="84"/>
                    </a:lnTo>
                    <a:lnTo>
                      <a:pt x="228" y="90"/>
                    </a:lnTo>
                    <a:lnTo>
                      <a:pt x="216" y="90"/>
                    </a:lnTo>
                    <a:lnTo>
                      <a:pt x="36" y="96"/>
                    </a:lnTo>
                    <a:lnTo>
                      <a:pt x="18" y="90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1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57160" y="2076840"/>
                <a:ext cx="27000" cy="3600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12" y="0"/>
                    </a:moveTo>
                    <a:lnTo>
                      <a:pt x="18" y="6"/>
                    </a:lnTo>
                    <a:lnTo>
                      <a:pt x="24" y="12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69960" y="2035440"/>
                <a:ext cx="33480" cy="342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0"/>
                    </a:moveTo>
                    <a:lnTo>
                      <a:pt x="24" y="0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360" y="2027880"/>
                <a:ext cx="33120" cy="342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0"/>
                    </a:moveTo>
                    <a:lnTo>
                      <a:pt x="24" y="6"/>
                    </a:lnTo>
                    <a:lnTo>
                      <a:pt x="30" y="18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360" y="3660480"/>
                <a:ext cx="482400" cy="55800"/>
              </a:xfrm>
              <a:custGeom>
                <a:avLst/>
                <a:gdLst/>
                <a:ahLst/>
                <a:rect l="l" t="t" r="r" b="b"/>
                <a:pathLst>
                  <a:path w="432" h="48">
                    <a:moveTo>
                      <a:pt x="0" y="12"/>
                    </a:moveTo>
                    <a:lnTo>
                      <a:pt x="432" y="0"/>
                    </a:lnTo>
                    <a:lnTo>
                      <a:pt x="432" y="36"/>
                    </a:lnTo>
                    <a:lnTo>
                      <a:pt x="0" y="4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080" y="3667320"/>
                <a:ext cx="449280" cy="56160"/>
              </a:xfrm>
              <a:custGeom>
                <a:avLst/>
                <a:gdLst/>
                <a:ahLst/>
                <a:rect l="l" t="t" r="r" b="b"/>
                <a:pathLst>
                  <a:path w="402" h="48">
                    <a:moveTo>
                      <a:pt x="0" y="0"/>
                    </a:moveTo>
                    <a:lnTo>
                      <a:pt x="402" y="6"/>
                    </a:lnTo>
                    <a:lnTo>
                      <a:pt x="402" y="48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95200" y="3589920"/>
                <a:ext cx="25560" cy="19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2"/>
                    </a:moveTo>
                    <a:lnTo>
                      <a:pt x="24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71720" y="35539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2"/>
                    </a:moveTo>
                    <a:lnTo>
                      <a:pt x="24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17640" y="3667320"/>
                <a:ext cx="19080" cy="273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12"/>
                    </a:moveTo>
                    <a:lnTo>
                      <a:pt x="18" y="12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2760" y="36820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2"/>
                    </a:moveTo>
                    <a:lnTo>
                      <a:pt x="24" y="12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7480" y="3682080"/>
                <a:ext cx="27000" cy="19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2"/>
                    </a:move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59120" y="1219320"/>
              <a:ext cx="99144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te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219320" y="1143000"/>
            <a:ext cx="661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fferences between related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20968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n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bsolute differenc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32004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turn the sig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ran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m positi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gative r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86080" y="4343400"/>
            <a:ext cx="7734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re the smaller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wo rank su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obtained from the Appendix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f Wilcoxon T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33520" y="5638680"/>
            <a:ext cx="8076960" cy="457200"/>
            <a:chOff x="533520" y="5638680"/>
            <a:chExt cx="8076960" cy="457200"/>
          </a:xfrm>
        </p:grpSpPr>
        <p:sp>
          <p:nvSpPr>
            <p:cNvPr id="331" name=""/>
            <p:cNvSpPr/>
            <p:nvPr/>
          </p:nvSpPr>
          <p:spPr>
            <a:xfrm>
              <a:off x="533520" y="58672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43400" y="56386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 txBox="1"/>
          <p:nvPr/>
        </p:nvSpPr>
        <p:spPr>
          <a:xfrm>
            <a:off x="7162920" y="617220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push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Signed-Rank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1143000"/>
            <a:ext cx="79948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Wilcoxon matched-pair signed-ran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termine if the R&amp;D expenses as a percent of income (EXAMPLE 1) have declin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05 significan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9120" y="3352680"/>
            <a:ext cx="8643960" cy="28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The percent stayed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The percent decl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2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rejected if the smaller of the rank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sums is less than or equal to 5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ee the Appendix of Wilcoxon T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33520" y="2895480"/>
            <a:ext cx="8076960" cy="457200"/>
            <a:chOff x="533520" y="2895480"/>
            <a:chExt cx="8076960" cy="457200"/>
          </a:xfrm>
        </p:grpSpPr>
        <p:sp>
          <p:nvSpPr>
            <p:cNvPr id="338" name=""/>
            <p:cNvSpPr/>
            <p:nvPr/>
          </p:nvSpPr>
          <p:spPr>
            <a:xfrm>
              <a:off x="533520" y="31240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43400" y="28954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705720" y="6172200"/>
            <a:ext cx="2035800" cy="533520"/>
            <a:chOff x="6705720" y="6172200"/>
            <a:chExt cx="2035800" cy="533520"/>
          </a:xfrm>
        </p:grpSpPr>
        <p:sp>
          <p:nvSpPr>
            <p:cNvPr id="341" name=""/>
            <p:cNvSpPr txBox="1"/>
            <p:nvPr/>
          </p:nvSpPr>
          <p:spPr>
            <a:xfrm>
              <a:off x="670572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6016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2280" y="990720"/>
            <a:ext cx="8763120" cy="5454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BS-Dif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ank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Times New Roman"/>
              </a:rPr>
              <a:t>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Times New Roman"/>
              </a:rPr>
              <a:t>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oth Glass   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isi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1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 1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bin Inc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3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7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7 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bert Glass 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9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 8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men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2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    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2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son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- 6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    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*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ynn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7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 6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705720" y="6324480"/>
            <a:ext cx="2035800" cy="533520"/>
            <a:chOff x="6705720" y="6324480"/>
            <a:chExt cx="2035800" cy="533520"/>
          </a:xfrm>
        </p:grpSpPr>
        <p:sp>
          <p:nvSpPr>
            <p:cNvPr id="345" name=""/>
            <p:cNvSpPr txBox="1"/>
            <p:nvPr/>
          </p:nvSpPr>
          <p:spPr>
            <a:xfrm>
              <a:off x="6705720" y="632448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60160" y="632448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Signed-Rank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523880" y="45720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maller rank sum is 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which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qual to the critical value o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5562720"/>
            <a:ext cx="8001000" cy="100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s rej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ercent has declined from one year to the n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990720"/>
            <a:ext cx="8763120" cy="3655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BS-Diff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ank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Times New Roman"/>
              </a:rPr>
              <a:t>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Times New Roman"/>
              </a:rPr>
              <a:t>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oth Glass   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4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isi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1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 1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bin Inc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3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7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7 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bert Glass 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9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 8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men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2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    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2 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son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- 6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    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* 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ynn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7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        6 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Signed-Rank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90440" y="1219320"/>
            <a:ext cx="876312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.used to determin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wo independent samp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ame from the same or equal 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2514600"/>
            <a:ext cx="7772400" cy="303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o assump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bout the shape of the population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ust be at least ordinal sca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sample must contain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t least eight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Rank-Sum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33520" y="2057400"/>
            <a:ext cx="8076960" cy="457200"/>
            <a:chOff x="533520" y="2057400"/>
            <a:chExt cx="8076960" cy="457200"/>
          </a:xfrm>
        </p:grpSpPr>
        <p:sp>
          <p:nvSpPr>
            <p:cNvPr id="356" name=""/>
            <p:cNvSpPr/>
            <p:nvPr/>
          </p:nvSpPr>
          <p:spPr>
            <a:xfrm>
              <a:off x="533520" y="228600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43400" y="205740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33520" y="5638680"/>
            <a:ext cx="8076960" cy="457200"/>
            <a:chOff x="533520" y="5638680"/>
            <a:chExt cx="8076960" cy="457200"/>
          </a:xfrm>
        </p:grpSpPr>
        <p:sp>
          <p:nvSpPr>
            <p:cNvPr id="359" name=""/>
            <p:cNvSpPr/>
            <p:nvPr/>
          </p:nvSpPr>
          <p:spPr>
            <a:xfrm>
              <a:off x="533520" y="58672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43400" y="56386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04920" y="2063880"/>
            <a:ext cx="609480" cy="581400"/>
            <a:chOff x="304920" y="2063880"/>
            <a:chExt cx="609480" cy="5814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2138400"/>
              <a:ext cx="60948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81960" y="20638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35160" y="213984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du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gn 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s using the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inomi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ndard norm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stributions as the test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920" y="3465360"/>
            <a:ext cx="609480" cy="581400"/>
            <a:chOff x="304920" y="3465360"/>
            <a:chExt cx="609480" cy="581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04920" y="353988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81960" y="346536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143000" y="3541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du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est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of hypothe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pend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es using the </a:t>
            </a: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Wilcoxon signed-rank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12193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5640" y="624852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4920" y="4456080"/>
            <a:ext cx="609480" cy="581400"/>
            <a:chOff x="304920" y="4456080"/>
            <a:chExt cx="609480" cy="58140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304920" y="453060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1960" y="44560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162080" y="454644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duct and interpr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ff99ff"/>
                </a:solidFill>
                <a:latin typeface="Times New Roman"/>
              </a:rPr>
              <a:t>Wilcoxo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ank-sum 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77920" y="990720"/>
            <a:ext cx="858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termine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alue of the test statistic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 data values are ranked fro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low to hig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as if they were from a single popul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um of ranks for each of the two samples is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Rank-Sum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34290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maller of the two sum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 to compute the test statistic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663560" y="4260960"/>
            <a:ext cx="5680080" cy="2066040"/>
            <a:chOff x="1663560" y="4260960"/>
            <a:chExt cx="5680080" cy="2066040"/>
          </a:xfrm>
        </p:grpSpPr>
        <p:sp>
          <p:nvSpPr>
            <p:cNvPr id="365" name=""/>
            <p:cNvSpPr/>
            <p:nvPr/>
          </p:nvSpPr>
          <p:spPr>
            <a:xfrm>
              <a:off x="3710160" y="4786560"/>
              <a:ext cx="3573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40200" y="5830920"/>
              <a:ext cx="4182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644920" y="5881320"/>
              <a:ext cx="74520" cy="270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19440" y="5891400"/>
              <a:ext cx="106200" cy="334800"/>
            </a:xfrm>
            <a:prstGeom prst="line">
              <a:avLst/>
            </a:prstGeom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841480" y="5310360"/>
              <a:ext cx="150840" cy="9158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92320" y="5310360"/>
              <a:ext cx="42912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68600" y="5232600"/>
              <a:ext cx="477504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04920" y="588492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81120" y="534672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25880" y="53467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66360" y="534672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54280" y="48405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42680" y="4303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86360" y="4303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26480" y="4303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33160" y="55342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71080" y="55342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55320" y="55342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78960" y="55342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93640" y="4489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3000" y="4489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47480" y="4489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36720" y="530388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42960" y="530388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97200" y="426096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03440" y="426096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00120" y="451008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27520" y="495612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98360" y="53467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83800" y="53467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18720" y="53467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90240" y="53467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58840" y="43038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44280" y="43038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59840" y="43038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63200" y="455292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W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63560" y="4724640"/>
              <a:ext cx="203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7162920" y="617220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cover dir="r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533520" y="1523880"/>
            <a:ext cx="7772040" cy="3276000"/>
            <a:chOff x="533520" y="1523880"/>
            <a:chExt cx="7772040" cy="3276000"/>
          </a:xfrm>
        </p:grpSpPr>
        <p:pic>
          <p:nvPicPr>
            <p:cNvPr id="404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533520" y="1523880"/>
              <a:ext cx="3701160" cy="31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4234680" y="1880640"/>
              <a:ext cx="4070880" cy="29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/>
          <p:cNvSpPr/>
          <p:nvPr/>
        </p:nvSpPr>
        <p:spPr>
          <a:xfrm>
            <a:off x="714240" y="12193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school purchased two vehicles, a Ford and a Chevrolet, for the administration’s use when travell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pair costs for the two cars                        over the last three years is shown                                       on the next sli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05 significance level is there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fference in the two distribution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Rank-Sum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33520" y="5562720"/>
            <a:ext cx="8076960" cy="457200"/>
            <a:chOff x="533520" y="5562720"/>
            <a:chExt cx="8076960" cy="457200"/>
          </a:xfrm>
        </p:grpSpPr>
        <p:sp>
          <p:nvSpPr>
            <p:cNvPr id="409" name=""/>
            <p:cNvSpPr/>
            <p:nvPr/>
          </p:nvSpPr>
          <p:spPr>
            <a:xfrm>
              <a:off x="533520" y="579132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43400" y="556272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412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600200" y="1295280"/>
            <a:ext cx="5867280" cy="5035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Ford ($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Rank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Chevrolet($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R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.3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14.8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3.6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5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20.3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6.8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7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25.9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1.83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8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33.6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7.6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3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68.9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7.9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4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78.2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.8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5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80.3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0.6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6.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81.7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7.9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17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81.5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Rank-Sum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417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49120" y="1447920"/>
            <a:ext cx="864396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The percent stayed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The percent decl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2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rejected if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96 or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less than –1.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Rank-Sum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3160" y="3276720"/>
            <a:ext cx="70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lue of the test statistic is 0.9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299840" y="4051440"/>
            <a:ext cx="3078720" cy="1968480"/>
            <a:chOff x="4299840" y="4051440"/>
            <a:chExt cx="3078720" cy="1968480"/>
          </a:xfrm>
        </p:grpSpPr>
        <p:sp>
          <p:nvSpPr>
            <p:cNvPr id="423" name=""/>
            <p:cNvSpPr/>
            <p:nvPr/>
          </p:nvSpPr>
          <p:spPr>
            <a:xfrm>
              <a:off x="5686560" y="4546800"/>
              <a:ext cx="165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79960" y="5542200"/>
              <a:ext cx="209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29040" y="5595840"/>
              <a:ext cx="4788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76920" y="5604120"/>
              <a:ext cx="66600" cy="3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4952880" y="5051160"/>
              <a:ext cx="968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49720" y="5051520"/>
              <a:ext cx="2167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57680" y="4977000"/>
              <a:ext cx="2720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20560" y="559296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26120" y="5086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64120" y="5086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65520" y="5086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44600" y="5086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99080" y="5086440"/>
              <a:ext cx="23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406480" y="5086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79760" y="5086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94000" y="5086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22760" y="45993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88120" y="40914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25760" y="40914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27520" y="40914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06600" y="40914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86360" y="40914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0240" y="40914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52680" y="4321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56200" y="43214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71360" y="432144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15000" y="50468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86520" y="50468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77000" y="40514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49960" y="405144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40680" y="428184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99840" y="4712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380520" y="4038480"/>
            <a:ext cx="3677040" cy="1990800"/>
            <a:chOff x="380520" y="4038480"/>
            <a:chExt cx="3677040" cy="1990800"/>
          </a:xfrm>
        </p:grpSpPr>
        <p:sp>
          <p:nvSpPr>
            <p:cNvPr id="456" name=""/>
            <p:cNvSpPr/>
            <p:nvPr/>
          </p:nvSpPr>
          <p:spPr>
            <a:xfrm>
              <a:off x="1754280" y="4545000"/>
              <a:ext cx="2265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8760" y="5549760"/>
              <a:ext cx="2652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1077840" y="5598720"/>
              <a:ext cx="49320" cy="2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27160" y="5608800"/>
              <a:ext cx="6660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203480" y="5048280"/>
              <a:ext cx="96840" cy="88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00320" y="5048280"/>
              <a:ext cx="271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30320" y="4975200"/>
              <a:ext cx="3027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47280" y="56023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28960" y="508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66600" y="5083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106360" y="5083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6840" y="45957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67120" y="4078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04760" y="4078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144520" y="40784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4040" y="526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27120" y="526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9800" y="526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44760" y="5264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01840" y="4257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65280" y="4257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68480" y="42577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17840" y="50436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60760" y="50436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56000" y="40384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98920" y="403848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06960" y="428004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2480" y="47102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51280" y="50832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44600" y="50832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97040" y="50832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62240" y="50832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89440" y="4078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82760" y="4078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85960" y="40784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28880" y="4319640"/>
              <a:ext cx="316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520" y="449568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773840" y="4738680"/>
            <a:ext cx="127332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0.9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495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589040" y="152280"/>
            <a:ext cx="5965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coxon Rank-Sum T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53000" y="1600200"/>
            <a:ext cx="70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lue of the test statistic is 0.91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2514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 do not reject the null hypothesi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89000" y="3505320"/>
            <a:ext cx="6966000" cy="253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 cannot conclu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there is a differe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in the distributions of the repair costs of the two vehicl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33520" y="5791320"/>
            <a:ext cx="8076960" cy="457200"/>
            <a:chOff x="533520" y="5791320"/>
            <a:chExt cx="8076960" cy="457200"/>
          </a:xfrm>
        </p:grpSpPr>
        <p:sp>
          <p:nvSpPr>
            <p:cNvPr id="502" name=""/>
            <p:cNvSpPr/>
            <p:nvPr/>
          </p:nvSpPr>
          <p:spPr>
            <a:xfrm>
              <a:off x="533520" y="601992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3400" y="579132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3520" y="129528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o comp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hree or more samp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to determine if they came from equal 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33520" y="2133720"/>
            <a:ext cx="8076960" cy="457200"/>
            <a:chOff x="533520" y="2133720"/>
            <a:chExt cx="8076960" cy="457200"/>
          </a:xfrm>
        </p:grpSpPr>
        <p:sp>
          <p:nvSpPr>
            <p:cNvPr id="507" name=""/>
            <p:cNvSpPr/>
            <p:nvPr/>
          </p:nvSpPr>
          <p:spPr>
            <a:xfrm>
              <a:off x="533520" y="236232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43400" y="213372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838080" y="2666880"/>
            <a:ext cx="8153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dinal scale of measure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alternative to the one-way 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i-square distribution is the test stat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ach s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ould hav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t least five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mple data is ranked from low to high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if it were a sing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-283320" y="2203200"/>
            <a:ext cx="2571480" cy="2327760"/>
            <a:chOff x="-283320" y="2203200"/>
            <a:chExt cx="2571480" cy="2327760"/>
          </a:xfrm>
        </p:grpSpPr>
        <p:grpSp>
          <p:nvGrpSpPr>
            <p:cNvPr id="511" name=""/>
            <p:cNvGrpSpPr/>
            <p:nvPr/>
          </p:nvGrpSpPr>
          <p:grpSpPr>
            <a:xfrm>
              <a:off x="-283320" y="2203200"/>
              <a:ext cx="2571480" cy="2327760"/>
              <a:chOff x="-283320" y="2203200"/>
              <a:chExt cx="2571480" cy="2327760"/>
            </a:xfrm>
          </p:grpSpPr>
          <p:sp>
            <p:nvSpPr>
              <p:cNvPr id="512" name=""/>
              <p:cNvSpPr/>
              <p:nvPr/>
            </p:nvSpPr>
            <p:spPr>
              <a:xfrm rot="1911000">
                <a:off x="-76320" y="2666880"/>
                <a:ext cx="2157480" cy="1400040"/>
              </a:xfrm>
              <a:custGeom>
                <a:avLst/>
                <a:gdLst/>
                <a:ahLst/>
                <a:rect l="l" t="t" r="r" b="b"/>
                <a:pathLst>
                  <a:path w="1359" h="882">
                    <a:moveTo>
                      <a:pt x="891" y="882"/>
                    </a:moveTo>
                    <a:lnTo>
                      <a:pt x="894" y="882"/>
                    </a:lnTo>
                    <a:lnTo>
                      <a:pt x="894" y="882"/>
                    </a:lnTo>
                    <a:lnTo>
                      <a:pt x="897" y="879"/>
                    </a:lnTo>
                    <a:lnTo>
                      <a:pt x="897" y="879"/>
                    </a:lnTo>
                    <a:lnTo>
                      <a:pt x="900" y="873"/>
                    </a:lnTo>
                    <a:lnTo>
                      <a:pt x="903" y="864"/>
                    </a:lnTo>
                    <a:lnTo>
                      <a:pt x="909" y="858"/>
                    </a:lnTo>
                    <a:lnTo>
                      <a:pt x="912" y="852"/>
                    </a:lnTo>
                    <a:lnTo>
                      <a:pt x="918" y="846"/>
                    </a:lnTo>
                    <a:lnTo>
                      <a:pt x="924" y="840"/>
                    </a:lnTo>
                    <a:lnTo>
                      <a:pt x="927" y="831"/>
                    </a:lnTo>
                    <a:lnTo>
                      <a:pt x="933" y="825"/>
                    </a:lnTo>
                    <a:lnTo>
                      <a:pt x="939" y="819"/>
                    </a:lnTo>
                    <a:lnTo>
                      <a:pt x="945" y="813"/>
                    </a:lnTo>
                    <a:lnTo>
                      <a:pt x="951" y="807"/>
                    </a:lnTo>
                    <a:lnTo>
                      <a:pt x="957" y="801"/>
                    </a:lnTo>
                    <a:lnTo>
                      <a:pt x="963" y="795"/>
                    </a:lnTo>
                    <a:lnTo>
                      <a:pt x="969" y="789"/>
                    </a:lnTo>
                    <a:lnTo>
                      <a:pt x="975" y="783"/>
                    </a:lnTo>
                    <a:lnTo>
                      <a:pt x="981" y="774"/>
                    </a:lnTo>
                    <a:lnTo>
                      <a:pt x="990" y="768"/>
                    </a:lnTo>
                    <a:lnTo>
                      <a:pt x="993" y="765"/>
                    </a:lnTo>
                    <a:lnTo>
                      <a:pt x="999" y="759"/>
                    </a:lnTo>
                    <a:lnTo>
                      <a:pt x="1002" y="753"/>
                    </a:lnTo>
                    <a:lnTo>
                      <a:pt x="1008" y="750"/>
                    </a:lnTo>
                    <a:lnTo>
                      <a:pt x="1011" y="744"/>
                    </a:lnTo>
                    <a:lnTo>
                      <a:pt x="1017" y="738"/>
                    </a:lnTo>
                    <a:lnTo>
                      <a:pt x="1020" y="735"/>
                    </a:lnTo>
                    <a:lnTo>
                      <a:pt x="1026" y="729"/>
                    </a:lnTo>
                    <a:lnTo>
                      <a:pt x="1029" y="726"/>
                    </a:lnTo>
                    <a:lnTo>
                      <a:pt x="1032" y="723"/>
                    </a:lnTo>
                    <a:lnTo>
                      <a:pt x="1035" y="720"/>
                    </a:lnTo>
                    <a:lnTo>
                      <a:pt x="1038" y="717"/>
                    </a:lnTo>
                    <a:lnTo>
                      <a:pt x="1041" y="717"/>
                    </a:lnTo>
                    <a:lnTo>
                      <a:pt x="1044" y="714"/>
                    </a:lnTo>
                    <a:lnTo>
                      <a:pt x="1044" y="711"/>
                    </a:lnTo>
                    <a:lnTo>
                      <a:pt x="1047" y="708"/>
                    </a:lnTo>
                    <a:lnTo>
                      <a:pt x="1053" y="702"/>
                    </a:lnTo>
                    <a:lnTo>
                      <a:pt x="1056" y="699"/>
                    </a:lnTo>
                    <a:lnTo>
                      <a:pt x="1062" y="693"/>
                    </a:lnTo>
                    <a:lnTo>
                      <a:pt x="1065" y="690"/>
                    </a:lnTo>
                    <a:lnTo>
                      <a:pt x="1068" y="684"/>
                    </a:lnTo>
                    <a:lnTo>
                      <a:pt x="1071" y="681"/>
                    </a:lnTo>
                    <a:lnTo>
                      <a:pt x="1077" y="678"/>
                    </a:lnTo>
                    <a:lnTo>
                      <a:pt x="1080" y="675"/>
                    </a:lnTo>
                    <a:lnTo>
                      <a:pt x="1083" y="669"/>
                    </a:lnTo>
                    <a:lnTo>
                      <a:pt x="1086" y="666"/>
                    </a:lnTo>
                    <a:lnTo>
                      <a:pt x="1089" y="660"/>
                    </a:lnTo>
                    <a:lnTo>
                      <a:pt x="1092" y="654"/>
                    </a:lnTo>
                    <a:lnTo>
                      <a:pt x="1095" y="651"/>
                    </a:lnTo>
                    <a:lnTo>
                      <a:pt x="1098" y="645"/>
                    </a:lnTo>
                    <a:lnTo>
                      <a:pt x="1101" y="642"/>
                    </a:lnTo>
                    <a:lnTo>
                      <a:pt x="1107" y="639"/>
                    </a:lnTo>
                    <a:lnTo>
                      <a:pt x="1110" y="636"/>
                    </a:lnTo>
                    <a:lnTo>
                      <a:pt x="1110" y="633"/>
                    </a:lnTo>
                    <a:lnTo>
                      <a:pt x="1113" y="630"/>
                    </a:lnTo>
                    <a:lnTo>
                      <a:pt x="1113" y="627"/>
                    </a:lnTo>
                    <a:lnTo>
                      <a:pt x="1116" y="624"/>
                    </a:lnTo>
                    <a:lnTo>
                      <a:pt x="1119" y="621"/>
                    </a:lnTo>
                    <a:lnTo>
                      <a:pt x="1122" y="618"/>
                    </a:lnTo>
                    <a:lnTo>
                      <a:pt x="1122" y="618"/>
                    </a:lnTo>
                    <a:lnTo>
                      <a:pt x="1125" y="612"/>
                    </a:lnTo>
                    <a:lnTo>
                      <a:pt x="1128" y="612"/>
                    </a:lnTo>
                    <a:lnTo>
                      <a:pt x="1131" y="609"/>
                    </a:lnTo>
                    <a:lnTo>
                      <a:pt x="1134" y="606"/>
                    </a:lnTo>
                    <a:lnTo>
                      <a:pt x="1137" y="603"/>
                    </a:lnTo>
                    <a:lnTo>
                      <a:pt x="1137" y="600"/>
                    </a:lnTo>
                    <a:lnTo>
                      <a:pt x="1140" y="597"/>
                    </a:lnTo>
                    <a:lnTo>
                      <a:pt x="1143" y="594"/>
                    </a:lnTo>
                    <a:lnTo>
                      <a:pt x="1191" y="546"/>
                    </a:lnTo>
                    <a:lnTo>
                      <a:pt x="1197" y="540"/>
                    </a:lnTo>
                    <a:lnTo>
                      <a:pt x="1203" y="534"/>
                    </a:lnTo>
                    <a:lnTo>
                      <a:pt x="1209" y="528"/>
                    </a:lnTo>
                    <a:lnTo>
                      <a:pt x="1215" y="522"/>
                    </a:lnTo>
                    <a:lnTo>
                      <a:pt x="1221" y="516"/>
                    </a:lnTo>
                    <a:lnTo>
                      <a:pt x="1230" y="510"/>
                    </a:lnTo>
                    <a:lnTo>
                      <a:pt x="1236" y="504"/>
                    </a:lnTo>
                    <a:lnTo>
                      <a:pt x="1242" y="495"/>
                    </a:lnTo>
                    <a:lnTo>
                      <a:pt x="1245" y="492"/>
                    </a:lnTo>
                    <a:lnTo>
                      <a:pt x="1248" y="492"/>
                    </a:lnTo>
                    <a:lnTo>
                      <a:pt x="1251" y="489"/>
                    </a:lnTo>
                    <a:lnTo>
                      <a:pt x="1254" y="486"/>
                    </a:lnTo>
                    <a:lnTo>
                      <a:pt x="1257" y="483"/>
                    </a:lnTo>
                    <a:lnTo>
                      <a:pt x="1260" y="480"/>
                    </a:lnTo>
                    <a:lnTo>
                      <a:pt x="1263" y="480"/>
                    </a:lnTo>
                    <a:lnTo>
                      <a:pt x="1266" y="477"/>
                    </a:lnTo>
                    <a:lnTo>
                      <a:pt x="1269" y="471"/>
                    </a:lnTo>
                    <a:lnTo>
                      <a:pt x="1275" y="465"/>
                    </a:lnTo>
                    <a:lnTo>
                      <a:pt x="1281" y="459"/>
                    </a:lnTo>
                    <a:lnTo>
                      <a:pt x="1287" y="456"/>
                    </a:lnTo>
                    <a:lnTo>
                      <a:pt x="1293" y="450"/>
                    </a:lnTo>
                    <a:lnTo>
                      <a:pt x="1296" y="444"/>
                    </a:lnTo>
                    <a:lnTo>
                      <a:pt x="1302" y="438"/>
                    </a:lnTo>
                    <a:lnTo>
                      <a:pt x="1308" y="432"/>
                    </a:lnTo>
                    <a:lnTo>
                      <a:pt x="1308" y="429"/>
                    </a:lnTo>
                    <a:lnTo>
                      <a:pt x="1311" y="426"/>
                    </a:lnTo>
                    <a:lnTo>
                      <a:pt x="1314" y="423"/>
                    </a:lnTo>
                    <a:lnTo>
                      <a:pt x="1317" y="420"/>
                    </a:lnTo>
                    <a:lnTo>
                      <a:pt x="1317" y="417"/>
                    </a:lnTo>
                    <a:lnTo>
                      <a:pt x="1320" y="414"/>
                    </a:lnTo>
                    <a:lnTo>
                      <a:pt x="1323" y="414"/>
                    </a:lnTo>
                    <a:lnTo>
                      <a:pt x="1326" y="411"/>
                    </a:lnTo>
                    <a:lnTo>
                      <a:pt x="1356" y="366"/>
                    </a:lnTo>
                    <a:lnTo>
                      <a:pt x="1359" y="348"/>
                    </a:lnTo>
                    <a:lnTo>
                      <a:pt x="1350" y="345"/>
                    </a:lnTo>
                    <a:lnTo>
                      <a:pt x="1347" y="345"/>
                    </a:lnTo>
                    <a:lnTo>
                      <a:pt x="1344" y="342"/>
                    </a:lnTo>
                    <a:lnTo>
                      <a:pt x="1344" y="342"/>
                    </a:lnTo>
                    <a:lnTo>
                      <a:pt x="1344" y="339"/>
                    </a:lnTo>
                    <a:lnTo>
                      <a:pt x="1344" y="339"/>
                    </a:lnTo>
                    <a:lnTo>
                      <a:pt x="1344" y="339"/>
                    </a:lnTo>
                    <a:lnTo>
                      <a:pt x="1344" y="336"/>
                    </a:lnTo>
                    <a:lnTo>
                      <a:pt x="1341" y="336"/>
                    </a:lnTo>
                    <a:lnTo>
                      <a:pt x="1332" y="342"/>
                    </a:lnTo>
                    <a:lnTo>
                      <a:pt x="1314" y="336"/>
                    </a:lnTo>
                    <a:lnTo>
                      <a:pt x="1314" y="336"/>
                    </a:lnTo>
                    <a:lnTo>
                      <a:pt x="1311" y="336"/>
                    </a:lnTo>
                    <a:lnTo>
                      <a:pt x="1311" y="336"/>
                    </a:lnTo>
                    <a:lnTo>
                      <a:pt x="1311" y="336"/>
                    </a:lnTo>
                    <a:lnTo>
                      <a:pt x="1308" y="336"/>
                    </a:lnTo>
                    <a:lnTo>
                      <a:pt x="1308" y="336"/>
                    </a:lnTo>
                    <a:lnTo>
                      <a:pt x="1308" y="333"/>
                    </a:lnTo>
                    <a:lnTo>
                      <a:pt x="1308" y="333"/>
                    </a:lnTo>
                    <a:lnTo>
                      <a:pt x="1299" y="333"/>
                    </a:lnTo>
                    <a:lnTo>
                      <a:pt x="1293" y="333"/>
                    </a:lnTo>
                    <a:lnTo>
                      <a:pt x="1287" y="330"/>
                    </a:lnTo>
                    <a:lnTo>
                      <a:pt x="1281" y="327"/>
                    </a:lnTo>
                    <a:lnTo>
                      <a:pt x="1275" y="327"/>
                    </a:lnTo>
                    <a:lnTo>
                      <a:pt x="1269" y="324"/>
                    </a:lnTo>
                    <a:lnTo>
                      <a:pt x="1260" y="321"/>
                    </a:lnTo>
                    <a:lnTo>
                      <a:pt x="1254" y="321"/>
                    </a:lnTo>
                    <a:lnTo>
                      <a:pt x="1251" y="318"/>
                    </a:lnTo>
                    <a:lnTo>
                      <a:pt x="1245" y="318"/>
                    </a:lnTo>
                    <a:lnTo>
                      <a:pt x="1239" y="315"/>
                    </a:lnTo>
                    <a:lnTo>
                      <a:pt x="1236" y="315"/>
                    </a:lnTo>
                    <a:lnTo>
                      <a:pt x="1230" y="315"/>
                    </a:lnTo>
                    <a:lnTo>
                      <a:pt x="1224" y="312"/>
                    </a:lnTo>
                    <a:lnTo>
                      <a:pt x="1221" y="312"/>
                    </a:lnTo>
                    <a:lnTo>
                      <a:pt x="1215" y="309"/>
                    </a:lnTo>
                    <a:lnTo>
                      <a:pt x="1212" y="309"/>
                    </a:lnTo>
                    <a:lnTo>
                      <a:pt x="1206" y="306"/>
                    </a:lnTo>
                    <a:lnTo>
                      <a:pt x="1203" y="306"/>
                    </a:lnTo>
                    <a:lnTo>
                      <a:pt x="1197" y="303"/>
                    </a:lnTo>
                    <a:lnTo>
                      <a:pt x="1194" y="303"/>
                    </a:lnTo>
                    <a:lnTo>
                      <a:pt x="1188" y="300"/>
                    </a:lnTo>
                    <a:lnTo>
                      <a:pt x="1185" y="300"/>
                    </a:lnTo>
                    <a:lnTo>
                      <a:pt x="1179" y="297"/>
                    </a:lnTo>
                    <a:lnTo>
                      <a:pt x="1176" y="297"/>
                    </a:lnTo>
                    <a:lnTo>
                      <a:pt x="1170" y="294"/>
                    </a:lnTo>
                    <a:lnTo>
                      <a:pt x="1167" y="291"/>
                    </a:lnTo>
                    <a:lnTo>
                      <a:pt x="1164" y="291"/>
                    </a:lnTo>
                    <a:lnTo>
                      <a:pt x="1161" y="288"/>
                    </a:lnTo>
                    <a:lnTo>
                      <a:pt x="1155" y="288"/>
                    </a:lnTo>
                    <a:lnTo>
                      <a:pt x="1152" y="285"/>
                    </a:lnTo>
                    <a:lnTo>
                      <a:pt x="1149" y="285"/>
                    </a:lnTo>
                    <a:lnTo>
                      <a:pt x="1053" y="252"/>
                    </a:lnTo>
                    <a:lnTo>
                      <a:pt x="1017" y="243"/>
                    </a:lnTo>
                    <a:lnTo>
                      <a:pt x="1014" y="240"/>
                    </a:lnTo>
                    <a:lnTo>
                      <a:pt x="1008" y="234"/>
                    </a:lnTo>
                    <a:lnTo>
                      <a:pt x="1002" y="234"/>
                    </a:lnTo>
                    <a:lnTo>
                      <a:pt x="996" y="231"/>
                    </a:lnTo>
                    <a:lnTo>
                      <a:pt x="990" y="228"/>
                    </a:lnTo>
                    <a:lnTo>
                      <a:pt x="984" y="225"/>
                    </a:lnTo>
                    <a:lnTo>
                      <a:pt x="978" y="222"/>
                    </a:lnTo>
                    <a:lnTo>
                      <a:pt x="972" y="219"/>
                    </a:lnTo>
                    <a:lnTo>
                      <a:pt x="966" y="216"/>
                    </a:lnTo>
                    <a:lnTo>
                      <a:pt x="960" y="210"/>
                    </a:lnTo>
                    <a:lnTo>
                      <a:pt x="951" y="207"/>
                    </a:lnTo>
                    <a:lnTo>
                      <a:pt x="945" y="204"/>
                    </a:lnTo>
                    <a:lnTo>
                      <a:pt x="936" y="201"/>
                    </a:lnTo>
                    <a:lnTo>
                      <a:pt x="930" y="198"/>
                    </a:lnTo>
                    <a:lnTo>
                      <a:pt x="924" y="195"/>
                    </a:lnTo>
                    <a:lnTo>
                      <a:pt x="915" y="192"/>
                    </a:lnTo>
                    <a:lnTo>
                      <a:pt x="909" y="189"/>
                    </a:lnTo>
                    <a:lnTo>
                      <a:pt x="900" y="186"/>
                    </a:lnTo>
                    <a:lnTo>
                      <a:pt x="894" y="183"/>
                    </a:lnTo>
                    <a:lnTo>
                      <a:pt x="885" y="180"/>
                    </a:lnTo>
                    <a:lnTo>
                      <a:pt x="879" y="177"/>
                    </a:lnTo>
                    <a:lnTo>
                      <a:pt x="870" y="174"/>
                    </a:lnTo>
                    <a:lnTo>
                      <a:pt x="864" y="171"/>
                    </a:lnTo>
                    <a:lnTo>
                      <a:pt x="855" y="168"/>
                    </a:lnTo>
                    <a:lnTo>
                      <a:pt x="849" y="168"/>
                    </a:lnTo>
                    <a:lnTo>
                      <a:pt x="846" y="165"/>
                    </a:lnTo>
                    <a:lnTo>
                      <a:pt x="840" y="165"/>
                    </a:lnTo>
                    <a:lnTo>
                      <a:pt x="837" y="162"/>
                    </a:lnTo>
                    <a:lnTo>
                      <a:pt x="834" y="162"/>
                    </a:lnTo>
                    <a:lnTo>
                      <a:pt x="828" y="159"/>
                    </a:lnTo>
                    <a:lnTo>
                      <a:pt x="825" y="159"/>
                    </a:lnTo>
                    <a:lnTo>
                      <a:pt x="819" y="156"/>
                    </a:lnTo>
                    <a:lnTo>
                      <a:pt x="816" y="156"/>
                    </a:lnTo>
                    <a:lnTo>
                      <a:pt x="813" y="153"/>
                    </a:lnTo>
                    <a:lnTo>
                      <a:pt x="807" y="153"/>
                    </a:lnTo>
                    <a:lnTo>
                      <a:pt x="804" y="153"/>
                    </a:lnTo>
                    <a:lnTo>
                      <a:pt x="798" y="150"/>
                    </a:lnTo>
                    <a:lnTo>
                      <a:pt x="795" y="150"/>
                    </a:lnTo>
                    <a:lnTo>
                      <a:pt x="792" y="147"/>
                    </a:lnTo>
                    <a:lnTo>
                      <a:pt x="786" y="147"/>
                    </a:lnTo>
                    <a:lnTo>
                      <a:pt x="777" y="144"/>
                    </a:lnTo>
                    <a:lnTo>
                      <a:pt x="771" y="141"/>
                    </a:lnTo>
                    <a:lnTo>
                      <a:pt x="765" y="138"/>
                    </a:lnTo>
                    <a:lnTo>
                      <a:pt x="756" y="135"/>
                    </a:lnTo>
                    <a:lnTo>
                      <a:pt x="750" y="132"/>
                    </a:lnTo>
                    <a:lnTo>
                      <a:pt x="744" y="129"/>
                    </a:lnTo>
                    <a:lnTo>
                      <a:pt x="735" y="126"/>
                    </a:lnTo>
                    <a:lnTo>
                      <a:pt x="729" y="123"/>
                    </a:lnTo>
                    <a:lnTo>
                      <a:pt x="723" y="120"/>
                    </a:lnTo>
                    <a:lnTo>
                      <a:pt x="720" y="120"/>
                    </a:lnTo>
                    <a:lnTo>
                      <a:pt x="714" y="117"/>
                    </a:lnTo>
                    <a:lnTo>
                      <a:pt x="711" y="114"/>
                    </a:lnTo>
                    <a:lnTo>
                      <a:pt x="708" y="114"/>
                    </a:lnTo>
                    <a:lnTo>
                      <a:pt x="702" y="111"/>
                    </a:lnTo>
                    <a:lnTo>
                      <a:pt x="699" y="108"/>
                    </a:lnTo>
                    <a:lnTo>
                      <a:pt x="693" y="108"/>
                    </a:lnTo>
                    <a:lnTo>
                      <a:pt x="687" y="105"/>
                    </a:lnTo>
                    <a:lnTo>
                      <a:pt x="681" y="99"/>
                    </a:lnTo>
                    <a:lnTo>
                      <a:pt x="675" y="96"/>
                    </a:lnTo>
                    <a:lnTo>
                      <a:pt x="669" y="93"/>
                    </a:lnTo>
                    <a:lnTo>
                      <a:pt x="663" y="90"/>
                    </a:lnTo>
                    <a:lnTo>
                      <a:pt x="654" y="87"/>
                    </a:lnTo>
                    <a:lnTo>
                      <a:pt x="648" y="84"/>
                    </a:lnTo>
                    <a:lnTo>
                      <a:pt x="642" y="81"/>
                    </a:lnTo>
                    <a:lnTo>
                      <a:pt x="639" y="78"/>
                    </a:lnTo>
                    <a:lnTo>
                      <a:pt x="633" y="75"/>
                    </a:lnTo>
                    <a:lnTo>
                      <a:pt x="630" y="72"/>
                    </a:lnTo>
                    <a:lnTo>
                      <a:pt x="627" y="72"/>
                    </a:lnTo>
                    <a:lnTo>
                      <a:pt x="621" y="69"/>
                    </a:lnTo>
                    <a:lnTo>
                      <a:pt x="618" y="66"/>
                    </a:lnTo>
                    <a:lnTo>
                      <a:pt x="615" y="63"/>
                    </a:lnTo>
                    <a:lnTo>
                      <a:pt x="612" y="63"/>
                    </a:lnTo>
                    <a:lnTo>
                      <a:pt x="606" y="60"/>
                    </a:lnTo>
                    <a:lnTo>
                      <a:pt x="600" y="57"/>
                    </a:lnTo>
                    <a:lnTo>
                      <a:pt x="597" y="54"/>
                    </a:lnTo>
                    <a:lnTo>
                      <a:pt x="591" y="51"/>
                    </a:lnTo>
                    <a:lnTo>
                      <a:pt x="585" y="48"/>
                    </a:lnTo>
                    <a:lnTo>
                      <a:pt x="582" y="45"/>
                    </a:lnTo>
                    <a:lnTo>
                      <a:pt x="576" y="45"/>
                    </a:lnTo>
                    <a:lnTo>
                      <a:pt x="573" y="42"/>
                    </a:lnTo>
                    <a:lnTo>
                      <a:pt x="567" y="39"/>
                    </a:lnTo>
                    <a:lnTo>
                      <a:pt x="561" y="36"/>
                    </a:lnTo>
                    <a:lnTo>
                      <a:pt x="558" y="33"/>
                    </a:lnTo>
                    <a:lnTo>
                      <a:pt x="552" y="30"/>
                    </a:lnTo>
                    <a:lnTo>
                      <a:pt x="549" y="27"/>
                    </a:lnTo>
                    <a:lnTo>
                      <a:pt x="543" y="24"/>
                    </a:lnTo>
                    <a:lnTo>
                      <a:pt x="537" y="21"/>
                    </a:lnTo>
                    <a:lnTo>
                      <a:pt x="534" y="18"/>
                    </a:lnTo>
                    <a:lnTo>
                      <a:pt x="531" y="18"/>
                    </a:lnTo>
                    <a:lnTo>
                      <a:pt x="528" y="15"/>
                    </a:lnTo>
                    <a:lnTo>
                      <a:pt x="528" y="15"/>
                    </a:lnTo>
                    <a:lnTo>
                      <a:pt x="525" y="12"/>
                    </a:lnTo>
                    <a:lnTo>
                      <a:pt x="522" y="12"/>
                    </a:lnTo>
                    <a:lnTo>
                      <a:pt x="522" y="12"/>
                    </a:lnTo>
                    <a:lnTo>
                      <a:pt x="519" y="9"/>
                    </a:lnTo>
                    <a:lnTo>
                      <a:pt x="516" y="6"/>
                    </a:lnTo>
                    <a:lnTo>
                      <a:pt x="513" y="6"/>
                    </a:lnTo>
                    <a:lnTo>
                      <a:pt x="507" y="3"/>
                    </a:lnTo>
                    <a:lnTo>
                      <a:pt x="504" y="3"/>
                    </a:lnTo>
                    <a:lnTo>
                      <a:pt x="498" y="0"/>
                    </a:lnTo>
                    <a:lnTo>
                      <a:pt x="495" y="0"/>
                    </a:lnTo>
                    <a:lnTo>
                      <a:pt x="489" y="0"/>
                    </a:lnTo>
                    <a:lnTo>
                      <a:pt x="486" y="0"/>
                    </a:lnTo>
                    <a:lnTo>
                      <a:pt x="480" y="0"/>
                    </a:lnTo>
                    <a:lnTo>
                      <a:pt x="477" y="0"/>
                    </a:lnTo>
                    <a:lnTo>
                      <a:pt x="471" y="0"/>
                    </a:lnTo>
                    <a:lnTo>
                      <a:pt x="465" y="0"/>
                    </a:lnTo>
                    <a:lnTo>
                      <a:pt x="462" y="0"/>
                    </a:lnTo>
                    <a:lnTo>
                      <a:pt x="456" y="0"/>
                    </a:lnTo>
                    <a:lnTo>
                      <a:pt x="450" y="0"/>
                    </a:lnTo>
                    <a:lnTo>
                      <a:pt x="447" y="0"/>
                    </a:lnTo>
                    <a:lnTo>
                      <a:pt x="441" y="0"/>
                    </a:lnTo>
                    <a:lnTo>
                      <a:pt x="414" y="33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5" y="57"/>
                    </a:lnTo>
                    <a:lnTo>
                      <a:pt x="375" y="54"/>
                    </a:lnTo>
                    <a:lnTo>
                      <a:pt x="351" y="21"/>
                    </a:lnTo>
                    <a:lnTo>
                      <a:pt x="351" y="21"/>
                    </a:lnTo>
                    <a:lnTo>
                      <a:pt x="348" y="21"/>
                    </a:lnTo>
                    <a:lnTo>
                      <a:pt x="342" y="18"/>
                    </a:lnTo>
                    <a:lnTo>
                      <a:pt x="339" y="18"/>
                    </a:lnTo>
                    <a:lnTo>
                      <a:pt x="336" y="18"/>
                    </a:lnTo>
                    <a:lnTo>
                      <a:pt x="333" y="18"/>
                    </a:lnTo>
                    <a:lnTo>
                      <a:pt x="330" y="21"/>
                    </a:lnTo>
                    <a:lnTo>
                      <a:pt x="327" y="21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4" y="24"/>
                    </a:lnTo>
                    <a:lnTo>
                      <a:pt x="321" y="30"/>
                    </a:lnTo>
                    <a:lnTo>
                      <a:pt x="318" y="36"/>
                    </a:lnTo>
                    <a:lnTo>
                      <a:pt x="318" y="45"/>
                    </a:lnTo>
                    <a:lnTo>
                      <a:pt x="318" y="54"/>
                    </a:lnTo>
                    <a:lnTo>
                      <a:pt x="318" y="60"/>
                    </a:lnTo>
                    <a:lnTo>
                      <a:pt x="321" y="69"/>
                    </a:lnTo>
                    <a:lnTo>
                      <a:pt x="321" y="78"/>
                    </a:lnTo>
                    <a:lnTo>
                      <a:pt x="321" y="84"/>
                    </a:lnTo>
                    <a:lnTo>
                      <a:pt x="324" y="93"/>
                    </a:lnTo>
                    <a:lnTo>
                      <a:pt x="324" y="99"/>
                    </a:lnTo>
                    <a:lnTo>
                      <a:pt x="327" y="108"/>
                    </a:lnTo>
                    <a:lnTo>
                      <a:pt x="327" y="117"/>
                    </a:lnTo>
                    <a:lnTo>
                      <a:pt x="330" y="126"/>
                    </a:lnTo>
                    <a:lnTo>
                      <a:pt x="333" y="138"/>
                    </a:lnTo>
                    <a:lnTo>
                      <a:pt x="336" y="150"/>
                    </a:lnTo>
                    <a:lnTo>
                      <a:pt x="339" y="159"/>
                    </a:lnTo>
                    <a:lnTo>
                      <a:pt x="339" y="165"/>
                    </a:lnTo>
                    <a:lnTo>
                      <a:pt x="342" y="168"/>
                    </a:lnTo>
                    <a:lnTo>
                      <a:pt x="345" y="174"/>
                    </a:lnTo>
                    <a:lnTo>
                      <a:pt x="345" y="177"/>
                    </a:lnTo>
                    <a:lnTo>
                      <a:pt x="348" y="183"/>
                    </a:lnTo>
                    <a:lnTo>
                      <a:pt x="351" y="186"/>
                    </a:lnTo>
                    <a:lnTo>
                      <a:pt x="351" y="192"/>
                    </a:lnTo>
                    <a:lnTo>
                      <a:pt x="354" y="198"/>
                    </a:lnTo>
                    <a:lnTo>
                      <a:pt x="357" y="201"/>
                    </a:lnTo>
                    <a:lnTo>
                      <a:pt x="360" y="207"/>
                    </a:lnTo>
                    <a:lnTo>
                      <a:pt x="366" y="213"/>
                    </a:lnTo>
                    <a:lnTo>
                      <a:pt x="369" y="216"/>
                    </a:lnTo>
                    <a:lnTo>
                      <a:pt x="375" y="219"/>
                    </a:lnTo>
                    <a:lnTo>
                      <a:pt x="381" y="222"/>
                    </a:lnTo>
                    <a:lnTo>
                      <a:pt x="387" y="222"/>
                    </a:lnTo>
                    <a:lnTo>
                      <a:pt x="393" y="222"/>
                    </a:lnTo>
                    <a:lnTo>
                      <a:pt x="396" y="222"/>
                    </a:lnTo>
                    <a:lnTo>
                      <a:pt x="399" y="219"/>
                    </a:lnTo>
                    <a:lnTo>
                      <a:pt x="402" y="219"/>
                    </a:lnTo>
                    <a:lnTo>
                      <a:pt x="405" y="216"/>
                    </a:lnTo>
                    <a:lnTo>
                      <a:pt x="408" y="210"/>
                    </a:lnTo>
                    <a:lnTo>
                      <a:pt x="411" y="204"/>
                    </a:lnTo>
                    <a:lnTo>
                      <a:pt x="411" y="195"/>
                    </a:lnTo>
                    <a:lnTo>
                      <a:pt x="411" y="186"/>
                    </a:lnTo>
                    <a:lnTo>
                      <a:pt x="411" y="177"/>
                    </a:lnTo>
                    <a:lnTo>
                      <a:pt x="408" y="171"/>
                    </a:lnTo>
                    <a:lnTo>
                      <a:pt x="405" y="162"/>
                    </a:lnTo>
                    <a:lnTo>
                      <a:pt x="402" y="153"/>
                    </a:lnTo>
                    <a:lnTo>
                      <a:pt x="402" y="153"/>
                    </a:lnTo>
                    <a:lnTo>
                      <a:pt x="402" y="153"/>
                    </a:lnTo>
                    <a:lnTo>
                      <a:pt x="399" y="153"/>
                    </a:lnTo>
                    <a:lnTo>
                      <a:pt x="399" y="150"/>
                    </a:lnTo>
                    <a:lnTo>
                      <a:pt x="393" y="138"/>
                    </a:lnTo>
                    <a:lnTo>
                      <a:pt x="375" y="117"/>
                    </a:lnTo>
                    <a:lnTo>
                      <a:pt x="375" y="123"/>
                    </a:lnTo>
                    <a:lnTo>
                      <a:pt x="375" y="129"/>
                    </a:lnTo>
                    <a:lnTo>
                      <a:pt x="375" y="138"/>
                    </a:lnTo>
                    <a:lnTo>
                      <a:pt x="375" y="144"/>
                    </a:lnTo>
                    <a:lnTo>
                      <a:pt x="378" y="150"/>
                    </a:lnTo>
                    <a:lnTo>
                      <a:pt x="381" y="156"/>
                    </a:lnTo>
                    <a:lnTo>
                      <a:pt x="384" y="162"/>
                    </a:lnTo>
                    <a:lnTo>
                      <a:pt x="384" y="168"/>
                    </a:lnTo>
                    <a:lnTo>
                      <a:pt x="384" y="174"/>
                    </a:lnTo>
                    <a:lnTo>
                      <a:pt x="387" y="180"/>
                    </a:lnTo>
                    <a:lnTo>
                      <a:pt x="387" y="189"/>
                    </a:lnTo>
                    <a:lnTo>
                      <a:pt x="390" y="195"/>
                    </a:lnTo>
                    <a:lnTo>
                      <a:pt x="390" y="198"/>
                    </a:lnTo>
                    <a:lnTo>
                      <a:pt x="390" y="204"/>
                    </a:lnTo>
                    <a:lnTo>
                      <a:pt x="387" y="207"/>
                    </a:lnTo>
                    <a:lnTo>
                      <a:pt x="384" y="210"/>
                    </a:lnTo>
                    <a:lnTo>
                      <a:pt x="375" y="198"/>
                    </a:lnTo>
                    <a:lnTo>
                      <a:pt x="369" y="189"/>
                    </a:lnTo>
                    <a:lnTo>
                      <a:pt x="363" y="177"/>
                    </a:lnTo>
                    <a:lnTo>
                      <a:pt x="360" y="165"/>
                    </a:lnTo>
                    <a:lnTo>
                      <a:pt x="357" y="153"/>
                    </a:lnTo>
                    <a:lnTo>
                      <a:pt x="354" y="141"/>
                    </a:lnTo>
                    <a:lnTo>
                      <a:pt x="351" y="126"/>
                    </a:lnTo>
                    <a:lnTo>
                      <a:pt x="348" y="114"/>
                    </a:lnTo>
                    <a:lnTo>
                      <a:pt x="345" y="111"/>
                    </a:lnTo>
                    <a:lnTo>
                      <a:pt x="345" y="108"/>
                    </a:lnTo>
                    <a:lnTo>
                      <a:pt x="345" y="105"/>
                    </a:lnTo>
                    <a:lnTo>
                      <a:pt x="345" y="105"/>
                    </a:lnTo>
                    <a:lnTo>
                      <a:pt x="345" y="102"/>
                    </a:lnTo>
                    <a:lnTo>
                      <a:pt x="345" y="102"/>
                    </a:lnTo>
                    <a:lnTo>
                      <a:pt x="345" y="102"/>
                    </a:lnTo>
                    <a:lnTo>
                      <a:pt x="348" y="102"/>
                    </a:lnTo>
                    <a:lnTo>
                      <a:pt x="348" y="105"/>
                    </a:lnTo>
                    <a:lnTo>
                      <a:pt x="351" y="105"/>
                    </a:lnTo>
                    <a:lnTo>
                      <a:pt x="354" y="108"/>
                    </a:lnTo>
                    <a:lnTo>
                      <a:pt x="357" y="108"/>
                    </a:lnTo>
                    <a:lnTo>
                      <a:pt x="360" y="108"/>
                    </a:lnTo>
                    <a:lnTo>
                      <a:pt x="363" y="108"/>
                    </a:lnTo>
                    <a:lnTo>
                      <a:pt x="366" y="108"/>
                    </a:lnTo>
                    <a:lnTo>
                      <a:pt x="369" y="108"/>
                    </a:lnTo>
                    <a:lnTo>
                      <a:pt x="375" y="102"/>
                    </a:lnTo>
                    <a:lnTo>
                      <a:pt x="378" y="96"/>
                    </a:lnTo>
                    <a:lnTo>
                      <a:pt x="384" y="90"/>
                    </a:lnTo>
                    <a:lnTo>
                      <a:pt x="387" y="84"/>
                    </a:lnTo>
                    <a:lnTo>
                      <a:pt x="393" y="75"/>
                    </a:lnTo>
                    <a:lnTo>
                      <a:pt x="396" y="69"/>
                    </a:lnTo>
                    <a:lnTo>
                      <a:pt x="402" y="63"/>
                    </a:lnTo>
                    <a:lnTo>
                      <a:pt x="405" y="57"/>
                    </a:lnTo>
                    <a:lnTo>
                      <a:pt x="408" y="57"/>
                    </a:lnTo>
                    <a:lnTo>
                      <a:pt x="411" y="54"/>
                    </a:lnTo>
                    <a:lnTo>
                      <a:pt x="414" y="54"/>
                    </a:lnTo>
                    <a:lnTo>
                      <a:pt x="417" y="54"/>
                    </a:lnTo>
                    <a:lnTo>
                      <a:pt x="420" y="51"/>
                    </a:lnTo>
                    <a:lnTo>
                      <a:pt x="423" y="51"/>
                    </a:lnTo>
                    <a:lnTo>
                      <a:pt x="426" y="48"/>
                    </a:lnTo>
                    <a:lnTo>
                      <a:pt x="429" y="48"/>
                    </a:lnTo>
                    <a:lnTo>
                      <a:pt x="432" y="48"/>
                    </a:lnTo>
                    <a:lnTo>
                      <a:pt x="435" y="45"/>
                    </a:lnTo>
                    <a:lnTo>
                      <a:pt x="438" y="42"/>
                    </a:lnTo>
                    <a:lnTo>
                      <a:pt x="441" y="39"/>
                    </a:lnTo>
                    <a:lnTo>
                      <a:pt x="441" y="36"/>
                    </a:lnTo>
                    <a:lnTo>
                      <a:pt x="444" y="33"/>
                    </a:lnTo>
                    <a:lnTo>
                      <a:pt x="447" y="27"/>
                    </a:lnTo>
                    <a:lnTo>
                      <a:pt x="450" y="27"/>
                    </a:lnTo>
                    <a:lnTo>
                      <a:pt x="450" y="24"/>
                    </a:lnTo>
                    <a:lnTo>
                      <a:pt x="453" y="21"/>
                    </a:lnTo>
                    <a:lnTo>
                      <a:pt x="453" y="18"/>
                    </a:lnTo>
                    <a:lnTo>
                      <a:pt x="453" y="18"/>
                    </a:lnTo>
                    <a:lnTo>
                      <a:pt x="456" y="15"/>
                    </a:lnTo>
                    <a:lnTo>
                      <a:pt x="456" y="15"/>
                    </a:lnTo>
                    <a:lnTo>
                      <a:pt x="459" y="15"/>
                    </a:lnTo>
                    <a:lnTo>
                      <a:pt x="462" y="12"/>
                    </a:lnTo>
                    <a:lnTo>
                      <a:pt x="468" y="18"/>
                    </a:lnTo>
                    <a:lnTo>
                      <a:pt x="477" y="24"/>
                    </a:lnTo>
                    <a:lnTo>
                      <a:pt x="483" y="27"/>
                    </a:lnTo>
                    <a:lnTo>
                      <a:pt x="492" y="33"/>
                    </a:lnTo>
                    <a:lnTo>
                      <a:pt x="501" y="36"/>
                    </a:lnTo>
                    <a:lnTo>
                      <a:pt x="507" y="39"/>
                    </a:lnTo>
                    <a:lnTo>
                      <a:pt x="516" y="45"/>
                    </a:lnTo>
                    <a:lnTo>
                      <a:pt x="525" y="48"/>
                    </a:lnTo>
                    <a:lnTo>
                      <a:pt x="534" y="51"/>
                    </a:lnTo>
                    <a:lnTo>
                      <a:pt x="543" y="54"/>
                    </a:lnTo>
                    <a:lnTo>
                      <a:pt x="549" y="57"/>
                    </a:lnTo>
                    <a:lnTo>
                      <a:pt x="558" y="63"/>
                    </a:lnTo>
                    <a:lnTo>
                      <a:pt x="567" y="66"/>
                    </a:lnTo>
                    <a:lnTo>
                      <a:pt x="573" y="69"/>
                    </a:lnTo>
                    <a:lnTo>
                      <a:pt x="582" y="75"/>
                    </a:lnTo>
                    <a:lnTo>
                      <a:pt x="588" y="81"/>
                    </a:lnTo>
                    <a:lnTo>
                      <a:pt x="594" y="84"/>
                    </a:lnTo>
                    <a:lnTo>
                      <a:pt x="603" y="87"/>
                    </a:lnTo>
                    <a:lnTo>
                      <a:pt x="609" y="90"/>
                    </a:lnTo>
                    <a:lnTo>
                      <a:pt x="618" y="96"/>
                    </a:lnTo>
                    <a:lnTo>
                      <a:pt x="624" y="99"/>
                    </a:lnTo>
                    <a:lnTo>
                      <a:pt x="630" y="102"/>
                    </a:lnTo>
                    <a:lnTo>
                      <a:pt x="636" y="108"/>
                    </a:lnTo>
                    <a:lnTo>
                      <a:pt x="645" y="111"/>
                    </a:lnTo>
                    <a:lnTo>
                      <a:pt x="654" y="117"/>
                    </a:lnTo>
                    <a:lnTo>
                      <a:pt x="666" y="123"/>
                    </a:lnTo>
                    <a:lnTo>
                      <a:pt x="675" y="129"/>
                    </a:lnTo>
                    <a:lnTo>
                      <a:pt x="687" y="135"/>
                    </a:lnTo>
                    <a:lnTo>
                      <a:pt x="699" y="141"/>
                    </a:lnTo>
                    <a:lnTo>
                      <a:pt x="711" y="147"/>
                    </a:lnTo>
                    <a:lnTo>
                      <a:pt x="720" y="153"/>
                    </a:lnTo>
                    <a:lnTo>
                      <a:pt x="732" y="159"/>
                    </a:lnTo>
                    <a:lnTo>
                      <a:pt x="744" y="162"/>
                    </a:lnTo>
                    <a:lnTo>
                      <a:pt x="756" y="168"/>
                    </a:lnTo>
                    <a:lnTo>
                      <a:pt x="768" y="171"/>
                    </a:lnTo>
                    <a:lnTo>
                      <a:pt x="780" y="177"/>
                    </a:lnTo>
                    <a:lnTo>
                      <a:pt x="792" y="180"/>
                    </a:lnTo>
                    <a:lnTo>
                      <a:pt x="807" y="186"/>
                    </a:lnTo>
                    <a:lnTo>
                      <a:pt x="819" y="189"/>
                    </a:lnTo>
                    <a:lnTo>
                      <a:pt x="831" y="192"/>
                    </a:lnTo>
                    <a:lnTo>
                      <a:pt x="837" y="192"/>
                    </a:lnTo>
                    <a:lnTo>
                      <a:pt x="843" y="195"/>
                    </a:lnTo>
                    <a:lnTo>
                      <a:pt x="846" y="195"/>
                    </a:lnTo>
                    <a:lnTo>
                      <a:pt x="852" y="195"/>
                    </a:lnTo>
                    <a:lnTo>
                      <a:pt x="855" y="198"/>
                    </a:lnTo>
                    <a:lnTo>
                      <a:pt x="861" y="198"/>
                    </a:lnTo>
                    <a:lnTo>
                      <a:pt x="867" y="201"/>
                    </a:lnTo>
                    <a:lnTo>
                      <a:pt x="870" y="204"/>
                    </a:lnTo>
                    <a:lnTo>
                      <a:pt x="873" y="204"/>
                    </a:lnTo>
                    <a:lnTo>
                      <a:pt x="879" y="207"/>
                    </a:lnTo>
                    <a:lnTo>
                      <a:pt x="882" y="210"/>
                    </a:lnTo>
                    <a:lnTo>
                      <a:pt x="885" y="210"/>
                    </a:lnTo>
                    <a:lnTo>
                      <a:pt x="891" y="213"/>
                    </a:lnTo>
                    <a:lnTo>
                      <a:pt x="894" y="213"/>
                    </a:lnTo>
                    <a:lnTo>
                      <a:pt x="897" y="216"/>
                    </a:lnTo>
                    <a:lnTo>
                      <a:pt x="900" y="216"/>
                    </a:lnTo>
                    <a:lnTo>
                      <a:pt x="906" y="219"/>
                    </a:lnTo>
                    <a:lnTo>
                      <a:pt x="909" y="219"/>
                    </a:lnTo>
                    <a:lnTo>
                      <a:pt x="915" y="222"/>
                    </a:lnTo>
                    <a:lnTo>
                      <a:pt x="921" y="225"/>
                    </a:lnTo>
                    <a:lnTo>
                      <a:pt x="924" y="225"/>
                    </a:lnTo>
                    <a:lnTo>
                      <a:pt x="930" y="228"/>
                    </a:lnTo>
                    <a:lnTo>
                      <a:pt x="933" y="231"/>
                    </a:lnTo>
                    <a:lnTo>
                      <a:pt x="939" y="234"/>
                    </a:lnTo>
                    <a:lnTo>
                      <a:pt x="942" y="234"/>
                    </a:lnTo>
                    <a:lnTo>
                      <a:pt x="948" y="237"/>
                    </a:lnTo>
                    <a:lnTo>
                      <a:pt x="951" y="240"/>
                    </a:lnTo>
                    <a:lnTo>
                      <a:pt x="957" y="240"/>
                    </a:lnTo>
                    <a:lnTo>
                      <a:pt x="963" y="243"/>
                    </a:lnTo>
                    <a:lnTo>
                      <a:pt x="966" y="246"/>
                    </a:lnTo>
                    <a:lnTo>
                      <a:pt x="972" y="246"/>
                    </a:lnTo>
                    <a:lnTo>
                      <a:pt x="975" y="249"/>
                    </a:lnTo>
                    <a:lnTo>
                      <a:pt x="981" y="252"/>
                    </a:lnTo>
                    <a:lnTo>
                      <a:pt x="984" y="255"/>
                    </a:lnTo>
                    <a:lnTo>
                      <a:pt x="987" y="258"/>
                    </a:lnTo>
                    <a:lnTo>
                      <a:pt x="993" y="261"/>
                    </a:lnTo>
                    <a:lnTo>
                      <a:pt x="996" y="264"/>
                    </a:lnTo>
                    <a:lnTo>
                      <a:pt x="999" y="267"/>
                    </a:lnTo>
                    <a:lnTo>
                      <a:pt x="1005" y="270"/>
                    </a:lnTo>
                    <a:lnTo>
                      <a:pt x="1008" y="270"/>
                    </a:lnTo>
                    <a:lnTo>
                      <a:pt x="1014" y="273"/>
                    </a:lnTo>
                    <a:lnTo>
                      <a:pt x="1020" y="276"/>
                    </a:lnTo>
                    <a:lnTo>
                      <a:pt x="1026" y="279"/>
                    </a:lnTo>
                    <a:lnTo>
                      <a:pt x="1032" y="279"/>
                    </a:lnTo>
                    <a:lnTo>
                      <a:pt x="1038" y="282"/>
                    </a:lnTo>
                    <a:lnTo>
                      <a:pt x="1044" y="285"/>
                    </a:lnTo>
                    <a:lnTo>
                      <a:pt x="1050" y="285"/>
                    </a:lnTo>
                    <a:lnTo>
                      <a:pt x="1056" y="288"/>
                    </a:lnTo>
                    <a:lnTo>
                      <a:pt x="1062" y="288"/>
                    </a:lnTo>
                    <a:lnTo>
                      <a:pt x="1068" y="291"/>
                    </a:lnTo>
                    <a:lnTo>
                      <a:pt x="1074" y="291"/>
                    </a:lnTo>
                    <a:lnTo>
                      <a:pt x="1080" y="294"/>
                    </a:lnTo>
                    <a:lnTo>
                      <a:pt x="1086" y="294"/>
                    </a:lnTo>
                    <a:lnTo>
                      <a:pt x="1092" y="297"/>
                    </a:lnTo>
                    <a:lnTo>
                      <a:pt x="1098" y="300"/>
                    </a:lnTo>
                    <a:lnTo>
                      <a:pt x="1104" y="300"/>
                    </a:lnTo>
                    <a:lnTo>
                      <a:pt x="1107" y="303"/>
                    </a:lnTo>
                    <a:lnTo>
                      <a:pt x="1110" y="303"/>
                    </a:lnTo>
                    <a:lnTo>
                      <a:pt x="1116" y="306"/>
                    </a:lnTo>
                    <a:lnTo>
                      <a:pt x="1119" y="306"/>
                    </a:lnTo>
                    <a:lnTo>
                      <a:pt x="1122" y="306"/>
                    </a:lnTo>
                    <a:lnTo>
                      <a:pt x="1125" y="306"/>
                    </a:lnTo>
                    <a:lnTo>
                      <a:pt x="1131" y="309"/>
                    </a:lnTo>
                    <a:lnTo>
                      <a:pt x="1134" y="309"/>
                    </a:lnTo>
                    <a:lnTo>
                      <a:pt x="1137" y="309"/>
                    </a:lnTo>
                    <a:lnTo>
                      <a:pt x="1143" y="309"/>
                    </a:lnTo>
                    <a:lnTo>
                      <a:pt x="1146" y="312"/>
                    </a:lnTo>
                    <a:lnTo>
                      <a:pt x="1149" y="312"/>
                    </a:lnTo>
                    <a:lnTo>
                      <a:pt x="1152" y="315"/>
                    </a:lnTo>
                    <a:lnTo>
                      <a:pt x="1155" y="315"/>
                    </a:lnTo>
                    <a:lnTo>
                      <a:pt x="1161" y="318"/>
                    </a:lnTo>
                    <a:lnTo>
                      <a:pt x="1164" y="321"/>
                    </a:lnTo>
                    <a:lnTo>
                      <a:pt x="1167" y="321"/>
                    </a:lnTo>
                    <a:lnTo>
                      <a:pt x="1170" y="324"/>
                    </a:lnTo>
                    <a:lnTo>
                      <a:pt x="1173" y="324"/>
                    </a:lnTo>
                    <a:lnTo>
                      <a:pt x="1176" y="327"/>
                    </a:lnTo>
                    <a:lnTo>
                      <a:pt x="1182" y="327"/>
                    </a:lnTo>
                    <a:lnTo>
                      <a:pt x="1185" y="327"/>
                    </a:lnTo>
                    <a:lnTo>
                      <a:pt x="1188" y="330"/>
                    </a:lnTo>
                    <a:lnTo>
                      <a:pt x="1194" y="330"/>
                    </a:lnTo>
                    <a:lnTo>
                      <a:pt x="1197" y="330"/>
                    </a:lnTo>
                    <a:lnTo>
                      <a:pt x="1200" y="330"/>
                    </a:lnTo>
                    <a:lnTo>
                      <a:pt x="1203" y="333"/>
                    </a:lnTo>
                    <a:lnTo>
                      <a:pt x="1209" y="333"/>
                    </a:lnTo>
                    <a:lnTo>
                      <a:pt x="1212" y="336"/>
                    </a:lnTo>
                    <a:lnTo>
                      <a:pt x="1215" y="336"/>
                    </a:lnTo>
                    <a:lnTo>
                      <a:pt x="1218" y="339"/>
                    </a:lnTo>
                    <a:lnTo>
                      <a:pt x="1221" y="339"/>
                    </a:lnTo>
                    <a:lnTo>
                      <a:pt x="1227" y="342"/>
                    </a:lnTo>
                    <a:lnTo>
                      <a:pt x="1233" y="342"/>
                    </a:lnTo>
                    <a:lnTo>
                      <a:pt x="1239" y="342"/>
                    </a:lnTo>
                    <a:lnTo>
                      <a:pt x="1245" y="345"/>
                    </a:lnTo>
                    <a:lnTo>
                      <a:pt x="1251" y="345"/>
                    </a:lnTo>
                    <a:lnTo>
                      <a:pt x="1257" y="348"/>
                    </a:lnTo>
                    <a:lnTo>
                      <a:pt x="1263" y="351"/>
                    </a:lnTo>
                    <a:lnTo>
                      <a:pt x="1269" y="354"/>
                    </a:lnTo>
                    <a:lnTo>
                      <a:pt x="1275" y="351"/>
                    </a:lnTo>
                    <a:lnTo>
                      <a:pt x="1278" y="351"/>
                    </a:lnTo>
                    <a:lnTo>
                      <a:pt x="1284" y="354"/>
                    </a:lnTo>
                    <a:lnTo>
                      <a:pt x="1287" y="354"/>
                    </a:lnTo>
                    <a:lnTo>
                      <a:pt x="1290" y="357"/>
                    </a:lnTo>
                    <a:lnTo>
                      <a:pt x="1296" y="357"/>
                    </a:lnTo>
                    <a:lnTo>
                      <a:pt x="1299" y="360"/>
                    </a:lnTo>
                    <a:lnTo>
                      <a:pt x="1305" y="360"/>
                    </a:lnTo>
                    <a:lnTo>
                      <a:pt x="1308" y="360"/>
                    </a:lnTo>
                    <a:lnTo>
                      <a:pt x="1311" y="360"/>
                    </a:lnTo>
                    <a:lnTo>
                      <a:pt x="1311" y="363"/>
                    </a:lnTo>
                    <a:lnTo>
                      <a:pt x="1314" y="363"/>
                    </a:lnTo>
                    <a:lnTo>
                      <a:pt x="1314" y="366"/>
                    </a:lnTo>
                    <a:lnTo>
                      <a:pt x="1314" y="369"/>
                    </a:lnTo>
                    <a:lnTo>
                      <a:pt x="1311" y="372"/>
                    </a:lnTo>
                    <a:lnTo>
                      <a:pt x="1311" y="375"/>
                    </a:lnTo>
                    <a:lnTo>
                      <a:pt x="1308" y="378"/>
                    </a:lnTo>
                    <a:lnTo>
                      <a:pt x="1308" y="378"/>
                    </a:lnTo>
                    <a:lnTo>
                      <a:pt x="1305" y="381"/>
                    </a:lnTo>
                    <a:lnTo>
                      <a:pt x="1305" y="384"/>
                    </a:lnTo>
                    <a:lnTo>
                      <a:pt x="1302" y="384"/>
                    </a:lnTo>
                    <a:lnTo>
                      <a:pt x="1299" y="387"/>
                    </a:lnTo>
                    <a:lnTo>
                      <a:pt x="1299" y="390"/>
                    </a:lnTo>
                    <a:lnTo>
                      <a:pt x="1296" y="393"/>
                    </a:lnTo>
                    <a:lnTo>
                      <a:pt x="1293" y="396"/>
                    </a:lnTo>
                    <a:lnTo>
                      <a:pt x="1290" y="402"/>
                    </a:lnTo>
                    <a:lnTo>
                      <a:pt x="1287" y="405"/>
                    </a:lnTo>
                    <a:lnTo>
                      <a:pt x="1284" y="411"/>
                    </a:lnTo>
                    <a:lnTo>
                      <a:pt x="1278" y="414"/>
                    </a:lnTo>
                    <a:lnTo>
                      <a:pt x="1275" y="417"/>
                    </a:lnTo>
                    <a:lnTo>
                      <a:pt x="1272" y="423"/>
                    </a:lnTo>
                    <a:lnTo>
                      <a:pt x="1269" y="426"/>
                    </a:lnTo>
                    <a:lnTo>
                      <a:pt x="1263" y="432"/>
                    </a:lnTo>
                    <a:lnTo>
                      <a:pt x="1260" y="435"/>
                    </a:lnTo>
                    <a:lnTo>
                      <a:pt x="1257" y="438"/>
                    </a:lnTo>
                    <a:lnTo>
                      <a:pt x="1254" y="444"/>
                    </a:lnTo>
                    <a:lnTo>
                      <a:pt x="1251" y="447"/>
                    </a:lnTo>
                    <a:lnTo>
                      <a:pt x="1245" y="450"/>
                    </a:lnTo>
                    <a:lnTo>
                      <a:pt x="1242" y="456"/>
                    </a:lnTo>
                    <a:lnTo>
                      <a:pt x="1239" y="459"/>
                    </a:lnTo>
                    <a:lnTo>
                      <a:pt x="1236" y="462"/>
                    </a:lnTo>
                    <a:lnTo>
                      <a:pt x="1236" y="462"/>
                    </a:lnTo>
                    <a:lnTo>
                      <a:pt x="1233" y="465"/>
                    </a:lnTo>
                    <a:lnTo>
                      <a:pt x="1233" y="468"/>
                    </a:lnTo>
                    <a:lnTo>
                      <a:pt x="1230" y="468"/>
                    </a:lnTo>
                    <a:lnTo>
                      <a:pt x="1227" y="471"/>
                    </a:lnTo>
                    <a:lnTo>
                      <a:pt x="1227" y="474"/>
                    </a:lnTo>
                    <a:lnTo>
                      <a:pt x="1224" y="474"/>
                    </a:lnTo>
                    <a:lnTo>
                      <a:pt x="1218" y="483"/>
                    </a:lnTo>
                    <a:lnTo>
                      <a:pt x="1215" y="486"/>
                    </a:lnTo>
                    <a:lnTo>
                      <a:pt x="1209" y="489"/>
                    </a:lnTo>
                    <a:lnTo>
                      <a:pt x="1206" y="492"/>
                    </a:lnTo>
                    <a:lnTo>
                      <a:pt x="1203" y="498"/>
                    </a:lnTo>
                    <a:lnTo>
                      <a:pt x="1200" y="501"/>
                    </a:lnTo>
                    <a:lnTo>
                      <a:pt x="1194" y="507"/>
                    </a:lnTo>
                    <a:lnTo>
                      <a:pt x="1191" y="513"/>
                    </a:lnTo>
                    <a:lnTo>
                      <a:pt x="1185" y="516"/>
                    </a:lnTo>
                    <a:lnTo>
                      <a:pt x="1182" y="522"/>
                    </a:lnTo>
                    <a:lnTo>
                      <a:pt x="1176" y="528"/>
                    </a:lnTo>
                    <a:lnTo>
                      <a:pt x="1170" y="534"/>
                    </a:lnTo>
                    <a:lnTo>
                      <a:pt x="1161" y="540"/>
                    </a:lnTo>
                    <a:lnTo>
                      <a:pt x="1155" y="546"/>
                    </a:lnTo>
                    <a:lnTo>
                      <a:pt x="1149" y="552"/>
                    </a:lnTo>
                    <a:lnTo>
                      <a:pt x="1143" y="558"/>
                    </a:lnTo>
                    <a:lnTo>
                      <a:pt x="1137" y="567"/>
                    </a:lnTo>
                    <a:lnTo>
                      <a:pt x="1131" y="573"/>
                    </a:lnTo>
                    <a:lnTo>
                      <a:pt x="1125" y="579"/>
                    </a:lnTo>
                    <a:lnTo>
                      <a:pt x="1119" y="585"/>
                    </a:lnTo>
                    <a:lnTo>
                      <a:pt x="1113" y="594"/>
                    </a:lnTo>
                    <a:lnTo>
                      <a:pt x="1107" y="600"/>
                    </a:lnTo>
                    <a:lnTo>
                      <a:pt x="1101" y="606"/>
                    </a:lnTo>
                    <a:lnTo>
                      <a:pt x="1095" y="612"/>
                    </a:lnTo>
                    <a:lnTo>
                      <a:pt x="1089" y="618"/>
                    </a:lnTo>
                    <a:lnTo>
                      <a:pt x="1083" y="624"/>
                    </a:lnTo>
                    <a:lnTo>
                      <a:pt x="1080" y="630"/>
                    </a:lnTo>
                    <a:lnTo>
                      <a:pt x="1074" y="639"/>
                    </a:lnTo>
                    <a:lnTo>
                      <a:pt x="1068" y="645"/>
                    </a:lnTo>
                    <a:lnTo>
                      <a:pt x="1062" y="651"/>
                    </a:lnTo>
                    <a:lnTo>
                      <a:pt x="1059" y="660"/>
                    </a:lnTo>
                    <a:lnTo>
                      <a:pt x="1053" y="666"/>
                    </a:lnTo>
                    <a:lnTo>
                      <a:pt x="1047" y="672"/>
                    </a:lnTo>
                    <a:lnTo>
                      <a:pt x="1041" y="678"/>
                    </a:lnTo>
                    <a:lnTo>
                      <a:pt x="1035" y="687"/>
                    </a:lnTo>
                    <a:lnTo>
                      <a:pt x="1032" y="693"/>
                    </a:lnTo>
                    <a:lnTo>
                      <a:pt x="1026" y="699"/>
                    </a:lnTo>
                    <a:lnTo>
                      <a:pt x="1020" y="705"/>
                    </a:lnTo>
                    <a:lnTo>
                      <a:pt x="1014" y="711"/>
                    </a:lnTo>
                    <a:lnTo>
                      <a:pt x="1008" y="720"/>
                    </a:lnTo>
                    <a:lnTo>
                      <a:pt x="1002" y="726"/>
                    </a:lnTo>
                    <a:lnTo>
                      <a:pt x="996" y="732"/>
                    </a:lnTo>
                    <a:lnTo>
                      <a:pt x="990" y="738"/>
                    </a:lnTo>
                    <a:lnTo>
                      <a:pt x="984" y="744"/>
                    </a:lnTo>
                    <a:lnTo>
                      <a:pt x="978" y="750"/>
                    </a:lnTo>
                    <a:lnTo>
                      <a:pt x="972" y="756"/>
                    </a:lnTo>
                    <a:lnTo>
                      <a:pt x="966" y="762"/>
                    </a:lnTo>
                    <a:lnTo>
                      <a:pt x="960" y="768"/>
                    </a:lnTo>
                    <a:lnTo>
                      <a:pt x="957" y="774"/>
                    </a:lnTo>
                    <a:lnTo>
                      <a:pt x="951" y="783"/>
                    </a:lnTo>
                    <a:lnTo>
                      <a:pt x="945" y="789"/>
                    </a:lnTo>
                    <a:lnTo>
                      <a:pt x="939" y="795"/>
                    </a:lnTo>
                    <a:lnTo>
                      <a:pt x="933" y="801"/>
                    </a:lnTo>
                    <a:lnTo>
                      <a:pt x="927" y="807"/>
                    </a:lnTo>
                    <a:lnTo>
                      <a:pt x="924" y="813"/>
                    </a:lnTo>
                    <a:lnTo>
                      <a:pt x="918" y="819"/>
                    </a:lnTo>
                    <a:lnTo>
                      <a:pt x="912" y="825"/>
                    </a:lnTo>
                    <a:lnTo>
                      <a:pt x="909" y="831"/>
                    </a:lnTo>
                    <a:lnTo>
                      <a:pt x="906" y="834"/>
                    </a:lnTo>
                    <a:lnTo>
                      <a:pt x="903" y="837"/>
                    </a:lnTo>
                    <a:lnTo>
                      <a:pt x="903" y="837"/>
                    </a:lnTo>
                    <a:lnTo>
                      <a:pt x="900" y="840"/>
                    </a:lnTo>
                    <a:lnTo>
                      <a:pt x="900" y="843"/>
                    </a:lnTo>
                    <a:lnTo>
                      <a:pt x="897" y="846"/>
                    </a:lnTo>
                    <a:lnTo>
                      <a:pt x="894" y="846"/>
                    </a:lnTo>
                    <a:lnTo>
                      <a:pt x="894" y="849"/>
                    </a:lnTo>
                    <a:lnTo>
                      <a:pt x="891" y="852"/>
                    </a:lnTo>
                    <a:lnTo>
                      <a:pt x="891" y="852"/>
                    </a:lnTo>
                    <a:lnTo>
                      <a:pt x="888" y="852"/>
                    </a:lnTo>
                    <a:lnTo>
                      <a:pt x="885" y="852"/>
                    </a:lnTo>
                    <a:lnTo>
                      <a:pt x="882" y="852"/>
                    </a:lnTo>
                    <a:lnTo>
                      <a:pt x="882" y="852"/>
                    </a:lnTo>
                    <a:lnTo>
                      <a:pt x="879" y="849"/>
                    </a:lnTo>
                    <a:lnTo>
                      <a:pt x="879" y="849"/>
                    </a:lnTo>
                    <a:lnTo>
                      <a:pt x="864" y="843"/>
                    </a:lnTo>
                    <a:lnTo>
                      <a:pt x="852" y="837"/>
                    </a:lnTo>
                    <a:lnTo>
                      <a:pt x="840" y="831"/>
                    </a:lnTo>
                    <a:lnTo>
                      <a:pt x="825" y="825"/>
                    </a:lnTo>
                    <a:lnTo>
                      <a:pt x="813" y="819"/>
                    </a:lnTo>
                    <a:lnTo>
                      <a:pt x="798" y="810"/>
                    </a:lnTo>
                    <a:lnTo>
                      <a:pt x="786" y="807"/>
                    </a:lnTo>
                    <a:lnTo>
                      <a:pt x="771" y="801"/>
                    </a:lnTo>
                    <a:lnTo>
                      <a:pt x="759" y="795"/>
                    </a:lnTo>
                    <a:lnTo>
                      <a:pt x="744" y="789"/>
                    </a:lnTo>
                    <a:lnTo>
                      <a:pt x="732" y="783"/>
                    </a:lnTo>
                    <a:lnTo>
                      <a:pt x="717" y="777"/>
                    </a:lnTo>
                    <a:lnTo>
                      <a:pt x="705" y="771"/>
                    </a:lnTo>
                    <a:lnTo>
                      <a:pt x="690" y="765"/>
                    </a:lnTo>
                    <a:lnTo>
                      <a:pt x="678" y="756"/>
                    </a:lnTo>
                    <a:lnTo>
                      <a:pt x="666" y="750"/>
                    </a:lnTo>
                    <a:lnTo>
                      <a:pt x="660" y="750"/>
                    </a:lnTo>
                    <a:lnTo>
                      <a:pt x="657" y="747"/>
                    </a:lnTo>
                    <a:lnTo>
                      <a:pt x="651" y="744"/>
                    </a:lnTo>
                    <a:lnTo>
                      <a:pt x="648" y="741"/>
                    </a:lnTo>
                    <a:lnTo>
                      <a:pt x="645" y="741"/>
                    </a:lnTo>
                    <a:lnTo>
                      <a:pt x="639" y="738"/>
                    </a:lnTo>
                    <a:lnTo>
                      <a:pt x="636" y="735"/>
                    </a:lnTo>
                    <a:lnTo>
                      <a:pt x="630" y="735"/>
                    </a:lnTo>
                    <a:lnTo>
                      <a:pt x="627" y="732"/>
                    </a:lnTo>
                    <a:lnTo>
                      <a:pt x="621" y="729"/>
                    </a:lnTo>
                    <a:lnTo>
                      <a:pt x="618" y="729"/>
                    </a:lnTo>
                    <a:lnTo>
                      <a:pt x="612" y="726"/>
                    </a:lnTo>
                    <a:lnTo>
                      <a:pt x="609" y="726"/>
                    </a:lnTo>
                    <a:lnTo>
                      <a:pt x="603" y="723"/>
                    </a:lnTo>
                    <a:lnTo>
                      <a:pt x="600" y="723"/>
                    </a:lnTo>
                    <a:lnTo>
                      <a:pt x="594" y="723"/>
                    </a:lnTo>
                    <a:lnTo>
                      <a:pt x="582" y="717"/>
                    </a:lnTo>
                    <a:lnTo>
                      <a:pt x="570" y="711"/>
                    </a:lnTo>
                    <a:lnTo>
                      <a:pt x="555" y="708"/>
                    </a:lnTo>
                    <a:lnTo>
                      <a:pt x="543" y="702"/>
                    </a:lnTo>
                    <a:lnTo>
                      <a:pt x="531" y="696"/>
                    </a:lnTo>
                    <a:lnTo>
                      <a:pt x="519" y="690"/>
                    </a:lnTo>
                    <a:lnTo>
                      <a:pt x="504" y="684"/>
                    </a:lnTo>
                    <a:lnTo>
                      <a:pt x="492" y="678"/>
                    </a:lnTo>
                    <a:lnTo>
                      <a:pt x="480" y="672"/>
                    </a:lnTo>
                    <a:lnTo>
                      <a:pt x="465" y="666"/>
                    </a:lnTo>
                    <a:lnTo>
                      <a:pt x="453" y="660"/>
                    </a:lnTo>
                    <a:lnTo>
                      <a:pt x="441" y="657"/>
                    </a:lnTo>
                    <a:lnTo>
                      <a:pt x="429" y="648"/>
                    </a:lnTo>
                    <a:lnTo>
                      <a:pt x="417" y="642"/>
                    </a:lnTo>
                    <a:lnTo>
                      <a:pt x="405" y="636"/>
                    </a:lnTo>
                    <a:lnTo>
                      <a:pt x="393" y="630"/>
                    </a:lnTo>
                    <a:lnTo>
                      <a:pt x="390" y="630"/>
                    </a:lnTo>
                    <a:lnTo>
                      <a:pt x="390" y="630"/>
                    </a:lnTo>
                    <a:lnTo>
                      <a:pt x="387" y="627"/>
                    </a:lnTo>
                    <a:lnTo>
                      <a:pt x="387" y="627"/>
                    </a:lnTo>
                    <a:lnTo>
                      <a:pt x="384" y="624"/>
                    </a:lnTo>
                    <a:lnTo>
                      <a:pt x="381" y="624"/>
                    </a:lnTo>
                    <a:lnTo>
                      <a:pt x="381" y="624"/>
                    </a:lnTo>
                    <a:lnTo>
                      <a:pt x="378" y="621"/>
                    </a:lnTo>
                    <a:lnTo>
                      <a:pt x="369" y="615"/>
                    </a:lnTo>
                    <a:lnTo>
                      <a:pt x="357" y="609"/>
                    </a:lnTo>
                    <a:lnTo>
                      <a:pt x="345" y="603"/>
                    </a:lnTo>
                    <a:lnTo>
                      <a:pt x="333" y="597"/>
                    </a:lnTo>
                    <a:lnTo>
                      <a:pt x="324" y="591"/>
                    </a:lnTo>
                    <a:lnTo>
                      <a:pt x="312" y="582"/>
                    </a:lnTo>
                    <a:lnTo>
                      <a:pt x="300" y="576"/>
                    </a:lnTo>
                    <a:lnTo>
                      <a:pt x="291" y="570"/>
                    </a:lnTo>
                    <a:lnTo>
                      <a:pt x="279" y="564"/>
                    </a:lnTo>
                    <a:lnTo>
                      <a:pt x="270" y="555"/>
                    </a:lnTo>
                    <a:lnTo>
                      <a:pt x="258" y="549"/>
                    </a:lnTo>
                    <a:lnTo>
                      <a:pt x="246" y="543"/>
                    </a:lnTo>
                    <a:lnTo>
                      <a:pt x="237" y="537"/>
                    </a:lnTo>
                    <a:lnTo>
                      <a:pt x="225" y="528"/>
                    </a:lnTo>
                    <a:lnTo>
                      <a:pt x="216" y="522"/>
                    </a:lnTo>
                    <a:lnTo>
                      <a:pt x="204" y="516"/>
                    </a:lnTo>
                    <a:lnTo>
                      <a:pt x="195" y="507"/>
                    </a:lnTo>
                    <a:lnTo>
                      <a:pt x="186" y="501"/>
                    </a:lnTo>
                    <a:lnTo>
                      <a:pt x="174" y="495"/>
                    </a:lnTo>
                    <a:lnTo>
                      <a:pt x="162" y="489"/>
                    </a:lnTo>
                    <a:lnTo>
                      <a:pt x="153" y="483"/>
                    </a:lnTo>
                    <a:lnTo>
                      <a:pt x="141" y="477"/>
                    </a:lnTo>
                    <a:lnTo>
                      <a:pt x="129" y="474"/>
                    </a:lnTo>
                    <a:lnTo>
                      <a:pt x="117" y="468"/>
                    </a:lnTo>
                    <a:lnTo>
                      <a:pt x="105" y="462"/>
                    </a:lnTo>
                    <a:lnTo>
                      <a:pt x="90" y="459"/>
                    </a:lnTo>
                    <a:lnTo>
                      <a:pt x="78" y="453"/>
                    </a:lnTo>
                    <a:lnTo>
                      <a:pt x="66" y="450"/>
                    </a:lnTo>
                    <a:lnTo>
                      <a:pt x="54" y="444"/>
                    </a:lnTo>
                    <a:lnTo>
                      <a:pt x="45" y="438"/>
                    </a:lnTo>
                    <a:lnTo>
                      <a:pt x="33" y="432"/>
                    </a:lnTo>
                    <a:lnTo>
                      <a:pt x="21" y="426"/>
                    </a:lnTo>
                    <a:lnTo>
                      <a:pt x="21" y="426"/>
                    </a:lnTo>
                    <a:lnTo>
                      <a:pt x="18" y="426"/>
                    </a:lnTo>
                    <a:lnTo>
                      <a:pt x="18" y="426"/>
                    </a:lnTo>
                    <a:lnTo>
                      <a:pt x="18" y="426"/>
                    </a:lnTo>
                    <a:lnTo>
                      <a:pt x="21" y="420"/>
                    </a:lnTo>
                    <a:lnTo>
                      <a:pt x="24" y="414"/>
                    </a:lnTo>
                    <a:lnTo>
                      <a:pt x="27" y="408"/>
                    </a:lnTo>
                    <a:lnTo>
                      <a:pt x="30" y="405"/>
                    </a:lnTo>
                    <a:lnTo>
                      <a:pt x="33" y="399"/>
                    </a:lnTo>
                    <a:lnTo>
                      <a:pt x="39" y="396"/>
                    </a:lnTo>
                    <a:lnTo>
                      <a:pt x="42" y="390"/>
                    </a:lnTo>
                    <a:lnTo>
                      <a:pt x="45" y="384"/>
                    </a:lnTo>
                    <a:lnTo>
                      <a:pt x="45" y="384"/>
                    </a:lnTo>
                    <a:lnTo>
                      <a:pt x="48" y="381"/>
                    </a:lnTo>
                    <a:lnTo>
                      <a:pt x="48" y="381"/>
                    </a:lnTo>
                    <a:lnTo>
                      <a:pt x="51" y="381"/>
                    </a:lnTo>
                    <a:lnTo>
                      <a:pt x="57" y="369"/>
                    </a:lnTo>
                    <a:lnTo>
                      <a:pt x="60" y="369"/>
                    </a:lnTo>
                    <a:lnTo>
                      <a:pt x="63" y="366"/>
                    </a:lnTo>
                    <a:lnTo>
                      <a:pt x="63" y="366"/>
                    </a:lnTo>
                    <a:lnTo>
                      <a:pt x="63" y="363"/>
                    </a:lnTo>
                    <a:lnTo>
                      <a:pt x="63" y="363"/>
                    </a:lnTo>
                    <a:lnTo>
                      <a:pt x="66" y="363"/>
                    </a:lnTo>
                    <a:lnTo>
                      <a:pt x="66" y="360"/>
                    </a:lnTo>
                    <a:lnTo>
                      <a:pt x="69" y="360"/>
                    </a:lnTo>
                    <a:lnTo>
                      <a:pt x="90" y="333"/>
                    </a:lnTo>
                    <a:lnTo>
                      <a:pt x="93" y="330"/>
                    </a:lnTo>
                    <a:lnTo>
                      <a:pt x="96" y="324"/>
                    </a:lnTo>
                    <a:lnTo>
                      <a:pt x="102" y="321"/>
                    </a:lnTo>
                    <a:lnTo>
                      <a:pt x="105" y="318"/>
                    </a:lnTo>
                    <a:lnTo>
                      <a:pt x="111" y="315"/>
                    </a:lnTo>
                    <a:lnTo>
                      <a:pt x="117" y="309"/>
                    </a:lnTo>
                    <a:lnTo>
                      <a:pt x="120" y="306"/>
                    </a:lnTo>
                    <a:lnTo>
                      <a:pt x="126" y="303"/>
                    </a:lnTo>
                    <a:lnTo>
                      <a:pt x="132" y="297"/>
                    </a:lnTo>
                    <a:lnTo>
                      <a:pt x="135" y="294"/>
                    </a:lnTo>
                    <a:lnTo>
                      <a:pt x="141" y="291"/>
                    </a:lnTo>
                    <a:lnTo>
                      <a:pt x="147" y="285"/>
                    </a:lnTo>
                    <a:lnTo>
                      <a:pt x="150" y="282"/>
                    </a:lnTo>
                    <a:lnTo>
                      <a:pt x="156" y="276"/>
                    </a:lnTo>
                    <a:lnTo>
                      <a:pt x="159" y="273"/>
                    </a:lnTo>
                    <a:lnTo>
                      <a:pt x="165" y="267"/>
                    </a:lnTo>
                    <a:lnTo>
                      <a:pt x="168" y="264"/>
                    </a:lnTo>
                    <a:lnTo>
                      <a:pt x="174" y="258"/>
                    </a:lnTo>
                    <a:lnTo>
                      <a:pt x="177" y="255"/>
                    </a:lnTo>
                    <a:lnTo>
                      <a:pt x="180" y="252"/>
                    </a:lnTo>
                    <a:lnTo>
                      <a:pt x="186" y="246"/>
                    </a:lnTo>
                    <a:lnTo>
                      <a:pt x="189" y="243"/>
                    </a:lnTo>
                    <a:lnTo>
                      <a:pt x="192" y="240"/>
                    </a:lnTo>
                    <a:lnTo>
                      <a:pt x="198" y="234"/>
                    </a:lnTo>
                    <a:lnTo>
                      <a:pt x="201" y="231"/>
                    </a:lnTo>
                    <a:lnTo>
                      <a:pt x="207" y="228"/>
                    </a:lnTo>
                    <a:lnTo>
                      <a:pt x="210" y="225"/>
                    </a:lnTo>
                    <a:lnTo>
                      <a:pt x="213" y="219"/>
                    </a:lnTo>
                    <a:lnTo>
                      <a:pt x="216" y="216"/>
                    </a:lnTo>
                    <a:lnTo>
                      <a:pt x="222" y="210"/>
                    </a:lnTo>
                    <a:lnTo>
                      <a:pt x="225" y="207"/>
                    </a:lnTo>
                    <a:lnTo>
                      <a:pt x="228" y="204"/>
                    </a:lnTo>
                    <a:lnTo>
                      <a:pt x="249" y="186"/>
                    </a:lnTo>
                    <a:lnTo>
                      <a:pt x="282" y="159"/>
                    </a:lnTo>
                    <a:lnTo>
                      <a:pt x="306" y="135"/>
                    </a:lnTo>
                    <a:lnTo>
                      <a:pt x="300" y="123"/>
                    </a:lnTo>
                    <a:lnTo>
                      <a:pt x="297" y="123"/>
                    </a:lnTo>
                    <a:lnTo>
                      <a:pt x="297" y="123"/>
                    </a:lnTo>
                    <a:lnTo>
                      <a:pt x="297" y="120"/>
                    </a:lnTo>
                    <a:lnTo>
                      <a:pt x="294" y="123"/>
                    </a:lnTo>
                    <a:lnTo>
                      <a:pt x="255" y="153"/>
                    </a:lnTo>
                    <a:lnTo>
                      <a:pt x="228" y="174"/>
                    </a:lnTo>
                    <a:lnTo>
                      <a:pt x="228" y="177"/>
                    </a:lnTo>
                    <a:lnTo>
                      <a:pt x="228" y="177"/>
                    </a:lnTo>
                    <a:lnTo>
                      <a:pt x="225" y="177"/>
                    </a:lnTo>
                    <a:lnTo>
                      <a:pt x="225" y="177"/>
                    </a:lnTo>
                    <a:lnTo>
                      <a:pt x="219" y="180"/>
                    </a:lnTo>
                    <a:lnTo>
                      <a:pt x="213" y="186"/>
                    </a:lnTo>
                    <a:lnTo>
                      <a:pt x="210" y="189"/>
                    </a:lnTo>
                    <a:lnTo>
                      <a:pt x="204" y="195"/>
                    </a:lnTo>
                    <a:lnTo>
                      <a:pt x="198" y="201"/>
                    </a:lnTo>
                    <a:lnTo>
                      <a:pt x="192" y="207"/>
                    </a:lnTo>
                    <a:lnTo>
                      <a:pt x="186" y="210"/>
                    </a:lnTo>
                    <a:lnTo>
                      <a:pt x="183" y="216"/>
                    </a:lnTo>
                    <a:lnTo>
                      <a:pt x="177" y="222"/>
                    </a:lnTo>
                    <a:lnTo>
                      <a:pt x="171" y="228"/>
                    </a:lnTo>
                    <a:lnTo>
                      <a:pt x="165" y="234"/>
                    </a:lnTo>
                    <a:lnTo>
                      <a:pt x="162" y="240"/>
                    </a:lnTo>
                    <a:lnTo>
                      <a:pt x="156" y="243"/>
                    </a:lnTo>
                    <a:lnTo>
                      <a:pt x="150" y="249"/>
                    </a:lnTo>
                    <a:lnTo>
                      <a:pt x="144" y="255"/>
                    </a:lnTo>
                    <a:lnTo>
                      <a:pt x="138" y="258"/>
                    </a:lnTo>
                    <a:lnTo>
                      <a:pt x="135" y="264"/>
                    </a:lnTo>
                    <a:lnTo>
                      <a:pt x="129" y="270"/>
                    </a:lnTo>
                    <a:lnTo>
                      <a:pt x="123" y="276"/>
                    </a:lnTo>
                    <a:lnTo>
                      <a:pt x="117" y="282"/>
                    </a:lnTo>
                    <a:lnTo>
                      <a:pt x="111" y="288"/>
                    </a:lnTo>
                    <a:lnTo>
                      <a:pt x="105" y="294"/>
                    </a:lnTo>
                    <a:lnTo>
                      <a:pt x="99" y="297"/>
                    </a:lnTo>
                    <a:lnTo>
                      <a:pt x="96" y="306"/>
                    </a:lnTo>
                    <a:lnTo>
                      <a:pt x="90" y="312"/>
                    </a:lnTo>
                    <a:lnTo>
                      <a:pt x="84" y="318"/>
                    </a:lnTo>
                    <a:lnTo>
                      <a:pt x="78" y="324"/>
                    </a:lnTo>
                    <a:lnTo>
                      <a:pt x="72" y="330"/>
                    </a:lnTo>
                    <a:lnTo>
                      <a:pt x="66" y="336"/>
                    </a:lnTo>
                    <a:lnTo>
                      <a:pt x="60" y="342"/>
                    </a:lnTo>
                    <a:lnTo>
                      <a:pt x="57" y="348"/>
                    </a:lnTo>
                    <a:lnTo>
                      <a:pt x="51" y="354"/>
                    </a:lnTo>
                    <a:lnTo>
                      <a:pt x="51" y="357"/>
                    </a:lnTo>
                    <a:lnTo>
                      <a:pt x="51" y="357"/>
                    </a:lnTo>
                    <a:lnTo>
                      <a:pt x="51" y="357"/>
                    </a:lnTo>
                    <a:lnTo>
                      <a:pt x="51" y="357"/>
                    </a:lnTo>
                    <a:lnTo>
                      <a:pt x="48" y="357"/>
                    </a:lnTo>
                    <a:lnTo>
                      <a:pt x="48" y="360"/>
                    </a:lnTo>
                    <a:lnTo>
                      <a:pt x="48" y="360"/>
                    </a:lnTo>
                    <a:lnTo>
                      <a:pt x="48" y="360"/>
                    </a:lnTo>
                    <a:lnTo>
                      <a:pt x="0" y="417"/>
                    </a:lnTo>
                    <a:lnTo>
                      <a:pt x="3" y="432"/>
                    </a:lnTo>
                    <a:lnTo>
                      <a:pt x="6" y="435"/>
                    </a:lnTo>
                    <a:lnTo>
                      <a:pt x="9" y="435"/>
                    </a:lnTo>
                    <a:lnTo>
                      <a:pt x="12" y="438"/>
                    </a:lnTo>
                    <a:lnTo>
                      <a:pt x="12" y="438"/>
                    </a:lnTo>
                    <a:lnTo>
                      <a:pt x="15" y="441"/>
                    </a:lnTo>
                    <a:lnTo>
                      <a:pt x="18" y="441"/>
                    </a:lnTo>
                    <a:lnTo>
                      <a:pt x="21" y="441"/>
                    </a:lnTo>
                    <a:lnTo>
                      <a:pt x="24" y="444"/>
                    </a:lnTo>
                    <a:lnTo>
                      <a:pt x="30" y="447"/>
                    </a:lnTo>
                    <a:lnTo>
                      <a:pt x="36" y="450"/>
                    </a:lnTo>
                    <a:lnTo>
                      <a:pt x="42" y="456"/>
                    </a:lnTo>
                    <a:lnTo>
                      <a:pt x="48" y="459"/>
                    </a:lnTo>
                    <a:lnTo>
                      <a:pt x="54" y="462"/>
                    </a:lnTo>
                    <a:lnTo>
                      <a:pt x="60" y="465"/>
                    </a:lnTo>
                    <a:lnTo>
                      <a:pt x="66" y="468"/>
                    </a:lnTo>
                    <a:lnTo>
                      <a:pt x="72" y="471"/>
                    </a:lnTo>
                    <a:lnTo>
                      <a:pt x="81" y="474"/>
                    </a:lnTo>
                    <a:lnTo>
                      <a:pt x="87" y="477"/>
                    </a:lnTo>
                    <a:lnTo>
                      <a:pt x="93" y="480"/>
                    </a:lnTo>
                    <a:lnTo>
                      <a:pt x="99" y="483"/>
                    </a:lnTo>
                    <a:lnTo>
                      <a:pt x="105" y="486"/>
                    </a:lnTo>
                    <a:lnTo>
                      <a:pt x="114" y="486"/>
                    </a:lnTo>
                    <a:lnTo>
                      <a:pt x="120" y="489"/>
                    </a:lnTo>
                    <a:lnTo>
                      <a:pt x="126" y="492"/>
                    </a:lnTo>
                    <a:lnTo>
                      <a:pt x="132" y="495"/>
                    </a:lnTo>
                    <a:lnTo>
                      <a:pt x="138" y="498"/>
                    </a:lnTo>
                    <a:lnTo>
                      <a:pt x="144" y="501"/>
                    </a:lnTo>
                    <a:lnTo>
                      <a:pt x="150" y="504"/>
                    </a:lnTo>
                    <a:lnTo>
                      <a:pt x="156" y="507"/>
                    </a:lnTo>
                    <a:lnTo>
                      <a:pt x="162" y="510"/>
                    </a:lnTo>
                    <a:lnTo>
                      <a:pt x="168" y="513"/>
                    </a:lnTo>
                    <a:lnTo>
                      <a:pt x="174" y="516"/>
                    </a:lnTo>
                    <a:lnTo>
                      <a:pt x="180" y="519"/>
                    </a:lnTo>
                    <a:lnTo>
                      <a:pt x="186" y="522"/>
                    </a:lnTo>
                    <a:lnTo>
                      <a:pt x="189" y="525"/>
                    </a:lnTo>
                    <a:lnTo>
                      <a:pt x="195" y="528"/>
                    </a:lnTo>
                    <a:lnTo>
                      <a:pt x="201" y="531"/>
                    </a:lnTo>
                    <a:lnTo>
                      <a:pt x="207" y="534"/>
                    </a:lnTo>
                    <a:lnTo>
                      <a:pt x="210" y="540"/>
                    </a:lnTo>
                    <a:lnTo>
                      <a:pt x="216" y="543"/>
                    </a:lnTo>
                    <a:lnTo>
                      <a:pt x="219" y="546"/>
                    </a:lnTo>
                    <a:lnTo>
                      <a:pt x="225" y="549"/>
                    </a:lnTo>
                    <a:lnTo>
                      <a:pt x="228" y="552"/>
                    </a:lnTo>
                    <a:lnTo>
                      <a:pt x="234" y="555"/>
                    </a:lnTo>
                    <a:lnTo>
                      <a:pt x="237" y="555"/>
                    </a:lnTo>
                    <a:lnTo>
                      <a:pt x="243" y="558"/>
                    </a:lnTo>
                    <a:lnTo>
                      <a:pt x="246" y="561"/>
                    </a:lnTo>
                    <a:lnTo>
                      <a:pt x="252" y="567"/>
                    </a:lnTo>
                    <a:lnTo>
                      <a:pt x="255" y="570"/>
                    </a:lnTo>
                    <a:lnTo>
                      <a:pt x="261" y="573"/>
                    </a:lnTo>
                    <a:lnTo>
                      <a:pt x="267" y="576"/>
                    </a:lnTo>
                    <a:lnTo>
                      <a:pt x="273" y="579"/>
                    </a:lnTo>
                    <a:lnTo>
                      <a:pt x="279" y="582"/>
                    </a:lnTo>
                    <a:lnTo>
                      <a:pt x="285" y="585"/>
                    </a:lnTo>
                    <a:lnTo>
                      <a:pt x="288" y="591"/>
                    </a:lnTo>
                    <a:lnTo>
                      <a:pt x="294" y="594"/>
                    </a:lnTo>
                    <a:lnTo>
                      <a:pt x="300" y="597"/>
                    </a:lnTo>
                    <a:lnTo>
                      <a:pt x="306" y="600"/>
                    </a:lnTo>
                    <a:lnTo>
                      <a:pt x="309" y="603"/>
                    </a:lnTo>
                    <a:lnTo>
                      <a:pt x="315" y="606"/>
                    </a:lnTo>
                    <a:lnTo>
                      <a:pt x="321" y="609"/>
                    </a:lnTo>
                    <a:lnTo>
                      <a:pt x="324" y="612"/>
                    </a:lnTo>
                    <a:lnTo>
                      <a:pt x="330" y="615"/>
                    </a:lnTo>
                    <a:lnTo>
                      <a:pt x="333" y="618"/>
                    </a:lnTo>
                    <a:lnTo>
                      <a:pt x="339" y="621"/>
                    </a:lnTo>
                    <a:lnTo>
                      <a:pt x="342" y="621"/>
                    </a:lnTo>
                    <a:lnTo>
                      <a:pt x="348" y="627"/>
                    </a:lnTo>
                    <a:lnTo>
                      <a:pt x="354" y="630"/>
                    </a:lnTo>
                    <a:lnTo>
                      <a:pt x="357" y="630"/>
                    </a:lnTo>
                    <a:lnTo>
                      <a:pt x="363" y="633"/>
                    </a:lnTo>
                    <a:lnTo>
                      <a:pt x="369" y="636"/>
                    </a:lnTo>
                    <a:lnTo>
                      <a:pt x="372" y="639"/>
                    </a:lnTo>
                    <a:lnTo>
                      <a:pt x="378" y="642"/>
                    </a:lnTo>
                    <a:lnTo>
                      <a:pt x="384" y="645"/>
                    </a:lnTo>
                    <a:lnTo>
                      <a:pt x="387" y="648"/>
                    </a:lnTo>
                    <a:lnTo>
                      <a:pt x="393" y="651"/>
                    </a:lnTo>
                    <a:lnTo>
                      <a:pt x="396" y="654"/>
                    </a:lnTo>
                    <a:lnTo>
                      <a:pt x="402" y="657"/>
                    </a:lnTo>
                    <a:lnTo>
                      <a:pt x="408" y="660"/>
                    </a:lnTo>
                    <a:lnTo>
                      <a:pt x="411" y="663"/>
                    </a:lnTo>
                    <a:lnTo>
                      <a:pt x="420" y="666"/>
                    </a:lnTo>
                    <a:lnTo>
                      <a:pt x="426" y="672"/>
                    </a:lnTo>
                    <a:lnTo>
                      <a:pt x="432" y="675"/>
                    </a:lnTo>
                    <a:lnTo>
                      <a:pt x="441" y="678"/>
                    </a:lnTo>
                    <a:lnTo>
                      <a:pt x="447" y="684"/>
                    </a:lnTo>
                    <a:lnTo>
                      <a:pt x="456" y="687"/>
                    </a:lnTo>
                    <a:lnTo>
                      <a:pt x="462" y="690"/>
                    </a:lnTo>
                    <a:lnTo>
                      <a:pt x="471" y="693"/>
                    </a:lnTo>
                    <a:lnTo>
                      <a:pt x="480" y="696"/>
                    </a:lnTo>
                    <a:lnTo>
                      <a:pt x="486" y="699"/>
                    </a:lnTo>
                    <a:lnTo>
                      <a:pt x="495" y="702"/>
                    </a:lnTo>
                    <a:lnTo>
                      <a:pt x="504" y="705"/>
                    </a:lnTo>
                    <a:lnTo>
                      <a:pt x="510" y="708"/>
                    </a:lnTo>
                    <a:lnTo>
                      <a:pt x="519" y="711"/>
                    </a:lnTo>
                    <a:lnTo>
                      <a:pt x="525" y="717"/>
                    </a:lnTo>
                    <a:lnTo>
                      <a:pt x="534" y="720"/>
                    </a:lnTo>
                    <a:lnTo>
                      <a:pt x="537" y="720"/>
                    </a:lnTo>
                    <a:lnTo>
                      <a:pt x="540" y="723"/>
                    </a:lnTo>
                    <a:lnTo>
                      <a:pt x="540" y="723"/>
                    </a:lnTo>
                    <a:lnTo>
                      <a:pt x="543" y="726"/>
                    </a:lnTo>
                    <a:lnTo>
                      <a:pt x="546" y="726"/>
                    </a:lnTo>
                    <a:lnTo>
                      <a:pt x="549" y="729"/>
                    </a:lnTo>
                    <a:lnTo>
                      <a:pt x="549" y="729"/>
                    </a:lnTo>
                    <a:lnTo>
                      <a:pt x="552" y="729"/>
                    </a:lnTo>
                    <a:lnTo>
                      <a:pt x="561" y="732"/>
                    </a:lnTo>
                    <a:lnTo>
                      <a:pt x="570" y="735"/>
                    </a:lnTo>
                    <a:lnTo>
                      <a:pt x="579" y="738"/>
                    </a:lnTo>
                    <a:lnTo>
                      <a:pt x="588" y="741"/>
                    </a:lnTo>
                    <a:lnTo>
                      <a:pt x="594" y="744"/>
                    </a:lnTo>
                    <a:lnTo>
                      <a:pt x="603" y="747"/>
                    </a:lnTo>
                    <a:lnTo>
                      <a:pt x="612" y="753"/>
                    </a:lnTo>
                    <a:lnTo>
                      <a:pt x="621" y="756"/>
                    </a:lnTo>
                    <a:lnTo>
                      <a:pt x="627" y="759"/>
                    </a:lnTo>
                    <a:lnTo>
                      <a:pt x="636" y="762"/>
                    </a:lnTo>
                    <a:lnTo>
                      <a:pt x="645" y="765"/>
                    </a:lnTo>
                    <a:lnTo>
                      <a:pt x="654" y="771"/>
                    </a:lnTo>
                    <a:lnTo>
                      <a:pt x="660" y="774"/>
                    </a:lnTo>
                    <a:lnTo>
                      <a:pt x="669" y="777"/>
                    </a:lnTo>
                    <a:lnTo>
                      <a:pt x="675" y="780"/>
                    </a:lnTo>
                    <a:lnTo>
                      <a:pt x="684" y="786"/>
                    </a:lnTo>
                    <a:lnTo>
                      <a:pt x="693" y="789"/>
                    </a:lnTo>
                    <a:lnTo>
                      <a:pt x="699" y="792"/>
                    </a:lnTo>
                    <a:lnTo>
                      <a:pt x="708" y="795"/>
                    </a:lnTo>
                    <a:lnTo>
                      <a:pt x="717" y="801"/>
                    </a:lnTo>
                    <a:lnTo>
                      <a:pt x="723" y="804"/>
                    </a:lnTo>
                    <a:lnTo>
                      <a:pt x="732" y="807"/>
                    </a:lnTo>
                    <a:lnTo>
                      <a:pt x="741" y="813"/>
                    </a:lnTo>
                    <a:lnTo>
                      <a:pt x="747" y="816"/>
                    </a:lnTo>
                    <a:lnTo>
                      <a:pt x="756" y="819"/>
                    </a:lnTo>
                    <a:lnTo>
                      <a:pt x="765" y="825"/>
                    </a:lnTo>
                    <a:lnTo>
                      <a:pt x="771" y="828"/>
                    </a:lnTo>
                    <a:lnTo>
                      <a:pt x="780" y="831"/>
                    </a:lnTo>
                    <a:lnTo>
                      <a:pt x="789" y="837"/>
                    </a:lnTo>
                    <a:lnTo>
                      <a:pt x="798" y="840"/>
                    </a:lnTo>
                    <a:lnTo>
                      <a:pt x="804" y="843"/>
                    </a:lnTo>
                    <a:lnTo>
                      <a:pt x="813" y="846"/>
                    </a:lnTo>
                    <a:lnTo>
                      <a:pt x="891" y="882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911000">
                <a:off x="847080" y="2518560"/>
                <a:ext cx="56880" cy="109440"/>
              </a:xfrm>
              <a:custGeom>
                <a:avLst/>
                <a:gdLst/>
                <a:ahLst/>
                <a:rect l="l" t="t" r="r" b="b"/>
                <a:pathLst>
                  <a:path w="36" h="69">
                    <a:moveTo>
                      <a:pt x="15" y="69"/>
                    </a:moveTo>
                    <a:lnTo>
                      <a:pt x="21" y="60"/>
                    </a:lnTo>
                    <a:lnTo>
                      <a:pt x="36" y="48"/>
                    </a:lnTo>
                    <a:lnTo>
                      <a:pt x="33" y="45"/>
                    </a:lnTo>
                    <a:lnTo>
                      <a:pt x="33" y="39"/>
                    </a:lnTo>
                    <a:lnTo>
                      <a:pt x="33" y="33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7" y="21"/>
                    </a:lnTo>
                    <a:lnTo>
                      <a:pt x="24" y="18"/>
                    </a:lnTo>
                    <a:lnTo>
                      <a:pt x="21" y="12"/>
                    </a:lnTo>
                    <a:lnTo>
                      <a:pt x="21" y="9"/>
                    </a:lnTo>
                    <a:lnTo>
                      <a:pt x="18" y="6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3" y="33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9" y="57"/>
                    </a:lnTo>
                    <a:lnTo>
                      <a:pt x="12" y="63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5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911000">
                <a:off x="925560" y="2546280"/>
                <a:ext cx="47520" cy="33480"/>
              </a:xfrm>
              <a:custGeom>
                <a:avLst/>
                <a:gdLst/>
                <a:ahLst/>
                <a:rect l="l" t="t" r="r" b="b"/>
                <a:pathLst>
                  <a:path w="30" h="21">
                    <a:moveTo>
                      <a:pt x="9" y="21"/>
                    </a:moveTo>
                    <a:lnTo>
                      <a:pt x="18" y="18"/>
                    </a:lnTo>
                    <a:lnTo>
                      <a:pt x="30" y="9"/>
                    </a:lnTo>
                    <a:lnTo>
                      <a:pt x="3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9" y="18"/>
                    </a:lnTo>
                    <a:lnTo>
                      <a:pt x="9" y="21"/>
                    </a:lnTo>
                    <a:close/>
                  </a:path>
                </a:pathLst>
              </a:custGeom>
              <a:solidFill>
                <a:srgbClr val="c0d9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rot="20331000">
              <a:off x="326520" y="28188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517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866960" y="2362320"/>
            <a:ext cx="5410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est statist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51760" y="12952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742600" y="3857760"/>
            <a:ext cx="144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3480" y="3424320"/>
            <a:ext cx="8495280" cy="1360800"/>
            <a:chOff x="303480" y="3424320"/>
            <a:chExt cx="8495280" cy="1360800"/>
          </a:xfrm>
        </p:grpSpPr>
        <p:sp>
          <p:nvSpPr>
            <p:cNvPr id="524" name=""/>
            <p:cNvSpPr/>
            <p:nvPr/>
          </p:nvSpPr>
          <p:spPr>
            <a:xfrm>
              <a:off x="1027080" y="4118040"/>
              <a:ext cx="1198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87600" y="4118040"/>
              <a:ext cx="114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25880" y="4118040"/>
              <a:ext cx="1123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04080" y="4118040"/>
              <a:ext cx="1137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3480" y="3857760"/>
              <a:ext cx="335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14040" y="4184640"/>
              <a:ext cx="311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79160" y="4184640"/>
              <a:ext cx="311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68120" y="3500280"/>
              <a:ext cx="2887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98720" y="418464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06400" y="3500280"/>
              <a:ext cx="2887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06760" y="418464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84240" y="3500280"/>
              <a:ext cx="2887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86400" y="418464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19720" y="3857760"/>
              <a:ext cx="311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622200" y="3795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87280" y="4479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1240" y="3801960"/>
              <a:ext cx="343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43040" y="412920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18080" y="380196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10280" y="380196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19680" y="380196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90680" y="3424320"/>
              <a:ext cx="214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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90680" y="3841920"/>
              <a:ext cx="214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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90680" y="4260960"/>
              <a:ext cx="214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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65800" y="3424320"/>
              <a:ext cx="214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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65800" y="3841920"/>
              <a:ext cx="214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5800" y="4260960"/>
              <a:ext cx="2142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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70720" y="380196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310600" y="380196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23440" y="3513240"/>
              <a:ext cx="4334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14120" y="418464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10120" y="385776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581680" y="385776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85200" y="3794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450600" y="3462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79080" y="4478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36440" y="3794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64760" y="3462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01520" y="4478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57360" y="3462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43080" y="418464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75040" y="418464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506680" y="350028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91120" y="350028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44960" y="350028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07080" y="350028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27360" y="3857760"/>
              <a:ext cx="109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35360" y="3857760"/>
              <a:ext cx="109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41560" y="3857760"/>
              <a:ext cx="109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23160" y="350028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99320" y="350028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883640" y="385776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54280" y="3444840"/>
              <a:ext cx="255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92560" y="3444840"/>
              <a:ext cx="255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170760" y="3444840"/>
              <a:ext cx="255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33520" y="5486400"/>
            <a:ext cx="8076960" cy="457200"/>
            <a:chOff x="533520" y="5486400"/>
            <a:chExt cx="8076960" cy="457200"/>
          </a:xfrm>
        </p:grpSpPr>
        <p:sp>
          <p:nvSpPr>
            <p:cNvPr id="580" name=""/>
            <p:cNvSpPr/>
            <p:nvPr/>
          </p:nvSpPr>
          <p:spPr>
            <a:xfrm>
              <a:off x="533520" y="571500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548640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 txBox="1"/>
          <p:nvPr/>
        </p:nvSpPr>
        <p:spPr>
          <a:xfrm>
            <a:off x="7162920" y="617220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dissolv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746280" y="1523880"/>
            <a:ext cx="7559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ly Ambrose, director of Human Resources for Miller Industries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shes to study the percent increase in salary for middle manag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our manufacturing pla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She gathers a sample of managers and determines the  percent increase in salary           from last year to this ye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% 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can Keely conclude that there is a difference in the percent increases for the various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33520" y="5638680"/>
            <a:ext cx="8076960" cy="457200"/>
            <a:chOff x="533520" y="5638680"/>
            <a:chExt cx="8076960" cy="457200"/>
          </a:xfrm>
        </p:grpSpPr>
        <p:sp>
          <p:nvSpPr>
            <p:cNvPr id="586" name=""/>
            <p:cNvSpPr/>
            <p:nvPr/>
          </p:nvSpPr>
          <p:spPr>
            <a:xfrm>
              <a:off x="533520" y="58672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43400" y="56386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589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04920" y="1438200"/>
            <a:ext cx="8458200" cy="4406400"/>
            <a:chOff x="304920" y="1438200"/>
            <a:chExt cx="8458200" cy="4406400"/>
          </a:xfrm>
        </p:grpSpPr>
        <p:sp>
          <p:nvSpPr>
            <p:cNvPr id="593" name=""/>
            <p:cNvSpPr/>
            <p:nvPr/>
          </p:nvSpPr>
          <p:spPr>
            <a:xfrm>
              <a:off x="304920" y="2047680"/>
              <a:ext cx="8458200" cy="3796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Millvill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nk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Camde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Rank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lang="en-US" sz="2400" spc="-1" strike="noStrike" u="sng">
                  <a:solidFill>
                    <a:srgbClr val="669900"/>
                  </a:solidFill>
                  <a:uFillTx/>
                  <a:latin typeface="Times New Roman"/>
                </a:rPr>
                <a:t>Eaton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669900"/>
                  </a:solidFill>
                  <a:uFillTx/>
                  <a:latin typeface="Times New Roman"/>
                </a:rPr>
                <a:t>Rank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 u="sng">
                  <a:solidFill>
                    <a:srgbClr val="ff33cc"/>
                  </a:solidFill>
                  <a:uFillTx/>
                  <a:latin typeface="Times New Roman"/>
                </a:rPr>
                <a:t>Cliff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33cc"/>
                  </a:solidFill>
                  <a:uFillTx/>
                  <a:latin typeface="Times New Roman"/>
                </a:rPr>
                <a:t>R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.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.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3.7       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6.0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5.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9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.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2.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3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5       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7.0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6.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10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8.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3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4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1     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13.5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8.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16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0.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6.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2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.3     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17.0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11.6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18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13.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8.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15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1.6     </a:t>
              </a:r>
              <a:r>
                <a:rPr b="1" lang="en-US" sz="2400" spc="-1" strike="noStrike" u="sng">
                  <a:solidFill>
                    <a:srgbClr val="669900"/>
                  </a:solidFill>
                  <a:uFillTx/>
                  <a:latin typeface="Times New Roman"/>
                </a:rPr>
                <a:t>18.5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13.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ff33cc"/>
                  </a:solidFill>
                  <a:uFillTx/>
                  <a:latin typeface="Times New Roman"/>
                </a:rPr>
                <a:t>20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9.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62.0</a:t>
              </a:r>
              <a:r>
                <a:rPr b="1" lang="en-US" sz="2400" spc="-1" strike="noStrike">
                  <a:solidFill>
                    <a:srgbClr val="6699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7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06800" y="1438200"/>
              <a:ext cx="113004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la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596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81040" y="2330280"/>
            <a:ext cx="79804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1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The populations are the s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The populations are not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p 2: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rejected i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reater than 7.18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3 degrees of freedom at the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05 significance leve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601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9" name=""/>
          <p:cNvSpPr/>
          <p:nvPr/>
        </p:nvSpPr>
        <p:spPr>
          <a:xfrm>
            <a:off x="1754280" y="579132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1387440"/>
            <a:ext cx="609480" cy="581400"/>
            <a:chOff x="304920" y="1387440"/>
            <a:chExt cx="609480" cy="5814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304920" y="146196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1960" y="138744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920" y="2819520"/>
            <a:ext cx="609480" cy="581400"/>
            <a:chOff x="304920" y="2819520"/>
            <a:chExt cx="609480" cy="58140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304920" y="289368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1960" y="28195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4920" y="3701880"/>
            <a:ext cx="609480" cy="581400"/>
            <a:chOff x="304920" y="3701880"/>
            <a:chExt cx="609480" cy="581400"/>
          </a:xfrm>
        </p:grpSpPr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304920" y="377640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1960" y="37018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600200" y="146376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387440"/>
            <a:ext cx="739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duct and interpr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                                    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Kruskal-Wallis 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veral 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66920" y="2743200"/>
            <a:ext cx="7319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e and interpr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Spearman’s coefficient of rank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83868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duct a 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hypothesis to determine whether the 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correlation among the ranks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population is              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fferent from zer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453240" y="5235480"/>
            <a:ext cx="6697800" cy="1206360"/>
            <a:chOff x="453240" y="5235480"/>
            <a:chExt cx="6697800" cy="1206360"/>
          </a:xfrm>
        </p:grpSpPr>
        <p:sp>
          <p:nvSpPr>
            <p:cNvPr id="604" name=""/>
            <p:cNvSpPr/>
            <p:nvPr/>
          </p:nvSpPr>
          <p:spPr>
            <a:xfrm>
              <a:off x="813240" y="5833800"/>
              <a:ext cx="1325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7440" y="5833800"/>
              <a:ext cx="559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52960" y="5833800"/>
              <a:ext cx="55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23440" y="5833800"/>
              <a:ext cx="5644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04000" y="5833800"/>
              <a:ext cx="5641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23960" y="55879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85000" y="55879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298920" y="55879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80840" y="55879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27120" y="55879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07400" y="58910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26320" y="53416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cc"/>
                  </a:solidFill>
                  <a:latin typeface="Times New Roman"/>
                </a:rPr>
                <a:t>7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26120" y="58910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145760" y="53416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9900"/>
                  </a:solidFill>
                  <a:latin typeface="Times New Roman"/>
                </a:rPr>
                <a:t>6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451320" y="58910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69160" y="53416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3333cc"/>
                  </a:solidFill>
                  <a:latin typeface="Times New Roman"/>
                </a:rPr>
                <a:t>3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77240" y="58910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94720" y="53416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39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09520" y="5891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70920" y="58910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83400" y="589104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166760" y="5891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0960" y="589104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99240" y="53416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83800" y="5268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502160" y="5268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21600" y="5268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51120" y="5268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71520" y="55432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42080" y="55432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88280" y="587196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88280" y="598464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88280" y="531972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88280" y="561024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88280" y="523548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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207520" y="587196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07520" y="598464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07520" y="531972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07520" y="561024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7520" y="523548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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57040" y="5543280"/>
              <a:ext cx="227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8920" y="55432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98080" y="55432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60320" y="584676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3240" y="5543280"/>
              <a:ext cx="494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17800" y="3809880"/>
            <a:ext cx="8530200" cy="1199160"/>
            <a:chOff x="217800" y="3809880"/>
            <a:chExt cx="8530200" cy="1199160"/>
          </a:xfrm>
        </p:grpSpPr>
        <p:sp>
          <p:nvSpPr>
            <p:cNvPr id="650" name=""/>
            <p:cNvSpPr/>
            <p:nvPr/>
          </p:nvSpPr>
          <p:spPr>
            <a:xfrm>
              <a:off x="857160" y="4390560"/>
              <a:ext cx="10342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33720" y="4390560"/>
              <a:ext cx="1018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75800" y="4390560"/>
              <a:ext cx="106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860360" y="4390560"/>
              <a:ext cx="10483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32320" y="4390560"/>
              <a:ext cx="106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620920" y="41608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479440" y="416088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21080" y="41608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63400" y="41608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57360" y="3913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255360" y="3913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72800" y="39106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83400" y="39106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00120" y="3913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8840" y="3913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16280" y="3913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56760" y="3913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758960" y="44438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17480" y="44438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8760" y="44438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94840" y="393264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02800" y="3845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85280" y="4097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94960" y="46274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718600" y="38408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07200" y="40924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8320" y="46274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47360" y="3845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28040" y="4097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49960" y="46274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62800" y="3845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61120" y="4097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0200" y="41194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73320" y="4119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13760" y="444852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13760" y="455184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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13760" y="391176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13760" y="418176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13760" y="380988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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60200" y="444852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200" y="455184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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60200" y="391176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60200" y="418176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60200" y="3809880"/>
              <a:ext cx="18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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69480" y="3871800"/>
              <a:ext cx="226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71320" y="41194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8240" y="3869280"/>
              <a:ext cx="226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00800" y="41194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13680" y="3871800"/>
              <a:ext cx="226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15520" y="411948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70880" y="3871800"/>
              <a:ext cx="226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98240" y="44024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8200" y="411948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039880" y="416088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85120" y="444384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568200" y="39135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cc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11000" y="444384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97680" y="391068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6699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33280" y="444384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10600" y="39135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90120" y="444384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71040" y="391356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77560" y="44438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84160" y="44438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7800" y="41608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9440" y="46292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7468920" y="5562720"/>
            <a:ext cx="12733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62651" dir="84827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5.9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43080" y="1295280"/>
            <a:ext cx="8458200" cy="2397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Millvill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Ran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Camd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ank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Times New Roman"/>
              </a:rPr>
              <a:t>Eaton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Times New Roman"/>
              </a:rPr>
              <a:t>Ran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Times New Roman"/>
              </a:rPr>
              <a:t>Cliff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Times New Roman"/>
              </a:rPr>
              <a:t>R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3.7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6.0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5.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9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.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5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7.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6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8.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1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13.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8.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1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6.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2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3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17.0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11.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13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15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6     </a:t>
            </a:r>
            <a:r>
              <a:rPr b="1" lang="en-US" sz="2400" spc="-1" strike="noStrike" u="sng">
                <a:solidFill>
                  <a:srgbClr val="669900"/>
                </a:solidFill>
                <a:uFillTx/>
                <a:latin typeface="Times New Roman"/>
              </a:rPr>
              <a:t>18.5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3.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Times New Roman"/>
              </a:rPr>
              <a:t>2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9.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62.0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7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720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3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82640" y="2057400"/>
            <a:ext cx="757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ull hypothesi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s not rej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486080" y="152280"/>
            <a:ext cx="6210000" cy="10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ruskal-Wallis Test:                        Analysis of Variance by R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38080" y="2895480"/>
            <a:ext cx="7315200" cy="2623680"/>
            <a:chOff x="838080" y="2895480"/>
            <a:chExt cx="7315200" cy="2623680"/>
          </a:xfrm>
        </p:grpSpPr>
        <p:grpSp>
          <p:nvGrpSpPr>
            <p:cNvPr id="725" name=""/>
            <p:cNvGrpSpPr/>
            <p:nvPr/>
          </p:nvGrpSpPr>
          <p:grpSpPr>
            <a:xfrm>
              <a:off x="1523880" y="2895480"/>
              <a:ext cx="6019200" cy="1752480"/>
              <a:chOff x="1523880" y="2895480"/>
              <a:chExt cx="6019200" cy="1752480"/>
            </a:xfrm>
          </p:grpSpPr>
          <p:pic>
            <p:nvPicPr>
              <p:cNvPr id="7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2895480"/>
                <a:ext cx="143316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52800" y="2895480"/>
                <a:ext cx="143316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1360" y="2895480"/>
                <a:ext cx="143316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109920" y="2895480"/>
                <a:ext cx="1433160" cy="175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0" name=""/>
            <p:cNvSpPr/>
            <p:nvPr/>
          </p:nvSpPr>
          <p:spPr>
            <a:xfrm>
              <a:off x="838080" y="4572000"/>
              <a:ext cx="7315200" cy="947160"/>
            </a:xfrm>
            <a:prstGeom prst="rect">
              <a:avLst/>
            </a:prstGeom>
            <a:solidFill>
              <a:srgbClr val="ff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re is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no difference in the percent increases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in the four pla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33520" y="5867280"/>
            <a:ext cx="8076960" cy="457200"/>
            <a:chOff x="533520" y="5867280"/>
            <a:chExt cx="8076960" cy="457200"/>
          </a:xfrm>
        </p:grpSpPr>
        <p:sp>
          <p:nvSpPr>
            <p:cNvPr id="732" name=""/>
            <p:cNvSpPr/>
            <p:nvPr/>
          </p:nvSpPr>
          <p:spPr>
            <a:xfrm>
              <a:off x="533520" y="60958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43400" y="58672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500"/>
                            </p:stCondLst>
                            <p:childTnLst>
                              <p:par>
                                <p:cTn id="7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057400" y="304920"/>
            <a:ext cx="5029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53800" dir="8587806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nk-Orde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2720" y="1295280"/>
            <a:ext cx="791856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pearman’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efficient of rank correlatio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ports the association between two sets of ranked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" y="3124080"/>
            <a:ext cx="777240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Featur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can range from –1.00 up to 1.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similar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earson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efficient of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relation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ut is based on rank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33520" y="2743200"/>
            <a:ext cx="8076960" cy="457200"/>
            <a:chOff x="533520" y="2743200"/>
            <a:chExt cx="8076960" cy="457200"/>
          </a:xfrm>
        </p:grpSpPr>
        <p:sp>
          <p:nvSpPr>
            <p:cNvPr id="738" name=""/>
            <p:cNvSpPr/>
            <p:nvPr/>
          </p:nvSpPr>
          <p:spPr>
            <a:xfrm>
              <a:off x="533520" y="297180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43400" y="274320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533520" y="5715000"/>
            <a:ext cx="8076960" cy="457200"/>
            <a:chOff x="533520" y="5715000"/>
            <a:chExt cx="8076960" cy="457200"/>
          </a:xfrm>
        </p:grpSpPr>
        <p:sp>
          <p:nvSpPr>
            <p:cNvPr id="741" name=""/>
            <p:cNvSpPr/>
            <p:nvPr/>
          </p:nvSpPr>
          <p:spPr>
            <a:xfrm>
              <a:off x="533520" y="594360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43400" y="571500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744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019240" y="228600"/>
            <a:ext cx="510552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53800" dir="8587806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arman’s                      Rank-Orde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165420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mu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to find the coefficient of rank corre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181160" y="4343400"/>
            <a:ext cx="6781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difference in the ranks 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number of observati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2708280" y="2935440"/>
            <a:ext cx="3747600" cy="1074240"/>
            <a:chOff x="2708280" y="2935440"/>
            <a:chExt cx="3747600" cy="1074240"/>
          </a:xfrm>
        </p:grpSpPr>
        <p:sp>
          <p:nvSpPr>
            <p:cNvPr id="750" name=""/>
            <p:cNvSpPr/>
            <p:nvPr/>
          </p:nvSpPr>
          <p:spPr>
            <a:xfrm>
              <a:off x="4436640" y="3478320"/>
              <a:ext cx="201924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08280" y="326376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39600" y="297972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66880" y="353700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951080" y="353700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98000" y="350820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97520" y="321948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045320" y="321948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64600" y="34923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63360" y="326376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44520" y="297972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03360" y="353700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11120" y="2949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68240" y="35067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28560" y="2935440"/>
              <a:ext cx="234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51280" y="353700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237000" y="353700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533520" y="5486400"/>
            <a:ext cx="8076960" cy="457200"/>
            <a:chOff x="533520" y="5486400"/>
            <a:chExt cx="8076960" cy="457200"/>
          </a:xfrm>
        </p:grpSpPr>
        <p:sp>
          <p:nvSpPr>
            <p:cNvPr id="768" name=""/>
            <p:cNvSpPr/>
            <p:nvPr/>
          </p:nvSpPr>
          <p:spPr>
            <a:xfrm>
              <a:off x="533520" y="571500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343400" y="548640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771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19240" y="228600"/>
            <a:ext cx="510552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53800" dir="8587806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arman’s                      Rank-Orde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643040" y="1365120"/>
            <a:ext cx="5735520" cy="1012680"/>
            <a:chOff x="1643040" y="1365120"/>
            <a:chExt cx="5735520" cy="1012680"/>
          </a:xfrm>
        </p:grpSpPr>
        <p:sp>
          <p:nvSpPr>
            <p:cNvPr id="775" name=""/>
            <p:cNvSpPr/>
            <p:nvPr/>
          </p:nvSpPr>
          <p:spPr>
            <a:xfrm>
              <a:off x="1643040" y="1365120"/>
              <a:ext cx="57355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esting the significance of </a:t>
              </a:r>
              <a:r>
                <a:rPr b="1" i="1" lang="en-US" sz="48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59040" y="2301480"/>
              <a:ext cx="53341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826640" y="2355840"/>
            <a:ext cx="548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te the null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k correlation in population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9760" y="3270240"/>
            <a:ext cx="6140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te the alternate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k correlation in population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4503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lue of the test statistic is computed fro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12760" y="5022720"/>
            <a:ext cx="3335400" cy="1179000"/>
            <a:chOff x="2912760" y="5022720"/>
            <a:chExt cx="3335400" cy="1179000"/>
          </a:xfrm>
        </p:grpSpPr>
        <p:sp>
          <p:nvSpPr>
            <p:cNvPr id="781" name=""/>
            <p:cNvSpPr/>
            <p:nvPr/>
          </p:nvSpPr>
          <p:spPr>
            <a:xfrm>
              <a:off x="4714920" y="5568840"/>
              <a:ext cx="148104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300560" y="5695920"/>
              <a:ext cx="79200" cy="30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9760" y="5707080"/>
              <a:ext cx="117720" cy="388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511520" y="5048280"/>
              <a:ext cx="152640" cy="1047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64160" y="5048280"/>
              <a:ext cx="158400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12760" y="5353200"/>
              <a:ext cx="116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22840" y="5353200"/>
              <a:ext cx="25812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3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36600" y="506880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68840" y="5629320"/>
              <a:ext cx="62064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3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3300" spc="-1" strike="noStrike" baseline="30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46840" y="530712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30160" y="502272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39720" y="558180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757120" y="506880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706280" y="562932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 txBox="1"/>
          <p:nvPr/>
        </p:nvSpPr>
        <p:spPr>
          <a:xfrm>
            <a:off x="7238880" y="617220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split dir="out" orient="vert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2019240" y="228600"/>
            <a:ext cx="510552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53800" dir="8587806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arman’s                      Rank-Orde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280" y="1436760"/>
            <a:ext cx="876312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eseason football rankings for the Atlantic Coast Conference by the coaches and sports writers are shown below.  What is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efficient of rank correl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ween the two grou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28800" y="3352680"/>
            <a:ext cx="5486400" cy="3200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School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Coache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Wri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ryl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C Stat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irginia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lems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ake Fores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uk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lorida Stat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800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723960" y="1523880"/>
            <a:ext cx="7734240" cy="3962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School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Coache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Writers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 d 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700" spc="-1" strike="noStrike" u="sng">
                <a:solidFill>
                  <a:srgbClr val="3333cc"/>
                </a:solidFill>
                <a:uFillTx/>
                <a:latin typeface="Times New Roman"/>
              </a:rPr>
              <a:t> d</a:t>
            </a:r>
            <a:r>
              <a:rPr b="1" lang="en-US" sz="2700" spc="-1" strike="noStrike" u="sng" baseline="30000">
                <a:solidFill>
                  <a:srgbClr val="3333cc"/>
                </a:solidFill>
                <a:uFillTx/>
                <a:latin typeface="Times New Roman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Maryland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3             -1     1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C Stat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4             -1    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6              0      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Virginia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5              0      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lemson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2              2      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Wake Fores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8             -1     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uk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7               1     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Florida State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1               0     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019240" y="228600"/>
            <a:ext cx="510552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53800" dir="8587806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arman’s                      Rank-Orde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402600" y="5257800"/>
            <a:ext cx="15235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029360" y="6172200"/>
            <a:ext cx="2035800" cy="533520"/>
            <a:chOff x="7029360" y="6172200"/>
            <a:chExt cx="2035800" cy="533520"/>
          </a:xfrm>
        </p:grpSpPr>
        <p:sp>
          <p:nvSpPr>
            <p:cNvPr id="806" name=""/>
            <p:cNvSpPr txBox="1"/>
            <p:nvPr/>
          </p:nvSpPr>
          <p:spPr>
            <a:xfrm>
              <a:off x="7029360" y="6172200"/>
              <a:ext cx="2286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5424" dir="12050110" blurRad="0" rotWithShape="0">
                      <a:srgbClr val="b2b2b2">
                        <a:alpha val="50000"/>
                      </a:srgbClr>
                    </a:outerShdw>
                  </a:effectLst>
                  <a:latin typeface="Copper Black"/>
                </a:rPr>
                <a:t>C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  <a:ea typeface="Copper Black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83800" y="6172200"/>
              <a:ext cx="188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2019240" y="228600"/>
            <a:ext cx="510552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53800" dir="8587806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arman’s                      Rank-Order 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704880" y="1447920"/>
            <a:ext cx="7734240" cy="3232800"/>
            <a:chOff x="704880" y="1447920"/>
            <a:chExt cx="7734240" cy="3232800"/>
          </a:xfrm>
        </p:grpSpPr>
        <p:sp>
          <p:nvSpPr>
            <p:cNvPr id="810" name=""/>
            <p:cNvSpPr/>
            <p:nvPr/>
          </p:nvSpPr>
          <p:spPr>
            <a:xfrm>
              <a:off x="704880" y="1447920"/>
              <a:ext cx="7734240" cy="28101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fefefe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ool</a:t>
              </a:r>
              <a:r>
                <a:rPr b="1" lang="en-US" sz="2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7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oaches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7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Writers 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lang="en-US" sz="27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d 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en-US" sz="27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d</a:t>
              </a:r>
              <a:r>
                <a:rPr b="1" lang="en-US" sz="2700" spc="-1" strike="noStrike" u="sng" baseline="30000">
                  <a:solidFill>
                    <a:srgbClr val="3333cc"/>
                  </a:solidFill>
                  <a:uFillTx/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Maryland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3             -1     1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NC State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4             -1     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NC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6              0      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Virginia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5              0      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Clemson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2              2      4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Wake Forest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8             -1      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Duke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7               1     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Florida State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700" spc="-1" strike="noStrike">
                  <a:solidFill>
                    <a:srgbClr val="3333cc"/>
                  </a:solidFill>
                  <a:latin typeface="Times New Roman"/>
                </a:rPr>
                <a:t>1               0     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50320" y="4267080"/>
              <a:ext cx="1523520" cy="413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   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6477120" y="4951440"/>
            <a:ext cx="1143000" cy="366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0.9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4085640" y="4722840"/>
            <a:ext cx="1781280" cy="906480"/>
            <a:chOff x="4085640" y="4722840"/>
            <a:chExt cx="1781280" cy="906480"/>
          </a:xfrm>
        </p:grpSpPr>
        <p:sp>
          <p:nvSpPr>
            <p:cNvPr id="814" name=""/>
            <p:cNvSpPr/>
            <p:nvPr/>
          </p:nvSpPr>
          <p:spPr>
            <a:xfrm>
              <a:off x="4781520" y="5104080"/>
              <a:ext cx="10854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6320" y="52023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14200" y="52023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37840" y="52023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41360" y="52023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791960" y="52023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73080" y="47228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23680" y="47228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27200" y="47228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72760" y="47228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370400" y="4956480"/>
              <a:ext cx="158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16040" y="51390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62640" y="516276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89640" y="491652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085640" y="49514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90720" y="4722840"/>
            <a:ext cx="2971800" cy="992160"/>
            <a:chOff x="990720" y="4722840"/>
            <a:chExt cx="2971800" cy="992160"/>
          </a:xfrm>
        </p:grpSpPr>
        <p:sp>
          <p:nvSpPr>
            <p:cNvPr id="830" name=""/>
            <p:cNvSpPr/>
            <p:nvPr/>
          </p:nvSpPr>
          <p:spPr>
            <a:xfrm>
              <a:off x="2330640" y="5199120"/>
              <a:ext cx="1631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86480" y="5288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600360" y="5288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597400" y="5288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38440" y="47829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739880" y="49896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928240" y="522756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53040" y="47228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64560" y="525132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59480" y="474660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37600" y="49528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756160" y="52880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65560" y="52880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118320" y="47829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350720" y="48751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90720" y="48448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33280" y="507816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277920" y="5715000"/>
            <a:ext cx="858816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is a strong correlation between the ranks of the coaches and the sports writ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3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bf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850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mcgrawhill.ca/college/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854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5" name="" descr=""/>
            <p:cNvPicPr/>
            <p:nvPr/>
          </p:nvPicPr>
          <p:blipFill>
            <a:blip r:embed="rId3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6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858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0" name="" descr=""/>
          <p:cNvPicPr/>
          <p:nvPr/>
        </p:nvPicPr>
        <p:blipFill>
          <a:blip r:embed="rId4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5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0" y="0"/>
            <a:ext cx="9144000" cy="6858000"/>
          </a:xfrm>
          <a:prstGeom prst="parallelogram">
            <a:avLst>
              <a:gd name="adj" fmla="val -62939"/>
            </a:avLst>
          </a:prstGeom>
          <a:gradFill rotWithShape="0">
            <a:gsLst>
              <a:gs pos="0">
                <a:srgbClr val="756975"/>
              </a:gs>
              <a:gs pos="100000">
                <a:srgbClr val="ffe5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894760" y="0"/>
            <a:ext cx="6248520" cy="6858000"/>
          </a:xfrm>
          <a:prstGeom prst="rtTriangle">
            <a:avLst/>
          </a:prstGeom>
          <a:gradFill rotWithShape="0">
            <a:gsLst>
              <a:gs pos="0">
                <a:srgbClr val="756975"/>
              </a:gs>
              <a:gs pos="100000">
                <a:srgbClr val="ffe5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0" y="0"/>
            <a:ext cx="6248520" cy="6858000"/>
          </a:xfrm>
          <a:prstGeom prst="rtTriangle">
            <a:avLst/>
          </a:prstGeom>
          <a:gradFill rotWithShape="0">
            <a:gsLst>
              <a:gs pos="0">
                <a:srgbClr val="ffe5ff"/>
              </a:gs>
              <a:gs pos="100000">
                <a:srgbClr val="7569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81840" y="3078000"/>
            <a:ext cx="5978160" cy="703440"/>
          </a:xfrm>
          <a:prstGeom prst="rect">
            <a:avLst/>
          </a:prstGeom>
          <a:noFill/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74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887640" y="160020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2438280"/>
            <a:ext cx="5410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2651" dir="84827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difference between th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s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0480" y="4191120"/>
            <a:ext cx="7462800" cy="155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two values are used in its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influenced by an extrem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easy to compute and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33520" y="6095880"/>
            <a:ext cx="8076960" cy="457200"/>
            <a:chOff x="533520" y="6095880"/>
            <a:chExt cx="8076960" cy="457200"/>
          </a:xfrm>
        </p:grpSpPr>
        <p:sp>
          <p:nvSpPr>
            <p:cNvPr id="80" name=""/>
            <p:cNvSpPr/>
            <p:nvPr/>
          </p:nvSpPr>
          <p:spPr>
            <a:xfrm>
              <a:off x="533520" y="63244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3400" y="60958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73200" y="185760"/>
            <a:ext cx="4003920" cy="104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e5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ig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436760"/>
            <a:ext cx="8383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gn T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based on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gn of a difference between two related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80" y="2863800"/>
            <a:ext cx="8043840" cy="30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 assumption is necess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garding the shape of the population of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binomial distribution is the test statist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small samples and the standard normal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large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test requires dependent (related)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3520" y="6095880"/>
            <a:ext cx="8076960" cy="457200"/>
            <a:chOff x="533520" y="6095880"/>
            <a:chExt cx="8076960" cy="457200"/>
          </a:xfrm>
        </p:grpSpPr>
        <p:sp>
          <p:nvSpPr>
            <p:cNvPr id="86" name=""/>
            <p:cNvSpPr/>
            <p:nvPr/>
          </p:nvSpPr>
          <p:spPr>
            <a:xfrm>
              <a:off x="533520" y="63244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3400" y="60958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057400" y="2209680"/>
            <a:ext cx="5638680" cy="914400"/>
          </a:xfrm>
          <a:prstGeom prst="rect">
            <a:avLst/>
          </a:prstGeom>
          <a:gradFill rotWithShape="0">
            <a:gsLst>
              <a:gs pos="0">
                <a:srgbClr val="ffe5ff"/>
              </a:gs>
              <a:gs pos="50000">
                <a:srgbClr val="fefefe"/>
              </a:gs>
              <a:gs pos="100000">
                <a:srgbClr val="ffe5ff"/>
              </a:gs>
            </a:gsLst>
            <a:lin ang="81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sign of the                                            difference between related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198960"/>
            <a:ext cx="7925040" cy="3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term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umber of usable pai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mber of positive (or negative) differen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critical val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number of usable pairs (with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ies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mber of pluses or minuses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and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inomial probability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=.5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73200" y="185760"/>
            <a:ext cx="4003920" cy="104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e5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ig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9280" y="6238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5200" y="320976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82240" y="1143000"/>
            <a:ext cx="7013160" cy="1295280"/>
            <a:chOff x="1182240" y="1143000"/>
            <a:chExt cx="7013160" cy="1295280"/>
          </a:xfrm>
        </p:grpSpPr>
        <p:grpSp>
          <p:nvGrpSpPr>
            <p:cNvPr id="94" name=""/>
            <p:cNvGrpSpPr/>
            <p:nvPr/>
          </p:nvGrpSpPr>
          <p:grpSpPr>
            <a:xfrm>
              <a:off x="1182240" y="1143000"/>
              <a:ext cx="1332000" cy="1295280"/>
              <a:chOff x="1182240" y="1143000"/>
              <a:chExt cx="1332000" cy="1295280"/>
            </a:xfrm>
          </p:grpSpPr>
          <p:sp>
            <p:nvSpPr>
              <p:cNvPr id="95" name=""/>
              <p:cNvSpPr/>
              <p:nvPr/>
            </p:nvSpPr>
            <p:spPr>
              <a:xfrm>
                <a:off x="1182240" y="1143000"/>
                <a:ext cx="978480" cy="1295280"/>
              </a:xfrm>
              <a:custGeom>
                <a:avLst/>
                <a:gdLst/>
                <a:ahLst/>
                <a:rect l="l" t="t" r="r" b="b"/>
                <a:pathLst>
                  <a:path w="720" h="1200">
                    <a:moveTo>
                      <a:pt x="410" y="152"/>
                    </a:moveTo>
                    <a:lnTo>
                      <a:pt x="401" y="158"/>
                    </a:lnTo>
                    <a:lnTo>
                      <a:pt x="368" y="152"/>
                    </a:lnTo>
                    <a:lnTo>
                      <a:pt x="76" y="1200"/>
                    </a:lnTo>
                    <a:lnTo>
                      <a:pt x="0" y="1200"/>
                    </a:lnTo>
                    <a:lnTo>
                      <a:pt x="316" y="66"/>
                    </a:lnTo>
                    <a:lnTo>
                      <a:pt x="321" y="53"/>
                    </a:lnTo>
                    <a:lnTo>
                      <a:pt x="328" y="38"/>
                    </a:lnTo>
                    <a:lnTo>
                      <a:pt x="339" y="23"/>
                    </a:lnTo>
                    <a:lnTo>
                      <a:pt x="354" y="13"/>
                    </a:lnTo>
                    <a:lnTo>
                      <a:pt x="368" y="5"/>
                    </a:lnTo>
                    <a:lnTo>
                      <a:pt x="386" y="2"/>
                    </a:lnTo>
                    <a:lnTo>
                      <a:pt x="404" y="0"/>
                    </a:lnTo>
                    <a:lnTo>
                      <a:pt x="720" y="91"/>
                    </a:lnTo>
                    <a:lnTo>
                      <a:pt x="707" y="136"/>
                    </a:lnTo>
                    <a:lnTo>
                      <a:pt x="700" y="149"/>
                    </a:lnTo>
                    <a:lnTo>
                      <a:pt x="690" y="158"/>
                    </a:lnTo>
                    <a:lnTo>
                      <a:pt x="678" y="164"/>
                    </a:lnTo>
                    <a:lnTo>
                      <a:pt x="665" y="166"/>
                    </a:lnTo>
                    <a:lnTo>
                      <a:pt x="531" y="127"/>
                    </a:lnTo>
                    <a:lnTo>
                      <a:pt x="504" y="125"/>
                    </a:lnTo>
                    <a:lnTo>
                      <a:pt x="477" y="127"/>
                    </a:lnTo>
                    <a:lnTo>
                      <a:pt x="451" y="133"/>
                    </a:lnTo>
                    <a:lnTo>
                      <a:pt x="426" y="144"/>
                    </a:lnTo>
                    <a:lnTo>
                      <a:pt x="410" y="152"/>
                    </a:lnTo>
                    <a:close/>
                  </a:path>
                </a:pathLst>
              </a:custGeom>
              <a:solidFill>
                <a:srgbClr val="a857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09640" y="1163520"/>
                <a:ext cx="804600" cy="363600"/>
              </a:xfrm>
              <a:custGeom>
                <a:avLst/>
                <a:gdLst/>
                <a:ahLst/>
                <a:rect l="l" t="t" r="r" b="b"/>
                <a:pathLst>
                  <a:path w="592" h="337">
                    <a:moveTo>
                      <a:pt x="467" y="30"/>
                    </a:moveTo>
                    <a:lnTo>
                      <a:pt x="456" y="30"/>
                    </a:lnTo>
                    <a:lnTo>
                      <a:pt x="449" y="30"/>
                    </a:lnTo>
                    <a:lnTo>
                      <a:pt x="442" y="31"/>
                    </a:lnTo>
                    <a:lnTo>
                      <a:pt x="434" y="34"/>
                    </a:lnTo>
                    <a:lnTo>
                      <a:pt x="429" y="36"/>
                    </a:lnTo>
                    <a:lnTo>
                      <a:pt x="423" y="44"/>
                    </a:lnTo>
                    <a:lnTo>
                      <a:pt x="418" y="47"/>
                    </a:lnTo>
                    <a:lnTo>
                      <a:pt x="415" y="51"/>
                    </a:lnTo>
                    <a:lnTo>
                      <a:pt x="412" y="58"/>
                    </a:lnTo>
                    <a:lnTo>
                      <a:pt x="409" y="66"/>
                    </a:lnTo>
                    <a:lnTo>
                      <a:pt x="407" y="72"/>
                    </a:lnTo>
                    <a:lnTo>
                      <a:pt x="406" y="78"/>
                    </a:lnTo>
                    <a:lnTo>
                      <a:pt x="406" y="84"/>
                    </a:lnTo>
                    <a:lnTo>
                      <a:pt x="407" y="89"/>
                    </a:lnTo>
                    <a:lnTo>
                      <a:pt x="409" y="95"/>
                    </a:lnTo>
                    <a:lnTo>
                      <a:pt x="413" y="109"/>
                    </a:lnTo>
                    <a:lnTo>
                      <a:pt x="423" y="120"/>
                    </a:lnTo>
                    <a:lnTo>
                      <a:pt x="434" y="130"/>
                    </a:lnTo>
                    <a:lnTo>
                      <a:pt x="446" y="133"/>
                    </a:lnTo>
                    <a:lnTo>
                      <a:pt x="459" y="133"/>
                    </a:lnTo>
                    <a:lnTo>
                      <a:pt x="471" y="131"/>
                    </a:lnTo>
                    <a:lnTo>
                      <a:pt x="484" y="124"/>
                    </a:lnTo>
                    <a:lnTo>
                      <a:pt x="492" y="116"/>
                    </a:lnTo>
                    <a:lnTo>
                      <a:pt x="496" y="109"/>
                    </a:lnTo>
                    <a:lnTo>
                      <a:pt x="500" y="102"/>
                    </a:lnTo>
                    <a:lnTo>
                      <a:pt x="504" y="95"/>
                    </a:lnTo>
                    <a:lnTo>
                      <a:pt x="506" y="88"/>
                    </a:lnTo>
                    <a:lnTo>
                      <a:pt x="507" y="80"/>
                    </a:lnTo>
                    <a:lnTo>
                      <a:pt x="506" y="72"/>
                    </a:lnTo>
                    <a:lnTo>
                      <a:pt x="504" y="66"/>
                    </a:lnTo>
                    <a:lnTo>
                      <a:pt x="501" y="56"/>
                    </a:lnTo>
                    <a:lnTo>
                      <a:pt x="496" y="50"/>
                    </a:lnTo>
                    <a:lnTo>
                      <a:pt x="486" y="37"/>
                    </a:lnTo>
                    <a:lnTo>
                      <a:pt x="478" y="34"/>
                    </a:lnTo>
                    <a:lnTo>
                      <a:pt x="471" y="31"/>
                    </a:lnTo>
                    <a:lnTo>
                      <a:pt x="471" y="31"/>
                    </a:lnTo>
                    <a:lnTo>
                      <a:pt x="467" y="30"/>
                    </a:lnTo>
                    <a:lnTo>
                      <a:pt x="475" y="0"/>
                    </a:lnTo>
                    <a:lnTo>
                      <a:pt x="454" y="0"/>
                    </a:lnTo>
                    <a:lnTo>
                      <a:pt x="446" y="0"/>
                    </a:lnTo>
                    <a:lnTo>
                      <a:pt x="439" y="1"/>
                    </a:lnTo>
                    <a:lnTo>
                      <a:pt x="431" y="4"/>
                    </a:lnTo>
                    <a:lnTo>
                      <a:pt x="424" y="8"/>
                    </a:lnTo>
                    <a:lnTo>
                      <a:pt x="418" y="12"/>
                    </a:lnTo>
                    <a:lnTo>
                      <a:pt x="412" y="19"/>
                    </a:lnTo>
                    <a:lnTo>
                      <a:pt x="406" y="22"/>
                    </a:lnTo>
                    <a:lnTo>
                      <a:pt x="396" y="33"/>
                    </a:lnTo>
                    <a:lnTo>
                      <a:pt x="392" y="37"/>
                    </a:lnTo>
                    <a:lnTo>
                      <a:pt x="385" y="41"/>
                    </a:lnTo>
                    <a:lnTo>
                      <a:pt x="379" y="44"/>
                    </a:lnTo>
                    <a:lnTo>
                      <a:pt x="371" y="44"/>
                    </a:lnTo>
                    <a:lnTo>
                      <a:pt x="365" y="45"/>
                    </a:lnTo>
                    <a:lnTo>
                      <a:pt x="354" y="47"/>
                    </a:lnTo>
                    <a:lnTo>
                      <a:pt x="335" y="47"/>
                    </a:lnTo>
                    <a:lnTo>
                      <a:pt x="332" y="72"/>
                    </a:lnTo>
                    <a:lnTo>
                      <a:pt x="319" y="119"/>
                    </a:lnTo>
                    <a:lnTo>
                      <a:pt x="312" y="130"/>
                    </a:lnTo>
                    <a:lnTo>
                      <a:pt x="302" y="139"/>
                    </a:lnTo>
                    <a:lnTo>
                      <a:pt x="290" y="145"/>
                    </a:lnTo>
                    <a:lnTo>
                      <a:pt x="277" y="149"/>
                    </a:lnTo>
                    <a:lnTo>
                      <a:pt x="143" y="108"/>
                    </a:lnTo>
                    <a:lnTo>
                      <a:pt x="116" y="106"/>
                    </a:lnTo>
                    <a:lnTo>
                      <a:pt x="89" y="109"/>
                    </a:lnTo>
                    <a:lnTo>
                      <a:pt x="63" y="114"/>
                    </a:lnTo>
                    <a:lnTo>
                      <a:pt x="38" y="124"/>
                    </a:lnTo>
                    <a:lnTo>
                      <a:pt x="25" y="130"/>
                    </a:lnTo>
                    <a:lnTo>
                      <a:pt x="14" y="139"/>
                    </a:lnTo>
                    <a:lnTo>
                      <a:pt x="8" y="145"/>
                    </a:lnTo>
                    <a:lnTo>
                      <a:pt x="2" y="158"/>
                    </a:lnTo>
                    <a:lnTo>
                      <a:pt x="0" y="167"/>
                    </a:lnTo>
                    <a:lnTo>
                      <a:pt x="592" y="337"/>
                    </a:lnTo>
                    <a:lnTo>
                      <a:pt x="592" y="239"/>
                    </a:lnTo>
                    <a:lnTo>
                      <a:pt x="575" y="232"/>
                    </a:lnTo>
                    <a:lnTo>
                      <a:pt x="565" y="225"/>
                    </a:lnTo>
                    <a:lnTo>
                      <a:pt x="559" y="219"/>
                    </a:lnTo>
                    <a:lnTo>
                      <a:pt x="554" y="210"/>
                    </a:lnTo>
                    <a:lnTo>
                      <a:pt x="551" y="197"/>
                    </a:lnTo>
                    <a:lnTo>
                      <a:pt x="554" y="178"/>
                    </a:lnTo>
                    <a:lnTo>
                      <a:pt x="567" y="133"/>
                    </a:lnTo>
                    <a:lnTo>
                      <a:pt x="575" y="111"/>
                    </a:lnTo>
                    <a:lnTo>
                      <a:pt x="558" y="100"/>
                    </a:lnTo>
                    <a:lnTo>
                      <a:pt x="545" y="88"/>
                    </a:lnTo>
                    <a:lnTo>
                      <a:pt x="534" y="72"/>
                    </a:lnTo>
                    <a:lnTo>
                      <a:pt x="528" y="56"/>
                    </a:lnTo>
                    <a:lnTo>
                      <a:pt x="522" y="39"/>
                    </a:lnTo>
                    <a:lnTo>
                      <a:pt x="514" y="26"/>
                    </a:lnTo>
                    <a:lnTo>
                      <a:pt x="501" y="14"/>
                    </a:lnTo>
                    <a:lnTo>
                      <a:pt x="487" y="6"/>
                    </a:lnTo>
                    <a:lnTo>
                      <a:pt x="481" y="1"/>
                    </a:lnTo>
                    <a:lnTo>
                      <a:pt x="475" y="0"/>
                    </a:lnTo>
                    <a:lnTo>
                      <a:pt x="467" y="3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85200" y="1307160"/>
                <a:ext cx="1229040" cy="1131120"/>
              </a:xfrm>
              <a:custGeom>
                <a:avLst/>
                <a:gdLst/>
                <a:ahLst/>
                <a:rect l="l" t="t" r="r" b="b"/>
                <a:pathLst>
                  <a:path w="904" h="1048">
                    <a:moveTo>
                      <a:pt x="325" y="6"/>
                    </a:moveTo>
                    <a:lnTo>
                      <a:pt x="320" y="12"/>
                    </a:lnTo>
                    <a:lnTo>
                      <a:pt x="314" y="25"/>
                    </a:lnTo>
                    <a:lnTo>
                      <a:pt x="312" y="34"/>
                    </a:lnTo>
                    <a:lnTo>
                      <a:pt x="904" y="204"/>
                    </a:lnTo>
                    <a:lnTo>
                      <a:pt x="904" y="1048"/>
                    </a:lnTo>
                    <a:lnTo>
                      <a:pt x="0" y="1048"/>
                    </a:lnTo>
                    <a:lnTo>
                      <a:pt x="292" y="0"/>
                    </a:lnTo>
                    <a:lnTo>
                      <a:pt x="3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58800" y="1307160"/>
                <a:ext cx="55440" cy="114120"/>
              </a:xfrm>
              <a:custGeom>
                <a:avLst/>
                <a:gdLst/>
                <a:ahLst/>
                <a:rect l="l" t="t" r="r" b="b"/>
                <a:pathLst>
                  <a:path w="41" h="106">
                    <a:moveTo>
                      <a:pt x="41" y="106"/>
                    </a:moveTo>
                    <a:lnTo>
                      <a:pt x="33" y="102"/>
                    </a:lnTo>
                    <a:lnTo>
                      <a:pt x="24" y="99"/>
                    </a:lnTo>
                    <a:lnTo>
                      <a:pt x="14" y="91"/>
                    </a:lnTo>
                    <a:lnTo>
                      <a:pt x="8" y="86"/>
                    </a:lnTo>
                    <a:lnTo>
                      <a:pt x="3" y="77"/>
                    </a:lnTo>
                    <a:lnTo>
                      <a:pt x="0" y="64"/>
                    </a:lnTo>
                    <a:lnTo>
                      <a:pt x="3" y="45"/>
                    </a:lnTo>
                    <a:lnTo>
                      <a:pt x="16" y="0"/>
                    </a:lnTo>
                    <a:lnTo>
                      <a:pt x="41" y="6"/>
                    </a:lnTo>
                    <a:lnTo>
                      <a:pt x="41" y="106"/>
                    </a:lnTo>
                    <a:close/>
                  </a:path>
                </a:pathLst>
              </a:custGeom>
              <a:solidFill>
                <a:srgbClr val="a857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62960" y="1262880"/>
                <a:ext cx="116640" cy="44280"/>
              </a:xfrm>
              <a:custGeom>
                <a:avLst/>
                <a:gdLst/>
                <a:ahLst/>
                <a:rect l="l" t="t" r="r" b="b"/>
                <a:pathLst>
                  <a:path w="86" h="41">
                    <a:moveTo>
                      <a:pt x="0" y="0"/>
                    </a:moveTo>
                    <a:lnTo>
                      <a:pt x="86" y="21"/>
                    </a:lnTo>
                    <a:lnTo>
                      <a:pt x="85" y="24"/>
                    </a:lnTo>
                    <a:lnTo>
                      <a:pt x="77" y="32"/>
                    </a:lnTo>
                    <a:lnTo>
                      <a:pt x="64" y="39"/>
                    </a:lnTo>
                    <a:lnTo>
                      <a:pt x="52" y="41"/>
                    </a:lnTo>
                    <a:lnTo>
                      <a:pt x="39" y="41"/>
                    </a:lnTo>
                    <a:lnTo>
                      <a:pt x="27" y="38"/>
                    </a:lnTo>
                    <a:lnTo>
                      <a:pt x="16" y="28"/>
                    </a:lnTo>
                    <a:lnTo>
                      <a:pt x="6" y="17"/>
                    </a:lnTo>
                    <a:lnTo>
                      <a:pt x="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57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190960" y="1229400"/>
                <a:ext cx="40680" cy="504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0" y="5"/>
                    </a:moveTo>
                    <a:lnTo>
                      <a:pt x="14" y="5"/>
                    </a:lnTo>
                    <a:lnTo>
                      <a:pt x="22" y="5"/>
                    </a:lnTo>
                    <a:lnTo>
                      <a:pt x="28" y="1"/>
                    </a:lnTo>
                    <a:lnTo>
                      <a:pt x="3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24600" y="12711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25" y="20"/>
                    </a:moveTo>
                    <a:lnTo>
                      <a:pt x="21" y="17"/>
                    </a:lnTo>
                    <a:lnTo>
                      <a:pt x="16" y="14"/>
                    </a:lnTo>
                    <a:lnTo>
                      <a:pt x="1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29120" y="1234440"/>
                <a:ext cx="191160" cy="99360"/>
              </a:xfrm>
              <a:custGeom>
                <a:avLst/>
                <a:gdLst/>
                <a:ahLst/>
                <a:rect l="l" t="t" r="r" b="b"/>
                <a:pathLst>
                  <a:path w="141" h="92">
                    <a:moveTo>
                      <a:pt x="141" y="37"/>
                    </a:moveTo>
                    <a:lnTo>
                      <a:pt x="140" y="43"/>
                    </a:lnTo>
                    <a:lnTo>
                      <a:pt x="138" y="50"/>
                    </a:lnTo>
                    <a:lnTo>
                      <a:pt x="135" y="56"/>
                    </a:lnTo>
                    <a:lnTo>
                      <a:pt x="132" y="61"/>
                    </a:lnTo>
                    <a:lnTo>
                      <a:pt x="127" y="67"/>
                    </a:lnTo>
                    <a:lnTo>
                      <a:pt x="122" y="73"/>
                    </a:lnTo>
                    <a:lnTo>
                      <a:pt x="118" y="76"/>
                    </a:lnTo>
                    <a:lnTo>
                      <a:pt x="111" y="79"/>
                    </a:lnTo>
                    <a:lnTo>
                      <a:pt x="105" y="84"/>
                    </a:lnTo>
                    <a:lnTo>
                      <a:pt x="99" y="87"/>
                    </a:lnTo>
                    <a:lnTo>
                      <a:pt x="93" y="89"/>
                    </a:lnTo>
                    <a:lnTo>
                      <a:pt x="86" y="92"/>
                    </a:lnTo>
                    <a:lnTo>
                      <a:pt x="58" y="92"/>
                    </a:lnTo>
                    <a:lnTo>
                      <a:pt x="49" y="89"/>
                    </a:lnTo>
                    <a:lnTo>
                      <a:pt x="46" y="87"/>
                    </a:lnTo>
                    <a:lnTo>
                      <a:pt x="41" y="86"/>
                    </a:lnTo>
                    <a:lnTo>
                      <a:pt x="33" y="81"/>
                    </a:lnTo>
                    <a:lnTo>
                      <a:pt x="28" y="79"/>
                    </a:lnTo>
                    <a:lnTo>
                      <a:pt x="17" y="69"/>
                    </a:lnTo>
                    <a:lnTo>
                      <a:pt x="14" y="64"/>
                    </a:lnTo>
                    <a:lnTo>
                      <a:pt x="10" y="58"/>
                    </a:lnTo>
                    <a:lnTo>
                      <a:pt x="6" y="51"/>
                    </a:lnTo>
                    <a:lnTo>
                      <a:pt x="3" y="45"/>
                    </a:lnTo>
                    <a:lnTo>
                      <a:pt x="2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80200" y="1328760"/>
                <a:ext cx="731520" cy="16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501200" y="1512720"/>
              <a:ext cx="669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Procedure to conduct the test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213336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3520" y="6248520"/>
            <a:ext cx="8076960" cy="457200"/>
            <a:chOff x="533520" y="6248520"/>
            <a:chExt cx="8076960" cy="457200"/>
          </a:xfrm>
        </p:grpSpPr>
        <p:sp>
          <p:nvSpPr>
            <p:cNvPr id="107" name=""/>
            <p:cNvSpPr/>
            <p:nvPr/>
          </p:nvSpPr>
          <p:spPr>
            <a:xfrm>
              <a:off x="533520" y="647712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43400" y="624852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325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lus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inus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/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luse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inus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ss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/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52560" y="282600"/>
            <a:ext cx="5081760" cy="784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4128" dir="8365642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5ff"/>
                </a:solidFill>
                <a:latin typeface="Times New Roman"/>
              </a:rPr>
              <a:t>Normal Approx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60240" y="3352680"/>
            <a:ext cx="3603960" cy="953280"/>
            <a:chOff x="2460240" y="3352680"/>
            <a:chExt cx="3603960" cy="953280"/>
          </a:xfrm>
        </p:grpSpPr>
        <p:sp>
          <p:nvSpPr>
            <p:cNvPr id="112" name=""/>
            <p:cNvSpPr/>
            <p:nvPr/>
          </p:nvSpPr>
          <p:spPr>
            <a:xfrm flipV="1">
              <a:off x="4530960" y="4092120"/>
              <a:ext cx="74520" cy="2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05480" y="4100400"/>
              <a:ext cx="109440" cy="1126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727520" y="3876840"/>
              <a:ext cx="146160" cy="33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3680" y="3876840"/>
              <a:ext cx="355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30720" y="3827520"/>
              <a:ext cx="2733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60240" y="344952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7520" y="33926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35520" y="339264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00320" y="389412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02600" y="36003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33526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75640" y="33526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0600" y="339264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42040" y="33926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13200" y="339264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65800" y="33926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7760" y="389412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42840" y="33926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6960" y="339264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30000" y="38941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83560" y="5362560"/>
            <a:ext cx="3607200" cy="953280"/>
            <a:chOff x="2383560" y="5362560"/>
            <a:chExt cx="3607200" cy="953280"/>
          </a:xfrm>
        </p:grpSpPr>
        <p:sp>
          <p:nvSpPr>
            <p:cNvPr id="133" name=""/>
            <p:cNvSpPr/>
            <p:nvPr/>
          </p:nvSpPr>
          <p:spPr>
            <a:xfrm flipV="1">
              <a:off x="4455720" y="6102360"/>
              <a:ext cx="74520" cy="2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30600" y="6110280"/>
              <a:ext cx="109080" cy="112680"/>
            </a:xfrm>
            <a:prstGeom prst="line">
              <a:avLst/>
            </a:prstGeom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652640" y="5886000"/>
              <a:ext cx="14580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98800" y="5886360"/>
              <a:ext cx="355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4040" y="5837400"/>
              <a:ext cx="2736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83560" y="545940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0840" y="54021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62080" y="540216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25440" y="5904000"/>
              <a:ext cx="191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25920" y="561024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5600" y="53625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02200" y="53625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3920" y="54021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68240" y="540216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39400" y="54021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2000" y="540216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52160" y="590400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69400" y="54021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3520" y="540216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55120" y="59040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77960" y="1143000"/>
            <a:ext cx="7527600" cy="1115280"/>
            <a:chOff x="777960" y="1143000"/>
            <a:chExt cx="7527600" cy="1115280"/>
          </a:xfrm>
        </p:grpSpPr>
        <p:sp>
          <p:nvSpPr>
            <p:cNvPr id="154" name=""/>
            <p:cNvSpPr/>
            <p:nvPr/>
          </p:nvSpPr>
          <p:spPr>
            <a:xfrm>
              <a:off x="777960" y="1189080"/>
              <a:ext cx="75276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ot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and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greater tha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istribution is appropri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486160" y="1158840"/>
              <a:ext cx="517680" cy="549000"/>
              <a:chOff x="2486160" y="1158840"/>
              <a:chExt cx="517680" cy="549000"/>
            </a:xfrm>
          </p:grpSpPr>
          <p:sp>
            <p:nvSpPr>
              <p:cNvPr id="156" name=""/>
              <p:cNvSpPr/>
              <p:nvPr/>
            </p:nvSpPr>
            <p:spPr>
              <a:xfrm>
                <a:off x="2486160" y="1158840"/>
                <a:ext cx="255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545920" y="1158840"/>
                <a:ext cx="457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837600" y="1143000"/>
              <a:ext cx="1275840" cy="549000"/>
              <a:chOff x="3837600" y="1143000"/>
              <a:chExt cx="1275840" cy="549000"/>
            </a:xfrm>
          </p:grpSpPr>
          <p:sp>
            <p:nvSpPr>
              <p:cNvPr id="159" name=""/>
              <p:cNvSpPr/>
              <p:nvPr/>
            </p:nvSpPr>
            <p:spPr>
              <a:xfrm>
                <a:off x="3837600" y="1185840"/>
                <a:ext cx="2340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47840" y="1185840"/>
                <a:ext cx="1263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89240" y="1185840"/>
                <a:ext cx="124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79240" y="1185840"/>
                <a:ext cx="2109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61120" y="114300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57680" y="114300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 txBox="1"/>
          <p:nvPr/>
        </p:nvSpPr>
        <p:spPr>
          <a:xfrm>
            <a:off x="7238880" y="6172200"/>
            <a:ext cx="13716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122560"/>
            <a:ext cx="861084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agliano Research Institute for Business Studies 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 the Research and Development expen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R&amp;D) as a percent of income for a sample of glass manufacturing firms for 2000 and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05 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s the                                         R&amp;D expense decli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sign 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52560" y="282600"/>
            <a:ext cx="5081760" cy="784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4128" dir="8365642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5ff"/>
                </a:solidFill>
                <a:latin typeface="Times New Roman"/>
              </a:rPr>
              <a:t>Normal Approx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3520" y="6095880"/>
            <a:ext cx="8076960" cy="457200"/>
            <a:chOff x="533520" y="6095880"/>
            <a:chExt cx="8076960" cy="457200"/>
          </a:xfrm>
        </p:grpSpPr>
        <p:sp>
          <p:nvSpPr>
            <p:cNvPr id="169" name=""/>
            <p:cNvSpPr/>
            <p:nvPr/>
          </p:nvSpPr>
          <p:spPr>
            <a:xfrm>
              <a:off x="533520" y="6324480"/>
              <a:ext cx="8076960" cy="763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43400" y="6095880"/>
              <a:ext cx="456840" cy="45720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3276720" y="1457280"/>
            <a:ext cx="23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1638360"/>
            <a:ext cx="6782040" cy="4909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200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oth Glass    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4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isi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1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bin Inc.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3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7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mbert Glass 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9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men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2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lson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- 6         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ynn G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7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52560" y="282600"/>
            <a:ext cx="5081760" cy="784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4128" dir="8365642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5ff"/>
                </a:solidFill>
                <a:latin typeface="Times New Roman"/>
              </a:rPr>
              <a:t>Normal Approxi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1219320"/>
            <a:ext cx="4578480" cy="534600"/>
            <a:chOff x="3276720" y="1219320"/>
            <a:chExt cx="4578480" cy="534600"/>
          </a:xfrm>
        </p:grpSpPr>
        <p:sp>
          <p:nvSpPr>
            <p:cNvPr id="175" name=""/>
            <p:cNvSpPr txBox="1"/>
            <p:nvPr/>
          </p:nvSpPr>
          <p:spPr>
            <a:xfrm>
              <a:off x="3276720" y="1219320"/>
              <a:ext cx="23619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7520" y="123336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1:56:08Z</dcterms:created>
  <dc:creator>Colleen Quinn &amp; Ron Thornbury</dc:creator>
  <dc:description/>
  <dc:language>en-US</dc:language>
  <cp:lastModifiedBy>jeff_skinner</cp:lastModifiedBy>
  <dcterms:modified xsi:type="dcterms:W3CDTF">2003-04-28T14:10:56Z</dcterms:modified>
  <cp:revision>139</cp:revision>
  <dc:subject/>
  <dc:title>PowerPoint Presentation</dc:title>
</cp:coreProperties>
</file>