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35D7-84B1-4C9C-BB60-648BE3133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B859-2CE7-4F86-8EE2-6898DEAC7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35840" y="0"/>
            <a:ext cx="95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61920" y="6578640"/>
            <a:ext cx="48211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19800" y="0"/>
            <a:ext cx="169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53360" y="343080"/>
            <a:ext cx="13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23796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</p:pic>
      <p:sp>
        <p:nvSpPr>
          <p:cNvPr id="5" name=""/>
          <p:cNvSpPr txBox="1"/>
          <p:nvPr/>
        </p:nvSpPr>
        <p:spPr>
          <a:xfrm>
            <a:off x="485640" y="3412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 - </a:t>
            </a:r>
            <a:fld id="{412466F7-B47F-408D-AA10-62DDB3CBDA8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5720">
              <a:spcBef>
                <a:spcPts val="550"/>
              </a:spcBef>
              <a:buClr>
                <a:srgbClr val="99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2536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218880">
              <a:spcBef>
                <a:spcPts val="451"/>
              </a:spcBef>
              <a:buClr>
                <a:srgbClr val="990000"/>
              </a:buClr>
              <a:buSzPct val="65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880" indent="-230040">
              <a:spcBef>
                <a:spcPts val="451"/>
              </a:spcBef>
              <a:buClr>
                <a:srgbClr val="404960"/>
              </a:buClr>
              <a:buSzPct val="65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4880" indent="-23004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4880" indent="-23004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432080" y="2725560"/>
            <a:ext cx="6279840" cy="3394080"/>
            <a:chOff x="1432080" y="2725560"/>
            <a:chExt cx="6279840" cy="3394080"/>
          </a:xfrm>
        </p:grpSpPr>
        <p:sp>
          <p:nvSpPr>
            <p:cNvPr id="54" name=""/>
            <p:cNvSpPr txBox="1"/>
            <p:nvPr/>
          </p:nvSpPr>
          <p:spPr>
            <a:xfrm>
              <a:off x="2362320" y="5410080"/>
              <a:ext cx="4390920" cy="70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45929" dir="7428877" blurRad="0" rotWithShape="0">
                      <a:srgbClr val="ffffcc"/>
                    </a:outerShdw>
                  </a:effectLst>
                  <a:latin typeface="Copper Black"/>
                </a:rPr>
                <a:t>Chapter 19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432080" y="2725560"/>
              <a:ext cx="6279840" cy="14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be4ae"/>
                      </a:gs>
                      <a:gs pos="50000">
                        <a:srgbClr val="fae3b7"/>
                      </a:gs>
                      <a:gs pos="100000">
                        <a:srgbClr val="fbe4ae"/>
                      </a:gs>
                    </a:gsLst>
                    <a:lin ang="10800000"/>
                  </a:gradFill>
                  <a:effectLst>
                    <a:outerShdw dist="361676" dir="9692820" blurRad="0" rotWithShape="0">
                      <a:srgbClr val="000000">
                        <a:alpha val="50000"/>
                      </a:srgbClr>
                    </a:outerShdw>
                  </a:effectLst>
                  <a:latin typeface="Arial"/>
                </a:rPr>
                <a:t>Decision Making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be4ae"/>
                    </a:gs>
                    <a:gs pos="50000">
                      <a:srgbClr val="fae3b7"/>
                    </a:gs>
                    <a:gs pos="100000">
                      <a:srgbClr val="fbe4ae"/>
                    </a:gs>
                  </a:gsLst>
                  <a:lin ang="10800000"/>
                </a:gradFill>
                <a:effectLst>
                  <a:outerShdw dist="361676" dir="9692820" blurRad="0" rotWithShape="0">
                    <a:srgbClr val="000000">
                      <a:alpha val="5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76560" y="152280"/>
            <a:ext cx="4825800" cy="581400"/>
          </a:xfrm>
          <a:prstGeom prst="rect">
            <a:avLst/>
          </a:prstGeom>
          <a:gradFill rotWithShape="0">
            <a:gsLst>
              <a:gs pos="0">
                <a:srgbClr val="fefef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Probabilistic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440" y="2941560"/>
            <a:ext cx="350496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te the </a:t>
            </a:r>
            <a:r>
              <a:rPr b="1" i="1" lang="en-US" sz="2400" spc="-1" strike="noStrike" u="sng">
                <a:solidFill>
                  <a:srgbClr val="0066ff"/>
                </a:solidFill>
                <a:uFillTx/>
                <a:latin typeface="Times New Roman"/>
              </a:rPr>
              <a:t>maximum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payoff for each deci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24080" y="998640"/>
            <a:ext cx="6513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don’t have any information about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ies of the 3 states of nature, except th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y are each non-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5240" y="2365200"/>
            <a:ext cx="324036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i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5560" y="5524560"/>
            <a:ext cx="6765840" cy="9471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ptimistic vie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sults in Decision 1    …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ui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new full scal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9440" y="4241880"/>
            <a:ext cx="31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the decision fo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which this maximum payoff is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324320" y="3324240"/>
          <a:ext cx="4429080" cy="2104920"/>
        </p:xfrm>
        <a:graphic>
          <a:graphicData uri="http://schemas.openxmlformats.org/drawingml/2006/table">
            <a:tbl>
              <a:tblPr/>
              <a:tblGrid>
                <a:gridCol w="1089000"/>
                <a:gridCol w="1173240"/>
                <a:gridCol w="1116000"/>
                <a:gridCol w="105084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410080" y="3881520"/>
            <a:ext cx="1173240" cy="5302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52920" y="2300400"/>
            <a:ext cx="4208400" cy="1099440"/>
            <a:chOff x="4552920" y="2300400"/>
            <a:chExt cx="4208400" cy="1099440"/>
          </a:xfrm>
        </p:grpSpPr>
        <p:sp>
          <p:nvSpPr>
            <p:cNvPr id="159" name=""/>
            <p:cNvSpPr/>
            <p:nvPr/>
          </p:nvSpPr>
          <p:spPr>
            <a:xfrm>
              <a:off x="5419800" y="2300400"/>
              <a:ext cx="2409840" cy="520560"/>
            </a:xfrm>
            <a:prstGeom prst="rect">
              <a:avLst/>
            </a:prstGeom>
            <a:gradFill rotWithShape="0">
              <a:gsLst>
                <a:gs pos="0">
                  <a:srgbClr val="d3f9f5"/>
                </a:gs>
                <a:gs pos="50000">
                  <a:srgbClr val="fefefe"/>
                </a:gs>
                <a:gs pos="100000">
                  <a:srgbClr val="d3f9f5"/>
                </a:gs>
              </a:gsLst>
              <a:lin ang="8100000"/>
            </a:gradFill>
            <a:ln w="0">
              <a:noFill/>
            </a:ln>
            <a:effectLst>
              <a:outerShdw dist="125751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Payoff T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52920" y="2940120"/>
              <a:ext cx="420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Value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illions of dollar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419800" y="4405320"/>
            <a:ext cx="1171440" cy="5014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15160" y="4900680"/>
            <a:ext cx="1057320" cy="5000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25920" y="4896000"/>
            <a:ext cx="1170000" cy="5140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91240" y="4905360"/>
            <a:ext cx="1114560" cy="5000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76560" y="152280"/>
            <a:ext cx="4825800" cy="581400"/>
          </a:xfrm>
          <a:prstGeom prst="rect">
            <a:avLst/>
          </a:prstGeom>
          <a:gradFill rotWithShape="0">
            <a:gsLst>
              <a:gs pos="0">
                <a:srgbClr val="fefef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Probabilistic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1870200"/>
            <a:ext cx="5905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a numbe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alph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 and 1 (called the pessimistic-optimistic 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27080" y="879480"/>
            <a:ext cx="5315040" cy="825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essimistic-Optimistic Inde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riterion of Hur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5880" y="4944960"/>
            <a:ext cx="751356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alue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ach decision altern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pha 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inimum payof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(1-alpha)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aximum payof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0200" y="2914560"/>
          <a:ext cx="4429080" cy="1852560"/>
        </p:xfrm>
        <a:graphic>
          <a:graphicData uri="http://schemas.openxmlformats.org/drawingml/2006/table">
            <a:tbl>
              <a:tblPr/>
              <a:tblGrid>
                <a:gridCol w="1089000"/>
                <a:gridCol w="1172880"/>
                <a:gridCol w="1116000"/>
                <a:gridCol w="105120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666800" y="2933640"/>
            <a:ext cx="1924200" cy="45972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66080" y="616896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inu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9960" y="6032520"/>
            <a:ext cx="8325000" cy="5205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view results i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ision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…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build a medium sized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4645080"/>
            <a:ext cx="41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D1: (0.4)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8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(0.6)(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2400" y="3813120"/>
            <a:ext cx="2400120" cy="4597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alpha =  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9320" y="4630680"/>
            <a:ext cx="21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$ -80 m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12800" y="5068800"/>
            <a:ext cx="44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(0.4)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(0.6)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8400" y="5102280"/>
            <a:ext cx="20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$ 28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16040" y="5516640"/>
            <a:ext cx="39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(0.4)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(0.6)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86560" y="5549760"/>
            <a:ext cx="20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$  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76560" y="152280"/>
            <a:ext cx="4825800" cy="581400"/>
          </a:xfrm>
          <a:prstGeom prst="rect">
            <a:avLst/>
          </a:prstGeom>
          <a:gradFill rotWithShape="0">
            <a:gsLst>
              <a:gs pos="0">
                <a:srgbClr val="fefef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Probabilistic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27080" y="879480"/>
            <a:ext cx="5315040" cy="825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essimistic-Optimistic Inde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riterion of Hur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95600" y="1895400"/>
          <a:ext cx="4429080" cy="1852560"/>
        </p:xfrm>
        <a:graphic>
          <a:graphicData uri="http://schemas.openxmlformats.org/drawingml/2006/table">
            <a:tbl>
              <a:tblPr/>
              <a:tblGrid>
                <a:gridCol w="1089000"/>
                <a:gridCol w="1173240"/>
                <a:gridCol w="1116000"/>
                <a:gridCol w="105084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790640" y="1886040"/>
            <a:ext cx="1866960" cy="45972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72040" y="5118120"/>
            <a:ext cx="1791000" cy="4762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80560" y="4216320"/>
            <a:ext cx="7383240" cy="4597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pha 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inimum payof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 (1-alpha)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aximum payof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1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95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75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725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368440" y="152280"/>
            <a:ext cx="4434120" cy="581400"/>
          </a:xfrm>
          <a:prstGeom prst="rect">
            <a:avLst/>
          </a:prstGeom>
          <a:gradFill rotWithShape="0">
            <a:gsLst>
              <a:gs pos="0">
                <a:srgbClr val="c7fdfa"/>
              </a:gs>
              <a:gs pos="100000">
                <a:srgbClr val="f8fdfd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stic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0680" y="5734080"/>
            <a:ext cx="6362640" cy="459720"/>
          </a:xfrm>
          <a:prstGeom prst="rect">
            <a:avLst/>
          </a:prstGeom>
          <a:solidFill>
            <a:srgbClr val="d3f9f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alculate the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EMV for each decisio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2400" y="969840"/>
            <a:ext cx="7597800" cy="1388520"/>
          </a:xfrm>
          <a:prstGeom prst="rect">
            <a:avLst/>
          </a:prstGeom>
          <a:solidFill>
            <a:srgbClr val="d3f9f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ssume that we have prior information                                    about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ies of the 3 states of nature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usually based on historical data or subjective estim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81120" y="2127240"/>
            <a:ext cx="4272120" cy="825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3f9f5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pected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tary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ue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8560" y="3841920"/>
            <a:ext cx="2193840" cy="155700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the decision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or which this is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352680" y="3171960"/>
          <a:ext cx="4353120" cy="228888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087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9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9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9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D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7066080" y="616896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inue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6160" y="3164040"/>
            <a:ext cx="1923840" cy="45972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33480" y="5951520"/>
            <a:ext cx="731520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3f9f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view results in Decision 1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ild a full sized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57240" y="4451400"/>
            <a:ext cx="60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EM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1): (0.4)(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(0.5)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+(0.1)(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-8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3360" y="4456080"/>
            <a:ext cx="16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$90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42840" y="48927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EMV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D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: (0.4)(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(0.5)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(0.1)(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-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04240" y="4913280"/>
            <a:ext cx="15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$57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46080" y="5342040"/>
            <a:ext cx="48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EMV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D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(0.4)(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(0.5)(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(0.1)(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32680" y="534672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$  0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24240" y="927000"/>
            <a:ext cx="4271760" cy="825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3f9f5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pected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tary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ue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1360" y="2556000"/>
            <a:ext cx="2193840" cy="155700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the decision for which this is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181320" y="2019240"/>
          <a:ext cx="4353120" cy="2278080"/>
        </p:xfrm>
        <a:graphic>
          <a:graphicData uri="http://schemas.openxmlformats.org/drawingml/2006/table">
            <a:tbl>
              <a:tblPr/>
              <a:tblGrid>
                <a:gridCol w="1098720"/>
                <a:gridCol w="1077840"/>
                <a:gridCol w="1089000"/>
                <a:gridCol w="1087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9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9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f9f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D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2368440" y="152280"/>
            <a:ext cx="4434120" cy="581400"/>
          </a:xfrm>
          <a:prstGeom prst="rect">
            <a:avLst/>
          </a:prstGeom>
          <a:gradFill rotWithShape="0">
            <a:gsLst>
              <a:gs pos="0">
                <a:srgbClr val="c7fdfa"/>
              </a:gs>
              <a:gs pos="100000">
                <a:srgbClr val="f8fdfd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abilistic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05680" y="4438800"/>
            <a:ext cx="135252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90760" y="2021040"/>
            <a:ext cx="1895400" cy="45972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1160" y="1473120"/>
            <a:ext cx="7091280" cy="95904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loss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because th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exact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state of nature is not known at the time a decision is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440" y="2557440"/>
            <a:ext cx="7926480" cy="180036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opportunity lo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computed by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ak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he difference betwe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ptimal decision for each state of na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ther decision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8480" y="171360"/>
            <a:ext cx="5262480" cy="106884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teria Based o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pportunity Lo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Regr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3080" y="4657680"/>
            <a:ext cx="8515080" cy="5205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se that Nortel decided to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build a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edium sized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plan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74800" y="5329080"/>
            <a:ext cx="7451640" cy="825480"/>
          </a:xfrm>
          <a:prstGeom prst="rect">
            <a:avLst/>
          </a:prstGeom>
          <a:solidFill>
            <a:srgbClr val="ffffe1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market conditions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re very favour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then what is the expected pro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27720" y="6251400"/>
            <a:ext cx="2511360" cy="482760"/>
            <a:chOff x="6327720" y="6251400"/>
            <a:chExt cx="2511360" cy="482760"/>
          </a:xfrm>
        </p:grpSpPr>
        <p:sp>
          <p:nvSpPr>
            <p:cNvPr id="213" name=""/>
            <p:cNvSpPr/>
            <p:nvPr/>
          </p:nvSpPr>
          <p:spPr>
            <a:xfrm flipV="1">
              <a:off x="6327720" y="6526800"/>
              <a:ext cx="2511360" cy="1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7034040" y="6251400"/>
              <a:ext cx="1457280" cy="482760"/>
              <a:chOff x="7034040" y="6251400"/>
              <a:chExt cx="1457280" cy="482760"/>
            </a:xfrm>
          </p:grpSpPr>
          <p:sp>
            <p:nvSpPr>
              <p:cNvPr id="215" name=""/>
              <p:cNvSpPr txBox="1"/>
              <p:nvPr/>
            </p:nvSpPr>
            <p:spPr>
              <a:xfrm>
                <a:off x="7034040" y="6251400"/>
                <a:ext cx="484200" cy="482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02298" dir="10375500" blurRad="0" rotWithShape="0">
                        <a:srgbClr val="868686"/>
                      </a:outerShdw>
                    </a:effectLst>
                    <a:latin typeface="Comic Sans MS"/>
                  </a:rPr>
                  <a:t>A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  <a:ea typeface="Comic Sans MS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7545240" y="6367680"/>
                <a:ext cx="946080" cy="273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nswer</a:t>
                </a:r>
                <a:endPara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171360" y="4429080"/>
            <a:ext cx="8744040" cy="8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725400" y="3718080"/>
            <a:ext cx="3836880" cy="825480"/>
            <a:chOff x="725400" y="3718080"/>
            <a:chExt cx="3836880" cy="825480"/>
          </a:xfrm>
        </p:grpSpPr>
        <p:sp>
          <p:nvSpPr>
            <p:cNvPr id="219" name=""/>
            <p:cNvSpPr/>
            <p:nvPr/>
          </p:nvSpPr>
          <p:spPr>
            <a:xfrm>
              <a:off x="2311560" y="3878280"/>
              <a:ext cx="2250720" cy="454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5400" y="3718080"/>
              <a:ext cx="1432080" cy="8254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50000">
                  <a:srgbClr val="fefefe"/>
                </a:gs>
                <a:gs pos="100000">
                  <a:srgbClr val="66ff33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ected Prof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68480" y="171360"/>
            <a:ext cx="5262480" cy="106884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teria Based o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pportunity Lo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Regr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3080" y="1371600"/>
            <a:ext cx="85150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Suppose that Nortel decided to build a medium sized plan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51080" y="1928880"/>
            <a:ext cx="6784920" cy="947160"/>
          </a:xfrm>
          <a:prstGeom prst="rect">
            <a:avLst/>
          </a:prstGeom>
          <a:solidFill>
            <a:srgbClr val="ffffe1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market condi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highly favour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S1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what is the expected pro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19480" y="2933640"/>
          <a:ext cx="4429080" cy="1842840"/>
        </p:xfrm>
        <a:graphic>
          <a:graphicData uri="http://schemas.openxmlformats.org/drawingml/2006/table">
            <a:tbl>
              <a:tblPr/>
              <a:tblGrid>
                <a:gridCol w="1166760"/>
                <a:gridCol w="1095480"/>
                <a:gridCol w="1116000"/>
                <a:gridCol w="10508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1628640" y="2914560"/>
            <a:ext cx="1895760" cy="45972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4800" y="4870440"/>
            <a:ext cx="7913880" cy="9709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had they known in advance that the market conditions would be favourable, they would have gone with D1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nd achieved an expected profit of $400 mill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7520" y="5961240"/>
            <a:ext cx="78930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3f9f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pportunity Los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of $32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14680" y="3400560"/>
            <a:ext cx="1047960" cy="4572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68480" y="171360"/>
            <a:ext cx="5262480" cy="106884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teria Based on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pportunity Lo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Regr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20800" y="3870360"/>
            <a:ext cx="5027400" cy="825480"/>
            <a:chOff x="820800" y="3870360"/>
            <a:chExt cx="5027400" cy="825480"/>
          </a:xfrm>
        </p:grpSpPr>
        <p:sp>
          <p:nvSpPr>
            <p:cNvPr id="231" name=""/>
            <p:cNvSpPr/>
            <p:nvPr/>
          </p:nvSpPr>
          <p:spPr>
            <a:xfrm>
              <a:off x="4735440" y="4031640"/>
              <a:ext cx="1112760" cy="4582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efefe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25760" y="4031640"/>
              <a:ext cx="1112760" cy="4582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efefe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0800" y="3870360"/>
              <a:ext cx="1454040" cy="8254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efefe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ected Prof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95360" y="1523880"/>
            <a:ext cx="8515440" cy="4597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Suppose that Nortel decided to build a medium sized plan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74600" y="2081160"/>
            <a:ext cx="7356600" cy="947160"/>
          </a:xfrm>
          <a:prstGeom prst="rect">
            <a:avLst/>
          </a:prstGeom>
          <a:solidFill>
            <a:srgbClr val="ffffe1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market condi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moderately favour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(S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what is the expected pro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14600" y="3086280"/>
          <a:ext cx="4386240" cy="1842840"/>
        </p:xfrm>
        <a:graphic>
          <a:graphicData uri="http://schemas.openxmlformats.org/drawingml/2006/table">
            <a:tbl>
              <a:tblPr/>
              <a:tblGrid>
                <a:gridCol w="1123920"/>
                <a:gridCol w="1095480"/>
                <a:gridCol w="1116000"/>
                <a:gridCol w="10508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1781280" y="3067200"/>
            <a:ext cx="1895400" cy="45972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7320" y="5265720"/>
            <a:ext cx="7531200" cy="88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3f9f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re is a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pportunity Loss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of $0 million ...they actually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gained $40 million ($60 - $20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968480" y="171360"/>
            <a:ext cx="5262480" cy="117036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pportunity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040" y="1474920"/>
            <a:ext cx="3983040" cy="5205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ssimistic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0520" y="2173320"/>
            <a:ext cx="85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re the worst case scenarios for each decision 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25520" y="5688000"/>
            <a:ext cx="647388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best” of the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“worst cases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739880" y="2685960"/>
          <a:ext cx="5643720" cy="2825640"/>
        </p:xfrm>
        <a:graphic>
          <a:graphicData uri="http://schemas.openxmlformats.org/drawingml/2006/table">
            <a:tbl>
              <a:tblPr/>
              <a:tblGrid>
                <a:gridCol w="1446120"/>
                <a:gridCol w="1409760"/>
                <a:gridCol w="1376280"/>
                <a:gridCol w="14115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et Response De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074400" y="114480"/>
            <a:ext cx="2998440" cy="1191240"/>
            <a:chOff x="3074400" y="114480"/>
            <a:chExt cx="2998440" cy="1191240"/>
          </a:xfrm>
        </p:grpSpPr>
        <p:sp>
          <p:nvSpPr>
            <p:cNvPr id="245" name=""/>
            <p:cNvSpPr/>
            <p:nvPr/>
          </p:nvSpPr>
          <p:spPr>
            <a:xfrm>
              <a:off x="3087720" y="322200"/>
              <a:ext cx="723960" cy="82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4400" y="1144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943280" y="1424160"/>
            <a:ext cx="5236920" cy="5814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alue of Perfect Information</a:t>
            </a:r>
            <a:r>
              <a:rPr b="1" lang="en-US" sz="3200" spc="-1" strike="noStrike">
                <a:solidFill>
                  <a:srgbClr val="ff310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1360" y="2101680"/>
            <a:ext cx="875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e.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worth of information known in advanc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before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rategy is employ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20" y="3324240"/>
            <a:ext cx="8277120" cy="5814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Expected Value of Perfect Information (EVPI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9640" y="4043520"/>
            <a:ext cx="7477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ifference between the expected payof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if the state of na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were know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 the optimal deci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nder the conditions of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85800" y="6046920"/>
            <a:ext cx="7772400" cy="266400"/>
            <a:chOff x="685800" y="6046920"/>
            <a:chExt cx="7772400" cy="266400"/>
          </a:xfrm>
        </p:grpSpPr>
        <p:sp>
          <p:nvSpPr>
            <p:cNvPr id="252" name=""/>
            <p:cNvSpPr/>
            <p:nvPr/>
          </p:nvSpPr>
          <p:spPr>
            <a:xfrm flipV="1">
              <a:off x="685800" y="6109920"/>
              <a:ext cx="7772400" cy="126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4496040" y="6046920"/>
              <a:ext cx="342720" cy="266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195264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fine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rm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state of nature, event, decisi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ternatives, payoff, and 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" y="2933640"/>
            <a:ext cx="79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rganiz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i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ayoff tab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ecisio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3666960"/>
            <a:ext cx="74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put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pportunity lo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tilit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581360"/>
            <a:ext cx="75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timal decision alternative based on a giv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cision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0040" y="127620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1905120"/>
            <a:ext cx="571320" cy="658800"/>
            <a:chOff x="304920" y="1905120"/>
            <a:chExt cx="571320" cy="65880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304920" y="190512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64" name=""/>
            <p:cNvSpPr txBox="1"/>
            <p:nvPr/>
          </p:nvSpPr>
          <p:spPr>
            <a:xfrm>
              <a:off x="542880" y="2059200"/>
              <a:ext cx="219240" cy="37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04920" y="2809800"/>
            <a:ext cx="571320" cy="658800"/>
            <a:chOff x="304920" y="2809800"/>
            <a:chExt cx="571320" cy="6588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04920" y="280980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67" name=""/>
            <p:cNvSpPr txBox="1"/>
            <p:nvPr/>
          </p:nvSpPr>
          <p:spPr>
            <a:xfrm>
              <a:off x="542880" y="2963880"/>
              <a:ext cx="21924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04920" y="3648240"/>
            <a:ext cx="571320" cy="658800"/>
            <a:chOff x="304920" y="3648240"/>
            <a:chExt cx="571320" cy="658800"/>
          </a:xfrm>
        </p:grpSpPr>
        <p:pic>
          <p:nvPicPr>
            <p:cNvPr id="69" name="" descr=""/>
            <p:cNvPicPr/>
            <p:nvPr/>
          </p:nvPicPr>
          <p:blipFill>
            <a:blip r:embed="rId5"/>
            <a:stretch/>
          </p:blipFill>
          <p:spPr>
            <a:xfrm>
              <a:off x="304920" y="364824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70" name=""/>
            <p:cNvSpPr txBox="1"/>
            <p:nvPr/>
          </p:nvSpPr>
          <p:spPr>
            <a:xfrm>
              <a:off x="542880" y="3802320"/>
              <a:ext cx="219240" cy="37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04920" y="4533840"/>
            <a:ext cx="571320" cy="658800"/>
            <a:chOff x="304920" y="4533840"/>
            <a:chExt cx="571320" cy="658800"/>
          </a:xfrm>
        </p:grpSpPr>
        <p:pic>
          <p:nvPicPr>
            <p:cNvPr id="72" name="" descr=""/>
            <p:cNvPicPr/>
            <p:nvPr/>
          </p:nvPicPr>
          <p:blipFill>
            <a:blip r:embed="rId6"/>
            <a:stretch/>
          </p:blipFill>
          <p:spPr>
            <a:xfrm>
              <a:off x="304920" y="453384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73" name=""/>
            <p:cNvSpPr txBox="1"/>
            <p:nvPr/>
          </p:nvSpPr>
          <p:spPr>
            <a:xfrm>
              <a:off x="542880" y="4687560"/>
              <a:ext cx="21924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981000" y="5495760"/>
            <a:ext cx="70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s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ected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diti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14280" y="5472000"/>
            <a:ext cx="571320" cy="658800"/>
            <a:chOff x="314280" y="5472000"/>
            <a:chExt cx="571320" cy="658800"/>
          </a:xfrm>
        </p:grpSpPr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314280" y="547200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77" name=""/>
            <p:cNvSpPr txBox="1"/>
            <p:nvPr/>
          </p:nvSpPr>
          <p:spPr>
            <a:xfrm>
              <a:off x="552240" y="5625720"/>
              <a:ext cx="21924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28560" y="6305400"/>
            <a:ext cx="7772400" cy="266760"/>
            <a:chOff x="628560" y="6305400"/>
            <a:chExt cx="7772400" cy="266760"/>
          </a:xfrm>
        </p:grpSpPr>
        <p:sp>
          <p:nvSpPr>
            <p:cNvPr id="79" name=""/>
            <p:cNvSpPr/>
            <p:nvPr/>
          </p:nvSpPr>
          <p:spPr>
            <a:xfrm flipV="1">
              <a:off x="628560" y="6368400"/>
              <a:ext cx="7772400" cy="126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4438800" y="6305400"/>
              <a:ext cx="34272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074400" y="114480"/>
            <a:ext cx="2998440" cy="1191240"/>
            <a:chOff x="3074400" y="114480"/>
            <a:chExt cx="2998440" cy="1191240"/>
          </a:xfrm>
        </p:grpSpPr>
        <p:sp>
          <p:nvSpPr>
            <p:cNvPr id="255" name=""/>
            <p:cNvSpPr/>
            <p:nvPr/>
          </p:nvSpPr>
          <p:spPr>
            <a:xfrm>
              <a:off x="3087720" y="322200"/>
              <a:ext cx="723960" cy="82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74400" y="1144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71360" y="1281240"/>
            <a:ext cx="36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nsitivity Analys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33840" y="1387440"/>
            <a:ext cx="51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xamines the effects of various probabilit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states of nature on the expected values for the decision alterna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480" y="3224160"/>
            <a:ext cx="30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ecision Tre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400" y="3357720"/>
            <a:ext cx="516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seful for structuring the various alterna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y present a picture of the various courses of action and the possible states of 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7360" y="6232680"/>
            <a:ext cx="7772400" cy="266400"/>
            <a:chOff x="657360" y="6232680"/>
            <a:chExt cx="7772400" cy="266400"/>
          </a:xfrm>
        </p:grpSpPr>
        <p:sp>
          <p:nvSpPr>
            <p:cNvPr id="262" name=""/>
            <p:cNvSpPr/>
            <p:nvPr/>
          </p:nvSpPr>
          <p:spPr>
            <a:xfrm flipV="1">
              <a:off x="657360" y="6295680"/>
              <a:ext cx="7772400" cy="126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467600" y="6232680"/>
              <a:ext cx="342720" cy="26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"/>
          <p:cNvSpPr/>
          <p:nvPr/>
        </p:nvSpPr>
        <p:spPr>
          <a:xfrm>
            <a:off x="3205080" y="551664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ee the following Decision Tree Exampl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2290680" y="1131840"/>
          <a:ext cx="4429080" cy="2070000"/>
        </p:xfrm>
        <a:graphic>
          <a:graphicData uri="http://schemas.openxmlformats.org/drawingml/2006/table">
            <a:tbl>
              <a:tblPr/>
              <a:tblGrid>
                <a:gridCol w="1089000"/>
                <a:gridCol w="1173240"/>
                <a:gridCol w="1116000"/>
                <a:gridCol w="105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9960" y="3274920"/>
            <a:ext cx="8410680" cy="3297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67" name=""/>
          <p:cNvSpPr/>
          <p:nvPr/>
        </p:nvSpPr>
        <p:spPr>
          <a:xfrm>
            <a:off x="600120" y="2766960"/>
            <a:ext cx="1635120" cy="9471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sio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98040" y="351000"/>
            <a:ext cx="4184280" cy="5205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88838" dir="826225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cision Tree Exampl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409680" y="2766960"/>
            <a:ext cx="8505720" cy="3834000"/>
            <a:chOff x="409680" y="2766960"/>
            <a:chExt cx="8505720" cy="383400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409680" y="3276720"/>
              <a:ext cx="8505720" cy="332424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71" name=""/>
            <p:cNvSpPr/>
            <p:nvPr/>
          </p:nvSpPr>
          <p:spPr>
            <a:xfrm>
              <a:off x="585720" y="2766960"/>
              <a:ext cx="1629000" cy="9471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cision T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2" name=""/>
          <p:cNvGraphicFramePr/>
          <p:nvPr/>
        </p:nvGraphicFramePr>
        <p:xfrm>
          <a:off x="2300400" y="1141560"/>
          <a:ext cx="4429080" cy="2097000"/>
        </p:xfrm>
        <a:graphic>
          <a:graphicData uri="http://schemas.openxmlformats.org/drawingml/2006/table">
            <a:tbl>
              <a:tblPr/>
              <a:tblGrid>
                <a:gridCol w="1089000"/>
                <a:gridCol w="1173240"/>
                <a:gridCol w="1116000"/>
                <a:gridCol w="105084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2478960" y="360360"/>
            <a:ext cx="4184280" cy="5205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88838" dir="826225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cision Tree Exampl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2309760" y="1122480"/>
          <a:ext cx="4429080" cy="2097000"/>
        </p:xfrm>
        <a:graphic>
          <a:graphicData uri="http://schemas.openxmlformats.org/drawingml/2006/table">
            <a:tbl>
              <a:tblPr/>
              <a:tblGrid>
                <a:gridCol w="1089000"/>
                <a:gridCol w="1173240"/>
                <a:gridCol w="1116000"/>
                <a:gridCol w="105084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2488680" y="341280"/>
            <a:ext cx="4184280" cy="5205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88838" dir="826225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cision Tree Exampl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71680" y="2714760"/>
            <a:ext cx="7243560" cy="3743280"/>
            <a:chOff x="571680" y="2714760"/>
            <a:chExt cx="7243560" cy="37432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1309680" y="3422520"/>
              <a:ext cx="6505560" cy="303552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78" name=""/>
            <p:cNvSpPr/>
            <p:nvPr/>
          </p:nvSpPr>
          <p:spPr>
            <a:xfrm>
              <a:off x="571680" y="2714760"/>
              <a:ext cx="1628640" cy="9471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cision Tr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281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a789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1"/>
                </a:rPr>
                <a:t>www.mcgrawhill.ca/college/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286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685800" y="5829480"/>
            <a:ext cx="7772400" cy="209520"/>
            <a:chOff x="685800" y="5829480"/>
            <a:chExt cx="7772400" cy="209520"/>
          </a:xfrm>
        </p:grpSpPr>
        <p:sp>
          <p:nvSpPr>
            <p:cNvPr id="291" name=""/>
            <p:cNvSpPr/>
            <p:nvPr/>
          </p:nvSpPr>
          <p:spPr>
            <a:xfrm flipV="1">
              <a:off x="685800" y="5879160"/>
              <a:ext cx="7772400" cy="99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4"/>
            <a:stretch/>
          </p:blipFill>
          <p:spPr>
            <a:xfrm>
              <a:off x="4496040" y="5829480"/>
              <a:ext cx="342720" cy="209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0000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4400" y="2971800"/>
            <a:ext cx="8012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ac5"/>
                </a:solidFill>
                <a:latin typeface="Times New Roman"/>
              </a:rPr>
              <a:t>This completes Chapter 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074400" y="114480"/>
            <a:ext cx="2998440" cy="1191240"/>
            <a:chOff x="3074400" y="114480"/>
            <a:chExt cx="2998440" cy="1191240"/>
          </a:xfrm>
        </p:grpSpPr>
        <p:sp>
          <p:nvSpPr>
            <p:cNvPr id="82" name=""/>
            <p:cNvSpPr/>
            <p:nvPr/>
          </p:nvSpPr>
          <p:spPr>
            <a:xfrm>
              <a:off x="3087720" y="322200"/>
              <a:ext cx="723960" cy="82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74400" y="1144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85640" y="2038320"/>
            <a:ext cx="33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Classical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210168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es on estimating a parameter, such as the population mean, constructing confidence intervals,                 or hypothesis tes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640" y="3895560"/>
            <a:ext cx="270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Statistical  Decis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52880" y="3871800"/>
            <a:ext cx="561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ayesian statistics) is concerned with determining which decision, from a set of possible decisions, is opti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5946840"/>
            <a:ext cx="7772400" cy="266760"/>
            <a:chOff x="685800" y="5946840"/>
            <a:chExt cx="7772400" cy="266760"/>
          </a:xfrm>
        </p:grpSpPr>
        <p:sp>
          <p:nvSpPr>
            <p:cNvPr id="89" name=""/>
            <p:cNvSpPr/>
            <p:nvPr/>
          </p:nvSpPr>
          <p:spPr>
            <a:xfrm flipV="1">
              <a:off x="685800" y="6009840"/>
              <a:ext cx="7772400" cy="126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4496040" y="5946840"/>
              <a:ext cx="34272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649520" y="291960"/>
            <a:ext cx="5811840" cy="916920"/>
            <a:chOff x="1649520" y="291960"/>
            <a:chExt cx="5811840" cy="916920"/>
          </a:xfrm>
        </p:grpSpPr>
        <p:sp>
          <p:nvSpPr>
            <p:cNvPr id="92" name=""/>
            <p:cNvSpPr/>
            <p:nvPr/>
          </p:nvSpPr>
          <p:spPr>
            <a:xfrm>
              <a:off x="1720800" y="330120"/>
              <a:ext cx="590040" cy="830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49520" y="291960"/>
              <a:ext cx="5811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lements of a Decis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855960" y="4300560"/>
            <a:ext cx="1908360" cy="520560"/>
          </a:xfrm>
          <a:prstGeom prst="rect">
            <a:avLst/>
          </a:prstGeom>
          <a:solidFill>
            <a:srgbClr val="6666ff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ayo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2280" y="1833480"/>
            <a:ext cx="60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alternatives or 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46280" y="4940280"/>
            <a:ext cx="70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al gain to the decision maker                                for each combination of                                             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ecision altern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tate of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44760" y="3110040"/>
            <a:ext cx="5624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re future events tha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nder the control of the decision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58000" y="1238400"/>
            <a:ext cx="30866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83280" y="2481120"/>
            <a:ext cx="2841120" cy="5205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tes of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6276960"/>
            <a:ext cx="7772400" cy="228600"/>
            <a:chOff x="685800" y="6276960"/>
            <a:chExt cx="7772400" cy="228600"/>
          </a:xfrm>
        </p:grpSpPr>
        <p:sp>
          <p:nvSpPr>
            <p:cNvPr id="101" name=""/>
            <p:cNvSpPr/>
            <p:nvPr/>
          </p:nvSpPr>
          <p:spPr>
            <a:xfrm flipV="1">
              <a:off x="685800" y="6330960"/>
              <a:ext cx="7772400" cy="108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4496040" y="6276960"/>
              <a:ext cx="34272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333360" y="1838160"/>
            <a:ext cx="2090880" cy="3080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are three components to any decision-making sit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27520" y="1276200"/>
            <a:ext cx="3244680" cy="6426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Payoff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680" y="2048040"/>
            <a:ext cx="82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isting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l possible combin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decision alternatives and states of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74400" y="114480"/>
            <a:ext cx="2998440" cy="1191240"/>
            <a:chOff x="3074400" y="114480"/>
            <a:chExt cx="2998440" cy="1191240"/>
          </a:xfrm>
        </p:grpSpPr>
        <p:sp>
          <p:nvSpPr>
            <p:cNvPr id="107" name=""/>
            <p:cNvSpPr/>
            <p:nvPr/>
          </p:nvSpPr>
          <p:spPr>
            <a:xfrm>
              <a:off x="3087720" y="322200"/>
              <a:ext cx="723960" cy="82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74400" y="1144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5800" y="3100320"/>
            <a:ext cx="7772400" cy="209520"/>
            <a:chOff x="685800" y="3100320"/>
            <a:chExt cx="7772400" cy="209520"/>
          </a:xfrm>
        </p:grpSpPr>
        <p:sp>
          <p:nvSpPr>
            <p:cNvPr id="110" name=""/>
            <p:cNvSpPr/>
            <p:nvPr/>
          </p:nvSpPr>
          <p:spPr>
            <a:xfrm flipV="1">
              <a:off x="685800" y="3150000"/>
              <a:ext cx="7772400" cy="99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4496040" y="3100320"/>
              <a:ext cx="342720" cy="20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1668600" y="3486240"/>
            <a:ext cx="5871960" cy="1739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Expected Payof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                  Expected Monetary Value (EM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6280" y="5457960"/>
            <a:ext cx="82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pecte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Valu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1120" y="6153120"/>
            <a:ext cx="7772400" cy="209520"/>
            <a:chOff x="681120" y="6153120"/>
            <a:chExt cx="7772400" cy="209520"/>
          </a:xfrm>
        </p:grpSpPr>
        <p:sp>
          <p:nvSpPr>
            <p:cNvPr id="115" name=""/>
            <p:cNvSpPr/>
            <p:nvPr/>
          </p:nvSpPr>
          <p:spPr>
            <a:xfrm flipV="1">
              <a:off x="681120" y="6203160"/>
              <a:ext cx="7772400" cy="99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491360" y="6153120"/>
              <a:ext cx="342720" cy="209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52280"/>
            <a:ext cx="5181480" cy="8668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business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62080"/>
            <a:ext cx="8026200" cy="344124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el is considering introducing a new wireless telecommunication device into the market.                                                   They are considering three 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I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a new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ll sca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t for                                 manufacturing the new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II.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uild a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medium size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III.  Do not market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y decide to market the product, the annual profit will depend on the market response to the produ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2200" y="4938840"/>
            <a:ext cx="8383680" cy="1410120"/>
          </a:xfrm>
          <a:prstGeom prst="rect">
            <a:avLst/>
          </a:prstGeom>
          <a:gradFill rotWithShape="0">
            <a:gsLst>
              <a:gs pos="0">
                <a:srgbClr val="babbe2"/>
              </a:gs>
              <a:gs pos="50000">
                <a:srgbClr val="ffffcc"/>
              </a:gs>
              <a:gs pos="100000">
                <a:srgbClr val="babbe2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preliminary market analysis indicates that the market response to the product may b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highly favour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derately favour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favour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What decision should they m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1280" y="266760"/>
            <a:ext cx="2882880" cy="5205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le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988920"/>
            <a:ext cx="5915160" cy="1562040"/>
          </a:xfrm>
          <a:prstGeom prst="rect">
            <a:avLst/>
          </a:prstGeom>
          <a:gradFill rotWithShape="0">
            <a:gsLst>
              <a:gs pos="0">
                <a:srgbClr val="d3f9f5"/>
              </a:gs>
              <a:gs pos="50000">
                <a:srgbClr val="fefefe"/>
              </a:gs>
              <a:gs pos="100000">
                <a:srgbClr val="d3f9f5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uild a new full scale plant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1749"/>
              </a:spcBef>
              <a:buClr>
                <a:srgbClr val="0033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Build a medium size plant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80000"/>
              </a:lnSpc>
              <a:spcBef>
                <a:spcPts val="1749"/>
              </a:spcBef>
              <a:buClr>
                <a:srgbClr val="ff66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Do not market the product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3480" y="2712960"/>
            <a:ext cx="5391360" cy="1922760"/>
          </a:xfrm>
          <a:prstGeom prst="rect">
            <a:avLst/>
          </a:prstGeom>
          <a:gradFill rotWithShape="0">
            <a:gsLst>
              <a:gs pos="0">
                <a:srgbClr val="fefeea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rket response to the product may be                                  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highly favourabl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moderately favourabl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unfavourabl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257720" y="4371840"/>
          <a:ext cx="4429080" cy="2070360"/>
        </p:xfrm>
        <a:graphic>
          <a:graphicData uri="http://schemas.openxmlformats.org/drawingml/2006/table">
            <a:tbl>
              <a:tblPr/>
              <a:tblGrid>
                <a:gridCol w="1089000"/>
                <a:gridCol w="1173240"/>
                <a:gridCol w="1116000"/>
                <a:gridCol w="105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0" y="4691160"/>
            <a:ext cx="4208400" cy="1099440"/>
            <a:chOff x="0" y="4691160"/>
            <a:chExt cx="4208400" cy="1099440"/>
          </a:xfrm>
        </p:grpSpPr>
        <p:sp>
          <p:nvSpPr>
            <p:cNvPr id="126" name=""/>
            <p:cNvSpPr/>
            <p:nvPr/>
          </p:nvSpPr>
          <p:spPr>
            <a:xfrm>
              <a:off x="866880" y="4691160"/>
              <a:ext cx="2409840" cy="520560"/>
            </a:xfrm>
            <a:prstGeom prst="rect">
              <a:avLst/>
            </a:prstGeom>
            <a:gradFill rotWithShape="0">
              <a:gsLst>
                <a:gs pos="0">
                  <a:srgbClr val="d3f9f5"/>
                </a:gs>
                <a:gs pos="50000">
                  <a:srgbClr val="fefefe"/>
                </a:gs>
                <a:gs pos="100000">
                  <a:srgbClr val="d3f9f5"/>
                </a:gs>
              </a:gsLst>
              <a:lin ang="8100000"/>
            </a:gradFill>
            <a:ln w="0">
              <a:noFill/>
            </a:ln>
            <a:effectLst>
              <a:outerShdw dist="125751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Payoff T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330880"/>
              <a:ext cx="420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Value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illions of dollar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14800" y="1606680"/>
            <a:ext cx="2714400" cy="42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dddddd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dddddd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07960" y="299880"/>
            <a:ext cx="621216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Nortel's decision...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1147680" y="2363760"/>
            <a:ext cx="6848640" cy="1556280"/>
          </a:xfrm>
          <a:prstGeom prst="rect">
            <a:avLst/>
          </a:prstGeom>
          <a:solidFill>
            <a:srgbClr val="00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yoff 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                                      each decision alter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6029280"/>
            <a:ext cx="7772400" cy="209520"/>
            <a:chOff x="685800" y="6029280"/>
            <a:chExt cx="7772400" cy="209520"/>
          </a:xfrm>
        </p:grpSpPr>
        <p:sp>
          <p:nvSpPr>
            <p:cNvPr id="132" name=""/>
            <p:cNvSpPr/>
            <p:nvPr/>
          </p:nvSpPr>
          <p:spPr>
            <a:xfrm flipV="1">
              <a:off x="685800" y="6079320"/>
              <a:ext cx="7772400" cy="99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4496040" y="6029280"/>
              <a:ext cx="342720" cy="20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919080" y="3962520"/>
            <a:ext cx="7162920" cy="1068840"/>
          </a:xfrm>
          <a:prstGeom prst="rect">
            <a:avLst/>
          </a:prstGeom>
          <a:solidFill>
            <a:srgbClr val="ffeac5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the alternative for which the associat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yoff 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x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4343400" y="3257640"/>
          <a:ext cx="4429080" cy="2095200"/>
        </p:xfrm>
        <a:graphic>
          <a:graphicData uri="http://schemas.openxmlformats.org/drawingml/2006/table">
            <a:tbl>
              <a:tblPr/>
              <a:tblGrid>
                <a:gridCol w="1089000"/>
                <a:gridCol w="1173240"/>
                <a:gridCol w="1116000"/>
                <a:gridCol w="105084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S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S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S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D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D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7729560" y="3814920"/>
            <a:ext cx="1057320" cy="5299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76560" y="152280"/>
            <a:ext cx="4825800" cy="581400"/>
          </a:xfrm>
          <a:prstGeom prst="rect">
            <a:avLst/>
          </a:prstGeom>
          <a:gradFill rotWithShape="0">
            <a:gsLst>
              <a:gs pos="0">
                <a:srgbClr val="fefef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Probabilistic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2880" y="3116160"/>
            <a:ext cx="35053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te the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inimum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payoff for each deci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alter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14360" y="912960"/>
            <a:ext cx="6513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don’t have any information about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ies of the 3 states of nature,                               except th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y are each non-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8200" y="2336760"/>
            <a:ext cx="32400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i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riter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95560" y="5524560"/>
            <a:ext cx="6765840" cy="9471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essimistic vie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sults i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isi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o not market th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2040" y="445608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the decision fo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which this is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572000" y="2233440"/>
            <a:ext cx="4208400" cy="1099440"/>
            <a:chOff x="4572000" y="2233440"/>
            <a:chExt cx="4208400" cy="1099440"/>
          </a:xfrm>
        </p:grpSpPr>
        <p:sp>
          <p:nvSpPr>
            <p:cNvPr id="144" name=""/>
            <p:cNvSpPr/>
            <p:nvPr/>
          </p:nvSpPr>
          <p:spPr>
            <a:xfrm>
              <a:off x="5438880" y="2233440"/>
              <a:ext cx="2409840" cy="520560"/>
            </a:xfrm>
            <a:prstGeom prst="rect">
              <a:avLst/>
            </a:prstGeom>
            <a:gradFill rotWithShape="0">
              <a:gsLst>
                <a:gs pos="0">
                  <a:srgbClr val="d3f9f5"/>
                </a:gs>
                <a:gs pos="50000">
                  <a:srgbClr val="fefefe"/>
                </a:gs>
                <a:gs pos="100000">
                  <a:srgbClr val="d3f9f5"/>
                </a:gs>
              </a:gsLst>
              <a:lin ang="8100000"/>
            </a:gradFill>
            <a:ln w="0">
              <a:noFill/>
            </a:ln>
            <a:effectLst>
              <a:outerShdw dist="125751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Payoff T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0" y="2873160"/>
              <a:ext cx="420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Value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illions of dollar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724880" y="4338720"/>
            <a:ext cx="1057320" cy="47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34240" y="4834080"/>
            <a:ext cx="1057320" cy="5000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57960" y="4829040"/>
            <a:ext cx="1114200" cy="5144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10320" y="4838760"/>
            <a:ext cx="1114560" cy="5000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Colleen Quinn &amp; Ron Thornbury</dc:creator>
  <dc:description/>
  <dc:language>en-US</dc:language>
  <cp:lastModifiedBy>jeff_skinner</cp:lastModifiedBy>
  <dcterms:modified xsi:type="dcterms:W3CDTF">2003-04-28T14:11:27Z</dcterms:modified>
  <cp:revision>310</cp:revision>
  <dc:subject/>
  <dc:title>No Slide Title</dc:title>
</cp:coreProperties>
</file>