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48E45-7BB1-4EBE-B24D-7FF755B4C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DDEF-7031-417E-B35E-7B7951603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EF76-C2C5-4CCE-9218-9AF0B8C13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14B58-3AF9-47A1-873C-69723319A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0BDA-D8A8-41F1-85EC-75431D947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E7AA4-BBD4-4C59-BE83-189A92888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6C2D-B3CE-4F2D-9B7A-70F27A483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18FC-885B-4E7C-841D-D1721846F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308F-BEC2-4B08-A942-9330B1E0E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BDB71-D6F1-42F6-AE01-F3E4E54B1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53887-6F18-47E5-9EA3-C70AC6F2B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F98DF-213A-4775-AD30-2CC47B217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46640" y="6610320"/>
            <a:ext cx="431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b2b2b2"/>
                </a:solidFill>
                <a:latin typeface="Times New Roman"/>
              </a:rPr>
              <a:t>&lt;footer&gt;</a:t>
            </a:r>
            <a:r>
              <a:rPr b="1" lang="en-US" sz="700" spc="-1" strike="noStrike">
                <a:solidFill>
                  <a:srgbClr val="b2b2b2"/>
                </a:solidFill>
                <a:latin typeface="Times New Roman"/>
              </a:rPr>
              <a:t>- </a:t>
            </a:r>
            <a:fld id="{8FEF9194-05A0-4A2B-9F05-F6961E2E7689}" type="datetime">
              <a:rPr b="1" lang="cs-CZ" sz="700" spc="-1" strike="noStrike">
                <a:solidFill>
                  <a:srgbClr val="b2b2b2"/>
                </a:solidFill>
                <a:latin typeface="Times New Roman"/>
              </a:rPr>
              <a:t>31.07.2026</a:t>
            </a:fld>
            <a:r>
              <a:rPr b="1" lang="en-US" sz="700" spc="-1" strike="noStrike">
                <a:solidFill>
                  <a:srgbClr val="b2b2b2"/>
                </a:solidFill>
                <a:latin typeface="Times New Roman"/>
              </a:rPr>
              <a:t>    P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2400" y="6610320"/>
            <a:ext cx="3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D0C4-8797-4461-8CFA-88C96108488A}" type="slidenum">
              <a:rPr b="1" lang="fr-FR" sz="7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539640" y="574560"/>
            <a:ext cx="173988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228600" y="5762520"/>
            <a:ext cx="92088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5762520"/>
            <a:ext cx="920880" cy="609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571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143000" algn="ctr">
              <a:buClr>
                <a:srgbClr val="eb8b1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3" marL="1523880" indent="95400" algn="ctr">
              <a:spcBef>
                <a:spcPts val="300"/>
              </a:spcBef>
              <a:buClr>
                <a:srgbClr val="120c8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i="1" lang="en-US" sz="1200" spc="-1" strike="noStrike">
              <a:solidFill>
                <a:srgbClr val="120c80"/>
              </a:solidFill>
              <a:latin typeface="Arial"/>
            </a:endParaRPr>
          </a:p>
          <a:p>
            <a:pPr lvl="4" marL="2193840" algn="ctr">
              <a:spcBef>
                <a:spcPts val="249"/>
              </a:spcBef>
              <a:buClr>
                <a:srgbClr val="120c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5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6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image" Target="../media/image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500" spc="-1" strike="noStrike">
                <a:solidFill>
                  <a:srgbClr val="ffffff"/>
                </a:solidFill>
                <a:latin typeface="Arial"/>
              </a:rPr>
              <a:t>Úvodní školení QUEST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2 typy výrobků – vstup 60 min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2 Vozíky – 20 m/min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987640" y="3200400"/>
            <a:ext cx="61563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120c80"/>
                </a:solidFill>
                <a:latin typeface="Arial"/>
              </a:rPr>
              <a:t>Vytvoření knihovny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039160" cy="5686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H="1" flipV="1">
            <a:off x="1692000" y="3068640"/>
            <a:ext cx="93492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120c80"/>
                </a:solidFill>
                <a:latin typeface="Arial"/>
              </a:rPr>
              <a:t>Nastavení QUESTU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171440"/>
            <a:ext cx="8039160" cy="5686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 flipV="1">
            <a:off x="2916000" y="3645000"/>
            <a:ext cx="93492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95640" y="3645000"/>
            <a:ext cx="1781280" cy="1190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 flipV="1">
            <a:off x="2771640" y="3860640"/>
            <a:ext cx="93528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3645000"/>
            <a:ext cx="136836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3240" y="4610160"/>
            <a:ext cx="2805120" cy="609480"/>
          </a:xfr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Vytvoří se a ulož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120c80"/>
                </a:solidFill>
                <a:latin typeface="Arial"/>
              </a:rPr>
              <a:t>.qenvfig File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3TIER_WINDOWS = ON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EDITOR = notepad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227240"/>
            <a:ext cx="2874960" cy="401400"/>
          </a:xfr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Nastavení typu ovlád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2997360"/>
            <a:ext cx="2589120" cy="609480"/>
          </a:xfr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Nastavení edito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120c80"/>
                </a:solidFill>
                <a:latin typeface="Arial"/>
              </a:rPr>
              <a:t>.qpthfig Fil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CONFIG$LIB = ../CONFIGS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INCLUDE QUES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INCLUDE PokusZ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1144440"/>
            <a:ext cx="3600360" cy="546120"/>
          </a:xfr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Kde se nachází konfigurační soub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92680" y="2522520"/>
            <a:ext cx="3379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37" y="4050"/>
                </a:moveTo>
                <a:lnTo>
                  <a:pt x="-487" y="40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Standardní knihov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40320" y="3746520"/>
            <a:ext cx="2948040" cy="609480"/>
          </a:xfr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Moje vlastní knihov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120c80"/>
                </a:solidFill>
                <a:latin typeface="Arial"/>
              </a:rPr>
              <a:t>Základní tvorba modelu I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Popis modelu: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Vytváření výrobků - EXP(25)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Zpracování na stroji – NORMAL (25,5), Starting Stream Value - 2 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Odchod výrobku ze systému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564000" y="3651120"/>
            <a:ext cx="531504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120c80"/>
                </a:solidFill>
                <a:latin typeface="Arial"/>
              </a:rPr>
              <a:t>Základní tvorba modelu II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760716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Tento model bude řešit montáž 3 různých typů výrobků na třech různých strojích. 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Výrobky PartA, PartB, a PartC se smontují s výrobkem PartD do výrobků PartAD, PartBD, a PartCD na jednotlivých strojích – EXP(40). 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Smontované výrobky se pošlou ze stroje do zásobníku a poté ven ze systému.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Vytváření výrobků 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buSzPct val="10289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20c80"/>
                </a:solidFill>
                <a:latin typeface="Arial"/>
              </a:rPr>
              <a:t>ABC - EXP(15) s 1:1:1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Vytváření výrobků 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buSzPct val="10289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20c80"/>
                </a:solidFill>
                <a:latin typeface="Arial"/>
              </a:rPr>
              <a:t>D – 15 s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708360" y="3706920"/>
            <a:ext cx="54356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120c80"/>
                </a:solidFill>
                <a:latin typeface="Arial"/>
              </a:rPr>
              <a:t>CONVEYOR SYSTEM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60752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Dopravní systém pomocí dopravníků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2 paralelní pracoviště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UNIFORM(5,15)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2 typy výrobků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Vstup NORMAL(20,4) – 1:1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916360" y="2990880"/>
            <a:ext cx="62276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20c80"/>
                </a:solidFill>
                <a:latin typeface="Arial"/>
              </a:rPr>
              <a:t>SHIFTS, LABOR, AND FAILURES </a:t>
            </a:r>
            <a:endParaRPr b="1" lang="en-US" sz="26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712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90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20c80"/>
                </a:solidFill>
                <a:latin typeface="Arial"/>
              </a:rPr>
              <a:t>Výrobky: PartA, PartB – EXPO(75)s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20c80"/>
                </a:solidFill>
                <a:latin typeface="Arial"/>
              </a:rPr>
              <a:t>Stroje – EXPO(20)s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20c80"/>
                </a:solidFill>
                <a:latin typeface="Arial"/>
              </a:rPr>
              <a:t>BufferLong – kapacita 6 ks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20c80"/>
                </a:solidFill>
                <a:latin typeface="Arial"/>
              </a:rPr>
              <a:t>Doba přesunu pracovníka – 10 s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20c80"/>
                </a:solidFill>
                <a:latin typeface="Arial"/>
              </a:rPr>
              <a:t>Procesy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Part1 a Labor1 - Process_1,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Part1 a Labor2 - Process_2, 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Part2 a Labor1 - Process_3, 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Part2 a Labor2 - Process_4. 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SzPct val="11428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20c80"/>
                </a:solidFill>
                <a:latin typeface="Arial"/>
              </a:rPr>
              <a:t>Směna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0:00 – 9:00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SzPct val="11428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20c80"/>
                </a:solidFill>
                <a:latin typeface="Arial"/>
              </a:rPr>
              <a:t>Přestávky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15 min (900 s) – 2:00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30 min (1800 s) – 4:00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15 min (900 s) – 6:00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SzPct val="11428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20c80"/>
                </a:solidFill>
                <a:latin typeface="Arial"/>
              </a:rPr>
              <a:t>Poruchy strojů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Doba mezi – Expo(3600)s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Doba opravy – Uniform(180,300)s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9"/>
          <a:stretch/>
        </p:blipFill>
        <p:spPr>
          <a:xfrm>
            <a:off x="4667400" y="3533760"/>
            <a:ext cx="4476600" cy="3324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0"/>
          <a:stretch/>
        </p:blipFill>
        <p:spPr>
          <a:xfrm>
            <a:off x="5580000" y="1341360"/>
            <a:ext cx="4286160" cy="809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13080" y="907560"/>
            <a:ext cx="116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20c80"/>
                </a:solidFill>
                <a:latin typeface="Arial"/>
              </a:rPr>
              <a:t>Směny p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3:09:08Z</dcterms:created>
  <dc:creator>joa</dc:creator>
  <dc:description/>
  <dc:language>en-US</dc:language>
  <cp:lastModifiedBy>Zdeněk Ulrych</cp:lastModifiedBy>
  <dcterms:modified xsi:type="dcterms:W3CDTF">2007-01-22T08:48:01Z</dcterms:modified>
  <cp:revision>63</cp:revision>
  <dc:subject/>
  <dc:title>DPE QUEST Integration</dc:title>
</cp:coreProperties>
</file>