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4211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7E708-DD5E-49DC-8BD4-ED1992501D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E92B5-37BE-44A7-B0EC-D1B175067D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F3ECF-03F5-460D-8E8D-B2B55F5A75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864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896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142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864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896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F0FD4-0FC2-4777-ADAB-FCB939AAE1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18880" y="301320"/>
            <a:ext cx="611820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B452B-078A-432F-A828-F3853322A1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8640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58960" y="194328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142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8640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58960" y="3843000"/>
            <a:ext cx="244944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A3285-3907-40BE-B2E3-CB85F24A00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C4A8F-4FDF-4EC7-9732-7B9E2B54A3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C7375-57E3-41B8-895C-95F4856AAB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18880" y="301320"/>
            <a:ext cx="611820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91E13-17C7-4F69-A72E-61ADF19B43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F1197-9761-4CF1-889C-A2E6FFCA6F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12280" y="384300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9B664-AC05-4FCB-96ED-0E63FA93F9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2280" y="1943280"/>
            <a:ext cx="37119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14200" y="3843000"/>
            <a:ext cx="7607160" cy="17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1B41B-CAFF-4E54-927F-B768CBB208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20c8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0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spcBef>
                <a:spcPts val="10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2" marL="1428840" indent="-28584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3" marL="1809720" indent="-190440">
              <a:spcBef>
                <a:spcPts val="1001"/>
              </a:spcBef>
              <a:buClr>
                <a:srgbClr val="120c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4" marL="2381400" indent="-187560">
              <a:spcBef>
                <a:spcPts val="1001"/>
              </a:spcBef>
              <a:buClr>
                <a:srgbClr val="120c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5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6" marL="2381400" indent="-18756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346640" y="6610320"/>
            <a:ext cx="4317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b2b2b2"/>
                </a:solidFill>
                <a:latin typeface="Times New Roman"/>
              </a:rPr>
              <a:t>&lt;footer&gt;</a:t>
            </a:r>
            <a:r>
              <a:rPr b="1" lang="en-US" sz="700" spc="-1" strike="noStrike">
                <a:solidFill>
                  <a:srgbClr val="b2b2b2"/>
                </a:solidFill>
                <a:latin typeface="Times New Roman"/>
              </a:rPr>
              <a:t>- </a:t>
            </a:r>
            <a:fld id="{9029DDB2-5971-4935-A7D3-07E583DE35B1}" type="datetime">
              <a:rPr b="1" lang="cs-CZ" sz="700" spc="-1" strike="noStrike">
                <a:solidFill>
                  <a:srgbClr val="b2b2b2"/>
                </a:solidFill>
                <a:latin typeface="Times New Roman"/>
              </a:rPr>
              <a:t>29.07.2026</a:t>
            </a:fld>
            <a:r>
              <a:rPr b="1" lang="en-US" sz="700" spc="-1" strike="noStrike">
                <a:solidFill>
                  <a:srgbClr val="b2b2b2"/>
                </a:solidFill>
                <a:latin typeface="Times New Roman"/>
              </a:rPr>
              <a:t>    P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672400" y="6610320"/>
            <a:ext cx="33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7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DF93-891A-4980-82B4-F59CD08BAFC7}" type="slidenum">
              <a:rPr b="1" lang="fr-FR" sz="7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6"/>
          <a:stretch/>
        </p:blipFill>
        <p:spPr>
          <a:xfrm>
            <a:off x="539640" y="574560"/>
            <a:ext cx="1739880" cy="480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362800" y="6585120"/>
            <a:ext cx="0" cy="2696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7"/>
          <a:stretch/>
        </p:blipFill>
        <p:spPr>
          <a:xfrm>
            <a:off x="228600" y="5762520"/>
            <a:ext cx="920880" cy="60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0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6024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10080"/>
            <a:ext cx="228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28600" y="5762520"/>
            <a:ext cx="920880" cy="609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0c8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1" marL="5716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0c8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20c80"/>
              </a:solidFill>
              <a:latin typeface="Arial"/>
            </a:endParaRPr>
          </a:p>
          <a:p>
            <a:pPr lvl="2" marL="1143000" algn="ctr">
              <a:buClr>
                <a:srgbClr val="eb8b1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120c80"/>
                </a:solidFill>
                <a:latin typeface="Arial"/>
              </a:rPr>
              <a:t>Third Outline Level</a:t>
            </a:r>
            <a:endParaRPr b="0" i="1" lang="en-US" sz="1500" spc="-1" strike="noStrike">
              <a:solidFill>
                <a:srgbClr val="120c80"/>
              </a:solidFill>
              <a:latin typeface="Arial"/>
            </a:endParaRPr>
          </a:p>
          <a:p>
            <a:pPr lvl="3" marL="1523880" indent="95400" algn="ctr">
              <a:spcBef>
                <a:spcPts val="300"/>
              </a:spcBef>
              <a:buClr>
                <a:srgbClr val="120c80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20c80"/>
                </a:solidFill>
                <a:latin typeface="Arial"/>
              </a:rPr>
              <a:t>Fourth Outline Level</a:t>
            </a:r>
            <a:endParaRPr b="0" i="1" lang="en-US" sz="1200" spc="-1" strike="noStrike">
              <a:solidFill>
                <a:srgbClr val="120c80"/>
              </a:solidFill>
              <a:latin typeface="Arial"/>
            </a:endParaRPr>
          </a:p>
          <a:p>
            <a:pPr lvl="4" marL="2193840" algn="ctr">
              <a:spcBef>
                <a:spcPts val="249"/>
              </a:spcBef>
              <a:buClr>
                <a:srgbClr val="120c8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120c80"/>
                </a:solidFill>
                <a:latin typeface="Arial"/>
              </a:rPr>
              <a:t>Fifth Outline Level</a:t>
            </a:r>
            <a:endParaRPr b="0" i="1" lang="en-US" sz="1000" spc="-1" strike="noStrike">
              <a:solidFill>
                <a:srgbClr val="120c80"/>
              </a:solidFill>
              <a:latin typeface="Arial"/>
            </a:endParaRPr>
          </a:p>
          <a:p>
            <a:pPr lvl="5" marL="219384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120c80"/>
                </a:solidFill>
                <a:latin typeface="Arial"/>
              </a:rPr>
              <a:t>Sixth Outline Level</a:t>
            </a:r>
            <a:endParaRPr b="0" i="1" lang="en-US" sz="1000" spc="-1" strike="noStrike">
              <a:solidFill>
                <a:srgbClr val="120c80"/>
              </a:solidFill>
              <a:latin typeface="Arial"/>
            </a:endParaRPr>
          </a:p>
          <a:p>
            <a:pPr lvl="6" marL="219384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120c80"/>
                </a:solidFill>
                <a:latin typeface="Arial"/>
              </a:rPr>
              <a:t>Seventh Outline Level</a:t>
            </a:r>
            <a:endParaRPr b="0" i="1" lang="en-US" sz="1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2.png"/><Relationship Id="rId6" Type="http://schemas.openxmlformats.org/officeDocument/2006/relationships/image" Target="../media/image3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2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2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0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6024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500" spc="-1" strike="noStrike">
                <a:solidFill>
                  <a:srgbClr val="ffffff"/>
                </a:solidFill>
                <a:latin typeface="Arial"/>
              </a:rPr>
              <a:t>Úvodní školení QUEST</a:t>
            </a:r>
            <a:endParaRPr b="1" i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00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20c80"/>
                </a:solidFill>
                <a:latin typeface="Arial"/>
              </a:rPr>
              <a:t>2 typy výrobků – vstup 60 min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marL="380880" indent="-380880">
              <a:spcBef>
                <a:spcPts val="10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20c80"/>
                </a:solidFill>
                <a:latin typeface="Arial"/>
              </a:rPr>
              <a:t>2 Vozíky – 20 m/min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987640" y="3200400"/>
            <a:ext cx="61563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120c80"/>
                </a:solidFill>
                <a:latin typeface="Arial"/>
              </a:rPr>
              <a:t>Vytvoření knihovny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8039160" cy="56865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 flipH="1" flipV="1">
            <a:off x="1692000" y="3068640"/>
            <a:ext cx="934920" cy="72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120c80"/>
                </a:solidFill>
                <a:latin typeface="Arial"/>
              </a:rPr>
              <a:t>Nastavení QUESTU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9640" y="1171440"/>
            <a:ext cx="8039160" cy="5686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flipH="1" flipV="1">
            <a:off x="2916000" y="3645000"/>
            <a:ext cx="934920" cy="72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995640" y="3645000"/>
            <a:ext cx="1781280" cy="1190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flipH="1" flipV="1">
            <a:off x="2771640" y="3860640"/>
            <a:ext cx="935280" cy="72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63640" y="3645000"/>
            <a:ext cx="136836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43240" y="4610160"/>
            <a:ext cx="2805120" cy="609480"/>
          </a:xfr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20c80"/>
                </a:solidFill>
                <a:latin typeface="Arial"/>
              </a:rPr>
              <a:t>Vytvoří se a ulož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120c80"/>
                </a:solidFill>
                <a:latin typeface="Arial"/>
              </a:rPr>
              <a:t>.qenvfig File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00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20c80"/>
                </a:solidFill>
                <a:latin typeface="Arial"/>
              </a:rPr>
              <a:t>3TIER_WINDOWS = ON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marL="380880" indent="-380880">
              <a:spcBef>
                <a:spcPts val="10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20c80"/>
                </a:solidFill>
                <a:latin typeface="Arial"/>
              </a:rPr>
              <a:t>EDITOR = notepad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marL="380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00680" y="1227240"/>
            <a:ext cx="2874960" cy="401400"/>
          </a:xfrm>
          <a:noFill/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20c80"/>
                </a:solidFill>
                <a:latin typeface="Arial"/>
              </a:rPr>
              <a:t>Nastavení typu ovlád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2997360"/>
            <a:ext cx="2589120" cy="609480"/>
          </a:xfrm>
          <a:noFill/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20c80"/>
                </a:solidFill>
                <a:latin typeface="Arial"/>
              </a:rPr>
              <a:t>Nastavení editor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120c80"/>
                </a:solidFill>
                <a:latin typeface="Arial"/>
              </a:rPr>
              <a:t>.qpthfig File 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00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20c80"/>
                </a:solidFill>
                <a:latin typeface="Arial"/>
              </a:rPr>
              <a:t>CONFIG$LIB = ../CONFIGS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marL="380880" indent="-380880">
              <a:spcBef>
                <a:spcPts val="10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20c80"/>
                </a:solidFill>
                <a:latin typeface="Arial"/>
              </a:rPr>
              <a:t>INCLUDE QUEST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marL="380880" indent="-380880">
              <a:spcBef>
                <a:spcPts val="10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20c80"/>
                </a:solidFill>
                <a:latin typeface="Arial"/>
              </a:rPr>
              <a:t>INCLUDE PokusZ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92720" y="1144440"/>
            <a:ext cx="3600360" cy="546120"/>
          </a:xfrm>
          <a:noFill/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20c80"/>
                </a:solidFill>
                <a:latin typeface="Arial"/>
              </a:rPr>
              <a:t>Kde se nachází konfigurační soub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92680" y="2522520"/>
            <a:ext cx="33796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637" y="4050"/>
                </a:moveTo>
                <a:lnTo>
                  <a:pt x="-487" y="400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20c80"/>
                </a:solidFill>
                <a:latin typeface="Arial"/>
              </a:rPr>
              <a:t>Standardní knihov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40320" y="3746520"/>
            <a:ext cx="2948040" cy="609480"/>
          </a:xfrm>
          <a:noFill/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20c80"/>
                </a:solidFill>
                <a:latin typeface="Arial"/>
              </a:rPr>
              <a:t>Moje vlastní knihov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120c80"/>
                </a:solidFill>
                <a:latin typeface="Arial"/>
              </a:rPr>
              <a:t>Základní tvorba modelu I 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4200" y="1943280"/>
            <a:ext cx="760716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00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20c80"/>
                </a:solidFill>
                <a:latin typeface="Arial"/>
              </a:rPr>
              <a:t>Popis modelu: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20c80"/>
                </a:solidFill>
                <a:latin typeface="Arial"/>
              </a:rPr>
              <a:t>Vytváření výrobků - EXP(25)</a:t>
            </a:r>
            <a:endParaRPr b="0" lang="en-US" sz="20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20c80"/>
                </a:solidFill>
                <a:latin typeface="Arial"/>
              </a:rPr>
              <a:t>Zpracování na stroji – NORMAL (25,5), Starting Stream Value - 2 </a:t>
            </a:r>
            <a:endParaRPr b="0" lang="en-US" sz="20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20c80"/>
                </a:solidFill>
                <a:latin typeface="Arial"/>
              </a:rPr>
              <a:t>Odchod výrobku ze systému</a:t>
            </a:r>
            <a:endParaRPr b="0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3564000" y="3651120"/>
            <a:ext cx="5315040" cy="29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120c80"/>
                </a:solidFill>
                <a:latin typeface="Arial"/>
              </a:rPr>
              <a:t>Základní tvorba modelu II 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7607160" cy="36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00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20c80"/>
                </a:solidFill>
                <a:latin typeface="Arial"/>
              </a:rPr>
              <a:t>Tento model bude řešit montáž 3 různých typů výrobků na třech různých strojích. 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marL="380880" indent="-380880">
              <a:spcBef>
                <a:spcPts val="10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20c80"/>
                </a:solidFill>
                <a:latin typeface="Arial"/>
              </a:rPr>
              <a:t>Výrobky PartA, PartB, a PartC se smontují s výrobkem PartD do výrobků PartAD, PartBD, a PartCD na jednotlivých strojích – EXP(40). 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marL="380880" indent="-380880">
              <a:spcBef>
                <a:spcPts val="10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20c80"/>
                </a:solidFill>
                <a:latin typeface="Arial"/>
              </a:rPr>
              <a:t>Smontované výrobky se pošlou ze stroje do zásobníku a poté ven ze systému.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20c80"/>
                </a:solidFill>
                <a:latin typeface="Arial"/>
              </a:rPr>
              <a:t>Vytváření výrobků </a:t>
            </a:r>
            <a:endParaRPr b="0" lang="en-US" sz="2000" spc="-1" strike="noStrike">
              <a:solidFill>
                <a:srgbClr val="120c80"/>
              </a:solidFill>
              <a:latin typeface="Arial"/>
            </a:endParaRPr>
          </a:p>
          <a:p>
            <a:pPr lvl="2" marL="1428840" indent="-285840">
              <a:buSzPct val="10289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120c80"/>
                </a:solidFill>
                <a:latin typeface="Arial"/>
              </a:rPr>
              <a:t>ABC - EXP(15) s 1:1:1</a:t>
            </a:r>
            <a:endParaRPr b="0" i="1" lang="en-US" sz="15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20c80"/>
                </a:solidFill>
                <a:latin typeface="Arial"/>
              </a:rPr>
              <a:t>Vytváření výrobků </a:t>
            </a:r>
            <a:endParaRPr b="0" lang="en-US" sz="2000" spc="-1" strike="noStrike">
              <a:solidFill>
                <a:srgbClr val="120c80"/>
              </a:solidFill>
              <a:latin typeface="Arial"/>
            </a:endParaRPr>
          </a:p>
          <a:p>
            <a:pPr lvl="2" marL="1428840" indent="-285840">
              <a:buSzPct val="10289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120c80"/>
                </a:solidFill>
                <a:latin typeface="Arial"/>
              </a:rPr>
              <a:t>D – 15 s</a:t>
            </a:r>
            <a:endParaRPr b="0" i="1" lang="en-US" sz="15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3708360" y="3706920"/>
            <a:ext cx="543564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120c80"/>
                </a:solidFill>
                <a:latin typeface="Arial"/>
              </a:rPr>
              <a:t>CONVEYOR SYSTEM </a:t>
            </a:r>
            <a:endParaRPr b="1" lang="en-US" sz="30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920" y="1196640"/>
            <a:ext cx="7607520" cy="36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00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20c80"/>
                </a:solidFill>
                <a:latin typeface="Arial"/>
              </a:rPr>
              <a:t>Dopravní systém pomocí dopravníků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marL="380880" indent="-380880">
              <a:spcBef>
                <a:spcPts val="10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20c80"/>
                </a:solidFill>
                <a:latin typeface="Arial"/>
              </a:rPr>
              <a:t>2 paralelní pracoviště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20c80"/>
                </a:solidFill>
                <a:latin typeface="Arial"/>
              </a:rPr>
              <a:t>UNIFORM(5,15)</a:t>
            </a:r>
            <a:endParaRPr b="0" lang="en-US" sz="2000" spc="-1" strike="noStrike">
              <a:solidFill>
                <a:srgbClr val="120c80"/>
              </a:solidFill>
              <a:latin typeface="Arial"/>
            </a:endParaRPr>
          </a:p>
          <a:p>
            <a:pPr marL="380880" indent="-380880">
              <a:spcBef>
                <a:spcPts val="10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20c80"/>
                </a:solidFill>
                <a:latin typeface="Arial"/>
              </a:rPr>
              <a:t>2 typy výrobků</a:t>
            </a:r>
            <a:endParaRPr b="1" lang="en-US" sz="20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20c80"/>
                </a:solidFill>
                <a:latin typeface="Arial"/>
              </a:rPr>
              <a:t>Vstup NORMAL(20,4) – 1:1</a:t>
            </a:r>
            <a:endParaRPr b="0" lang="en-US" sz="2000" spc="-1" strike="noStrike">
              <a:solidFill>
                <a:srgbClr val="120c8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2916360" y="2990880"/>
            <a:ext cx="622764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18880" y="301320"/>
            <a:ext cx="61182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120c80"/>
                </a:solidFill>
                <a:latin typeface="Arial"/>
              </a:rPr>
              <a:t>SHIFTS, LABOR, AND FAILURES </a:t>
            </a:r>
            <a:endParaRPr b="1" lang="en-US" sz="26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7129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901"/>
              </a:spcBef>
              <a:buSzPct val="11428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20c80"/>
                </a:solidFill>
                <a:latin typeface="Arial"/>
              </a:rPr>
              <a:t>Výrobky: PartA, PartB – EXPO(75)s</a:t>
            </a:r>
            <a:endParaRPr b="1" lang="en-US" sz="1800" spc="-1" strike="noStrike">
              <a:solidFill>
                <a:srgbClr val="120c8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901"/>
              </a:spcBef>
              <a:buSzPct val="11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20c80"/>
                </a:solidFill>
                <a:latin typeface="Arial"/>
              </a:rPr>
              <a:t>Stroje – EXPO(20)s</a:t>
            </a:r>
            <a:endParaRPr b="1" lang="en-US" sz="1800" spc="-1" strike="noStrike">
              <a:solidFill>
                <a:srgbClr val="120c8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901"/>
              </a:spcBef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20c80"/>
                </a:solidFill>
                <a:latin typeface="Arial"/>
              </a:rPr>
              <a:t>BufferLong – kapacita 6 ks</a:t>
            </a:r>
            <a:endParaRPr b="1" lang="en-US" sz="1800" spc="-1" strike="noStrike">
              <a:solidFill>
                <a:srgbClr val="120c8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901"/>
              </a:spcBef>
              <a:buSzPct val="11428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20c80"/>
                </a:solidFill>
                <a:latin typeface="Arial"/>
              </a:rPr>
              <a:t>Doba přesunu pracovníka – 10 s</a:t>
            </a:r>
            <a:endParaRPr b="1" lang="en-US" sz="1800" spc="-1" strike="noStrike">
              <a:solidFill>
                <a:srgbClr val="120c8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901"/>
              </a:spcBef>
              <a:buSzPct val="11428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20c80"/>
                </a:solidFill>
                <a:latin typeface="Arial"/>
              </a:rPr>
              <a:t>Procesy</a:t>
            </a:r>
            <a:endParaRPr b="1" lang="en-US" sz="18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buSzPct val="11428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20c80"/>
                </a:solidFill>
                <a:latin typeface="Arial"/>
              </a:rPr>
              <a:t>Part1 a Labor1 - Process_1,</a:t>
            </a:r>
            <a:endParaRPr b="0" lang="en-US" sz="18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buSzPct val="11428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20c80"/>
                </a:solidFill>
                <a:latin typeface="Arial"/>
              </a:rPr>
              <a:t>Part1 a Labor2 - Process_2, </a:t>
            </a:r>
            <a:endParaRPr b="0" lang="en-US" sz="18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buSzPct val="11428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20c80"/>
                </a:solidFill>
                <a:latin typeface="Arial"/>
              </a:rPr>
              <a:t>Part2 a Labor1 - Process_3, </a:t>
            </a:r>
            <a:endParaRPr b="0" lang="en-US" sz="18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buSzPct val="11428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20c80"/>
                </a:solidFill>
                <a:latin typeface="Arial"/>
              </a:rPr>
              <a:t>Part2 a Labor2 - Process_4. </a:t>
            </a:r>
            <a:endParaRPr b="0" lang="en-US" sz="1800" spc="-1" strike="noStrike">
              <a:solidFill>
                <a:srgbClr val="120c8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901"/>
              </a:spcBef>
              <a:buSzPct val="11428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20c80"/>
                </a:solidFill>
                <a:latin typeface="Arial"/>
              </a:rPr>
              <a:t>Směna</a:t>
            </a:r>
            <a:endParaRPr b="1" lang="en-US" sz="18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buSzPct val="114286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20c80"/>
                </a:solidFill>
                <a:latin typeface="Arial"/>
              </a:rPr>
              <a:t>0:00 – 9:00</a:t>
            </a:r>
            <a:endParaRPr b="0" lang="en-US" sz="1800" spc="-1" strike="noStrike">
              <a:solidFill>
                <a:srgbClr val="120c8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901"/>
              </a:spcBef>
              <a:buSzPct val="11428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20c80"/>
                </a:solidFill>
                <a:latin typeface="Arial"/>
              </a:rPr>
              <a:t>Přestávky</a:t>
            </a:r>
            <a:endParaRPr b="1" lang="en-US" sz="18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buSzPct val="114286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20c80"/>
                </a:solidFill>
                <a:latin typeface="Arial"/>
              </a:rPr>
              <a:t>15 min (900 s) – 2:00</a:t>
            </a:r>
            <a:endParaRPr b="0" lang="en-US" sz="18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buSzPct val="114286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20c80"/>
                </a:solidFill>
                <a:latin typeface="Arial"/>
              </a:rPr>
              <a:t>30 min (1800 s) – 4:00</a:t>
            </a:r>
            <a:endParaRPr b="0" lang="en-US" sz="18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buSzPct val="114286"/>
              <a:buBlip>
                <a:blip r:embed="rId1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20c80"/>
                </a:solidFill>
                <a:latin typeface="Arial"/>
              </a:rPr>
              <a:t>15 min (900 s) – 6:00</a:t>
            </a:r>
            <a:endParaRPr b="0" lang="en-US" sz="1800" spc="-1" strike="noStrike">
              <a:solidFill>
                <a:srgbClr val="120c8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901"/>
              </a:spcBef>
              <a:buSzPct val="114286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20c80"/>
                </a:solidFill>
                <a:latin typeface="Arial"/>
              </a:rPr>
              <a:t>Poruchy strojů</a:t>
            </a:r>
            <a:endParaRPr b="1" lang="en-US" sz="18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buSzPct val="114286"/>
              <a:buBlip>
                <a:blip r:embed="rId1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20c80"/>
                </a:solidFill>
                <a:latin typeface="Arial"/>
              </a:rPr>
              <a:t>Doba mezi – Expo(3600)s</a:t>
            </a:r>
            <a:endParaRPr b="0" lang="en-US" sz="18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buSzPct val="114286"/>
              <a:buBlip>
                <a:blip r:embed="rId1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20c80"/>
                </a:solidFill>
                <a:latin typeface="Arial"/>
              </a:rPr>
              <a:t>Doba opravy – Uniform(180,300)s</a:t>
            </a:r>
            <a:endParaRPr b="0" lang="en-US" sz="18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0c8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9"/>
          <a:stretch/>
        </p:blipFill>
        <p:spPr>
          <a:xfrm>
            <a:off x="4667400" y="3533760"/>
            <a:ext cx="4476600" cy="3324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0"/>
          <a:stretch/>
        </p:blipFill>
        <p:spPr>
          <a:xfrm>
            <a:off x="5580000" y="1341360"/>
            <a:ext cx="4286160" cy="809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013080" y="907560"/>
            <a:ext cx="116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20c80"/>
                </a:solidFill>
                <a:latin typeface="Arial"/>
              </a:rPr>
              <a:t>Směny pr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3:09:08Z</dcterms:created>
  <dc:creator>joa</dc:creator>
  <dc:description/>
  <dc:language>en-US</dc:language>
  <cp:lastModifiedBy>Zdeněk Ulrych</cp:lastModifiedBy>
  <dcterms:modified xsi:type="dcterms:W3CDTF">2007-01-22T08:48:01Z</dcterms:modified>
  <cp:revision>63</cp:revision>
  <dc:subject/>
  <dc:title>DPE QUEST Integration</dc:title>
</cp:coreProperties>
</file>